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81C-30ED-436F-92D5-B01710B6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A73-7273-4956-BCAB-C1E39BBA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FC1-181E-4B6C-805A-9F4627AD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427-D0FA-4AE4-A1F8-37524D93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D073-C34C-4BDC-B33A-F792E6AD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CB4F-9224-401B-81AA-65CE530D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9C3B-5F44-45F3-B442-DA30CB3C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2DB0-41B3-4B2C-A45B-25C44FAF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6B53-04A0-48BB-B10F-5CD7FF0C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0E67-5A53-4DC0-BD95-07A7F67A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3E07-DEBD-4C3A-A225-AEAECB6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3D1-067F-4210-BFCA-A76097E0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350D-3303-4E8E-B3F3-0A26E8AF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423F-301F-467B-9197-D5D2EDC2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344D-FFCA-432D-9509-0544528F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CD2F-13FD-470E-974E-F1233A92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CECD-39FD-490E-8F54-4BBA425F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011-987B-47E0-82B0-A5186356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FAC-8D8C-43AB-956B-73BBD727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257-765F-42EA-9D4D-129992BD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50E-7891-4CC1-89D3-E8ACBB7A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CD0-27B3-4E32-A647-FCF203DD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918-6765-4450-8DE7-EDB3EB34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3FF-6832-4C2A-ACE5-653784E9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8A796-57BD-4EA8-B6DB-A2C66236576C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4AE03-4C3A-482F-AC4B-748A5049BBB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42285-A737-463C-BF21-B708C402332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1A414-68F1-47EA-B7EE-CA8D9CE440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476280"/>
            <a:ext cx="890892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尚背景商务企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7.- Para honrar nuestra palabra y renovar la vida pública: un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o modelo de gobierno, con principios, racionalidad, eficacia, autonomía y digni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8.- Para darle poder a los ciudadanos: una política que aliente l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mocracia participativ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9.- Para edificar un Jalisco sustentable y con visión de futuro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ambient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transversal, responsable y comprometid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0.- Para sacudir la vida pública y limpiar a Jalisco: el compromiso indeclin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combatir la corrupción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la impunidad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n 1" descr="12.80X7.jpg"/>
          <p:cNvPicPr/>
          <p:nvPr/>
        </p:nvPicPr>
        <p:blipFill>
          <a:blip r:embed="rId2"/>
          <a:stretch/>
        </p:blipFill>
        <p:spPr>
          <a:xfrm>
            <a:off x="1447920" y="1447920"/>
            <a:ext cx="6769080" cy="38098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2" descr="8X12 AYUDANOS.jpg"/>
          <p:cNvPicPr/>
          <p:nvPr/>
        </p:nvPicPr>
        <p:blipFill>
          <a:blip r:embed="rId2"/>
          <a:stretch/>
        </p:blipFill>
        <p:spPr>
          <a:xfrm>
            <a:off x="2514600" y="762120"/>
            <a:ext cx="3506760" cy="52560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n 3" descr="DIPTICO SEMIFINAL-1.jpg"/>
          <p:cNvPicPr/>
          <p:nvPr/>
        </p:nvPicPr>
        <p:blipFill>
          <a:blip r:embed="rId2"/>
          <a:stretch/>
        </p:blipFill>
        <p:spPr>
          <a:xfrm>
            <a:off x="1447920" y="685800"/>
            <a:ext cx="6296040" cy="4832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n 2" descr="DIPTICO SEMIFINAL-2.jpg"/>
          <p:cNvPicPr/>
          <p:nvPr/>
        </p:nvPicPr>
        <p:blipFill>
          <a:blip r:embed="rId2"/>
          <a:stretch/>
        </p:blipFill>
        <p:spPr>
          <a:xfrm>
            <a:off x="1447920" y="609480"/>
            <a:ext cx="6296040" cy="48326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3" descr="VOLANTE SEMIFINAL-1.jpg"/>
          <p:cNvPicPr/>
          <p:nvPr/>
        </p:nvPicPr>
        <p:blipFill>
          <a:blip r:embed="rId2"/>
          <a:stretch/>
        </p:blipFill>
        <p:spPr>
          <a:xfrm>
            <a:off x="1447920" y="990720"/>
            <a:ext cx="670536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  <p:sp>
        <p:nvSpPr>
          <p:cNvPr id="10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n 2" descr="VOLANTE SEMIFINAL-2.jpg"/>
          <p:cNvPicPr/>
          <p:nvPr/>
        </p:nvPicPr>
        <p:blipFill>
          <a:blip r:embed="rId2"/>
          <a:stretch/>
        </p:blipFill>
        <p:spPr>
          <a:xfrm>
            <a:off x="1523880" y="990720"/>
            <a:ext cx="670572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10210-2784-47E2-AC8F-1B730BCE6D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2 CuadroTexto"/>
          <p:cNvSpPr/>
          <p:nvPr/>
        </p:nvSpPr>
        <p:spPr>
          <a:xfrm>
            <a:off x="1571760" y="1714680"/>
            <a:ext cx="73580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Este proyecto tiene una idea rectora: combatir la pobreza, la exclusión, la desigualdad y la falta de oportunidades, que son el caldo de cultivo de la inseguridad y la violenc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2 CuadroTexto"/>
          <p:cNvSpPr/>
          <p:nvPr/>
        </p:nvSpPr>
        <p:spPr>
          <a:xfrm>
            <a:off x="1571760" y="1179360"/>
            <a:ext cx="7358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700,000 personas (36.9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o pobreza ext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500,000 personas (35.2 %) no tienen acceso 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ingún servicio de salu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asi el 50 % de la gente (1'700,000 personas) gan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menos de 3 salarios mínimos al me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(menos de $ 5,400) por lo que ni siquiera les alcanza para la canasta bá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asamos de una tasa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esempleo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de 1.97 % en 2000 a 5.25 en 2011. Es decir, de 56,400 personas a más de 180,000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240,000 jóvenes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o tienen oportunidades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para estudiar o trabaj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199"/>
          <p:cNvSpPr/>
          <p:nvPr/>
        </p:nvSpPr>
        <p:spPr>
          <a:xfrm>
            <a:off x="2411280" y="844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 CuadroTexto"/>
          <p:cNvSpPr/>
          <p:nvPr/>
        </p:nvSpPr>
        <p:spPr>
          <a:xfrm>
            <a:off x="1571760" y="194616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3’000,000 de personas (40.4 %) vive en condiciones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vulnerabilida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(no tienen acceso a servicios y satisfactores bás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1’627,000  personas (22.1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 ali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529,000 personas ocupadas en el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sector infor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el 60 % de los jóvenes son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rechazados de la Ud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2 CuadroTexto"/>
          <p:cNvSpPr/>
          <p:nvPr/>
        </p:nvSpPr>
        <p:spPr>
          <a:xfrm>
            <a:off x="1643040" y="2857680"/>
            <a:ext cx="7358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143080" y="2676600"/>
            <a:ext cx="62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2 CuadroTexto"/>
          <p:cNvSpPr/>
          <p:nvPr/>
        </p:nvSpPr>
        <p:spPr>
          <a:xfrm>
            <a:off x="1571760" y="78588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.- Para transformar la realidad de Jalisco: una nuev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educativa, libre de poderes fácticos, con valore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compromiso socia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2.- Para reconstruir el tejido social: una verdader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bate a la desigual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, la marginación y la falta de oportunidades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2 CuadroTexto"/>
          <p:cNvSpPr/>
          <p:nvPr/>
        </p:nvSpPr>
        <p:spPr>
          <a:xfrm>
            <a:off x="1571760" y="1108080"/>
            <a:ext cx="73580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3.- Para recuperar la tranquilidad de la gente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a visión de seguridad ciudadan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4.- Para construir una sociedad justa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petitividad, de generación de empleo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desarrollo económico.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277164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2 CuadroTexto"/>
          <p:cNvSpPr/>
          <p:nvPr/>
        </p:nvSpPr>
        <p:spPr>
          <a:xfrm>
            <a:off x="1571760" y="785880"/>
            <a:ext cx="735804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5.- Para recuperar a las regiones de Jalisco y rescatar al campo: una visión respons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sarrollo agropecuario y competitividad region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6.- Para construir un entorno digno y una mejor calidad de vida: un programa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infraestructura estratégica 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que sea motor del desarrol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21:42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04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NXTAG2">
    <vt:lpwstr>000800a607000000000001024140</vt:lpwstr>
  </property>
</Properties>
</file>