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765-9DD9-4AE2-8C06-AD766EBB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6576-59BB-4C5F-B381-FE076C95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1B4-01EC-49A2-A8E5-D30D0EC1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732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464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732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9464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AA9-C917-4E03-8174-ACA701B9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D159-9E4C-4EF1-B423-BFF04EAE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6611-5870-4F64-A10A-AD4889D7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2141-09B0-4961-940F-617B8809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6FAF-A75E-4EB9-AF7F-FDBDC4C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A7C0-0BA5-4D8E-A73E-9F74032C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7C6A-4F77-4748-98EC-D0BC87FF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37D5-CB3B-4DC1-AD2D-6D33C00A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168-8E83-4D1E-9242-DC7A8EBA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ED59-B361-46DA-82D7-455423F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C253-6C7E-4CEE-B2D2-3EF2E28C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293D-529D-4784-A387-D557E986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61DF-D15E-4791-B597-0FC39D2E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732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46400" y="106668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732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46400" y="3932640"/>
            <a:ext cx="2355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11A9-2A8B-433F-AC03-50AB68AF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6B0D-E49C-43B8-A238-142E433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7FE0-CCE1-4E27-8FB2-2DC2C607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6960-FE5A-4160-BFBE-3C7D1B56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2388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166-0C40-47E9-9B80-0B2254A1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853A-38D8-4244-81E6-8021AA2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748680" y="393264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1465-1621-4AD2-A98C-0778F21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3840"/>
            <a:ext cx="72388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748680" y="1066680"/>
            <a:ext cx="35697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32640"/>
            <a:ext cx="7315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840-316A-4E61-80C9-95BCD95E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4FE9-AD38-4FD5-8BAB-C188C4F13A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-19080" y="276120"/>
            <a:ext cx="8305920" cy="360"/>
            <a:chOff x="-19080" y="276120"/>
            <a:chExt cx="8305920" cy="360"/>
          </a:xfrm>
        </p:grpSpPr>
        <p:sp>
          <p:nvSpPr>
            <p:cNvPr id="6" name="直接连接符 1031"/>
            <p:cNvSpPr/>
            <p:nvPr/>
          </p:nvSpPr>
          <p:spPr>
            <a:xfrm>
              <a:off x="-19080" y="276120"/>
              <a:ext cx="8305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 txBox="1"/>
            <p:nvPr/>
          </p:nvSpPr>
          <p:spPr>
            <a:xfrm>
              <a:off x="-19080" y="276120"/>
              <a:ext cx="830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19080" y="276120"/>
            <a:ext cx="8305920" cy="360"/>
            <a:chOff x="-19080" y="276120"/>
            <a:chExt cx="8305920" cy="360"/>
          </a:xfrm>
        </p:grpSpPr>
        <p:sp>
          <p:nvSpPr>
            <p:cNvPr id="45" name="直接连接符 7174"/>
            <p:cNvSpPr/>
            <p:nvPr/>
          </p:nvSpPr>
          <p:spPr>
            <a:xfrm>
              <a:off x="-19080" y="276120"/>
              <a:ext cx="83059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-19080" y="276120"/>
              <a:ext cx="8305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45720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2" marL="91440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3" marL="1371600" indent="-45720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4" marL="1828800" indent="-91440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5" marL="1828800" indent="-91440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  <a:p>
            <a:pPr lvl="6" marL="1828800" indent="-914400"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4F5D-339C-417D-B1D1-D6CE355F01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5028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Impact"/>
                <a:ea typeface="宋体"/>
              </a:rPr>
              <a:t>Dress to Impress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2640" y="57146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Franklin Gothic Demi"/>
                <a:ea typeface="宋体"/>
              </a:rPr>
              <a:t>Your Subtitle Goes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1690920" y="1557360"/>
            <a:ext cx="563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商务报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宋体"/>
              </a:rPr>
              <a:t>Your subtopics go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5028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Impact"/>
                <a:ea typeface="宋体"/>
              </a:rPr>
              <a:t>Transitional Page</a:t>
            </a:r>
            <a:endParaRPr b="0" lang="en-US" sz="7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2640" y="57146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4d4d4d"/>
              </a:solidFill>
              <a:latin typeface="Franklin Gothic Demi"/>
              <a:ea typeface="宋体"/>
            </a:endParaRPr>
          </a:p>
        </p:txBody>
      </p:sp>
      <p:sp>
        <p:nvSpPr>
          <p:cNvPr id="9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72388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C3F7-E0BB-46B7-B2EB-7A252730AA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宋体"/>
              </a:rPr>
              <a:t>Your Topic Goes Her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06668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  <a:ea typeface="宋体"/>
              </a:rPr>
              <a:t>Your subtopics go here</a:t>
            </a: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9:48:2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6:27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