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6F7-ECF9-4A0E-A085-6BAC03C0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0C2-EC02-42B4-9B42-058E3E3C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F0D-EC40-4555-9093-FF72D4EA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870-380E-4FCD-8734-CD43296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3E0-D1D5-4A18-88BE-E5F6453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245-82E8-4C9F-B460-B2B4A10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5F8-6A2B-4103-9C28-128CE8AC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24E-61C3-44BF-91CE-B0ADB63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4A8-556C-480A-9CDC-D785805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9F8-A1C1-4A8F-A08F-FDC326C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F41-C37D-4E51-82C4-9E8E22A3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E09-3A7F-4AEC-81DF-72435CCF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7FF-0810-42F5-B413-D75F44278A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B0F-E71B-4B42-BAA4-97C2DCCC2F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Your Headline Here</a:t>
            </a: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Subtitle He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33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014200" y="6858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商务商业报告</a:t>
            </a:r>
            <a:r>
              <a:rPr b="0" lang="en-US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PPT</a:t>
            </a:r>
            <a:r>
              <a:rPr b="0" lang="zh-CN" sz="4000" spc="-1" strike="noStrike">
                <a:solidFill>
                  <a:srgbClr val="04090d"/>
                </a:solidFill>
                <a:latin typeface="Times New Roman"/>
                <a:ea typeface="굴림"/>
              </a:rPr>
              <a:t>模板打包下载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91E-5A67-44CC-9707-5FEA01ED26C5}" type="slidenum">
              <a:rPr b="0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