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DFD1-10E1-433A-AD54-1A60B9EBE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3BC0-1C12-4073-BC94-D04FBE2B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DCDE8-BFFD-4ECE-8BA9-A22FFA0E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622A7-CF15-4805-9306-028CFFB4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60653-2046-4937-9D48-EF07D50E8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99131-5E21-424A-8344-332B060B9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2F917-1FE8-437D-B79F-424299FE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B857-8E87-4B23-92F4-D59F6025C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7E57-5705-47EC-8E0B-F2411EFFF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40EEF-5D4C-49A2-B151-CBAB07855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1A6C9-E318-4415-9F58-F18EA58A0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847B-29C6-408C-B0A0-687CBD1E5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5CFC-4043-4B0C-B6D2-1B1C7690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A457F-2BFB-4DC0-9DB1-764419BD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32DA2-3808-492D-BD49-C5040CF98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DDF38-A7A4-47F8-9569-E196FE9517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D98AE-5271-4118-99A5-F7F395B19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2BA-90F1-4C02-9CAB-3A40532C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487E-9240-4398-AC6D-7694BA9C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42BA-F008-4464-A845-4132C9700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D974-F005-408D-8D41-278159A40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5D2A-1353-43DE-B97C-C24D1D3A0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250C-6347-4F0A-A8BA-D10E6A7F0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5E7-821C-44E2-9D06-8B8F9C64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1B6A3-B33D-4450-A6F0-4B61ED01B4B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2DC72-7608-4621-B5C7-C94A30C331B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01620-968F-4E6B-B0C8-5ADD83A3D0C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3" name="TextBox 3"/>
          <p:cNvSpPr/>
          <p:nvPr/>
        </p:nvSpPr>
        <p:spPr>
          <a:xfrm>
            <a:off x="857160" y="1571760"/>
            <a:ext cx="7880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述职报告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4"/>
          <p:cNvSpPr/>
          <p:nvPr/>
        </p:nvSpPr>
        <p:spPr>
          <a:xfrm>
            <a:off x="928800" y="2406600"/>
            <a:ext cx="414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8194"/>
          <p:cNvSpPr/>
          <p:nvPr/>
        </p:nvSpPr>
        <p:spPr>
          <a:xfrm>
            <a:off x="685800" y="32860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149D1-0BEE-490E-9E72-F6C44F083F3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8:27Z</dcterms:modified>
  <cp:revision>7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