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8BC6-B483-48E8-9BD5-CA3C4402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C6C-CA1B-4804-A752-A3F93854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CEA4-5CF9-4FAA-B8D7-9B758BC2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F4C3-E808-4EE2-98CC-0E0F2D71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A743-DF99-453B-98BC-FF272699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0F0F-E6A0-4CC8-A85D-B18354BA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C4AD-1679-4BB0-B2FD-595A7FB3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CE18-D216-4637-8A49-97CD096B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4B6A-83D0-45B2-BF0F-5338C7B6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8910-7E16-4E12-88F9-2886FE23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B9C4-F2CD-4996-AF2D-C50C440E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8A0-DC64-4384-9C74-C5EB3FB0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0611-D430-4511-8BAA-3CB9D7E5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218A-2560-407D-90DE-81CEC3A2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D00A-70CB-4C04-8CE1-1F1B8B8A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844B-013B-407B-8F5F-0040B521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46A0-63CD-44BB-8052-2077A487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FE36-6109-448B-89E2-082B268A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E01-DCA8-46A0-89A5-818F8321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D9E-0A4D-4FBF-8129-59EDC024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4F0A-608D-4482-B167-DAB9EF3C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AA92-1031-4C5C-B0C2-BE7F96D5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9AAB-E97D-4D5C-A069-5927DCE4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CF8-790F-410B-A16A-9010B086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1082-3500-4C9C-AABD-1288A9FE18E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2840-2383-41A6-BD6E-56E6A8748D0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485F-96CA-4A6B-A9FD-5AA9D3282A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流程图: 过程 144"/>
          <p:cNvSpPr/>
          <p:nvPr/>
        </p:nvSpPr>
        <p:spPr>
          <a:xfrm flipH="1" rot="18660000">
            <a:off x="4041000" y="2003760"/>
            <a:ext cx="263520" cy="1690560"/>
          </a:xfrm>
          <a:prstGeom prst="flowChartProcess">
            <a:avLst/>
          </a:prstGeom>
          <a:gradFill rotWithShape="0">
            <a:gsLst>
              <a:gs pos="0">
                <a:srgbClr val="c2d2ed"/>
              </a:gs>
              <a:gs pos="100000">
                <a:srgbClr val="e1e7f5"/>
              </a:gs>
            </a:gsLst>
            <a:lin ang="13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流程图: 过程 143"/>
          <p:cNvSpPr/>
          <p:nvPr/>
        </p:nvSpPr>
        <p:spPr>
          <a:xfrm flipH="1" rot="17220000">
            <a:off x="3648600" y="2783160"/>
            <a:ext cx="263520" cy="1692000"/>
          </a:xfrm>
          <a:prstGeom prst="flowChartProcess">
            <a:avLst/>
          </a:prstGeom>
          <a:gradFill rotWithShape="0">
            <a:gsLst>
              <a:gs pos="0">
                <a:srgbClr val="c2d2ed"/>
              </a:gs>
              <a:gs pos="100000">
                <a:srgbClr val="e1e7f5"/>
              </a:gs>
            </a:gsLst>
            <a:lin ang="11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流程图: 过程 142"/>
          <p:cNvSpPr/>
          <p:nvPr/>
        </p:nvSpPr>
        <p:spPr>
          <a:xfrm rot="4440000">
            <a:off x="6351120" y="2838240"/>
            <a:ext cx="216000" cy="1692360"/>
          </a:xfrm>
          <a:prstGeom prst="flowChartProcess">
            <a:avLst/>
          </a:prstGeom>
          <a:gradFill rotWithShape="0">
            <a:gsLst>
              <a:gs pos="0">
                <a:srgbClr val="c2d2ed"/>
              </a:gs>
              <a:gs pos="100000">
                <a:srgbClr val="e1e7f5"/>
              </a:gs>
            </a:gsLst>
            <a:lin ang="117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流程图: 过程 141"/>
          <p:cNvSpPr/>
          <p:nvPr/>
        </p:nvSpPr>
        <p:spPr>
          <a:xfrm rot="2160000">
            <a:off x="5908680" y="2082600"/>
            <a:ext cx="216000" cy="1692000"/>
          </a:xfrm>
          <a:prstGeom prst="flowChartProcess">
            <a:avLst/>
          </a:prstGeom>
          <a:gradFill rotWithShape="0">
            <a:gsLst>
              <a:gs pos="0">
                <a:srgbClr val="c2d2ed"/>
              </a:gs>
              <a:gs pos="100000">
                <a:srgbClr val="e1e7f5"/>
              </a:gs>
            </a:gsLst>
            <a:lin ang="140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流程图: 过程 139"/>
          <p:cNvSpPr/>
          <p:nvPr/>
        </p:nvSpPr>
        <p:spPr>
          <a:xfrm rot="21540000">
            <a:off x="4968360" y="1530360"/>
            <a:ext cx="216000" cy="1692360"/>
          </a:xfrm>
          <a:prstGeom prst="flowChartProcess">
            <a:avLst/>
          </a:prstGeom>
          <a:gradFill rotWithShape="0">
            <a:gsLst>
              <a:gs pos="0">
                <a:srgbClr val="c2d2ed"/>
              </a:gs>
              <a:gs pos="100000">
                <a:srgbClr val="e1e7f5"/>
              </a:gs>
            </a:gsLst>
            <a:lin ang="16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0" descr=""/>
          <p:cNvPicPr/>
          <p:nvPr/>
        </p:nvPicPr>
        <p:blipFill>
          <a:blip r:embed="rId1"/>
          <a:stretch/>
        </p:blipFill>
        <p:spPr>
          <a:xfrm>
            <a:off x="-19080" y="307800"/>
            <a:ext cx="9161640" cy="1057320"/>
          </a:xfrm>
          <a:prstGeom prst="rect">
            <a:avLst/>
          </a:prstGeom>
          <a:ln w="0">
            <a:noFill/>
          </a:ln>
        </p:spPr>
      </p:pic>
      <p:sp>
        <p:nvSpPr>
          <p:cNvPr id="88" name="矩形 12"/>
          <p:cNvSpPr/>
          <p:nvPr/>
        </p:nvSpPr>
        <p:spPr>
          <a:xfrm>
            <a:off x="-22320" y="307800"/>
            <a:ext cx="9161640" cy="105732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bfbfbf"/>
              </a:gs>
            </a:gsLst>
            <a:lin ang="13500000"/>
          </a:gradFill>
          <a:ln w="255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"/>
          <p:cNvSpPr/>
          <p:nvPr/>
        </p:nvSpPr>
        <p:spPr>
          <a:xfrm>
            <a:off x="3240" y="0"/>
            <a:ext cx="3779640" cy="836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十八大代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0" y="1365120"/>
            <a:ext cx="682560" cy="5492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247680" y="0"/>
            <a:ext cx="1332000" cy="836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角三角形 16"/>
          <p:cNvSpPr/>
          <p:nvPr/>
        </p:nvSpPr>
        <p:spPr>
          <a:xfrm>
            <a:off x="3782880" y="0"/>
            <a:ext cx="360360" cy="307800"/>
          </a:xfrm>
          <a:prstGeom prst="rtTriangle">
            <a:avLst/>
          </a:prstGeom>
          <a:gradFill rotWithShape="0">
            <a:gsLst>
              <a:gs pos="0">
                <a:srgbClr val="dd0000"/>
              </a:gs>
              <a:gs pos="100000">
                <a:srgbClr val="dd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102"/>
          <p:cNvGrpSpPr/>
          <p:nvPr/>
        </p:nvGrpSpPr>
        <p:grpSpPr>
          <a:xfrm>
            <a:off x="38160" y="1492200"/>
            <a:ext cx="615960" cy="2590920"/>
            <a:chOff x="38160" y="1492200"/>
            <a:chExt cx="615960" cy="2590920"/>
          </a:xfrm>
        </p:grpSpPr>
        <p:grpSp>
          <p:nvGrpSpPr>
            <p:cNvPr id="94" name="组合 20"/>
            <p:cNvGrpSpPr/>
            <p:nvPr/>
          </p:nvGrpSpPr>
          <p:grpSpPr>
            <a:xfrm>
              <a:off x="42480" y="1492200"/>
              <a:ext cx="567000" cy="2590920"/>
              <a:chOff x="42480" y="1492200"/>
              <a:chExt cx="567000" cy="2590920"/>
            </a:xfrm>
          </p:grpSpPr>
          <p:sp>
            <p:nvSpPr>
              <p:cNvPr id="95" name="矩形 15"/>
              <p:cNvSpPr/>
              <p:nvPr/>
            </p:nvSpPr>
            <p:spPr>
              <a:xfrm>
                <a:off x="44280" y="1492200"/>
                <a:ext cx="565200" cy="2232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直角三角形 18"/>
              <p:cNvSpPr/>
              <p:nvPr/>
            </p:nvSpPr>
            <p:spPr>
              <a:xfrm flipV="1" rot="5400000">
                <a:off x="273960" y="3733200"/>
                <a:ext cx="360000" cy="310680"/>
              </a:xfrm>
              <a:prstGeom prst="rtTriangl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直角三角形 19"/>
              <p:cNvSpPr/>
              <p:nvPr/>
            </p:nvSpPr>
            <p:spPr>
              <a:xfrm rot="5400000">
                <a:off x="4320" y="3760920"/>
                <a:ext cx="360000" cy="284400"/>
              </a:xfrm>
              <a:prstGeom prst="rtTriangl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组合 100"/>
            <p:cNvGrpSpPr/>
            <p:nvPr/>
          </p:nvGrpSpPr>
          <p:grpSpPr>
            <a:xfrm>
              <a:off x="120600" y="1574640"/>
              <a:ext cx="435960" cy="276120"/>
              <a:chOff x="120600" y="1574640"/>
              <a:chExt cx="435960" cy="27612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342360" y="1574640"/>
                <a:ext cx="360" cy="270360"/>
                <a:chOff x="342360" y="1574640"/>
                <a:chExt cx="360" cy="270360"/>
              </a:xfrm>
            </p:grpSpPr>
            <p:sp>
              <p:nvSpPr>
                <p:cNvPr id="100" name="直接连接符 27"/>
                <p:cNvSpPr/>
                <p:nvPr/>
              </p:nvSpPr>
              <p:spPr>
                <a:xfrm>
                  <a:off x="342360" y="1574640"/>
                  <a:ext cx="0" cy="270360"/>
                </a:xfrm>
                <a:prstGeom prst="line">
                  <a:avLst/>
                </a:prstGeom>
                <a:ln cap="rnd" w="9360">
                  <a:solidFill>
                    <a:srgbClr val="ffffff"/>
                  </a:solidFill>
                  <a:bevel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 txBox="1"/>
                <p:nvPr/>
              </p:nvSpPr>
              <p:spPr>
                <a:xfrm>
                  <a:off x="342360" y="1574640"/>
                  <a:ext cx="360" cy="27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02" name="肘形连接符 89"/>
              <p:cNvCxnSpPr/>
              <p:nvPr/>
            </p:nvCxnSpPr>
            <p:spPr>
              <a:xfrm flipV="1">
                <a:off x="128520" y="1844640"/>
                <a:ext cx="428400" cy="64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</p:cxnSp>
        </p:grpSp>
        <p:sp>
          <p:nvSpPr>
            <p:cNvPr id="103" name="TextBox 101"/>
            <p:cNvSpPr/>
            <p:nvPr/>
          </p:nvSpPr>
          <p:spPr>
            <a:xfrm>
              <a:off x="38160" y="1910160"/>
              <a:ext cx="615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选举流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同心圆 104"/>
          <p:cNvSpPr/>
          <p:nvPr/>
        </p:nvSpPr>
        <p:spPr>
          <a:xfrm>
            <a:off x="2556000" y="1562040"/>
            <a:ext cx="5040360" cy="504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93" y="10800"/>
                </a:moveTo>
                <a:cubicBezTo>
                  <a:pt x="893" y="16271"/>
                  <a:pt x="5329" y="20707"/>
                  <a:pt x="10800" y="20707"/>
                </a:cubicBezTo>
                <a:cubicBezTo>
                  <a:pt x="16271" y="20707"/>
                  <a:pt x="20707" y="16271"/>
                  <a:pt x="20707" y="10800"/>
                </a:cubicBezTo>
                <a:cubicBezTo>
                  <a:pt x="20707" y="5329"/>
                  <a:pt x="16271" y="893"/>
                  <a:pt x="10800" y="893"/>
                </a:cubicBezTo>
                <a:cubicBezTo>
                  <a:pt x="5329" y="893"/>
                  <a:pt x="893" y="5329"/>
                  <a:pt x="893" y="10800"/>
                </a:cubicBez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10"/>
          <p:cNvGrpSpPr/>
          <p:nvPr/>
        </p:nvGrpSpPr>
        <p:grpSpPr>
          <a:xfrm>
            <a:off x="4543560" y="3600360"/>
            <a:ext cx="1131840" cy="1354320"/>
            <a:chOff x="4543560" y="3600360"/>
            <a:chExt cx="1131840" cy="1354320"/>
          </a:xfrm>
        </p:grpSpPr>
        <p:sp>
          <p:nvSpPr>
            <p:cNvPr id="106" name="椭圆 105"/>
            <p:cNvSpPr/>
            <p:nvPr/>
          </p:nvSpPr>
          <p:spPr>
            <a:xfrm>
              <a:off x="4787640" y="3600360"/>
              <a:ext cx="576000" cy="57600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圆角矩形 106"/>
            <p:cNvSpPr/>
            <p:nvPr/>
          </p:nvSpPr>
          <p:spPr>
            <a:xfrm>
              <a:off x="4543560" y="4258440"/>
              <a:ext cx="1131840" cy="692280"/>
            </a:xfrm>
            <a:prstGeom prst="roundRect">
              <a:avLst>
                <a:gd name="adj" fmla="val 16667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107"/>
            <p:cNvSpPr/>
            <p:nvPr/>
          </p:nvSpPr>
          <p:spPr>
            <a:xfrm>
              <a:off x="5474880" y="4440600"/>
              <a:ext cx="45720" cy="51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109"/>
            <p:cNvSpPr/>
            <p:nvPr/>
          </p:nvSpPr>
          <p:spPr>
            <a:xfrm>
              <a:off x="4737240" y="4440600"/>
              <a:ext cx="45720" cy="51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175280" y="4951440"/>
            <a:ext cx="1869840" cy="3240"/>
            <a:chOff x="4175280" y="4951440"/>
            <a:chExt cx="1869840" cy="3240"/>
          </a:xfrm>
        </p:grpSpPr>
        <p:sp>
          <p:nvSpPr>
            <p:cNvPr id="111" name="直接连接符 112"/>
            <p:cNvSpPr/>
            <p:nvPr/>
          </p:nvSpPr>
          <p:spPr>
            <a:xfrm>
              <a:off x="4175280" y="4951440"/>
              <a:ext cx="1869840" cy="3240"/>
            </a:xfrm>
            <a:prstGeom prst="line">
              <a:avLst/>
            </a:prstGeom>
            <a:ln w="255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4175280" y="4951440"/>
              <a:ext cx="18698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113"/>
          <p:cNvSpPr/>
          <p:nvPr/>
        </p:nvSpPr>
        <p:spPr>
          <a:xfrm>
            <a:off x="4768920" y="4954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生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14"/>
          <p:cNvSpPr/>
          <p:nvPr/>
        </p:nvSpPr>
        <p:spPr>
          <a:xfrm>
            <a:off x="2085840" y="4259160"/>
            <a:ext cx="939960" cy="938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荐提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115"/>
          <p:cNvSpPr/>
          <p:nvPr/>
        </p:nvSpPr>
        <p:spPr>
          <a:xfrm>
            <a:off x="2843280" y="5295960"/>
            <a:ext cx="938160" cy="938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织考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116"/>
          <p:cNvSpPr/>
          <p:nvPr/>
        </p:nvSpPr>
        <p:spPr>
          <a:xfrm>
            <a:off x="3962520" y="5864400"/>
            <a:ext cx="938160" cy="938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并公布初选名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117"/>
          <p:cNvSpPr/>
          <p:nvPr/>
        </p:nvSpPr>
        <p:spPr>
          <a:xfrm>
            <a:off x="5267160" y="5919840"/>
            <a:ext cx="938520" cy="938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预备人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118"/>
          <p:cNvSpPr/>
          <p:nvPr/>
        </p:nvSpPr>
        <p:spPr>
          <a:xfrm>
            <a:off x="6372360" y="5295960"/>
            <a:ext cx="938160" cy="938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代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119"/>
          <p:cNvSpPr/>
          <p:nvPr/>
        </p:nvSpPr>
        <p:spPr>
          <a:xfrm>
            <a:off x="6948360" y="4259160"/>
            <a:ext cx="938520" cy="938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格审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环形箭头 120"/>
          <p:cNvSpPr/>
          <p:nvPr/>
        </p:nvSpPr>
        <p:spPr>
          <a:xfrm flipH="1" rot="10800000">
            <a:off x="3431160" y="4114440"/>
            <a:ext cx="3389400" cy="1803240"/>
          </a:xfrm>
          <a:custGeom>
            <a:avLst/>
            <a:gdLst/>
            <a:ahLst/>
            <a:rect l="l" t="t" r="r" b="b"/>
            <a:pathLst>
              <a:path w="3388980" h="1803531">
                <a:moveTo>
                  <a:pt x="1" y="1660980"/>
                </a:moveTo>
                <a:cubicBezTo>
                  <a:pt x="-469" y="845448"/>
                  <a:pt x="585626" y="150385"/>
                  <a:pt x="1382762" y="21133"/>
                </a:cubicBezTo>
                <a:cubicBezTo>
                  <a:pt x="2183652" y="-108728"/>
                  <a:pt x="2958529" y="371178"/>
                  <a:pt x="3207232" y="1151087"/>
                </a:cubicBezTo>
                <a:lnTo>
                  <a:pt x="3388980" y="1114161"/>
                </a:lnTo>
                <a:lnTo>
                  <a:pt x="3236018" y="1803531"/>
                </a:lnTo>
                <a:lnTo>
                  <a:pt x="2761559" y="1226256"/>
                </a:lnTo>
                <a:lnTo>
                  <a:pt x="2928335" y="1189394"/>
                </a:lnTo>
                <a:cubicBezTo>
                  <a:pt x="2701767" y="555504"/>
                  <a:pt x="2056786" y="179211"/>
                  <a:pt x="1401323" y="298509"/>
                </a:cubicBezTo>
                <a:cubicBezTo>
                  <a:pt x="749976" y="417058"/>
                  <a:pt x="276135" y="990952"/>
                  <a:pt x="276519" y="1660819"/>
                </a:cubicBezTo>
                <a:lnTo>
                  <a:pt x="1" y="1660980"/>
                </a:lnTo>
                <a:close/>
              </a:path>
            </a:pathLst>
          </a:custGeom>
          <a:gradFill rotWithShape="0">
            <a:gsLst>
              <a:gs pos="0">
                <a:srgbClr val="c2d2ed"/>
              </a:gs>
              <a:gs pos="100000">
                <a:srgbClr val="e1e7f5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123"/>
          <p:cNvGrpSpPr/>
          <p:nvPr/>
        </p:nvGrpSpPr>
        <p:grpSpPr>
          <a:xfrm>
            <a:off x="2085840" y="2913120"/>
            <a:ext cx="1346400" cy="976320"/>
            <a:chOff x="2085840" y="2913120"/>
            <a:chExt cx="1346400" cy="976320"/>
          </a:xfrm>
        </p:grpSpPr>
        <p:sp>
          <p:nvSpPr>
            <p:cNvPr id="122" name="圆角矩形 121"/>
            <p:cNvSpPr/>
            <p:nvPr/>
          </p:nvSpPr>
          <p:spPr>
            <a:xfrm>
              <a:off x="2085840" y="2913120"/>
              <a:ext cx="1346400" cy="9763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理想信息坚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心形 122"/>
            <p:cNvSpPr/>
            <p:nvPr/>
          </p:nvSpPr>
          <p:spPr>
            <a:xfrm>
              <a:off x="3031560" y="3438000"/>
              <a:ext cx="284040" cy="27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圆角矩形 125"/>
          <p:cNvSpPr/>
          <p:nvPr/>
        </p:nvSpPr>
        <p:spPr>
          <a:xfrm>
            <a:off x="2759040" y="1676520"/>
            <a:ext cx="1346400" cy="974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政治立场确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五角星 127"/>
          <p:cNvSpPr/>
          <p:nvPr/>
        </p:nvSpPr>
        <p:spPr>
          <a:xfrm>
            <a:off x="3710160" y="2149560"/>
            <a:ext cx="330120" cy="328680"/>
          </a:xfrm>
          <a:custGeom>
            <a:avLst/>
            <a:gdLst/>
            <a:ahLst/>
            <a:rect l="l" t="t" r="r" b="b"/>
            <a:pathLst>
              <a:path w="330200" h="328613">
                <a:moveTo>
                  <a:pt x="0" y="125518"/>
                </a:moveTo>
                <a:lnTo>
                  <a:pt x="126125" y="125519"/>
                </a:lnTo>
                <a:lnTo>
                  <a:pt x="165100" y="0"/>
                </a:lnTo>
                <a:lnTo>
                  <a:pt x="204074" y="125519"/>
                </a:lnTo>
                <a:lnTo>
                  <a:pt x="330199" y="125518"/>
                </a:lnTo>
                <a:lnTo>
                  <a:pt x="228161" y="203093"/>
                </a:lnTo>
                <a:lnTo>
                  <a:pt x="267137" y="328612"/>
                </a:lnTo>
                <a:lnTo>
                  <a:pt x="165100" y="251036"/>
                </a:lnTo>
                <a:lnTo>
                  <a:pt x="63062" y="328612"/>
                </a:lnTo>
                <a:lnTo>
                  <a:pt x="102038" y="203093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128"/>
          <p:cNvSpPr/>
          <p:nvPr/>
        </p:nvSpPr>
        <p:spPr>
          <a:xfrm>
            <a:off x="4329000" y="1357200"/>
            <a:ext cx="1346400" cy="976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德作风良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流程图: 资料带 130"/>
          <p:cNvSpPr/>
          <p:nvPr/>
        </p:nvSpPr>
        <p:spPr>
          <a:xfrm>
            <a:off x="5280120" y="1868400"/>
            <a:ext cx="303120" cy="265320"/>
          </a:xfrm>
          <a:prstGeom prst="flowChartPunchedTap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131"/>
          <p:cNvSpPr/>
          <p:nvPr/>
        </p:nvSpPr>
        <p:spPr>
          <a:xfrm>
            <a:off x="5964120" y="1623960"/>
            <a:ext cx="1346400" cy="976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业绩优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右箭头 135"/>
          <p:cNvSpPr/>
          <p:nvPr/>
        </p:nvSpPr>
        <p:spPr>
          <a:xfrm rot="20328600">
            <a:off x="6897600" y="2096640"/>
            <a:ext cx="347760" cy="378000"/>
          </a:xfrm>
          <a:custGeom>
            <a:avLst/>
            <a:gdLst/>
            <a:ahLst/>
            <a:rect l="l" t="t" r="r" b="b"/>
            <a:pathLst>
              <a:path w="774409" h="487726">
                <a:moveTo>
                  <a:pt x="0" y="297338"/>
                </a:moveTo>
                <a:lnTo>
                  <a:pt x="530546" y="121932"/>
                </a:lnTo>
                <a:lnTo>
                  <a:pt x="530546" y="0"/>
                </a:lnTo>
                <a:lnTo>
                  <a:pt x="774409" y="243863"/>
                </a:lnTo>
                <a:lnTo>
                  <a:pt x="530546" y="487726"/>
                </a:lnTo>
                <a:lnTo>
                  <a:pt x="530546" y="365795"/>
                </a:lnTo>
                <a:lnTo>
                  <a:pt x="14060" y="344286"/>
                </a:lnTo>
                <a:lnTo>
                  <a:pt x="0" y="297338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136"/>
          <p:cNvSpPr/>
          <p:nvPr/>
        </p:nvSpPr>
        <p:spPr>
          <a:xfrm>
            <a:off x="6743880" y="2913120"/>
            <a:ext cx="1346040" cy="976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业绩优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太阳形 137"/>
          <p:cNvSpPr/>
          <p:nvPr/>
        </p:nvSpPr>
        <p:spPr>
          <a:xfrm>
            <a:off x="7716960" y="3417840"/>
            <a:ext cx="271440" cy="271440"/>
          </a:xfrm>
          <a:prstGeom prst="sun">
            <a:avLst>
              <a:gd name="adj" fmla="val 25000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40"/>
          <p:cNvSpPr/>
          <p:nvPr/>
        </p:nvSpPr>
        <p:spPr>
          <a:xfrm>
            <a:off x="4669920" y="3154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选条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3120"/>
          <p:cNvSpPr/>
          <p:nvPr/>
        </p:nvSpPr>
        <p:spPr>
          <a:xfrm>
            <a:off x="75564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121"/>
          <p:cNvSpPr/>
          <p:nvPr/>
        </p:nvSpPr>
        <p:spPr>
          <a:xfrm>
            <a:off x="2624040" y="9079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图解十八大会议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8" descr=""/>
          <p:cNvPicPr/>
          <p:nvPr/>
        </p:nvPicPr>
        <p:blipFill>
          <a:blip r:embed="rId1"/>
          <a:stretch/>
        </p:blipFill>
        <p:spPr>
          <a:xfrm>
            <a:off x="-19080" y="307800"/>
            <a:ext cx="9161640" cy="1057320"/>
          </a:xfrm>
          <a:prstGeom prst="rect">
            <a:avLst/>
          </a:prstGeom>
          <a:ln w="0">
            <a:noFill/>
          </a:ln>
        </p:spPr>
      </p:pic>
      <p:sp>
        <p:nvSpPr>
          <p:cNvPr id="136" name="矩形 9"/>
          <p:cNvSpPr/>
          <p:nvPr/>
        </p:nvSpPr>
        <p:spPr>
          <a:xfrm>
            <a:off x="-22320" y="307800"/>
            <a:ext cx="9161640" cy="105732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bfbfbf"/>
              </a:gs>
            </a:gsLst>
            <a:lin ang="13500000"/>
          </a:gradFill>
          <a:ln w="255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0"/>
          <p:cNvSpPr/>
          <p:nvPr/>
        </p:nvSpPr>
        <p:spPr>
          <a:xfrm>
            <a:off x="3240" y="0"/>
            <a:ext cx="3779640" cy="836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十八大代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1"/>
          <p:cNvSpPr/>
          <p:nvPr/>
        </p:nvSpPr>
        <p:spPr>
          <a:xfrm>
            <a:off x="0" y="1365120"/>
            <a:ext cx="682560" cy="5492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247680" y="0"/>
            <a:ext cx="1332000" cy="836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角三角形 13"/>
          <p:cNvSpPr/>
          <p:nvPr/>
        </p:nvSpPr>
        <p:spPr>
          <a:xfrm>
            <a:off x="3782880" y="0"/>
            <a:ext cx="360360" cy="307800"/>
          </a:xfrm>
          <a:prstGeom prst="rtTriangle">
            <a:avLst/>
          </a:prstGeom>
          <a:gradFill rotWithShape="0">
            <a:gsLst>
              <a:gs pos="0">
                <a:srgbClr val="dd0000"/>
              </a:gs>
              <a:gs pos="100000">
                <a:srgbClr val="dd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15"/>
          <p:cNvGrpSpPr/>
          <p:nvPr/>
        </p:nvGrpSpPr>
        <p:grpSpPr>
          <a:xfrm>
            <a:off x="42840" y="1492200"/>
            <a:ext cx="566640" cy="2590920"/>
            <a:chOff x="42840" y="1492200"/>
            <a:chExt cx="566640" cy="2590920"/>
          </a:xfrm>
        </p:grpSpPr>
        <p:sp>
          <p:nvSpPr>
            <p:cNvPr id="142" name="矩形 20"/>
            <p:cNvSpPr/>
            <p:nvPr/>
          </p:nvSpPr>
          <p:spPr>
            <a:xfrm>
              <a:off x="44640" y="1492200"/>
              <a:ext cx="564840" cy="223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角三角形 21"/>
            <p:cNvSpPr/>
            <p:nvPr/>
          </p:nvSpPr>
          <p:spPr>
            <a:xfrm flipV="1" rot="5400000">
              <a:off x="273960" y="3733200"/>
              <a:ext cx="360000" cy="310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角三角形 22"/>
            <p:cNvSpPr/>
            <p:nvPr/>
          </p:nvSpPr>
          <p:spPr>
            <a:xfrm rot="5400000">
              <a:off x="4680" y="3760920"/>
              <a:ext cx="360000" cy="28440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Box 17"/>
          <p:cNvSpPr/>
          <p:nvPr/>
        </p:nvSpPr>
        <p:spPr>
          <a:xfrm>
            <a:off x="38160" y="191124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构解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饼形 50"/>
          <p:cNvSpPr/>
          <p:nvPr/>
        </p:nvSpPr>
        <p:spPr>
          <a:xfrm>
            <a:off x="155520" y="1557360"/>
            <a:ext cx="352440" cy="352440"/>
          </a:xfrm>
          <a:custGeom>
            <a:avLst/>
            <a:gdLst/>
            <a:ahLst/>
            <a:rect l="l" t="t" r="r" b="b"/>
            <a:pathLst>
              <a:path w="556" h="556">
                <a:moveTo>
                  <a:pt x="556" y="278"/>
                </a:moveTo>
                <a:cubicBezTo>
                  <a:pt x="556" y="432"/>
                  <a:pt x="432" y="556"/>
                  <a:pt x="278" y="556"/>
                </a:cubicBezTo>
                <a:cubicBezTo>
                  <a:pt x="124" y="556"/>
                  <a:pt x="0" y="432"/>
                  <a:pt x="0" y="278"/>
                </a:cubicBezTo>
                <a:cubicBezTo>
                  <a:pt x="0" y="124"/>
                  <a:pt x="124" y="0"/>
                  <a:pt x="278" y="0"/>
                </a:cubicBezTo>
                <a:lnTo>
                  <a:pt x="278" y="27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角三角形 51"/>
          <p:cNvSpPr/>
          <p:nvPr/>
        </p:nvSpPr>
        <p:spPr>
          <a:xfrm>
            <a:off x="371520" y="1527120"/>
            <a:ext cx="174600" cy="1731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任意多边形 54"/>
          <p:cNvSpPr/>
          <p:nvPr/>
        </p:nvSpPr>
        <p:spPr>
          <a:xfrm>
            <a:off x="2720880" y="4121280"/>
            <a:ext cx="4373640" cy="87120"/>
          </a:xfrm>
          <a:custGeom>
            <a:avLst/>
            <a:gdLst/>
            <a:ahLst/>
            <a:rect l="l" t="t" r="r" b="b"/>
            <a:pathLst>
              <a:path w="4373581" h="87086">
                <a:moveTo>
                  <a:pt x="268796" y="0"/>
                </a:moveTo>
                <a:lnTo>
                  <a:pt x="3882853" y="14514"/>
                </a:lnTo>
                <a:cubicBezTo>
                  <a:pt x="4521481" y="26609"/>
                  <a:pt x="4473100" y="60477"/>
                  <a:pt x="4100567" y="72572"/>
                </a:cubicBezTo>
                <a:cubicBezTo>
                  <a:pt x="3728034" y="84667"/>
                  <a:pt x="2233062" y="89505"/>
                  <a:pt x="1647653" y="87086"/>
                </a:cubicBezTo>
                <a:cubicBezTo>
                  <a:pt x="1062244" y="84667"/>
                  <a:pt x="813081" y="62895"/>
                  <a:pt x="588110" y="58057"/>
                </a:cubicBezTo>
                <a:cubicBezTo>
                  <a:pt x="363139" y="53219"/>
                  <a:pt x="346205" y="67733"/>
                  <a:pt x="297824" y="58057"/>
                </a:cubicBezTo>
                <a:cubicBezTo>
                  <a:pt x="249443" y="48381"/>
                  <a:pt x="-328709" y="7257"/>
                  <a:pt x="268796" y="0"/>
                </a:cubicBezTo>
                <a:close/>
              </a:path>
            </a:pathLst>
          </a:custGeom>
          <a:solidFill>
            <a:srgbClr val="595959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99"/>
          <p:cNvGrpSpPr/>
          <p:nvPr/>
        </p:nvGrpSpPr>
        <p:grpSpPr>
          <a:xfrm>
            <a:off x="1248840" y="1617840"/>
            <a:ext cx="1590480" cy="1923120"/>
            <a:chOff x="1248840" y="1617840"/>
            <a:chExt cx="1590480" cy="1923120"/>
          </a:xfrm>
        </p:grpSpPr>
        <p:grpSp>
          <p:nvGrpSpPr>
            <p:cNvPr id="150" name="组合 93"/>
            <p:cNvGrpSpPr/>
            <p:nvPr/>
          </p:nvGrpSpPr>
          <p:grpSpPr>
            <a:xfrm>
              <a:off x="1248840" y="1617840"/>
              <a:ext cx="1590480" cy="1549080"/>
              <a:chOff x="1248840" y="1617840"/>
              <a:chExt cx="1590480" cy="1549080"/>
            </a:xfrm>
          </p:grpSpPr>
          <p:sp>
            <p:nvSpPr>
              <p:cNvPr id="151" name="弧形 65"/>
              <p:cNvSpPr/>
              <p:nvPr/>
            </p:nvSpPr>
            <p:spPr>
              <a:xfrm rot="470400">
                <a:off x="1335240" y="1707840"/>
                <a:ext cx="1417320" cy="1368360"/>
              </a:xfrm>
              <a:custGeom>
                <a:avLst/>
                <a:gdLst/>
                <a:ahLst/>
                <a:rect l="l" t="t" r="r" b="b"/>
                <a:pathLst>
                  <a:path stroke="0" w="1418830" h="1368906">
                    <a:moveTo>
                      <a:pt x="10721" y="803002"/>
                    </a:moveTo>
                    <a:cubicBezTo>
                      <a:pt x="3640" y="764577"/>
                      <a:pt x="-1" y="724925"/>
                      <a:pt x="-1" y="684453"/>
                    </a:cubicBezTo>
                    <a:cubicBezTo>
                      <a:pt x="-1" y="306440"/>
                      <a:pt x="317615" y="0"/>
                      <a:pt x="709414" y="0"/>
                    </a:cubicBezTo>
                    <a:cubicBezTo>
                      <a:pt x="1101213" y="0"/>
                      <a:pt x="1418829" y="306440"/>
                      <a:pt x="1418829" y="684453"/>
                    </a:cubicBezTo>
                    <a:cubicBezTo>
                      <a:pt x="1418829" y="1062466"/>
                      <a:pt x="1101213" y="1368906"/>
                      <a:pt x="709414" y="1368906"/>
                    </a:cubicBezTo>
                    <a:cubicBezTo>
                      <a:pt x="646371" y="1368906"/>
                      <a:pt x="585249" y="1360972"/>
                      <a:pt x="527244" y="1346129"/>
                    </a:cubicBezTo>
                    <a:lnTo>
                      <a:pt x="709415" y="684453"/>
                    </a:lnTo>
                    <a:close/>
                  </a:path>
                  <a:path fill="none" w="1418830" h="1368906">
                    <a:moveTo>
                      <a:pt x="10721" y="803002"/>
                    </a:moveTo>
                    <a:cubicBezTo>
                      <a:pt x="3640" y="764577"/>
                      <a:pt x="-1" y="724925"/>
                      <a:pt x="-1" y="684453"/>
                    </a:cubicBezTo>
                    <a:cubicBezTo>
                      <a:pt x="-1" y="306440"/>
                      <a:pt x="317615" y="0"/>
                      <a:pt x="709414" y="0"/>
                    </a:cubicBezTo>
                    <a:cubicBezTo>
                      <a:pt x="1101213" y="0"/>
                      <a:pt x="1418829" y="306440"/>
                      <a:pt x="1418829" y="684453"/>
                    </a:cubicBezTo>
                    <a:cubicBezTo>
                      <a:pt x="1418829" y="1062466"/>
                      <a:pt x="1101213" y="1368906"/>
                      <a:pt x="709414" y="1368906"/>
                    </a:cubicBezTo>
                    <a:cubicBezTo>
                      <a:pt x="646371" y="1368906"/>
                      <a:pt x="585249" y="1360972"/>
                      <a:pt x="527244" y="1346129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空心弧 57"/>
              <p:cNvSpPr/>
              <p:nvPr/>
            </p:nvSpPr>
            <p:spPr>
              <a:xfrm rot="14902800">
                <a:off x="1771200" y="1904040"/>
                <a:ext cx="367560" cy="358200"/>
              </a:xfrm>
              <a:custGeom>
                <a:avLst/>
                <a:gdLst/>
                <a:ahLst/>
                <a:rect l="l" t="t" r="r" b="b"/>
                <a:pathLst>
                  <a:path w="21600" h="10800">
                    <a:moveTo>
                      <a:pt x="876" y="10800"/>
                    </a:moveTo>
                    <a:cubicBezTo>
                      <a:pt x="876" y="5319"/>
                      <a:pt x="5319" y="876"/>
                      <a:pt x="10800" y="876"/>
                    </a:cubicBezTo>
                    <a:cubicBezTo>
                      <a:pt x="16281" y="876"/>
                      <a:pt x="20724" y="5319"/>
                      <a:pt x="20724" y="10800"/>
                    </a:cubicBezTo>
                    <a:lnTo>
                      <a:pt x="21600" y="10800"/>
                    </a:lnTo>
                    <a:cubicBezTo>
                      <a:pt x="21600" y="4835"/>
                      <a:pt x="16765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空心弧 61"/>
              <p:cNvSpPr/>
              <p:nvPr/>
            </p:nvSpPr>
            <p:spPr>
              <a:xfrm>
                <a:off x="1434960" y="1800000"/>
                <a:ext cx="1217880" cy="1218600"/>
              </a:xfrm>
              <a:custGeom>
                <a:avLst/>
                <a:gdLst/>
                <a:ahLst/>
                <a:rect l="l" t="t" r="r" b="b"/>
                <a:pathLst>
                  <a:path w="21600" h="10800">
                    <a:moveTo>
                      <a:pt x="4598" y="10800"/>
                    </a:moveTo>
                    <a:cubicBezTo>
                      <a:pt x="4598" y="7375"/>
                      <a:pt x="7375" y="4598"/>
                      <a:pt x="10800" y="4598"/>
                    </a:cubicBezTo>
                    <a:cubicBezTo>
                      <a:pt x="14225" y="4598"/>
                      <a:pt x="17002" y="7375"/>
                      <a:pt x="17002" y="10800"/>
                    </a:cubicBezTo>
                    <a:lnTo>
                      <a:pt x="21600" y="10800"/>
                    </a:lnTo>
                    <a:cubicBezTo>
                      <a:pt x="21600" y="4835"/>
                      <a:pt x="16765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弧形 67"/>
              <p:cNvSpPr/>
              <p:nvPr/>
            </p:nvSpPr>
            <p:spPr>
              <a:xfrm rot="19130400">
                <a:off x="1780200" y="2141640"/>
                <a:ext cx="519480" cy="501480"/>
              </a:xfrm>
              <a:custGeom>
                <a:avLst/>
                <a:gdLst/>
                <a:ahLst/>
                <a:rect l="l" t="t" r="r" b="b"/>
                <a:pathLst>
                  <a:path stroke="0" w="520090" h="501790">
                    <a:moveTo>
                      <a:pt x="3930" y="294350"/>
                    </a:moveTo>
                    <a:cubicBezTo>
                      <a:pt x="1335" y="280265"/>
                      <a:pt x="0" y="265730"/>
                      <a:pt x="0" y="250895"/>
                    </a:cubicBezTo>
                    <a:cubicBezTo>
                      <a:pt x="0" y="112330"/>
                      <a:pt x="116426" y="0"/>
                      <a:pt x="260045" y="0"/>
                    </a:cubicBezTo>
                    <a:cubicBezTo>
                      <a:pt x="403664" y="0"/>
                      <a:pt x="520090" y="112330"/>
                      <a:pt x="520090" y="250895"/>
                    </a:cubicBezTo>
                    <a:cubicBezTo>
                      <a:pt x="520090" y="389460"/>
                      <a:pt x="403664" y="501790"/>
                      <a:pt x="260045" y="501790"/>
                    </a:cubicBezTo>
                    <a:cubicBezTo>
                      <a:pt x="236936" y="501790"/>
                      <a:pt x="214531" y="498882"/>
                      <a:pt x="193269" y="493441"/>
                    </a:cubicBezTo>
                    <a:lnTo>
                      <a:pt x="260045" y="250895"/>
                    </a:lnTo>
                    <a:close/>
                  </a:path>
                  <a:path fill="none" w="520090" h="501790">
                    <a:moveTo>
                      <a:pt x="3930" y="294350"/>
                    </a:moveTo>
                    <a:cubicBezTo>
                      <a:pt x="1335" y="280265"/>
                      <a:pt x="0" y="265730"/>
                      <a:pt x="0" y="250895"/>
                    </a:cubicBezTo>
                    <a:cubicBezTo>
                      <a:pt x="0" y="112330"/>
                      <a:pt x="116426" y="0"/>
                      <a:pt x="260045" y="0"/>
                    </a:cubicBezTo>
                    <a:cubicBezTo>
                      <a:pt x="403664" y="0"/>
                      <a:pt x="520090" y="112330"/>
                      <a:pt x="520090" y="250895"/>
                    </a:cubicBezTo>
                    <a:cubicBezTo>
                      <a:pt x="520090" y="389460"/>
                      <a:pt x="403664" y="501790"/>
                      <a:pt x="260045" y="501790"/>
                    </a:cubicBezTo>
                    <a:cubicBezTo>
                      <a:pt x="236936" y="501790"/>
                      <a:pt x="214531" y="498882"/>
                      <a:pt x="193269" y="493441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68"/>
              <p:cNvSpPr/>
              <p:nvPr/>
            </p:nvSpPr>
            <p:spPr>
              <a:xfrm>
                <a:off x="1681560" y="2198160"/>
                <a:ext cx="73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158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Box 95"/>
            <p:cNvSpPr/>
            <p:nvPr/>
          </p:nvSpPr>
          <p:spPr>
            <a:xfrm>
              <a:off x="1758240" y="31726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各地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00"/>
          <p:cNvGrpSpPr/>
          <p:nvPr/>
        </p:nvGrpSpPr>
        <p:grpSpPr>
          <a:xfrm>
            <a:off x="3188520" y="1543320"/>
            <a:ext cx="1718280" cy="1981440"/>
            <a:chOff x="3188520" y="1543320"/>
            <a:chExt cx="1718280" cy="1981440"/>
          </a:xfrm>
        </p:grpSpPr>
        <p:grpSp>
          <p:nvGrpSpPr>
            <p:cNvPr id="158" name="组合 92"/>
            <p:cNvGrpSpPr/>
            <p:nvPr/>
          </p:nvGrpSpPr>
          <p:grpSpPr>
            <a:xfrm>
              <a:off x="3188520" y="1543320"/>
              <a:ext cx="1718280" cy="1683720"/>
              <a:chOff x="3188520" y="1543320"/>
              <a:chExt cx="1718280" cy="1683720"/>
            </a:xfrm>
          </p:grpSpPr>
          <p:sp>
            <p:nvSpPr>
              <p:cNvPr id="159" name="弧形 75"/>
              <p:cNvSpPr/>
              <p:nvPr/>
            </p:nvSpPr>
            <p:spPr>
              <a:xfrm rot="20719800">
                <a:off x="3338640" y="1700280"/>
                <a:ext cx="1417680" cy="1369440"/>
              </a:xfrm>
              <a:custGeom>
                <a:avLst/>
                <a:gdLst/>
                <a:ahLst/>
                <a:rect l="l" t="t" r="r" b="b"/>
                <a:pathLst>
                  <a:path stroke="0" w="1418830" h="1368906">
                    <a:moveTo>
                      <a:pt x="10721" y="803002"/>
                    </a:moveTo>
                    <a:cubicBezTo>
                      <a:pt x="3640" y="764577"/>
                      <a:pt x="-1" y="724925"/>
                      <a:pt x="-1" y="684453"/>
                    </a:cubicBezTo>
                    <a:cubicBezTo>
                      <a:pt x="-1" y="306440"/>
                      <a:pt x="317615" y="0"/>
                      <a:pt x="709414" y="0"/>
                    </a:cubicBezTo>
                    <a:cubicBezTo>
                      <a:pt x="1101213" y="0"/>
                      <a:pt x="1418829" y="306440"/>
                      <a:pt x="1418829" y="684453"/>
                    </a:cubicBezTo>
                    <a:cubicBezTo>
                      <a:pt x="1418829" y="1062466"/>
                      <a:pt x="1101213" y="1368906"/>
                      <a:pt x="709414" y="1368906"/>
                    </a:cubicBezTo>
                    <a:cubicBezTo>
                      <a:pt x="646371" y="1368906"/>
                      <a:pt x="585249" y="1360972"/>
                      <a:pt x="527244" y="1346129"/>
                    </a:cubicBezTo>
                    <a:lnTo>
                      <a:pt x="709415" y="684453"/>
                    </a:lnTo>
                    <a:close/>
                  </a:path>
                  <a:path fill="none" w="1418830" h="1368906">
                    <a:moveTo>
                      <a:pt x="10721" y="803002"/>
                    </a:moveTo>
                    <a:cubicBezTo>
                      <a:pt x="3640" y="764577"/>
                      <a:pt x="-1" y="724925"/>
                      <a:pt x="-1" y="684453"/>
                    </a:cubicBezTo>
                    <a:cubicBezTo>
                      <a:pt x="-1" y="306440"/>
                      <a:pt x="317615" y="0"/>
                      <a:pt x="709414" y="0"/>
                    </a:cubicBezTo>
                    <a:cubicBezTo>
                      <a:pt x="1101213" y="0"/>
                      <a:pt x="1418829" y="306440"/>
                      <a:pt x="1418829" y="684453"/>
                    </a:cubicBezTo>
                    <a:cubicBezTo>
                      <a:pt x="1418829" y="1062466"/>
                      <a:pt x="1101213" y="1368906"/>
                      <a:pt x="709414" y="1368906"/>
                    </a:cubicBezTo>
                    <a:cubicBezTo>
                      <a:pt x="646371" y="1368906"/>
                      <a:pt x="585249" y="1360972"/>
                      <a:pt x="527244" y="1346129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空心弧 76"/>
              <p:cNvSpPr/>
              <p:nvPr/>
            </p:nvSpPr>
            <p:spPr>
              <a:xfrm rot="18378000">
                <a:off x="3774960" y="1896840"/>
                <a:ext cx="367560" cy="358200"/>
              </a:xfrm>
              <a:custGeom>
                <a:avLst/>
                <a:gdLst/>
                <a:ahLst/>
                <a:rect l="l" t="t" r="r" b="b"/>
                <a:pathLst>
                  <a:path w="21600" h="10800">
                    <a:moveTo>
                      <a:pt x="876" y="10800"/>
                    </a:moveTo>
                    <a:cubicBezTo>
                      <a:pt x="876" y="5319"/>
                      <a:pt x="5319" y="876"/>
                      <a:pt x="10800" y="876"/>
                    </a:cubicBezTo>
                    <a:cubicBezTo>
                      <a:pt x="16281" y="876"/>
                      <a:pt x="20724" y="5319"/>
                      <a:pt x="20724" y="10800"/>
                    </a:cubicBezTo>
                    <a:lnTo>
                      <a:pt x="21600" y="10800"/>
                    </a:lnTo>
                    <a:cubicBezTo>
                      <a:pt x="21600" y="4835"/>
                      <a:pt x="16765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空心弧 77"/>
              <p:cNvSpPr/>
              <p:nvPr/>
            </p:nvSpPr>
            <p:spPr>
              <a:xfrm rot="6598200">
                <a:off x="3437640" y="1793160"/>
                <a:ext cx="1219680" cy="1218240"/>
              </a:xfrm>
              <a:custGeom>
                <a:avLst/>
                <a:gdLst/>
                <a:ahLst/>
                <a:rect l="l" t="t" r="r" b="b"/>
                <a:pathLst>
                  <a:path w="21600" h="10800">
                    <a:moveTo>
                      <a:pt x="4319" y="10800"/>
                    </a:moveTo>
                    <a:cubicBezTo>
                      <a:pt x="4319" y="7221"/>
                      <a:pt x="7221" y="4319"/>
                      <a:pt x="10800" y="4319"/>
                    </a:cubicBezTo>
                    <a:cubicBezTo>
                      <a:pt x="14379" y="4319"/>
                      <a:pt x="17281" y="7221"/>
                      <a:pt x="17281" y="10800"/>
                    </a:cubicBezTo>
                    <a:lnTo>
                      <a:pt x="21600" y="10800"/>
                    </a:lnTo>
                    <a:cubicBezTo>
                      <a:pt x="21600" y="4835"/>
                      <a:pt x="16765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弧形 78"/>
              <p:cNvSpPr/>
              <p:nvPr/>
            </p:nvSpPr>
            <p:spPr>
              <a:xfrm rot="174600">
                <a:off x="3783240" y="2133720"/>
                <a:ext cx="519480" cy="501840"/>
              </a:xfrm>
              <a:custGeom>
                <a:avLst/>
                <a:gdLst/>
                <a:ahLst/>
                <a:rect l="l" t="t" r="r" b="b"/>
                <a:pathLst>
                  <a:path stroke="0" w="520090" h="501790">
                    <a:moveTo>
                      <a:pt x="3930" y="294350"/>
                    </a:moveTo>
                    <a:cubicBezTo>
                      <a:pt x="1335" y="280265"/>
                      <a:pt x="0" y="265730"/>
                      <a:pt x="0" y="250895"/>
                    </a:cubicBezTo>
                    <a:cubicBezTo>
                      <a:pt x="0" y="112330"/>
                      <a:pt x="116426" y="0"/>
                      <a:pt x="260045" y="0"/>
                    </a:cubicBezTo>
                    <a:cubicBezTo>
                      <a:pt x="403664" y="0"/>
                      <a:pt x="520090" y="112330"/>
                      <a:pt x="520090" y="250895"/>
                    </a:cubicBezTo>
                    <a:cubicBezTo>
                      <a:pt x="520090" y="389460"/>
                      <a:pt x="403664" y="501790"/>
                      <a:pt x="260045" y="501790"/>
                    </a:cubicBezTo>
                    <a:cubicBezTo>
                      <a:pt x="236936" y="501790"/>
                      <a:pt x="214531" y="498882"/>
                      <a:pt x="193269" y="493441"/>
                    </a:cubicBezTo>
                    <a:lnTo>
                      <a:pt x="260045" y="250895"/>
                    </a:lnTo>
                    <a:close/>
                  </a:path>
                  <a:path fill="none" w="520090" h="501790">
                    <a:moveTo>
                      <a:pt x="3930" y="294350"/>
                    </a:moveTo>
                    <a:cubicBezTo>
                      <a:pt x="1335" y="280265"/>
                      <a:pt x="0" y="265730"/>
                      <a:pt x="0" y="250895"/>
                    </a:cubicBezTo>
                    <a:cubicBezTo>
                      <a:pt x="0" y="112330"/>
                      <a:pt x="116426" y="0"/>
                      <a:pt x="260045" y="0"/>
                    </a:cubicBezTo>
                    <a:cubicBezTo>
                      <a:pt x="403664" y="0"/>
                      <a:pt x="520090" y="112330"/>
                      <a:pt x="520090" y="250895"/>
                    </a:cubicBezTo>
                    <a:cubicBezTo>
                      <a:pt x="520090" y="389460"/>
                      <a:pt x="403664" y="501790"/>
                      <a:pt x="260045" y="501790"/>
                    </a:cubicBezTo>
                    <a:cubicBezTo>
                      <a:pt x="236936" y="501790"/>
                      <a:pt x="214531" y="498882"/>
                      <a:pt x="193269" y="493441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Box 79"/>
              <p:cNvSpPr/>
              <p:nvPr/>
            </p:nvSpPr>
            <p:spPr>
              <a:xfrm>
                <a:off x="3739320" y="2217600"/>
                <a:ext cx="73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3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Box 96"/>
            <p:cNvSpPr/>
            <p:nvPr/>
          </p:nvSpPr>
          <p:spPr>
            <a:xfrm>
              <a:off x="3834720" y="3156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军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101"/>
          <p:cNvGrpSpPr/>
          <p:nvPr/>
        </p:nvGrpSpPr>
        <p:grpSpPr>
          <a:xfrm>
            <a:off x="4900320" y="1434240"/>
            <a:ext cx="1939320" cy="2060280"/>
            <a:chOff x="4900320" y="1434240"/>
            <a:chExt cx="1939320" cy="2060280"/>
          </a:xfrm>
        </p:grpSpPr>
        <p:grpSp>
          <p:nvGrpSpPr>
            <p:cNvPr id="166" name="组合 94"/>
            <p:cNvGrpSpPr/>
            <p:nvPr/>
          </p:nvGrpSpPr>
          <p:grpSpPr>
            <a:xfrm>
              <a:off x="4900320" y="1434240"/>
              <a:ext cx="1939320" cy="1950840"/>
              <a:chOff x="4900320" y="1434240"/>
              <a:chExt cx="1939320" cy="1950840"/>
            </a:xfrm>
          </p:grpSpPr>
          <p:sp>
            <p:nvSpPr>
              <p:cNvPr id="167" name="弧形 80"/>
              <p:cNvSpPr/>
              <p:nvPr/>
            </p:nvSpPr>
            <p:spPr>
              <a:xfrm rot="18324600">
                <a:off x="5159880" y="1724400"/>
                <a:ext cx="1419480" cy="1370160"/>
              </a:xfrm>
              <a:custGeom>
                <a:avLst/>
                <a:gdLst/>
                <a:ahLst/>
                <a:rect l="l" t="t" r="r" b="b"/>
                <a:pathLst>
                  <a:path stroke="0" w="1418830" h="1368906">
                    <a:moveTo>
                      <a:pt x="10721" y="803002"/>
                    </a:moveTo>
                    <a:cubicBezTo>
                      <a:pt x="3640" y="764577"/>
                      <a:pt x="-1" y="724925"/>
                      <a:pt x="-1" y="684453"/>
                    </a:cubicBezTo>
                    <a:cubicBezTo>
                      <a:pt x="-1" y="306440"/>
                      <a:pt x="317615" y="0"/>
                      <a:pt x="709414" y="0"/>
                    </a:cubicBezTo>
                    <a:cubicBezTo>
                      <a:pt x="1101213" y="0"/>
                      <a:pt x="1418829" y="306440"/>
                      <a:pt x="1418829" y="684453"/>
                    </a:cubicBezTo>
                    <a:cubicBezTo>
                      <a:pt x="1418829" y="1062466"/>
                      <a:pt x="1101213" y="1368906"/>
                      <a:pt x="709414" y="1368906"/>
                    </a:cubicBezTo>
                    <a:cubicBezTo>
                      <a:pt x="646371" y="1368906"/>
                      <a:pt x="585249" y="1360972"/>
                      <a:pt x="527244" y="1346129"/>
                    </a:cubicBezTo>
                    <a:lnTo>
                      <a:pt x="709415" y="684453"/>
                    </a:lnTo>
                    <a:close/>
                  </a:path>
                  <a:path fill="none" w="1418830" h="1368906">
                    <a:moveTo>
                      <a:pt x="10721" y="803002"/>
                    </a:moveTo>
                    <a:cubicBezTo>
                      <a:pt x="3640" y="764577"/>
                      <a:pt x="-1" y="724925"/>
                      <a:pt x="-1" y="684453"/>
                    </a:cubicBezTo>
                    <a:cubicBezTo>
                      <a:pt x="-1" y="306440"/>
                      <a:pt x="317615" y="0"/>
                      <a:pt x="709414" y="0"/>
                    </a:cubicBezTo>
                    <a:cubicBezTo>
                      <a:pt x="1101213" y="0"/>
                      <a:pt x="1418829" y="306440"/>
                      <a:pt x="1418829" y="684453"/>
                    </a:cubicBezTo>
                    <a:cubicBezTo>
                      <a:pt x="1418829" y="1062466"/>
                      <a:pt x="1101213" y="1368906"/>
                      <a:pt x="709414" y="1368906"/>
                    </a:cubicBezTo>
                    <a:cubicBezTo>
                      <a:pt x="646371" y="1368906"/>
                      <a:pt x="585249" y="1360972"/>
                      <a:pt x="527244" y="1346129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组合 91"/>
              <p:cNvGrpSpPr/>
              <p:nvPr/>
            </p:nvGrpSpPr>
            <p:grpSpPr>
              <a:xfrm>
                <a:off x="5180760" y="1717200"/>
                <a:ext cx="1386000" cy="1385280"/>
                <a:chOff x="5180760" y="1717200"/>
                <a:chExt cx="1386000" cy="1385280"/>
              </a:xfrm>
            </p:grpSpPr>
            <p:sp>
              <p:nvSpPr>
                <p:cNvPr id="169" name="空心弧 81"/>
                <p:cNvSpPr/>
                <p:nvPr/>
              </p:nvSpPr>
              <p:spPr>
                <a:xfrm rot="18378000">
                  <a:off x="5600880" y="1904040"/>
                  <a:ext cx="367560" cy="358920"/>
                </a:xfrm>
                <a:custGeom>
                  <a:avLst/>
                  <a:gdLst/>
                  <a:ahLst/>
                  <a:rect l="l" t="t" r="r" b="b"/>
                  <a:pathLst>
                    <a:path w="21600" h="10800">
                      <a:moveTo>
                        <a:pt x="876" y="10800"/>
                      </a:moveTo>
                      <a:cubicBezTo>
                        <a:pt x="876" y="5319"/>
                        <a:pt x="5319" y="876"/>
                        <a:pt x="10800" y="876"/>
                      </a:cubicBezTo>
                      <a:cubicBezTo>
                        <a:pt x="16281" y="876"/>
                        <a:pt x="20724" y="5319"/>
                        <a:pt x="20724" y="10800"/>
                      </a:cubicBezTo>
                      <a:lnTo>
                        <a:pt x="21600" y="10800"/>
                      </a:ln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255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空心弧 82"/>
                <p:cNvSpPr/>
                <p:nvPr/>
              </p:nvSpPr>
              <p:spPr>
                <a:xfrm rot="4894200">
                  <a:off x="5263560" y="1799640"/>
                  <a:ext cx="1219680" cy="1220400"/>
                </a:xfrm>
                <a:custGeom>
                  <a:avLst/>
                  <a:gdLst/>
                  <a:ahLst/>
                  <a:rect l="l" t="t" r="r" b="b"/>
                  <a:pathLst>
                    <a:path w="21600" h="10800">
                      <a:moveTo>
                        <a:pt x="4319" y="10800"/>
                      </a:moveTo>
                      <a:cubicBezTo>
                        <a:pt x="4319" y="7221"/>
                        <a:pt x="7221" y="4319"/>
                        <a:pt x="10800" y="4319"/>
                      </a:cubicBezTo>
                      <a:cubicBezTo>
                        <a:pt x="14379" y="4319"/>
                        <a:pt x="17281" y="7221"/>
                        <a:pt x="17281" y="10800"/>
                      </a:cubicBezTo>
                      <a:lnTo>
                        <a:pt x="21600" y="10800"/>
                      </a:ln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255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弧形 83"/>
                <p:cNvSpPr/>
                <p:nvPr/>
              </p:nvSpPr>
              <p:spPr>
                <a:xfrm rot="1821600">
                  <a:off x="5608800" y="2141280"/>
                  <a:ext cx="520560" cy="501840"/>
                </a:xfrm>
                <a:custGeom>
                  <a:avLst/>
                  <a:gdLst/>
                  <a:ahLst/>
                  <a:rect l="l" t="t" r="r" b="b"/>
                  <a:pathLst>
                    <a:path stroke="0" w="520090" h="501790">
                      <a:moveTo>
                        <a:pt x="3930" y="294350"/>
                      </a:moveTo>
                      <a:cubicBezTo>
                        <a:pt x="1335" y="280265"/>
                        <a:pt x="0" y="265730"/>
                        <a:pt x="0" y="250895"/>
                      </a:cubicBezTo>
                      <a:cubicBezTo>
                        <a:pt x="0" y="112330"/>
                        <a:pt x="116426" y="0"/>
                        <a:pt x="260045" y="0"/>
                      </a:cubicBezTo>
                      <a:cubicBezTo>
                        <a:pt x="403664" y="0"/>
                        <a:pt x="520090" y="112330"/>
                        <a:pt x="520090" y="250895"/>
                      </a:cubicBezTo>
                      <a:cubicBezTo>
                        <a:pt x="520090" y="389460"/>
                        <a:pt x="403664" y="501790"/>
                        <a:pt x="260045" y="501790"/>
                      </a:cubicBezTo>
                      <a:cubicBezTo>
                        <a:pt x="236936" y="501790"/>
                        <a:pt x="214531" y="498882"/>
                        <a:pt x="193269" y="493441"/>
                      </a:cubicBezTo>
                      <a:lnTo>
                        <a:pt x="260045" y="250895"/>
                      </a:lnTo>
                      <a:close/>
                    </a:path>
                    <a:path fill="none" w="520090" h="501790">
                      <a:moveTo>
                        <a:pt x="3930" y="294350"/>
                      </a:moveTo>
                      <a:cubicBezTo>
                        <a:pt x="1335" y="280265"/>
                        <a:pt x="0" y="265730"/>
                        <a:pt x="0" y="250895"/>
                      </a:cubicBezTo>
                      <a:cubicBezTo>
                        <a:pt x="0" y="112330"/>
                        <a:pt x="116426" y="0"/>
                        <a:pt x="260045" y="0"/>
                      </a:cubicBezTo>
                      <a:cubicBezTo>
                        <a:pt x="403664" y="0"/>
                        <a:pt x="520090" y="112330"/>
                        <a:pt x="520090" y="250895"/>
                      </a:cubicBezTo>
                      <a:cubicBezTo>
                        <a:pt x="520090" y="389460"/>
                        <a:pt x="403664" y="501790"/>
                        <a:pt x="260045" y="501790"/>
                      </a:cubicBezTo>
                      <a:cubicBezTo>
                        <a:pt x="236936" y="501790"/>
                        <a:pt x="214531" y="498882"/>
                        <a:pt x="193269" y="493441"/>
                      </a:cubicBez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Box 84"/>
                <p:cNvSpPr/>
                <p:nvPr/>
              </p:nvSpPr>
              <p:spPr>
                <a:xfrm>
                  <a:off x="5565240" y="2225160"/>
                  <a:ext cx="739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微软雅黑"/>
                      <a:ea typeface="微软雅黑"/>
                    </a:rPr>
                    <a:t>29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" name="TextBox 97"/>
            <p:cNvSpPr/>
            <p:nvPr/>
          </p:nvSpPr>
          <p:spPr>
            <a:xfrm>
              <a:off x="5569920" y="3126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党政机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102"/>
          <p:cNvGrpSpPr/>
          <p:nvPr/>
        </p:nvGrpSpPr>
        <p:grpSpPr>
          <a:xfrm>
            <a:off x="7006320" y="1595160"/>
            <a:ext cx="1719720" cy="1899360"/>
            <a:chOff x="7006320" y="1595160"/>
            <a:chExt cx="1719720" cy="1899360"/>
          </a:xfrm>
        </p:grpSpPr>
        <p:grpSp>
          <p:nvGrpSpPr>
            <p:cNvPr id="175" name="组合 90"/>
            <p:cNvGrpSpPr/>
            <p:nvPr/>
          </p:nvGrpSpPr>
          <p:grpSpPr>
            <a:xfrm>
              <a:off x="7006320" y="1595160"/>
              <a:ext cx="1719720" cy="1684080"/>
              <a:chOff x="7006320" y="1595160"/>
              <a:chExt cx="1719720" cy="1684080"/>
            </a:xfrm>
          </p:grpSpPr>
          <p:sp>
            <p:nvSpPr>
              <p:cNvPr id="176" name="弧形 85"/>
              <p:cNvSpPr/>
              <p:nvPr/>
            </p:nvSpPr>
            <p:spPr>
              <a:xfrm rot="20719800">
                <a:off x="7156440" y="1752120"/>
                <a:ext cx="1419120" cy="1369440"/>
              </a:xfrm>
              <a:custGeom>
                <a:avLst/>
                <a:gdLst/>
                <a:ahLst/>
                <a:rect l="l" t="t" r="r" b="b"/>
                <a:pathLst>
                  <a:path stroke="0" w="1418830" h="1368906">
                    <a:moveTo>
                      <a:pt x="10721" y="803002"/>
                    </a:moveTo>
                    <a:cubicBezTo>
                      <a:pt x="3640" y="764577"/>
                      <a:pt x="-1" y="724925"/>
                      <a:pt x="-1" y="684453"/>
                    </a:cubicBezTo>
                    <a:cubicBezTo>
                      <a:pt x="-1" y="306440"/>
                      <a:pt x="317615" y="0"/>
                      <a:pt x="709414" y="0"/>
                    </a:cubicBezTo>
                    <a:cubicBezTo>
                      <a:pt x="1101213" y="0"/>
                      <a:pt x="1418829" y="306440"/>
                      <a:pt x="1418829" y="684453"/>
                    </a:cubicBezTo>
                    <a:cubicBezTo>
                      <a:pt x="1418829" y="1062466"/>
                      <a:pt x="1101213" y="1368906"/>
                      <a:pt x="709414" y="1368906"/>
                    </a:cubicBezTo>
                    <a:cubicBezTo>
                      <a:pt x="646371" y="1368906"/>
                      <a:pt x="585249" y="1360972"/>
                      <a:pt x="527244" y="1346129"/>
                    </a:cubicBezTo>
                    <a:lnTo>
                      <a:pt x="709415" y="684453"/>
                    </a:lnTo>
                    <a:close/>
                  </a:path>
                  <a:path fill="none" w="1418830" h="1368906">
                    <a:moveTo>
                      <a:pt x="10721" y="803002"/>
                    </a:moveTo>
                    <a:cubicBezTo>
                      <a:pt x="3640" y="764577"/>
                      <a:pt x="-1" y="724925"/>
                      <a:pt x="-1" y="684453"/>
                    </a:cubicBezTo>
                    <a:cubicBezTo>
                      <a:pt x="-1" y="306440"/>
                      <a:pt x="317615" y="0"/>
                      <a:pt x="709414" y="0"/>
                    </a:cubicBezTo>
                    <a:cubicBezTo>
                      <a:pt x="1101213" y="0"/>
                      <a:pt x="1418829" y="306440"/>
                      <a:pt x="1418829" y="684453"/>
                    </a:cubicBezTo>
                    <a:cubicBezTo>
                      <a:pt x="1418829" y="1062466"/>
                      <a:pt x="1101213" y="1368906"/>
                      <a:pt x="709414" y="1368906"/>
                    </a:cubicBezTo>
                    <a:cubicBezTo>
                      <a:pt x="646371" y="1368906"/>
                      <a:pt x="585249" y="1360972"/>
                      <a:pt x="527244" y="1346129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空心弧 86"/>
              <p:cNvSpPr/>
              <p:nvPr/>
            </p:nvSpPr>
            <p:spPr>
              <a:xfrm rot="18378000">
                <a:off x="7593480" y="1948680"/>
                <a:ext cx="367560" cy="358560"/>
              </a:xfrm>
              <a:custGeom>
                <a:avLst/>
                <a:gdLst/>
                <a:ahLst/>
                <a:rect l="l" t="t" r="r" b="b"/>
                <a:pathLst>
                  <a:path w="21600" h="10800">
                    <a:moveTo>
                      <a:pt x="876" y="10800"/>
                    </a:moveTo>
                    <a:cubicBezTo>
                      <a:pt x="876" y="5319"/>
                      <a:pt x="5319" y="876"/>
                      <a:pt x="10800" y="876"/>
                    </a:cubicBezTo>
                    <a:cubicBezTo>
                      <a:pt x="16281" y="876"/>
                      <a:pt x="20724" y="5319"/>
                      <a:pt x="20724" y="10800"/>
                    </a:cubicBezTo>
                    <a:lnTo>
                      <a:pt x="21600" y="10800"/>
                    </a:lnTo>
                    <a:cubicBezTo>
                      <a:pt x="21600" y="4835"/>
                      <a:pt x="16765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空心弧 87"/>
              <p:cNvSpPr/>
              <p:nvPr/>
            </p:nvSpPr>
            <p:spPr>
              <a:xfrm rot="9556200">
                <a:off x="7255800" y="1844640"/>
                <a:ext cx="1219320" cy="1219680"/>
              </a:xfrm>
              <a:custGeom>
                <a:avLst/>
                <a:gdLst/>
                <a:ahLst/>
                <a:rect l="l" t="t" r="r" b="b"/>
                <a:pathLst>
                  <a:path w="21600" h="10800">
                    <a:moveTo>
                      <a:pt x="4319" y="10800"/>
                    </a:moveTo>
                    <a:cubicBezTo>
                      <a:pt x="4319" y="7221"/>
                      <a:pt x="7221" y="4319"/>
                      <a:pt x="10800" y="4319"/>
                    </a:cubicBezTo>
                    <a:cubicBezTo>
                      <a:pt x="14379" y="4319"/>
                      <a:pt x="17281" y="7221"/>
                      <a:pt x="17281" y="10800"/>
                    </a:cubicBezTo>
                    <a:lnTo>
                      <a:pt x="21600" y="10800"/>
                    </a:lnTo>
                    <a:cubicBezTo>
                      <a:pt x="21600" y="4835"/>
                      <a:pt x="16765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弧形 88"/>
              <p:cNvSpPr/>
              <p:nvPr/>
            </p:nvSpPr>
            <p:spPr>
              <a:xfrm rot="5212200">
                <a:off x="7601760" y="2185920"/>
                <a:ext cx="520200" cy="501840"/>
              </a:xfrm>
              <a:custGeom>
                <a:avLst/>
                <a:gdLst/>
                <a:ahLst/>
                <a:rect l="l" t="t" r="r" b="b"/>
                <a:pathLst>
                  <a:path stroke="0" w="520090" h="501790">
                    <a:moveTo>
                      <a:pt x="3930" y="294350"/>
                    </a:moveTo>
                    <a:cubicBezTo>
                      <a:pt x="1335" y="280265"/>
                      <a:pt x="0" y="265730"/>
                      <a:pt x="0" y="250895"/>
                    </a:cubicBezTo>
                    <a:cubicBezTo>
                      <a:pt x="0" y="112330"/>
                      <a:pt x="116426" y="0"/>
                      <a:pt x="260045" y="0"/>
                    </a:cubicBezTo>
                    <a:cubicBezTo>
                      <a:pt x="403664" y="0"/>
                      <a:pt x="520090" y="112330"/>
                      <a:pt x="520090" y="250895"/>
                    </a:cubicBezTo>
                    <a:cubicBezTo>
                      <a:pt x="520090" y="389460"/>
                      <a:pt x="403664" y="501790"/>
                      <a:pt x="260045" y="501790"/>
                    </a:cubicBezTo>
                    <a:cubicBezTo>
                      <a:pt x="236936" y="501790"/>
                      <a:pt x="214531" y="498882"/>
                      <a:pt x="193269" y="493441"/>
                    </a:cubicBezTo>
                    <a:lnTo>
                      <a:pt x="260045" y="250895"/>
                    </a:lnTo>
                    <a:close/>
                  </a:path>
                  <a:path fill="none" w="520090" h="501790">
                    <a:moveTo>
                      <a:pt x="3930" y="294350"/>
                    </a:moveTo>
                    <a:cubicBezTo>
                      <a:pt x="1335" y="280265"/>
                      <a:pt x="0" y="265730"/>
                      <a:pt x="0" y="250895"/>
                    </a:cubicBezTo>
                    <a:cubicBezTo>
                      <a:pt x="0" y="112330"/>
                      <a:pt x="116426" y="0"/>
                      <a:pt x="260045" y="0"/>
                    </a:cubicBezTo>
                    <a:cubicBezTo>
                      <a:pt x="403664" y="0"/>
                      <a:pt x="520090" y="112330"/>
                      <a:pt x="520090" y="250895"/>
                    </a:cubicBezTo>
                    <a:cubicBezTo>
                      <a:pt x="520090" y="389460"/>
                      <a:pt x="403664" y="501790"/>
                      <a:pt x="260045" y="501790"/>
                    </a:cubicBezTo>
                    <a:cubicBezTo>
                      <a:pt x="236936" y="501790"/>
                      <a:pt x="214531" y="498882"/>
                      <a:pt x="193269" y="493441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89"/>
              <p:cNvSpPr/>
              <p:nvPr/>
            </p:nvSpPr>
            <p:spPr>
              <a:xfrm>
                <a:off x="7661520" y="2269800"/>
                <a:ext cx="73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9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TextBox 98"/>
            <p:cNvSpPr/>
            <p:nvPr/>
          </p:nvSpPr>
          <p:spPr>
            <a:xfrm>
              <a:off x="7500960" y="3126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央企金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103"/>
          <p:cNvSpPr/>
          <p:nvPr/>
        </p:nvSpPr>
        <p:spPr>
          <a:xfrm>
            <a:off x="3622680" y="37274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选举单位共选出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27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110"/>
          <p:cNvGrpSpPr/>
          <p:nvPr/>
        </p:nvGrpSpPr>
        <p:grpSpPr>
          <a:xfrm>
            <a:off x="2376360" y="4413240"/>
            <a:ext cx="474840" cy="730440"/>
            <a:chOff x="2376360" y="4413240"/>
            <a:chExt cx="474840" cy="730440"/>
          </a:xfrm>
        </p:grpSpPr>
        <p:sp>
          <p:nvSpPr>
            <p:cNvPr id="184" name="椭圆 104"/>
            <p:cNvSpPr/>
            <p:nvPr/>
          </p:nvSpPr>
          <p:spPr>
            <a:xfrm>
              <a:off x="2489040" y="4413240"/>
              <a:ext cx="234000" cy="23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圆角矩形 105"/>
            <p:cNvSpPr/>
            <p:nvPr/>
          </p:nvSpPr>
          <p:spPr>
            <a:xfrm>
              <a:off x="2376360" y="4662000"/>
              <a:ext cx="474840" cy="2692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106"/>
            <p:cNvSpPr/>
            <p:nvPr/>
          </p:nvSpPr>
          <p:spPr>
            <a:xfrm>
              <a:off x="2737800" y="4723560"/>
              <a:ext cx="4536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07"/>
            <p:cNvSpPr/>
            <p:nvPr/>
          </p:nvSpPr>
          <p:spPr>
            <a:xfrm>
              <a:off x="2441160" y="4723560"/>
              <a:ext cx="4536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圆角矩形 108"/>
            <p:cNvSpPr/>
            <p:nvPr/>
          </p:nvSpPr>
          <p:spPr>
            <a:xfrm>
              <a:off x="2475720" y="4784040"/>
              <a:ext cx="261720" cy="359640"/>
            </a:xfrm>
            <a:custGeom>
              <a:avLst/>
              <a:gdLst>
                <a:gd name="textAreaLeft" fmla="*/ 12600 w 261720"/>
                <a:gd name="textAreaRight" fmla="*/ 249120 w 261720"/>
                <a:gd name="textAreaTop" fmla="*/ 12600 h 359640"/>
                <a:gd name="textAreaBottom" fmla="*/ 347040 h 359640"/>
              </a:gdLst>
              <a:ahLst/>
              <a:rect l="textAreaLeft" t="textAreaTop" r="textAreaRight" b="textAreaBottom"/>
              <a:pathLst>
                <a:path w="21600" h="29670">
                  <a:moveTo>
                    <a:pt x="3600" y="0"/>
                  </a:moveTo>
                  <a:arcTo wR="3600" hR="3600" stAng="16200000" swAng="-5400000"/>
                  <a:lnTo>
                    <a:pt x="0" y="26070"/>
                  </a:lnTo>
                  <a:arcTo wR="3600" hR="3600" stAng="10800000" swAng="-5400000"/>
                  <a:lnTo>
                    <a:pt x="18000" y="296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109"/>
            <p:cNvSpPr/>
            <p:nvPr/>
          </p:nvSpPr>
          <p:spPr>
            <a:xfrm>
              <a:off x="2549160" y="4955040"/>
              <a:ext cx="125640" cy="18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322"/>
          <p:cNvGrpSpPr/>
          <p:nvPr/>
        </p:nvGrpSpPr>
        <p:grpSpPr>
          <a:xfrm>
            <a:off x="2441520" y="6060960"/>
            <a:ext cx="4303800" cy="598680"/>
            <a:chOff x="2441520" y="6060960"/>
            <a:chExt cx="4303800" cy="598680"/>
          </a:xfrm>
        </p:grpSpPr>
        <p:grpSp>
          <p:nvGrpSpPr>
            <p:cNvPr id="191" name="组合 231"/>
            <p:cNvGrpSpPr/>
            <p:nvPr/>
          </p:nvGrpSpPr>
          <p:grpSpPr>
            <a:xfrm>
              <a:off x="2441520" y="6079320"/>
              <a:ext cx="364680" cy="561240"/>
              <a:chOff x="2441520" y="6079320"/>
              <a:chExt cx="364680" cy="561240"/>
            </a:xfrm>
          </p:grpSpPr>
          <p:sp>
            <p:nvSpPr>
              <p:cNvPr id="192" name="椭圆 232"/>
              <p:cNvSpPr/>
              <p:nvPr/>
            </p:nvSpPr>
            <p:spPr>
              <a:xfrm>
                <a:off x="2527920" y="607932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圆角矩形 233"/>
              <p:cNvSpPr/>
              <p:nvPr/>
            </p:nvSpPr>
            <p:spPr>
              <a:xfrm>
                <a:off x="2441520" y="627048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矩形 234"/>
              <p:cNvSpPr/>
              <p:nvPr/>
            </p:nvSpPr>
            <p:spPr>
              <a:xfrm>
                <a:off x="271908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矩形 235"/>
              <p:cNvSpPr/>
              <p:nvPr/>
            </p:nvSpPr>
            <p:spPr>
              <a:xfrm>
                <a:off x="249120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圆角矩形 236"/>
              <p:cNvSpPr/>
              <p:nvPr/>
            </p:nvSpPr>
            <p:spPr>
              <a:xfrm>
                <a:off x="2517840" y="636408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237"/>
              <p:cNvSpPr/>
              <p:nvPr/>
            </p:nvSpPr>
            <p:spPr>
              <a:xfrm>
                <a:off x="2574360" y="649584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组合 238"/>
            <p:cNvGrpSpPr/>
            <p:nvPr/>
          </p:nvGrpSpPr>
          <p:grpSpPr>
            <a:xfrm>
              <a:off x="2894400" y="6079320"/>
              <a:ext cx="364680" cy="561240"/>
              <a:chOff x="2894400" y="6079320"/>
              <a:chExt cx="364680" cy="561240"/>
            </a:xfrm>
          </p:grpSpPr>
          <p:sp>
            <p:nvSpPr>
              <p:cNvPr id="199" name="椭圆 239"/>
              <p:cNvSpPr/>
              <p:nvPr/>
            </p:nvSpPr>
            <p:spPr>
              <a:xfrm>
                <a:off x="2980800" y="607932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圆角矩形 240"/>
              <p:cNvSpPr/>
              <p:nvPr/>
            </p:nvSpPr>
            <p:spPr>
              <a:xfrm>
                <a:off x="2894400" y="627048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矩形 241"/>
              <p:cNvSpPr/>
              <p:nvPr/>
            </p:nvSpPr>
            <p:spPr>
              <a:xfrm>
                <a:off x="317196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矩形 242"/>
              <p:cNvSpPr/>
              <p:nvPr/>
            </p:nvSpPr>
            <p:spPr>
              <a:xfrm>
                <a:off x="294408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圆角矩形 243"/>
              <p:cNvSpPr/>
              <p:nvPr/>
            </p:nvSpPr>
            <p:spPr>
              <a:xfrm>
                <a:off x="2970720" y="636408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矩形 244"/>
              <p:cNvSpPr/>
              <p:nvPr/>
            </p:nvSpPr>
            <p:spPr>
              <a:xfrm>
                <a:off x="3027240" y="649584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组合 245"/>
            <p:cNvGrpSpPr/>
            <p:nvPr/>
          </p:nvGrpSpPr>
          <p:grpSpPr>
            <a:xfrm>
              <a:off x="3343320" y="6079320"/>
              <a:ext cx="364680" cy="561240"/>
              <a:chOff x="3343320" y="6079320"/>
              <a:chExt cx="364680" cy="561240"/>
            </a:xfrm>
          </p:grpSpPr>
          <p:sp>
            <p:nvSpPr>
              <p:cNvPr id="206" name="椭圆 246"/>
              <p:cNvSpPr/>
              <p:nvPr/>
            </p:nvSpPr>
            <p:spPr>
              <a:xfrm>
                <a:off x="3429720" y="607932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圆角矩形 247"/>
              <p:cNvSpPr/>
              <p:nvPr/>
            </p:nvSpPr>
            <p:spPr>
              <a:xfrm>
                <a:off x="3343320" y="627048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248"/>
              <p:cNvSpPr/>
              <p:nvPr/>
            </p:nvSpPr>
            <p:spPr>
              <a:xfrm>
                <a:off x="362088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矩形 249"/>
              <p:cNvSpPr/>
              <p:nvPr/>
            </p:nvSpPr>
            <p:spPr>
              <a:xfrm>
                <a:off x="339300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圆角矩形 250"/>
              <p:cNvSpPr/>
              <p:nvPr/>
            </p:nvSpPr>
            <p:spPr>
              <a:xfrm>
                <a:off x="3419640" y="636408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矩形 251"/>
              <p:cNvSpPr/>
              <p:nvPr/>
            </p:nvSpPr>
            <p:spPr>
              <a:xfrm>
                <a:off x="3476160" y="649584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252"/>
            <p:cNvGrpSpPr/>
            <p:nvPr/>
          </p:nvGrpSpPr>
          <p:grpSpPr>
            <a:xfrm>
              <a:off x="3808440" y="6079320"/>
              <a:ext cx="364680" cy="561240"/>
              <a:chOff x="3808440" y="6079320"/>
              <a:chExt cx="364680" cy="561240"/>
            </a:xfrm>
          </p:grpSpPr>
          <p:sp>
            <p:nvSpPr>
              <p:cNvPr id="213" name="椭圆 253"/>
              <p:cNvSpPr/>
              <p:nvPr/>
            </p:nvSpPr>
            <p:spPr>
              <a:xfrm>
                <a:off x="3894840" y="607932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圆角矩形 254"/>
              <p:cNvSpPr/>
              <p:nvPr/>
            </p:nvSpPr>
            <p:spPr>
              <a:xfrm>
                <a:off x="3808440" y="627048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矩形 255"/>
              <p:cNvSpPr/>
              <p:nvPr/>
            </p:nvSpPr>
            <p:spPr>
              <a:xfrm>
                <a:off x="408600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矩形 256"/>
              <p:cNvSpPr/>
              <p:nvPr/>
            </p:nvSpPr>
            <p:spPr>
              <a:xfrm>
                <a:off x="385812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圆角矩形 257"/>
              <p:cNvSpPr/>
              <p:nvPr/>
            </p:nvSpPr>
            <p:spPr>
              <a:xfrm>
                <a:off x="3884760" y="636408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矩形 258"/>
              <p:cNvSpPr/>
              <p:nvPr/>
            </p:nvSpPr>
            <p:spPr>
              <a:xfrm>
                <a:off x="3941280" y="649584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组合 259"/>
            <p:cNvGrpSpPr/>
            <p:nvPr/>
          </p:nvGrpSpPr>
          <p:grpSpPr>
            <a:xfrm>
              <a:off x="4241520" y="6079320"/>
              <a:ext cx="364680" cy="561240"/>
              <a:chOff x="4241520" y="6079320"/>
              <a:chExt cx="364680" cy="561240"/>
            </a:xfrm>
          </p:grpSpPr>
          <p:sp>
            <p:nvSpPr>
              <p:cNvPr id="220" name="椭圆 260"/>
              <p:cNvSpPr/>
              <p:nvPr/>
            </p:nvSpPr>
            <p:spPr>
              <a:xfrm>
                <a:off x="4327920" y="607932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圆角矩形 261"/>
              <p:cNvSpPr/>
              <p:nvPr/>
            </p:nvSpPr>
            <p:spPr>
              <a:xfrm>
                <a:off x="4241520" y="627048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矩形 262"/>
              <p:cNvSpPr/>
              <p:nvPr/>
            </p:nvSpPr>
            <p:spPr>
              <a:xfrm>
                <a:off x="451908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矩形 263"/>
              <p:cNvSpPr/>
              <p:nvPr/>
            </p:nvSpPr>
            <p:spPr>
              <a:xfrm>
                <a:off x="429120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圆角矩形 264"/>
              <p:cNvSpPr/>
              <p:nvPr/>
            </p:nvSpPr>
            <p:spPr>
              <a:xfrm>
                <a:off x="4317840" y="636408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矩形 265"/>
              <p:cNvSpPr/>
              <p:nvPr/>
            </p:nvSpPr>
            <p:spPr>
              <a:xfrm>
                <a:off x="4374360" y="649584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组合 266"/>
            <p:cNvGrpSpPr/>
            <p:nvPr/>
          </p:nvGrpSpPr>
          <p:grpSpPr>
            <a:xfrm>
              <a:off x="4663080" y="6060960"/>
              <a:ext cx="364680" cy="561240"/>
              <a:chOff x="4663080" y="6060960"/>
              <a:chExt cx="364680" cy="561240"/>
            </a:xfrm>
          </p:grpSpPr>
          <p:sp>
            <p:nvSpPr>
              <p:cNvPr id="227" name="椭圆 267"/>
              <p:cNvSpPr/>
              <p:nvPr/>
            </p:nvSpPr>
            <p:spPr>
              <a:xfrm>
                <a:off x="4749480" y="606096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圆角矩形 268"/>
              <p:cNvSpPr/>
              <p:nvPr/>
            </p:nvSpPr>
            <p:spPr>
              <a:xfrm>
                <a:off x="4663080" y="625212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矩形 269"/>
              <p:cNvSpPr/>
              <p:nvPr/>
            </p:nvSpPr>
            <p:spPr>
              <a:xfrm>
                <a:off x="4940640" y="629928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矩形 270"/>
              <p:cNvSpPr/>
              <p:nvPr/>
            </p:nvSpPr>
            <p:spPr>
              <a:xfrm>
                <a:off x="4712760" y="629928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圆角矩形 271"/>
              <p:cNvSpPr/>
              <p:nvPr/>
            </p:nvSpPr>
            <p:spPr>
              <a:xfrm>
                <a:off x="4739400" y="634572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矩形 272"/>
              <p:cNvSpPr/>
              <p:nvPr/>
            </p:nvSpPr>
            <p:spPr>
              <a:xfrm>
                <a:off x="4795920" y="647748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73"/>
            <p:cNvGrpSpPr/>
            <p:nvPr/>
          </p:nvGrpSpPr>
          <p:grpSpPr>
            <a:xfrm>
              <a:off x="5099040" y="6074640"/>
              <a:ext cx="364680" cy="561240"/>
              <a:chOff x="5099040" y="6074640"/>
              <a:chExt cx="364680" cy="561240"/>
            </a:xfrm>
          </p:grpSpPr>
          <p:sp>
            <p:nvSpPr>
              <p:cNvPr id="234" name="椭圆 274"/>
              <p:cNvSpPr/>
              <p:nvPr/>
            </p:nvSpPr>
            <p:spPr>
              <a:xfrm>
                <a:off x="5185440" y="607464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圆角矩形 275"/>
              <p:cNvSpPr/>
              <p:nvPr/>
            </p:nvSpPr>
            <p:spPr>
              <a:xfrm>
                <a:off x="5099040" y="626580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矩形 276"/>
              <p:cNvSpPr/>
              <p:nvPr/>
            </p:nvSpPr>
            <p:spPr>
              <a:xfrm>
                <a:off x="5376600" y="631296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矩形 277"/>
              <p:cNvSpPr/>
              <p:nvPr/>
            </p:nvSpPr>
            <p:spPr>
              <a:xfrm>
                <a:off x="5148720" y="631296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圆角矩形 278"/>
              <p:cNvSpPr/>
              <p:nvPr/>
            </p:nvSpPr>
            <p:spPr>
              <a:xfrm>
                <a:off x="5175360" y="635940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矩形 279"/>
              <p:cNvSpPr/>
              <p:nvPr/>
            </p:nvSpPr>
            <p:spPr>
              <a:xfrm>
                <a:off x="5231880" y="649116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组合 294"/>
            <p:cNvGrpSpPr/>
            <p:nvPr/>
          </p:nvGrpSpPr>
          <p:grpSpPr>
            <a:xfrm>
              <a:off x="5552640" y="6098400"/>
              <a:ext cx="364680" cy="561240"/>
              <a:chOff x="5552640" y="6098400"/>
              <a:chExt cx="364680" cy="561240"/>
            </a:xfrm>
          </p:grpSpPr>
          <p:sp>
            <p:nvSpPr>
              <p:cNvPr id="241" name="椭圆 295"/>
              <p:cNvSpPr/>
              <p:nvPr/>
            </p:nvSpPr>
            <p:spPr>
              <a:xfrm>
                <a:off x="5639040" y="609840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圆角矩形 296"/>
              <p:cNvSpPr/>
              <p:nvPr/>
            </p:nvSpPr>
            <p:spPr>
              <a:xfrm>
                <a:off x="5552640" y="628956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矩形 297"/>
              <p:cNvSpPr/>
              <p:nvPr/>
            </p:nvSpPr>
            <p:spPr>
              <a:xfrm>
                <a:off x="5830200" y="633672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矩形 298"/>
              <p:cNvSpPr/>
              <p:nvPr/>
            </p:nvSpPr>
            <p:spPr>
              <a:xfrm>
                <a:off x="5602320" y="633672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圆角矩形 299"/>
              <p:cNvSpPr/>
              <p:nvPr/>
            </p:nvSpPr>
            <p:spPr>
              <a:xfrm>
                <a:off x="5628960" y="638316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矩形 300"/>
              <p:cNvSpPr/>
              <p:nvPr/>
            </p:nvSpPr>
            <p:spPr>
              <a:xfrm>
                <a:off x="5685480" y="651492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组合 301"/>
            <p:cNvGrpSpPr/>
            <p:nvPr/>
          </p:nvGrpSpPr>
          <p:grpSpPr>
            <a:xfrm>
              <a:off x="5959440" y="6098400"/>
              <a:ext cx="364680" cy="561240"/>
              <a:chOff x="5959440" y="6098400"/>
              <a:chExt cx="364680" cy="561240"/>
            </a:xfrm>
          </p:grpSpPr>
          <p:sp>
            <p:nvSpPr>
              <p:cNvPr id="248" name="椭圆 302"/>
              <p:cNvSpPr/>
              <p:nvPr/>
            </p:nvSpPr>
            <p:spPr>
              <a:xfrm>
                <a:off x="6045840" y="609840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圆角矩形 303"/>
              <p:cNvSpPr/>
              <p:nvPr/>
            </p:nvSpPr>
            <p:spPr>
              <a:xfrm>
                <a:off x="5959440" y="628956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矩形 304"/>
              <p:cNvSpPr/>
              <p:nvPr/>
            </p:nvSpPr>
            <p:spPr>
              <a:xfrm>
                <a:off x="6237000" y="633672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矩形 305"/>
              <p:cNvSpPr/>
              <p:nvPr/>
            </p:nvSpPr>
            <p:spPr>
              <a:xfrm>
                <a:off x="6009120" y="633672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圆角矩形 306"/>
              <p:cNvSpPr/>
              <p:nvPr/>
            </p:nvSpPr>
            <p:spPr>
              <a:xfrm>
                <a:off x="6035760" y="638316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矩形 307"/>
              <p:cNvSpPr/>
              <p:nvPr/>
            </p:nvSpPr>
            <p:spPr>
              <a:xfrm>
                <a:off x="6092280" y="651492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组合 315"/>
            <p:cNvGrpSpPr/>
            <p:nvPr/>
          </p:nvGrpSpPr>
          <p:grpSpPr>
            <a:xfrm>
              <a:off x="6380640" y="6098400"/>
              <a:ext cx="364680" cy="561240"/>
              <a:chOff x="6380640" y="6098400"/>
              <a:chExt cx="364680" cy="561240"/>
            </a:xfrm>
          </p:grpSpPr>
          <p:sp>
            <p:nvSpPr>
              <p:cNvPr id="255" name="椭圆 316"/>
              <p:cNvSpPr/>
              <p:nvPr/>
            </p:nvSpPr>
            <p:spPr>
              <a:xfrm>
                <a:off x="6467040" y="609840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圆角矩形 317"/>
              <p:cNvSpPr/>
              <p:nvPr/>
            </p:nvSpPr>
            <p:spPr>
              <a:xfrm>
                <a:off x="6380640" y="628956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矩形 318"/>
              <p:cNvSpPr/>
              <p:nvPr/>
            </p:nvSpPr>
            <p:spPr>
              <a:xfrm>
                <a:off x="6658200" y="633672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矩形 319"/>
              <p:cNvSpPr/>
              <p:nvPr/>
            </p:nvSpPr>
            <p:spPr>
              <a:xfrm>
                <a:off x="6430320" y="633672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圆角矩形 320"/>
              <p:cNvSpPr/>
              <p:nvPr/>
            </p:nvSpPr>
            <p:spPr>
              <a:xfrm>
                <a:off x="6456960" y="638316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矩形 321"/>
              <p:cNvSpPr/>
              <p:nvPr/>
            </p:nvSpPr>
            <p:spPr>
              <a:xfrm>
                <a:off x="6513480" y="651492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组合 323"/>
          <p:cNvGrpSpPr/>
          <p:nvPr/>
        </p:nvGrpSpPr>
        <p:grpSpPr>
          <a:xfrm>
            <a:off x="2454120" y="5286240"/>
            <a:ext cx="4303800" cy="600120"/>
            <a:chOff x="2454120" y="5286240"/>
            <a:chExt cx="4303800" cy="600120"/>
          </a:xfrm>
        </p:grpSpPr>
        <p:grpSp>
          <p:nvGrpSpPr>
            <p:cNvPr id="262" name="组合 324"/>
            <p:cNvGrpSpPr/>
            <p:nvPr/>
          </p:nvGrpSpPr>
          <p:grpSpPr>
            <a:xfrm>
              <a:off x="2454120" y="5304600"/>
              <a:ext cx="364680" cy="562680"/>
              <a:chOff x="2454120" y="5304600"/>
              <a:chExt cx="364680" cy="562680"/>
            </a:xfrm>
          </p:grpSpPr>
          <p:sp>
            <p:nvSpPr>
              <p:cNvPr id="263" name="椭圆 388"/>
              <p:cNvSpPr/>
              <p:nvPr/>
            </p:nvSpPr>
            <p:spPr>
              <a:xfrm>
                <a:off x="2540520" y="530460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圆角矩形 389"/>
              <p:cNvSpPr/>
              <p:nvPr/>
            </p:nvSpPr>
            <p:spPr>
              <a:xfrm>
                <a:off x="2454120" y="549612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矩形 390"/>
              <p:cNvSpPr/>
              <p:nvPr/>
            </p:nvSpPr>
            <p:spPr>
              <a:xfrm>
                <a:off x="273168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矩形 391"/>
              <p:cNvSpPr/>
              <p:nvPr/>
            </p:nvSpPr>
            <p:spPr>
              <a:xfrm>
                <a:off x="250380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圆角矩形 392"/>
              <p:cNvSpPr/>
              <p:nvPr/>
            </p:nvSpPr>
            <p:spPr>
              <a:xfrm>
                <a:off x="2530440" y="559008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矩形 393"/>
              <p:cNvSpPr/>
              <p:nvPr/>
            </p:nvSpPr>
            <p:spPr>
              <a:xfrm>
                <a:off x="2586960" y="572220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组合 325"/>
            <p:cNvGrpSpPr/>
            <p:nvPr/>
          </p:nvGrpSpPr>
          <p:grpSpPr>
            <a:xfrm>
              <a:off x="2907000" y="5304600"/>
              <a:ext cx="364680" cy="562680"/>
              <a:chOff x="2907000" y="5304600"/>
              <a:chExt cx="364680" cy="562680"/>
            </a:xfrm>
          </p:grpSpPr>
          <p:sp>
            <p:nvSpPr>
              <p:cNvPr id="270" name="椭圆 382"/>
              <p:cNvSpPr/>
              <p:nvPr/>
            </p:nvSpPr>
            <p:spPr>
              <a:xfrm>
                <a:off x="2993400" y="530460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圆角矩形 383"/>
              <p:cNvSpPr/>
              <p:nvPr/>
            </p:nvSpPr>
            <p:spPr>
              <a:xfrm>
                <a:off x="2907000" y="549612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矩形 384"/>
              <p:cNvSpPr/>
              <p:nvPr/>
            </p:nvSpPr>
            <p:spPr>
              <a:xfrm>
                <a:off x="318456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矩形 385"/>
              <p:cNvSpPr/>
              <p:nvPr/>
            </p:nvSpPr>
            <p:spPr>
              <a:xfrm>
                <a:off x="295668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圆角矩形 386"/>
              <p:cNvSpPr/>
              <p:nvPr/>
            </p:nvSpPr>
            <p:spPr>
              <a:xfrm>
                <a:off x="2983320" y="559008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矩形 387"/>
              <p:cNvSpPr/>
              <p:nvPr/>
            </p:nvSpPr>
            <p:spPr>
              <a:xfrm>
                <a:off x="3039840" y="572220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组合 326"/>
            <p:cNvGrpSpPr/>
            <p:nvPr/>
          </p:nvGrpSpPr>
          <p:grpSpPr>
            <a:xfrm>
              <a:off x="3355920" y="5304600"/>
              <a:ext cx="364680" cy="562680"/>
              <a:chOff x="3355920" y="5304600"/>
              <a:chExt cx="364680" cy="562680"/>
            </a:xfrm>
          </p:grpSpPr>
          <p:sp>
            <p:nvSpPr>
              <p:cNvPr id="277" name="椭圆 376"/>
              <p:cNvSpPr/>
              <p:nvPr/>
            </p:nvSpPr>
            <p:spPr>
              <a:xfrm>
                <a:off x="3442320" y="530460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圆角矩形 377"/>
              <p:cNvSpPr/>
              <p:nvPr/>
            </p:nvSpPr>
            <p:spPr>
              <a:xfrm>
                <a:off x="3355920" y="549612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矩形 378"/>
              <p:cNvSpPr/>
              <p:nvPr/>
            </p:nvSpPr>
            <p:spPr>
              <a:xfrm>
                <a:off x="363348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矩形 379"/>
              <p:cNvSpPr/>
              <p:nvPr/>
            </p:nvSpPr>
            <p:spPr>
              <a:xfrm>
                <a:off x="340560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圆角矩形 380"/>
              <p:cNvSpPr/>
              <p:nvPr/>
            </p:nvSpPr>
            <p:spPr>
              <a:xfrm>
                <a:off x="3432240" y="559008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矩形 381"/>
              <p:cNvSpPr/>
              <p:nvPr/>
            </p:nvSpPr>
            <p:spPr>
              <a:xfrm>
                <a:off x="3488760" y="572220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组合 327"/>
            <p:cNvGrpSpPr/>
            <p:nvPr/>
          </p:nvGrpSpPr>
          <p:grpSpPr>
            <a:xfrm>
              <a:off x="3821040" y="5304600"/>
              <a:ext cx="364680" cy="562680"/>
              <a:chOff x="3821040" y="5304600"/>
              <a:chExt cx="364680" cy="562680"/>
            </a:xfrm>
          </p:grpSpPr>
          <p:sp>
            <p:nvSpPr>
              <p:cNvPr id="284" name="椭圆 370"/>
              <p:cNvSpPr/>
              <p:nvPr/>
            </p:nvSpPr>
            <p:spPr>
              <a:xfrm>
                <a:off x="3907440" y="530460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圆角矩形 371"/>
              <p:cNvSpPr/>
              <p:nvPr/>
            </p:nvSpPr>
            <p:spPr>
              <a:xfrm>
                <a:off x="3821040" y="549612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矩形 372"/>
              <p:cNvSpPr/>
              <p:nvPr/>
            </p:nvSpPr>
            <p:spPr>
              <a:xfrm>
                <a:off x="409860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矩形 373"/>
              <p:cNvSpPr/>
              <p:nvPr/>
            </p:nvSpPr>
            <p:spPr>
              <a:xfrm>
                <a:off x="387072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圆角矩形 374"/>
              <p:cNvSpPr/>
              <p:nvPr/>
            </p:nvSpPr>
            <p:spPr>
              <a:xfrm>
                <a:off x="3897360" y="559008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矩形 375"/>
              <p:cNvSpPr/>
              <p:nvPr/>
            </p:nvSpPr>
            <p:spPr>
              <a:xfrm>
                <a:off x="3953880" y="572220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组合 328"/>
            <p:cNvGrpSpPr/>
            <p:nvPr/>
          </p:nvGrpSpPr>
          <p:grpSpPr>
            <a:xfrm>
              <a:off x="4254120" y="5304600"/>
              <a:ext cx="364680" cy="562680"/>
              <a:chOff x="4254120" y="5304600"/>
              <a:chExt cx="364680" cy="562680"/>
            </a:xfrm>
          </p:grpSpPr>
          <p:sp>
            <p:nvSpPr>
              <p:cNvPr id="291" name="椭圆 364"/>
              <p:cNvSpPr/>
              <p:nvPr/>
            </p:nvSpPr>
            <p:spPr>
              <a:xfrm>
                <a:off x="4340520" y="530460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圆角矩形 365"/>
              <p:cNvSpPr/>
              <p:nvPr/>
            </p:nvSpPr>
            <p:spPr>
              <a:xfrm>
                <a:off x="4254120" y="549612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矩形 366"/>
              <p:cNvSpPr/>
              <p:nvPr/>
            </p:nvSpPr>
            <p:spPr>
              <a:xfrm>
                <a:off x="453168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矩形 367"/>
              <p:cNvSpPr/>
              <p:nvPr/>
            </p:nvSpPr>
            <p:spPr>
              <a:xfrm>
                <a:off x="430380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圆角矩形 368"/>
              <p:cNvSpPr/>
              <p:nvPr/>
            </p:nvSpPr>
            <p:spPr>
              <a:xfrm>
                <a:off x="4330440" y="559008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矩形 369"/>
              <p:cNvSpPr/>
              <p:nvPr/>
            </p:nvSpPr>
            <p:spPr>
              <a:xfrm>
                <a:off x="4386960" y="572220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组合 329"/>
            <p:cNvGrpSpPr/>
            <p:nvPr/>
          </p:nvGrpSpPr>
          <p:grpSpPr>
            <a:xfrm>
              <a:off x="4675680" y="5286240"/>
              <a:ext cx="364680" cy="562680"/>
              <a:chOff x="4675680" y="5286240"/>
              <a:chExt cx="364680" cy="562680"/>
            </a:xfrm>
          </p:grpSpPr>
          <p:sp>
            <p:nvSpPr>
              <p:cNvPr id="298" name="椭圆 358"/>
              <p:cNvSpPr/>
              <p:nvPr/>
            </p:nvSpPr>
            <p:spPr>
              <a:xfrm>
                <a:off x="4762080" y="528624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圆角矩形 359"/>
              <p:cNvSpPr/>
              <p:nvPr/>
            </p:nvSpPr>
            <p:spPr>
              <a:xfrm>
                <a:off x="4675680" y="547776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矩形 360"/>
              <p:cNvSpPr/>
              <p:nvPr/>
            </p:nvSpPr>
            <p:spPr>
              <a:xfrm>
                <a:off x="4953240" y="552528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矩形 361"/>
              <p:cNvSpPr/>
              <p:nvPr/>
            </p:nvSpPr>
            <p:spPr>
              <a:xfrm>
                <a:off x="4725360" y="552528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圆角矩形 362"/>
              <p:cNvSpPr/>
              <p:nvPr/>
            </p:nvSpPr>
            <p:spPr>
              <a:xfrm>
                <a:off x="4752000" y="557172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363"/>
              <p:cNvSpPr/>
              <p:nvPr/>
            </p:nvSpPr>
            <p:spPr>
              <a:xfrm>
                <a:off x="4808520" y="570384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组合 330"/>
            <p:cNvGrpSpPr/>
            <p:nvPr/>
          </p:nvGrpSpPr>
          <p:grpSpPr>
            <a:xfrm>
              <a:off x="5111640" y="5299920"/>
              <a:ext cx="364680" cy="562680"/>
              <a:chOff x="5111640" y="5299920"/>
              <a:chExt cx="364680" cy="562680"/>
            </a:xfrm>
          </p:grpSpPr>
          <p:sp>
            <p:nvSpPr>
              <p:cNvPr id="305" name="椭圆 352"/>
              <p:cNvSpPr/>
              <p:nvPr/>
            </p:nvSpPr>
            <p:spPr>
              <a:xfrm>
                <a:off x="5198040" y="529992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圆角矩形 353"/>
              <p:cNvSpPr/>
              <p:nvPr/>
            </p:nvSpPr>
            <p:spPr>
              <a:xfrm>
                <a:off x="5111640" y="549144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矩形 354"/>
              <p:cNvSpPr/>
              <p:nvPr/>
            </p:nvSpPr>
            <p:spPr>
              <a:xfrm>
                <a:off x="5389200" y="553896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矩形 355"/>
              <p:cNvSpPr/>
              <p:nvPr/>
            </p:nvSpPr>
            <p:spPr>
              <a:xfrm>
                <a:off x="5161320" y="553896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圆角矩形 356"/>
              <p:cNvSpPr/>
              <p:nvPr/>
            </p:nvSpPr>
            <p:spPr>
              <a:xfrm>
                <a:off x="5187960" y="558540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矩形 357"/>
              <p:cNvSpPr/>
              <p:nvPr/>
            </p:nvSpPr>
            <p:spPr>
              <a:xfrm>
                <a:off x="5244480" y="571752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组合 331"/>
            <p:cNvGrpSpPr/>
            <p:nvPr/>
          </p:nvGrpSpPr>
          <p:grpSpPr>
            <a:xfrm>
              <a:off x="5565240" y="5323680"/>
              <a:ext cx="364680" cy="562680"/>
              <a:chOff x="5565240" y="5323680"/>
              <a:chExt cx="364680" cy="562680"/>
            </a:xfrm>
          </p:grpSpPr>
          <p:sp>
            <p:nvSpPr>
              <p:cNvPr id="312" name="椭圆 346"/>
              <p:cNvSpPr/>
              <p:nvPr/>
            </p:nvSpPr>
            <p:spPr>
              <a:xfrm>
                <a:off x="5651640" y="532368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圆角矩形 347"/>
              <p:cNvSpPr/>
              <p:nvPr/>
            </p:nvSpPr>
            <p:spPr>
              <a:xfrm>
                <a:off x="5565240" y="551520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矩形 348"/>
              <p:cNvSpPr/>
              <p:nvPr/>
            </p:nvSpPr>
            <p:spPr>
              <a:xfrm>
                <a:off x="5842800" y="556272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矩形 349"/>
              <p:cNvSpPr/>
              <p:nvPr/>
            </p:nvSpPr>
            <p:spPr>
              <a:xfrm>
                <a:off x="5614920" y="556272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圆角矩形 350"/>
              <p:cNvSpPr/>
              <p:nvPr/>
            </p:nvSpPr>
            <p:spPr>
              <a:xfrm>
                <a:off x="5641560" y="560916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矩形 351"/>
              <p:cNvSpPr/>
              <p:nvPr/>
            </p:nvSpPr>
            <p:spPr>
              <a:xfrm>
                <a:off x="5698080" y="574128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组合 332"/>
            <p:cNvGrpSpPr/>
            <p:nvPr/>
          </p:nvGrpSpPr>
          <p:grpSpPr>
            <a:xfrm>
              <a:off x="5972040" y="5323680"/>
              <a:ext cx="364680" cy="562680"/>
              <a:chOff x="5972040" y="5323680"/>
              <a:chExt cx="364680" cy="562680"/>
            </a:xfrm>
          </p:grpSpPr>
          <p:sp>
            <p:nvSpPr>
              <p:cNvPr id="319" name="椭圆 340"/>
              <p:cNvSpPr/>
              <p:nvPr/>
            </p:nvSpPr>
            <p:spPr>
              <a:xfrm>
                <a:off x="6058440" y="532368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圆角矩形 341"/>
              <p:cNvSpPr/>
              <p:nvPr/>
            </p:nvSpPr>
            <p:spPr>
              <a:xfrm>
                <a:off x="5972040" y="551520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矩形 342"/>
              <p:cNvSpPr/>
              <p:nvPr/>
            </p:nvSpPr>
            <p:spPr>
              <a:xfrm>
                <a:off x="6249600" y="556272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矩形 343"/>
              <p:cNvSpPr/>
              <p:nvPr/>
            </p:nvSpPr>
            <p:spPr>
              <a:xfrm>
                <a:off x="6021720" y="556272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圆角矩形 344"/>
              <p:cNvSpPr/>
              <p:nvPr/>
            </p:nvSpPr>
            <p:spPr>
              <a:xfrm>
                <a:off x="6048360" y="560916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矩形 345"/>
              <p:cNvSpPr/>
              <p:nvPr/>
            </p:nvSpPr>
            <p:spPr>
              <a:xfrm>
                <a:off x="6104880" y="574128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组合 333"/>
            <p:cNvGrpSpPr/>
            <p:nvPr/>
          </p:nvGrpSpPr>
          <p:grpSpPr>
            <a:xfrm>
              <a:off x="6393240" y="5323680"/>
              <a:ext cx="364680" cy="562680"/>
              <a:chOff x="6393240" y="5323680"/>
              <a:chExt cx="364680" cy="562680"/>
            </a:xfrm>
          </p:grpSpPr>
          <p:sp>
            <p:nvSpPr>
              <p:cNvPr id="326" name="椭圆 334"/>
              <p:cNvSpPr/>
              <p:nvPr/>
            </p:nvSpPr>
            <p:spPr>
              <a:xfrm>
                <a:off x="6479640" y="532368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圆角矩形 335"/>
              <p:cNvSpPr/>
              <p:nvPr/>
            </p:nvSpPr>
            <p:spPr>
              <a:xfrm>
                <a:off x="6393240" y="551520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矩形 336"/>
              <p:cNvSpPr/>
              <p:nvPr/>
            </p:nvSpPr>
            <p:spPr>
              <a:xfrm>
                <a:off x="6670800" y="556272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矩形 337"/>
              <p:cNvSpPr/>
              <p:nvPr/>
            </p:nvSpPr>
            <p:spPr>
              <a:xfrm>
                <a:off x="6442920" y="556272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圆角矩形 338"/>
              <p:cNvSpPr/>
              <p:nvPr/>
            </p:nvSpPr>
            <p:spPr>
              <a:xfrm>
                <a:off x="6469560" y="560916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矩形 339"/>
              <p:cNvSpPr/>
              <p:nvPr/>
            </p:nvSpPr>
            <p:spPr>
              <a:xfrm>
                <a:off x="6526080" y="574128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TextBox 394"/>
          <p:cNvSpPr/>
          <p:nvPr/>
        </p:nvSpPr>
        <p:spPr>
          <a:xfrm>
            <a:off x="5610960" y="4322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党代表约占全国人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395"/>
          <p:cNvSpPr/>
          <p:nvPr/>
        </p:nvSpPr>
        <p:spPr>
          <a:xfrm>
            <a:off x="6334560" y="482292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/6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4296"/>
          <p:cNvSpPr/>
          <p:nvPr/>
        </p:nvSpPr>
        <p:spPr>
          <a:xfrm>
            <a:off x="1908000" y="98100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ED38-7BB1-4863-B0FF-1CDFAA09DAA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图片 3" descr=""/>
          <p:cNvPicPr/>
          <p:nvPr/>
        </p:nvPicPr>
        <p:blipFill>
          <a:blip r:embed="rId1"/>
          <a:stretch/>
        </p:blipFill>
        <p:spPr>
          <a:xfrm>
            <a:off x="-19080" y="307800"/>
            <a:ext cx="9161640" cy="1057320"/>
          </a:xfrm>
          <a:prstGeom prst="rect">
            <a:avLst/>
          </a:prstGeom>
          <a:ln w="0">
            <a:noFill/>
          </a:ln>
        </p:spPr>
      </p:pic>
      <p:sp>
        <p:nvSpPr>
          <p:cNvPr id="340" name="矩形 4"/>
          <p:cNvSpPr/>
          <p:nvPr/>
        </p:nvSpPr>
        <p:spPr>
          <a:xfrm>
            <a:off x="-22320" y="307800"/>
            <a:ext cx="9161640" cy="105732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bfbfbf"/>
              </a:gs>
            </a:gsLst>
            <a:lin ang="13500000"/>
          </a:gradFill>
          <a:ln w="255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5"/>
          <p:cNvSpPr/>
          <p:nvPr/>
        </p:nvSpPr>
        <p:spPr>
          <a:xfrm>
            <a:off x="3240" y="0"/>
            <a:ext cx="3779640" cy="836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十八大代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6"/>
          <p:cNvSpPr/>
          <p:nvPr/>
        </p:nvSpPr>
        <p:spPr>
          <a:xfrm>
            <a:off x="0" y="1365120"/>
            <a:ext cx="682560" cy="5492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7"/>
          <p:cNvSpPr/>
          <p:nvPr/>
        </p:nvSpPr>
        <p:spPr>
          <a:xfrm>
            <a:off x="247680" y="0"/>
            <a:ext cx="1332000" cy="836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角三角形 8"/>
          <p:cNvSpPr/>
          <p:nvPr/>
        </p:nvSpPr>
        <p:spPr>
          <a:xfrm>
            <a:off x="3782880" y="0"/>
            <a:ext cx="360360" cy="307800"/>
          </a:xfrm>
          <a:prstGeom prst="rtTriangle">
            <a:avLst/>
          </a:prstGeom>
          <a:gradFill rotWithShape="0">
            <a:gsLst>
              <a:gs pos="0">
                <a:srgbClr val="dd0000"/>
              </a:gs>
              <a:gs pos="100000">
                <a:srgbClr val="dd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9"/>
          <p:cNvGrpSpPr/>
          <p:nvPr/>
        </p:nvGrpSpPr>
        <p:grpSpPr>
          <a:xfrm>
            <a:off x="42840" y="1492200"/>
            <a:ext cx="566640" cy="2590920"/>
            <a:chOff x="42840" y="1492200"/>
            <a:chExt cx="566640" cy="2590920"/>
          </a:xfrm>
        </p:grpSpPr>
        <p:sp>
          <p:nvSpPr>
            <p:cNvPr id="346" name="矩形 10"/>
            <p:cNvSpPr/>
            <p:nvPr/>
          </p:nvSpPr>
          <p:spPr>
            <a:xfrm>
              <a:off x="44640" y="1492200"/>
              <a:ext cx="564840" cy="223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直角三角形 11"/>
            <p:cNvSpPr/>
            <p:nvPr/>
          </p:nvSpPr>
          <p:spPr>
            <a:xfrm flipV="1" rot="5400000">
              <a:off x="273960" y="3733200"/>
              <a:ext cx="360000" cy="310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直角三角形 12"/>
            <p:cNvSpPr/>
            <p:nvPr/>
          </p:nvSpPr>
          <p:spPr>
            <a:xfrm rot="5400000">
              <a:off x="4680" y="3760920"/>
              <a:ext cx="360000" cy="28440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Box 13"/>
          <p:cNvSpPr/>
          <p:nvPr/>
        </p:nvSpPr>
        <p:spPr>
          <a:xfrm>
            <a:off x="38160" y="191124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点解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肘形连接符 203"/>
          <p:cNvCxnSpPr/>
          <p:nvPr/>
        </p:nvCxnSpPr>
        <p:spPr>
          <a:xfrm>
            <a:off x="135000" y="1542600"/>
            <a:ext cx="319680" cy="367560"/>
          </a:xfrm>
          <a:prstGeom prst="straightConnector1">
            <a:avLst/>
          </a:prstGeom>
          <a:ln w="9360">
            <a:solidFill>
              <a:srgbClr val="ffffff"/>
            </a:solidFill>
            <a:bevel/>
          </a:ln>
        </p:spPr>
      </p:cxnSp>
      <p:sp>
        <p:nvSpPr>
          <p:cNvPr id="351" name="矩形 208"/>
          <p:cNvSpPr/>
          <p:nvPr/>
        </p:nvSpPr>
        <p:spPr>
          <a:xfrm>
            <a:off x="174600" y="1654200"/>
            <a:ext cx="5868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209"/>
          <p:cNvSpPr/>
          <p:nvPr/>
        </p:nvSpPr>
        <p:spPr>
          <a:xfrm>
            <a:off x="289080" y="1727280"/>
            <a:ext cx="45720" cy="1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211"/>
          <p:cNvSpPr/>
          <p:nvPr/>
        </p:nvSpPr>
        <p:spPr>
          <a:xfrm>
            <a:off x="376200" y="1552680"/>
            <a:ext cx="4608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空心弧 213"/>
          <p:cNvSpPr/>
          <p:nvPr/>
        </p:nvSpPr>
        <p:spPr>
          <a:xfrm rot="5131200">
            <a:off x="3999960" y="3333960"/>
            <a:ext cx="1455840" cy="1389240"/>
          </a:xfrm>
          <a:custGeom>
            <a:avLst/>
            <a:gdLst/>
            <a:ahLst/>
            <a:rect l="l" t="t" r="r" b="b"/>
            <a:pathLst>
              <a:path w="21586" h="10393">
                <a:moveTo>
                  <a:pt x="2544" y="10393"/>
                </a:moveTo>
                <a:cubicBezTo>
                  <a:pt x="2757" y="6016"/>
                  <a:pt x="6372" y="2534"/>
                  <a:pt x="10800" y="2534"/>
                </a:cubicBezTo>
                <a:cubicBezTo>
                  <a:pt x="15229" y="2534"/>
                  <a:pt x="18844" y="6017"/>
                  <a:pt x="19056" y="10391"/>
                </a:cubicBezTo>
                <a:lnTo>
                  <a:pt x="21586" y="10268"/>
                </a:lnTo>
                <a:cubicBezTo>
                  <a:pt x="21308" y="4549"/>
                  <a:pt x="16585" y="0"/>
                  <a:pt x="10799" y="0"/>
                </a:cubicBezTo>
                <a:cubicBezTo>
                  <a:pt x="5013" y="0"/>
                  <a:pt x="289" y="4550"/>
                  <a:pt x="12" y="1026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空心弧 214"/>
          <p:cNvSpPr/>
          <p:nvPr/>
        </p:nvSpPr>
        <p:spPr>
          <a:xfrm rot="7308600">
            <a:off x="3661920" y="2985840"/>
            <a:ext cx="2089080" cy="2070000"/>
          </a:xfrm>
          <a:custGeom>
            <a:avLst/>
            <a:gdLst/>
            <a:ahLst/>
            <a:rect l="l" t="t" r="r" b="b"/>
            <a:pathLst>
              <a:path w="21600" h="16412">
                <a:moveTo>
                  <a:pt x="3126" y="15465"/>
                </a:moveTo>
                <a:cubicBezTo>
                  <a:pt x="2296" y="14106"/>
                  <a:pt x="1819" y="12509"/>
                  <a:pt x="1819" y="10800"/>
                </a:cubicBezTo>
                <a:cubicBezTo>
                  <a:pt x="1819" y="5840"/>
                  <a:pt x="5839" y="1820"/>
                  <a:pt x="10799" y="1820"/>
                </a:cubicBezTo>
                <a:cubicBezTo>
                  <a:pt x="15759" y="1820"/>
                  <a:pt x="19779" y="5840"/>
                  <a:pt x="19779" y="10800"/>
                </a:cubicBezTo>
                <a:cubicBezTo>
                  <a:pt x="19779" y="12509"/>
                  <a:pt x="19302" y="14107"/>
                  <a:pt x="18473" y="15466"/>
                </a:cubicBezTo>
                <a:lnTo>
                  <a:pt x="20028" y="16410"/>
                </a:lnTo>
                <a:cubicBezTo>
                  <a:pt x="21026" y="14775"/>
                  <a:pt x="21600" y="12854"/>
                  <a:pt x="21600" y="10799"/>
                </a:cubicBezTo>
                <a:cubicBezTo>
                  <a:pt x="21600" y="4834"/>
                  <a:pt x="16765" y="-1"/>
                  <a:pt x="10800" y="-1"/>
                </a:cubicBezTo>
                <a:cubicBezTo>
                  <a:pt x="4835" y="-1"/>
                  <a:pt x="0" y="4834"/>
                  <a:pt x="0" y="10799"/>
                </a:cubicBezTo>
                <a:cubicBezTo>
                  <a:pt x="0" y="12854"/>
                  <a:pt x="574" y="14776"/>
                  <a:pt x="1571" y="16411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空心弧 215"/>
          <p:cNvSpPr/>
          <p:nvPr/>
        </p:nvSpPr>
        <p:spPr>
          <a:xfrm rot="4500000">
            <a:off x="3303000" y="2641320"/>
            <a:ext cx="2874960" cy="2754360"/>
          </a:xfrm>
          <a:custGeom>
            <a:avLst/>
            <a:gdLst/>
            <a:ahLst/>
            <a:rect l="l" t="t" r="r" b="b"/>
            <a:pathLst>
              <a:path w="21304" h="8694">
                <a:moveTo>
                  <a:pt x="1979" y="8693"/>
                </a:moveTo>
                <a:cubicBezTo>
                  <a:pt x="2930" y="4698"/>
                  <a:pt x="6518" y="1731"/>
                  <a:pt x="10800" y="1731"/>
                </a:cubicBezTo>
                <a:cubicBezTo>
                  <a:pt x="15083" y="1731"/>
                  <a:pt x="18672" y="4699"/>
                  <a:pt x="19622" y="8689"/>
                </a:cubicBezTo>
                <a:lnTo>
                  <a:pt x="21304" y="8290"/>
                </a:lnTo>
                <a:cubicBezTo>
                  <a:pt x="20172" y="3533"/>
                  <a:pt x="15898" y="-1"/>
                  <a:pt x="10799" y="-1"/>
                </a:cubicBezTo>
                <a:cubicBezTo>
                  <a:pt x="5699" y="-1"/>
                  <a:pt x="1425" y="3534"/>
                  <a:pt x="293" y="828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空心弧 216"/>
          <p:cNvSpPr/>
          <p:nvPr/>
        </p:nvSpPr>
        <p:spPr>
          <a:xfrm rot="4483800">
            <a:off x="2926800" y="2303280"/>
            <a:ext cx="3600720" cy="3413160"/>
          </a:xfrm>
          <a:custGeom>
            <a:avLst/>
            <a:gdLst/>
            <a:ahLst/>
            <a:rect l="l" t="t" r="r" b="b"/>
            <a:pathLst>
              <a:path w="21304" h="8633">
                <a:moveTo>
                  <a:pt x="1727" y="8632"/>
                </a:moveTo>
                <a:cubicBezTo>
                  <a:pt x="2705" y="4523"/>
                  <a:pt x="6396" y="1471"/>
                  <a:pt x="10800" y="1471"/>
                </a:cubicBezTo>
                <a:cubicBezTo>
                  <a:pt x="15205" y="1471"/>
                  <a:pt x="18897" y="4524"/>
                  <a:pt x="19874" y="8627"/>
                </a:cubicBezTo>
                <a:lnTo>
                  <a:pt x="21304" y="8290"/>
                </a:lnTo>
                <a:cubicBezTo>
                  <a:pt x="20172" y="3533"/>
                  <a:pt x="15898" y="-1"/>
                  <a:pt x="10799" y="-1"/>
                </a:cubicBezTo>
                <a:cubicBezTo>
                  <a:pt x="5699" y="-1"/>
                  <a:pt x="1425" y="3534"/>
                  <a:pt x="293" y="828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空心弧 217"/>
          <p:cNvSpPr/>
          <p:nvPr/>
        </p:nvSpPr>
        <p:spPr>
          <a:xfrm rot="4483800">
            <a:off x="2484000" y="1931760"/>
            <a:ext cx="4381200" cy="4210200"/>
          </a:xfrm>
          <a:custGeom>
            <a:avLst/>
            <a:gdLst/>
            <a:ahLst/>
            <a:rect l="l" t="t" r="r" b="b"/>
            <a:pathLst>
              <a:path w="21252" h="8367">
                <a:moveTo>
                  <a:pt x="1449" y="8367"/>
                </a:moveTo>
                <a:cubicBezTo>
                  <a:pt x="2528" y="4206"/>
                  <a:pt x="6306" y="1137"/>
                  <a:pt x="10800" y="1137"/>
                </a:cubicBezTo>
                <a:cubicBezTo>
                  <a:pt x="15295" y="1137"/>
                  <a:pt x="19074" y="4207"/>
                  <a:pt x="20152" y="8362"/>
                </a:cubicBezTo>
                <a:lnTo>
                  <a:pt x="21252" y="8081"/>
                </a:lnTo>
                <a:cubicBezTo>
                  <a:pt x="20046" y="3430"/>
                  <a:pt x="15824" y="0"/>
                  <a:pt x="10800" y="0"/>
                </a:cubicBezTo>
                <a:cubicBezTo>
                  <a:pt x="5775" y="0"/>
                  <a:pt x="1552" y="3431"/>
                  <a:pt x="346" y="8079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空心弧 218"/>
          <p:cNvSpPr/>
          <p:nvPr/>
        </p:nvSpPr>
        <p:spPr>
          <a:xfrm rot="5131200">
            <a:off x="4308480" y="3676680"/>
            <a:ext cx="799920" cy="799920"/>
          </a:xfrm>
          <a:custGeom>
            <a:avLst/>
            <a:gdLst/>
            <a:ahLst/>
            <a:rect l="l" t="t" r="r" b="b"/>
            <a:pathLst>
              <a:path w="21586" h="10439">
                <a:moveTo>
                  <a:pt x="3482" y="10439"/>
                </a:moveTo>
                <a:cubicBezTo>
                  <a:pt x="3671" y="6560"/>
                  <a:pt x="6874" y="3474"/>
                  <a:pt x="10799" y="3474"/>
                </a:cubicBezTo>
                <a:cubicBezTo>
                  <a:pt x="14724" y="3474"/>
                  <a:pt x="17928" y="6561"/>
                  <a:pt x="18116" y="10438"/>
                </a:cubicBezTo>
                <a:lnTo>
                  <a:pt x="21586" y="10268"/>
                </a:lnTo>
                <a:cubicBezTo>
                  <a:pt x="21308" y="4549"/>
                  <a:pt x="16585" y="0"/>
                  <a:pt x="10799" y="0"/>
                </a:cubicBezTo>
                <a:cubicBezTo>
                  <a:pt x="5013" y="0"/>
                  <a:pt x="289" y="4550"/>
                  <a:pt x="12" y="1026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19"/>
          <p:cNvSpPr/>
          <p:nvPr/>
        </p:nvSpPr>
        <p:spPr>
          <a:xfrm>
            <a:off x="2562120" y="359712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以后入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220"/>
          <p:cNvSpPr/>
          <p:nvPr/>
        </p:nvSpPr>
        <p:spPr>
          <a:xfrm>
            <a:off x="3727800" y="3247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女性代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21"/>
          <p:cNvSpPr/>
          <p:nvPr/>
        </p:nvSpPr>
        <p:spPr>
          <a:xfrm>
            <a:off x="3359520" y="2879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少数民族代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222"/>
          <p:cNvSpPr/>
          <p:nvPr/>
        </p:nvSpPr>
        <p:spPr>
          <a:xfrm>
            <a:off x="3656880" y="2530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线工人代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23"/>
          <p:cNvSpPr/>
          <p:nvPr/>
        </p:nvSpPr>
        <p:spPr>
          <a:xfrm>
            <a:off x="3700800" y="2181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媒体代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225"/>
          <p:cNvSpPr/>
          <p:nvPr/>
        </p:nvSpPr>
        <p:spPr>
          <a:xfrm>
            <a:off x="3513960" y="1771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农民工代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空心弧 226"/>
          <p:cNvSpPr/>
          <p:nvPr/>
        </p:nvSpPr>
        <p:spPr>
          <a:xfrm rot="4483800">
            <a:off x="2064600" y="1557360"/>
            <a:ext cx="5162760" cy="4962600"/>
          </a:xfrm>
          <a:custGeom>
            <a:avLst/>
            <a:gdLst/>
            <a:ahLst/>
            <a:rect l="l" t="t" r="r" b="b"/>
            <a:pathLst>
              <a:path w="21213" h="8221">
                <a:moveTo>
                  <a:pt x="1419" y="8221"/>
                </a:moveTo>
                <a:cubicBezTo>
                  <a:pt x="2549" y="4098"/>
                  <a:pt x="6321" y="1072"/>
                  <a:pt x="10799" y="1072"/>
                </a:cubicBezTo>
                <a:cubicBezTo>
                  <a:pt x="15278" y="1072"/>
                  <a:pt x="19050" y="4099"/>
                  <a:pt x="20180" y="8217"/>
                </a:cubicBezTo>
                <a:lnTo>
                  <a:pt x="21213" y="7937"/>
                </a:lnTo>
                <a:cubicBezTo>
                  <a:pt x="19958" y="3359"/>
                  <a:pt x="15771" y="0"/>
                  <a:pt x="10799" y="0"/>
                </a:cubicBezTo>
                <a:cubicBezTo>
                  <a:pt x="5826" y="0"/>
                  <a:pt x="1639" y="3361"/>
                  <a:pt x="383" y="7935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27"/>
          <p:cNvSpPr/>
          <p:nvPr/>
        </p:nvSpPr>
        <p:spPr>
          <a:xfrm>
            <a:off x="3144240" y="13716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学生村官代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02:0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58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