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C0A1-76F6-496C-AC85-AF9B0752F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8E1B-B353-47B3-BC95-E8EF5A96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5315-727F-4AF8-BAFC-ECFB81065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68E4-2149-4566-AA3A-851F49EBA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A152-21F9-4E05-834E-574316609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17CF-2850-42FA-A44A-3738B18D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D7DB-70CD-479C-8FBB-A6E4E8BA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56B4-67B3-46F8-AB84-25F3C727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CF3E-9354-4A29-BD02-71EBF6CD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7704-464C-4198-B56A-B935CC7C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1AE8-F3CC-4437-8C26-B75CB47D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3F4C-EE41-4736-95CF-6AC96EE2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665F-6CD2-40CF-BF8F-92FE0A00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1791-246A-4B20-8D72-1CE48C30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A3EC-DCEE-44EC-B606-E5905D80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54A4-4868-483F-897F-D2AC6AB09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7C59-CBDD-4DA6-BC41-F564D2C4C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8E831-84FC-4D5B-80F9-51CD0C3E7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A0F5B-5A74-4DAB-860E-6AB39552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5F8E7-A890-4C51-8FDE-9F2A1AB6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82B39-41DA-4440-A264-0E1251BF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C9FB1-3656-42D0-BC20-8ECBC51C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4A75-E695-4A6D-B168-1A84BA78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16424-9708-4264-B94B-849EB2F5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7DEA8-A5BE-42BA-8AAC-7AB756DB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3F939-B568-4256-8F7F-3EFA256C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037A7-CF76-4AD9-9DD4-44B3B8F5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4332B-CAA5-450B-8464-6597BC2E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770F1-C4CE-4157-8F43-DBA90A197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3F598-9FB2-4291-BC8C-D2C666377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BAEA-AAC8-49E4-9319-1CFDB564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22AB-AC0F-4F80-A9B0-F77AA4B9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9B6D-E873-4BFA-9D55-E015500B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DB51-2B40-4553-B8CE-78D8EB7B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5E35-4340-4841-8A65-C2D811B8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3A45-E77A-4F6F-9D73-7CD01A4E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8073-C1FD-438F-8973-5215ABCD732C}" type="datetime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308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DDD3-66FC-4F9C-A707-48307DD8BF62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610A-3B21-4499-AEA3-9FD2E20E310B}" type="datetime">
              <a:rPr b="0" lang="zh-CN" sz="1200" spc="-1" strike="noStrike">
                <a:solidFill>
                  <a:srgbClr val="8a8a8a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FBCC-B926-4684-A2A6-B2A55B5C6AD9}" type="slidenum">
              <a:rPr b="0" lang="zh-CN" sz="1200" spc="-1" strike="noStrike">
                <a:solidFill>
                  <a:srgbClr val="8a8a8a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A0B4-5460-4DE1-B0A9-67EB20421DF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08E6-2F90-429B-9554-091BFAB8857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7161480" cy="13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10101"/>
                </a:solidFill>
                <a:latin typeface="黑体"/>
                <a:ea typeface="굴림"/>
              </a:rPr>
              <a:t>天文文学报告</a:t>
            </a:r>
            <a:r>
              <a:rPr b="1" lang="en-US" sz="4000" spc="-1" strike="noStrike">
                <a:solidFill>
                  <a:srgbClr val="010101"/>
                </a:solidFill>
                <a:latin typeface="黑体"/>
                <a:ea typeface="굴림"/>
              </a:rPr>
              <a:t>PPT</a:t>
            </a:r>
            <a:r>
              <a:rPr b="1" lang="zh-CN" sz="4000" spc="-1" strike="noStrike">
                <a:solidFill>
                  <a:srgbClr val="010101"/>
                </a:solidFill>
                <a:latin typeface="黑体"/>
                <a:ea typeface="굴림"/>
              </a:rPr>
              <a:t>模板打包下载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文本框 8199"/>
          <p:cNvSpPr/>
          <p:nvPr/>
        </p:nvSpPr>
        <p:spPr>
          <a:xfrm>
            <a:off x="2266920" y="6381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1db9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81db9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c0c0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3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8CE2-4A9C-4892-A52C-19C25245E111}" type="slidenum">
              <a:rPr b="0" lang="zh-CN" sz="1400" spc="-1" strike="noStrike">
                <a:solidFill>
                  <a:srgbClr val="0c0c0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3362400" y="4797360"/>
            <a:ext cx="2793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c0c0c"/>
                  </a:outerShdw>
                </a:effectLst>
                <a:latin typeface="黑体"/>
              </a:rPr>
              <a:t>谢谢观赏！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c0c0c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3840120" y="5511960"/>
            <a:ext cx="1728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c0c0c"/>
                  </a:outerShdw>
                </a:effectLst>
                <a:latin typeface="黑体"/>
              </a:rPr>
              <a:t>Thanks!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c0c0c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3:5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9:19Z</dcterms:modified>
  <cp:revision>13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