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E9F-77AD-4EB0-A543-0BA17698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FE0-C1D3-4E56-988B-2B3ADC17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4DF-3870-4AC2-950A-1E37084B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60C7-9478-496A-839C-0FB232DD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EB06-8C6C-4937-A8BD-27E306D4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E458-65F5-4E76-AE58-E7D4BE9F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A9A6-5813-43B7-8ABE-D0BFA82F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001A-02B5-4223-BC79-21DC9F90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5E22-5EF0-4028-89B4-D37F265E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75B8-350F-4F9D-A69E-943243C1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308E-08AD-48B8-AB31-CBB19D06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86E-B152-4F8E-B1C2-8B0D5404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6FFB-03E1-4823-B72F-7DBF0504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EC38-CF39-4EAE-B48A-39B4239D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920B-5266-4900-BDB6-B9E429BE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8349-4F2D-4599-8AA9-39A996D1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0393-434A-4957-8DFD-7B7BCEB6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77CA-D3E6-43A4-A249-2B7CD7C6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0D1-C6B9-46D7-AEA1-F4AFDE39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828F-331D-4FFD-8CC8-35DC37D7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0721-C855-4858-AF7E-36A605DC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442-AAD8-4CB6-B9ED-043AA32A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CC6-1F41-4BB3-B95D-B027FD5D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64D-5D5E-41AC-9BFC-61736A6E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F6A6-66E0-4056-A927-3A2D85187EE8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34EC-2109-48B1-8D80-6C09C989BF50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2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7169" descr="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7170" descr="LOGO"/>
          <p:cNvPicPr/>
          <p:nvPr/>
        </p:nvPicPr>
        <p:blipFill>
          <a:blip r:embed="rId2"/>
          <a:stretch/>
        </p:blipFill>
        <p:spPr>
          <a:xfrm>
            <a:off x="2413080" y="2781360"/>
            <a:ext cx="4464000" cy="11905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7171" descr="文字"/>
          <p:cNvPicPr/>
          <p:nvPr/>
        </p:nvPicPr>
        <p:blipFill>
          <a:blip r:embed="rId3"/>
          <a:stretch/>
        </p:blipFill>
        <p:spPr>
          <a:xfrm>
            <a:off x="3232080" y="4005360"/>
            <a:ext cx="2924280" cy="66996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"/>
          <p:cNvSpPr/>
          <p:nvPr/>
        </p:nvSpPr>
        <p:spPr>
          <a:xfrm>
            <a:off x="1193760" y="907920"/>
            <a:ext cx="741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文化传媒公司简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8193" descr="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8194" descr="蓝色底线"/>
          <p:cNvPicPr/>
          <p:nvPr/>
        </p:nvPicPr>
        <p:blipFill>
          <a:blip r:embed="rId2"/>
          <a:stretch/>
        </p:blipFill>
        <p:spPr>
          <a:xfrm>
            <a:off x="2522520" y="1076400"/>
            <a:ext cx="4237200" cy="58086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8195" descr="目录"/>
          <p:cNvPicPr/>
          <p:nvPr/>
        </p:nvPicPr>
        <p:blipFill>
          <a:blip r:embed="rId3"/>
          <a:stretch/>
        </p:blipFill>
        <p:spPr>
          <a:xfrm>
            <a:off x="3255840" y="0"/>
            <a:ext cx="2827440" cy="11620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8196" descr="粉丝红色块"/>
          <p:cNvPicPr/>
          <p:nvPr/>
        </p:nvPicPr>
        <p:blipFill>
          <a:blip r:embed="rId4"/>
          <a:stretch/>
        </p:blipFill>
        <p:spPr>
          <a:xfrm>
            <a:off x="3995640" y="177336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8197" descr="蓝色块"/>
          <p:cNvPicPr/>
          <p:nvPr/>
        </p:nvPicPr>
        <p:blipFill>
          <a:blip r:embed="rId5"/>
          <a:stretch/>
        </p:blipFill>
        <p:spPr>
          <a:xfrm>
            <a:off x="1846440" y="278136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8198" descr="黄色块"/>
          <p:cNvPicPr/>
          <p:nvPr/>
        </p:nvPicPr>
        <p:blipFill>
          <a:blip r:embed="rId6"/>
          <a:stretch/>
        </p:blipFill>
        <p:spPr>
          <a:xfrm>
            <a:off x="6083280" y="364500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8199" descr="绿色块"/>
          <p:cNvPicPr/>
          <p:nvPr/>
        </p:nvPicPr>
        <p:blipFill>
          <a:blip r:embed="rId7"/>
          <a:stretch/>
        </p:blipFill>
        <p:spPr>
          <a:xfrm>
            <a:off x="3198960" y="499752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9217" descr="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9218" descr="男主角"/>
          <p:cNvPicPr/>
          <p:nvPr/>
        </p:nvPicPr>
        <p:blipFill>
          <a:blip r:embed="rId2"/>
          <a:stretch/>
        </p:blipFill>
        <p:spPr>
          <a:xfrm rot="20940000">
            <a:off x="6229440" y="2997360"/>
            <a:ext cx="3951360" cy="44463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9219" descr="关于WILL文字"/>
          <p:cNvPicPr/>
          <p:nvPr/>
        </p:nvPicPr>
        <p:blipFill>
          <a:blip r:embed="rId3"/>
          <a:stretch/>
        </p:blipFill>
        <p:spPr>
          <a:xfrm>
            <a:off x="971640" y="693720"/>
            <a:ext cx="5040360" cy="567072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8199"/>
          <p:cNvSpPr/>
          <p:nvPr/>
        </p:nvSpPr>
        <p:spPr>
          <a:xfrm>
            <a:off x="971640" y="527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52 -0.045833 C 0.044348 -0.045833 0.100348 0.028837 0.100348 0.120837 C 0.100348 0.212837 0.044348 0.287497 -0.024652 0.287497 C -0.093652 0.287497 -0.149652 0.212837 -0.149652 0.120837 C -0.149652 0.028837 -0.093652 -0.045833 -0.024652 -0.045833 Z">
                                      <p:cBhvr>
                                        <p:cTn id="125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0241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10242" descr="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0243" descr="长条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9716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0244" descr="圆圈"/>
          <p:cNvPicPr/>
          <p:nvPr/>
        </p:nvPicPr>
        <p:blipFill>
          <a:blip r:embed="rId3"/>
          <a:stretch/>
        </p:blipFill>
        <p:spPr>
          <a:xfrm>
            <a:off x="324000" y="404640"/>
            <a:ext cx="1704960" cy="148608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0245" descr="关于"/>
          <p:cNvPicPr/>
          <p:nvPr/>
        </p:nvPicPr>
        <p:blipFill>
          <a:blip r:embed="rId4"/>
          <a:stretch/>
        </p:blipFill>
        <p:spPr>
          <a:xfrm>
            <a:off x="395280" y="476280"/>
            <a:ext cx="3325680" cy="12650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0246" descr="威尔薇儿人物"/>
          <p:cNvPicPr/>
          <p:nvPr/>
        </p:nvPicPr>
        <p:blipFill>
          <a:blip r:embed="rId5"/>
          <a:stretch/>
        </p:blipFill>
        <p:spPr>
          <a:xfrm>
            <a:off x="3067200" y="1557360"/>
            <a:ext cx="3282840" cy="190980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0247" descr="LOGO"/>
          <p:cNvPicPr/>
          <p:nvPr/>
        </p:nvPicPr>
        <p:blipFill>
          <a:blip r:embed="rId6"/>
          <a:stretch/>
        </p:blipFill>
        <p:spPr>
          <a:xfrm>
            <a:off x="2411280" y="3246480"/>
            <a:ext cx="4464360" cy="11905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0248" descr="文字解释"/>
          <p:cNvPicPr/>
          <p:nvPr/>
        </p:nvPicPr>
        <p:blipFill>
          <a:blip r:embed="rId7"/>
          <a:stretch/>
        </p:blipFill>
        <p:spPr>
          <a:xfrm>
            <a:off x="1260360" y="4941720"/>
            <a:ext cx="6336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2CCF-6468-41AD-BDEB-B4485563ADD6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1265" descr="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1266" descr="THANKS"/>
          <p:cNvPicPr/>
          <p:nvPr/>
        </p:nvPicPr>
        <p:blipFill>
          <a:blip r:embed="rId2"/>
          <a:stretch/>
        </p:blipFill>
        <p:spPr>
          <a:xfrm>
            <a:off x="2266920" y="2637000"/>
            <a:ext cx="4897440" cy="10936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1267" descr="白线"/>
          <p:cNvPicPr/>
          <p:nvPr/>
        </p:nvPicPr>
        <p:blipFill>
          <a:blip r:embed="rId3"/>
          <a:stretch/>
        </p:blipFill>
        <p:spPr>
          <a:xfrm>
            <a:off x="828720" y="4043520"/>
            <a:ext cx="7343640" cy="28728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1268" descr="谢谢观赏"/>
          <p:cNvPicPr/>
          <p:nvPr/>
        </p:nvPicPr>
        <p:blipFill>
          <a:blip r:embed="rId4"/>
          <a:stretch/>
        </p:blipFill>
        <p:spPr>
          <a:xfrm>
            <a:off x="3813120" y="4075200"/>
            <a:ext cx="133524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01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