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3.wmf" ContentType="image/x-wmf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46C-2DEA-45A2-8169-077DACD0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56C-BCD4-4BB3-94F7-4CC6EA00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871-B1CC-4A1D-8643-33136637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DAD-4472-4894-A757-5B1F4764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E7A-5C8B-4744-A1F7-DCA4198C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E40-D0DB-4A34-951D-7DB0FC2E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01D-2B18-4490-8640-66C7E05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5CE-64BF-469E-9863-DEB20E3B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5E7-412B-4617-94DE-0A1F4AB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1E0-E4EA-423B-AC43-FE0E4AF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CBD-9C6C-4E0C-A72E-EE35C55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4B8-F8FC-47F0-85A0-4CF8842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07F-DCC3-4154-9EBB-AEED2F51A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wmf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0"/>
          <p:cNvSpPr/>
          <p:nvPr/>
        </p:nvSpPr>
        <p:spPr>
          <a:xfrm>
            <a:off x="0" y="112392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9"/>
          <p:cNvSpPr/>
          <p:nvPr/>
        </p:nvSpPr>
        <p:spPr>
          <a:xfrm>
            <a:off x="2873520" y="2206800"/>
            <a:ext cx="36432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11280" y="738360"/>
            <a:ext cx="8196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209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鉴中英项目经验，改革教学内容、教学方法和评价制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体制改革试验项目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 况 汇 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766800" y="5091120"/>
            <a:ext cx="1695240" cy="1461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313000" y="5091120"/>
            <a:ext cx="1697040" cy="1461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3860640" y="5091120"/>
            <a:ext cx="1695600" cy="14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5407200" y="5091120"/>
            <a:ext cx="1695240" cy="146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1538280" y="3557520"/>
            <a:ext cx="1695600" cy="146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3084480" y="3557520"/>
            <a:ext cx="1695600" cy="1460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4618080" y="3541680"/>
            <a:ext cx="169524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6954840" y="5103720"/>
            <a:ext cx="1695600" cy="146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6178680" y="3568680"/>
            <a:ext cx="1697040" cy="1461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6" descr="221342190540609"/>
          <p:cNvPicPr/>
          <p:nvPr/>
        </p:nvPicPr>
        <p:blipFill>
          <a:blip r:embed="rId3"/>
          <a:stretch/>
        </p:blipFill>
        <p:spPr>
          <a:xfrm>
            <a:off x="1160640" y="5173560"/>
            <a:ext cx="831600" cy="567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0"/>
          <p:cNvSpPr/>
          <p:nvPr/>
        </p:nvSpPr>
        <p:spPr>
          <a:xfrm>
            <a:off x="2760840" y="5484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法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4332240" y="5465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356600" y="5465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1" name="直接连接符 2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4" name="直接连接符 32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1"/>
          <p:cNvSpPr/>
          <p:nvPr/>
        </p:nvSpPr>
        <p:spPr>
          <a:xfrm>
            <a:off x="2873520" y="3102120"/>
            <a:ext cx="3643200" cy="326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03480" y="3059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夏州项目执行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93560" y="420048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5411520" y="420048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111800" y="420048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71756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行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4"/>
          <p:cNvSpPr/>
          <p:nvPr/>
        </p:nvSpPr>
        <p:spPr>
          <a:xfrm>
            <a:off x="481644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5"/>
          <p:cNvSpPr/>
          <p:nvPr/>
        </p:nvSpPr>
        <p:spPr>
          <a:xfrm>
            <a:off x="654372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800280" y="4953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项目工作汇报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309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3"/>
          <p:cNvSpPr/>
          <p:nvPr/>
        </p:nvSpPr>
        <p:spPr>
          <a:xfrm>
            <a:off x="3770280" y="3191040"/>
            <a:ext cx="1603440" cy="126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7099200" y="2421000"/>
            <a:ext cx="12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c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11" descr="slide0030_image055.jpg"/>
          <p:cNvPicPr/>
          <p:nvPr/>
        </p:nvPicPr>
        <p:blipFill>
          <a:blip r:embed="rId2"/>
          <a:stretch/>
        </p:blipFill>
        <p:spPr>
          <a:xfrm>
            <a:off x="682560" y="3252960"/>
            <a:ext cx="2952720" cy="2408040"/>
          </a:xfrm>
          <a:prstGeom prst="rect">
            <a:avLst/>
          </a:prstGeom>
          <a:ln w="0">
            <a:noFill/>
          </a:ln>
        </p:spPr>
      </p:pic>
      <p:sp>
        <p:nvSpPr>
          <p:cNvPr id="322" name="矩形 23"/>
          <p:cNvSpPr/>
          <p:nvPr/>
        </p:nvSpPr>
        <p:spPr>
          <a:xfrm>
            <a:off x="5364000" y="4467240"/>
            <a:ext cx="1602000" cy="126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000920" y="3191040"/>
            <a:ext cx="1603440" cy="126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6286320" y="3187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85160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2672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89412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1880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080840" y="49021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2312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331" name="半闭框 36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333" name="直接连接符 37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37" name="直接连接符 39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40" name="直接连接符 40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344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"/>
          <p:cNvSpPr/>
          <p:nvPr/>
        </p:nvSpPr>
        <p:spPr>
          <a:xfrm>
            <a:off x="3770280" y="3191040"/>
            <a:ext cx="1603440" cy="126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710136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5364000" y="4467240"/>
            <a:ext cx="1602000" cy="12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4"/>
          <p:cNvSpPr/>
          <p:nvPr/>
        </p:nvSpPr>
        <p:spPr>
          <a:xfrm>
            <a:off x="7000920" y="3191040"/>
            <a:ext cx="1603440" cy="126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286320" y="3187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785160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462672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89412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51880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7080840" y="49021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14" descr="未命名.JPG"/>
          <p:cNvPicPr/>
          <p:nvPr/>
        </p:nvPicPr>
        <p:blipFill>
          <a:blip r:embed="rId2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65" name="组合 13336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366" name="半闭框 40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368" name="直接连接符 41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72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75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14" descr="未命名.JPG"/>
          <p:cNvPicPr/>
          <p:nvPr/>
        </p:nvPicPr>
        <p:blipFill>
          <a:blip r:embed="rId1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3"/>
          <p:cNvSpPr/>
          <p:nvPr/>
        </p:nvSpPr>
        <p:spPr>
          <a:xfrm>
            <a:off x="611280" y="4005360"/>
            <a:ext cx="3149640" cy="934920"/>
          </a:xfrm>
          <a:prstGeom prst="rect">
            <a:avLst/>
          </a:prstGeom>
          <a:solidFill>
            <a:srgbClr val="d8d8d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6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7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六边形 3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4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783680" y="33228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内容融入了学校发展计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4722840" y="41958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出了中英项目成果的延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785120" y="51609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实验实现了学校的校本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277720" y="33228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 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2277720" y="42004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 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2277720" y="5084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10600" y="2185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学管理与学校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14359"/>
          <p:cNvGrpSpPr/>
          <p:nvPr/>
        </p:nvGrpSpPr>
        <p:grpSpPr>
          <a:xfrm>
            <a:off x="3254040" y="3500280"/>
            <a:ext cx="222120" cy="201600"/>
            <a:chOff x="3254040" y="3500280"/>
            <a:chExt cx="222120" cy="201600"/>
          </a:xfrm>
        </p:grpSpPr>
        <p:sp>
          <p:nvSpPr>
            <p:cNvPr id="400" name="半闭框 47"/>
            <p:cNvSpPr/>
            <p:nvPr/>
          </p:nvSpPr>
          <p:spPr>
            <a:xfrm flipH="1" rot="5400000">
              <a:off x="3263760" y="348984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264480" y="3515040"/>
              <a:ext cx="211680" cy="176400"/>
              <a:chOff x="3264480" y="3515040"/>
              <a:chExt cx="211680" cy="176400"/>
            </a:xfrm>
          </p:grpSpPr>
          <p:sp>
            <p:nvSpPr>
              <p:cNvPr id="402" name="直接连接符 48"/>
              <p:cNvSpPr/>
              <p:nvPr/>
            </p:nvSpPr>
            <p:spPr>
              <a:xfrm flipH="1" flipV="1">
                <a:off x="3264480" y="351504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3264480" y="351504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组合 14362"/>
          <p:cNvGrpSpPr/>
          <p:nvPr/>
        </p:nvGrpSpPr>
        <p:grpSpPr>
          <a:xfrm>
            <a:off x="3250800" y="4365720"/>
            <a:ext cx="222120" cy="201600"/>
            <a:chOff x="3250800" y="4365720"/>
            <a:chExt cx="222120" cy="201600"/>
          </a:xfrm>
        </p:grpSpPr>
        <p:sp>
          <p:nvSpPr>
            <p:cNvPr id="405" name="半闭框 50"/>
            <p:cNvSpPr/>
            <p:nvPr/>
          </p:nvSpPr>
          <p:spPr>
            <a:xfrm flipH="1" rot="5400000">
              <a:off x="3260520" y="435528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261240" y="4380480"/>
              <a:ext cx="211680" cy="176400"/>
              <a:chOff x="3261240" y="4380480"/>
              <a:chExt cx="211680" cy="176400"/>
            </a:xfrm>
          </p:grpSpPr>
          <p:sp>
            <p:nvSpPr>
              <p:cNvPr id="407" name="直接连接符 51"/>
              <p:cNvSpPr/>
              <p:nvPr/>
            </p:nvSpPr>
            <p:spPr>
              <a:xfrm flipH="1" flipV="1">
                <a:off x="3261240" y="438048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 rot="10800000">
                <a:off x="3261240" y="438048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组合 14365"/>
          <p:cNvGrpSpPr/>
          <p:nvPr/>
        </p:nvGrpSpPr>
        <p:grpSpPr>
          <a:xfrm>
            <a:off x="3250800" y="5229360"/>
            <a:ext cx="222120" cy="201600"/>
            <a:chOff x="3250800" y="5229360"/>
            <a:chExt cx="222120" cy="201600"/>
          </a:xfrm>
        </p:grpSpPr>
        <p:sp>
          <p:nvSpPr>
            <p:cNvPr id="410" name="半闭框 60"/>
            <p:cNvSpPr/>
            <p:nvPr/>
          </p:nvSpPr>
          <p:spPr>
            <a:xfrm flipH="1" rot="5400000">
              <a:off x="3260520" y="521892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3261240" y="5244120"/>
              <a:ext cx="211680" cy="176400"/>
              <a:chOff x="3261240" y="5244120"/>
              <a:chExt cx="211680" cy="176400"/>
            </a:xfrm>
          </p:grpSpPr>
          <p:sp>
            <p:nvSpPr>
              <p:cNvPr id="412" name="直接连接符 61"/>
              <p:cNvSpPr/>
              <p:nvPr/>
            </p:nvSpPr>
            <p:spPr>
              <a:xfrm flipH="1" flipV="1">
                <a:off x="3261240" y="524412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10800000">
                <a:off x="3261240" y="524412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六边形 62"/>
          <p:cNvSpPr/>
          <p:nvPr/>
        </p:nvSpPr>
        <p:spPr>
          <a:xfrm rot="1825800">
            <a:off x="779040" y="34783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六边形 63"/>
          <p:cNvSpPr/>
          <p:nvPr/>
        </p:nvSpPr>
        <p:spPr>
          <a:xfrm rot="1825800">
            <a:off x="779040" y="42721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六边形 64"/>
          <p:cNvSpPr/>
          <p:nvPr/>
        </p:nvSpPr>
        <p:spPr>
          <a:xfrm rot="1825800">
            <a:off x="779040" y="51418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419" name="直接连接符 40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422" name="直接连接符 42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194"/>
          <p:cNvSpPr/>
          <p:nvPr/>
        </p:nvSpPr>
        <p:spPr>
          <a:xfrm>
            <a:off x="1428840" y="126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14" descr="未命名.JPG"/>
          <p:cNvPicPr/>
          <p:nvPr/>
        </p:nvPicPr>
        <p:blipFill>
          <a:blip r:embed="rId1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sp>
        <p:nvSpPr>
          <p:cNvPr id="435" name="矩形 23"/>
          <p:cNvSpPr/>
          <p:nvPr/>
        </p:nvSpPr>
        <p:spPr>
          <a:xfrm>
            <a:off x="611280" y="4005360"/>
            <a:ext cx="3149640" cy="934920"/>
          </a:xfrm>
          <a:prstGeom prst="rect">
            <a:avLst/>
          </a:prstGeom>
          <a:solidFill>
            <a:srgbClr val="d8d8d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6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7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六边形 3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4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2277720" y="5084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15377"/>
          <p:cNvGrpSpPr/>
          <p:nvPr/>
        </p:nvGrpSpPr>
        <p:grpSpPr>
          <a:xfrm>
            <a:off x="3254040" y="3500280"/>
            <a:ext cx="222120" cy="201600"/>
            <a:chOff x="3254040" y="3500280"/>
            <a:chExt cx="222120" cy="201600"/>
          </a:xfrm>
        </p:grpSpPr>
        <p:sp>
          <p:nvSpPr>
            <p:cNvPr id="442" name="半闭框 47"/>
            <p:cNvSpPr/>
            <p:nvPr/>
          </p:nvSpPr>
          <p:spPr>
            <a:xfrm flipH="1" rot="5400000">
              <a:off x="3263760" y="348984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264480" y="3515040"/>
              <a:ext cx="211680" cy="176400"/>
              <a:chOff x="3264480" y="3515040"/>
              <a:chExt cx="211680" cy="176400"/>
            </a:xfrm>
          </p:grpSpPr>
          <p:sp>
            <p:nvSpPr>
              <p:cNvPr id="444" name="直接连接符 48"/>
              <p:cNvSpPr/>
              <p:nvPr/>
            </p:nvSpPr>
            <p:spPr>
              <a:xfrm flipH="1" flipV="1">
                <a:off x="3264480" y="351504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10800000">
                <a:off x="3264480" y="351504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组合 15380"/>
          <p:cNvGrpSpPr/>
          <p:nvPr/>
        </p:nvGrpSpPr>
        <p:grpSpPr>
          <a:xfrm>
            <a:off x="3250800" y="4365720"/>
            <a:ext cx="222120" cy="201600"/>
            <a:chOff x="3250800" y="4365720"/>
            <a:chExt cx="222120" cy="201600"/>
          </a:xfrm>
        </p:grpSpPr>
        <p:sp>
          <p:nvSpPr>
            <p:cNvPr id="447" name="半闭框 50"/>
            <p:cNvSpPr/>
            <p:nvPr/>
          </p:nvSpPr>
          <p:spPr>
            <a:xfrm flipH="1" rot="5400000">
              <a:off x="3260520" y="435528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3261240" y="4380480"/>
              <a:ext cx="211680" cy="176400"/>
              <a:chOff x="3261240" y="4380480"/>
              <a:chExt cx="211680" cy="176400"/>
            </a:xfrm>
          </p:grpSpPr>
          <p:sp>
            <p:nvSpPr>
              <p:cNvPr id="449" name="直接连接符 51"/>
              <p:cNvSpPr/>
              <p:nvPr/>
            </p:nvSpPr>
            <p:spPr>
              <a:xfrm flipH="1" flipV="1">
                <a:off x="3261240" y="438048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 rot="10800000">
                <a:off x="3261240" y="438048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组合 15383"/>
          <p:cNvGrpSpPr/>
          <p:nvPr/>
        </p:nvGrpSpPr>
        <p:grpSpPr>
          <a:xfrm>
            <a:off x="3250800" y="5229360"/>
            <a:ext cx="222120" cy="201600"/>
            <a:chOff x="3250800" y="5229360"/>
            <a:chExt cx="222120" cy="201600"/>
          </a:xfrm>
        </p:grpSpPr>
        <p:sp>
          <p:nvSpPr>
            <p:cNvPr id="452" name="半闭框 60"/>
            <p:cNvSpPr/>
            <p:nvPr/>
          </p:nvSpPr>
          <p:spPr>
            <a:xfrm flipH="1" rot="5400000">
              <a:off x="3260520" y="521892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61240" y="5244120"/>
              <a:ext cx="211680" cy="176400"/>
              <a:chOff x="3261240" y="5244120"/>
              <a:chExt cx="211680" cy="176400"/>
            </a:xfrm>
          </p:grpSpPr>
          <p:sp>
            <p:nvSpPr>
              <p:cNvPr id="454" name="直接连接符 61"/>
              <p:cNvSpPr/>
              <p:nvPr/>
            </p:nvSpPr>
            <p:spPr>
              <a:xfrm flipH="1" flipV="1">
                <a:off x="3261240" y="524412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 rot="10800000">
                <a:off x="3261240" y="524412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六边形 62"/>
          <p:cNvSpPr/>
          <p:nvPr/>
        </p:nvSpPr>
        <p:spPr>
          <a:xfrm rot="1825800">
            <a:off x="779040" y="34783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六边形 63"/>
          <p:cNvSpPr/>
          <p:nvPr/>
        </p:nvSpPr>
        <p:spPr>
          <a:xfrm rot="1825800">
            <a:off x="779040" y="42721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六边形 64"/>
          <p:cNvSpPr/>
          <p:nvPr/>
        </p:nvSpPr>
        <p:spPr>
          <a:xfrm rot="1825800">
            <a:off x="779040" y="51418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51296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族性 地方性 适切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833360" y="417816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学生活动纳入学校课程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710600" y="50846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全面发展 学校特色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2311200" y="33368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 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2311200" y="42022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 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610600" y="2158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了若干学校课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467" name="直接连接符 4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470" name="直接连接符 5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474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"/>
          <p:cNvSpPr/>
          <p:nvPr/>
        </p:nvSpPr>
        <p:spPr>
          <a:xfrm>
            <a:off x="3760920" y="3191040"/>
            <a:ext cx="4843440" cy="190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6394"/>
          <p:cNvGrpSpPr/>
          <p:nvPr/>
        </p:nvGrpSpPr>
        <p:grpSpPr>
          <a:xfrm>
            <a:off x="3770280" y="3191040"/>
            <a:ext cx="4834080" cy="1909440"/>
            <a:chOff x="3770280" y="3191040"/>
            <a:chExt cx="4834080" cy="1909440"/>
          </a:xfrm>
        </p:grpSpPr>
        <p:sp>
          <p:nvSpPr>
            <p:cNvPr id="482" name="矩形 3"/>
            <p:cNvSpPr/>
            <p:nvPr/>
          </p:nvSpPr>
          <p:spPr>
            <a:xfrm>
              <a:off x="3770280" y="319104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3"/>
            <p:cNvSpPr/>
            <p:nvPr/>
          </p:nvSpPr>
          <p:spPr>
            <a:xfrm>
              <a:off x="5364000" y="415008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24"/>
            <p:cNvSpPr/>
            <p:nvPr/>
          </p:nvSpPr>
          <p:spPr>
            <a:xfrm>
              <a:off x="7001280" y="319104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3"/>
          <p:cNvSpPr/>
          <p:nvPr/>
        </p:nvSpPr>
        <p:spPr>
          <a:xfrm>
            <a:off x="456624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5537880" y="20430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建了平等参与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613656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 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76052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探 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4566240" y="417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 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6136560" y="417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 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7597800" y="41799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 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4940280" y="5157720"/>
            <a:ext cx="25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农村包围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9"/>
          <p:cNvSpPr/>
          <p:nvPr/>
        </p:nvSpPr>
        <p:spPr>
          <a:xfrm>
            <a:off x="611280" y="2997360"/>
            <a:ext cx="3149640" cy="295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00" name="直接连接符 3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03" name="直接连接符 39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07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7418"/>
          <p:cNvGrpSpPr/>
          <p:nvPr/>
        </p:nvGrpSpPr>
        <p:grpSpPr>
          <a:xfrm>
            <a:off x="3770280" y="3191040"/>
            <a:ext cx="4834080" cy="2543040"/>
            <a:chOff x="3770280" y="3191040"/>
            <a:chExt cx="4834080" cy="2543040"/>
          </a:xfrm>
        </p:grpSpPr>
        <p:sp>
          <p:nvSpPr>
            <p:cNvPr id="515" name="矩形 3"/>
            <p:cNvSpPr/>
            <p:nvPr/>
          </p:nvSpPr>
          <p:spPr>
            <a:xfrm>
              <a:off x="3770280" y="319104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3"/>
            <p:cNvSpPr/>
            <p:nvPr/>
          </p:nvSpPr>
          <p:spPr>
            <a:xfrm>
              <a:off x="5364000" y="446832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4"/>
            <p:cNvSpPr/>
            <p:nvPr/>
          </p:nvSpPr>
          <p:spPr>
            <a:xfrm>
              <a:off x="7001280" y="319104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209480" y="35481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勤于学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5572800" y="2184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土化专家在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5793840" y="3573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维活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7400520" y="3573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善于探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5743080" y="49719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于创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7400520" y="49719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40" descr="学习01.jpg"/>
          <p:cNvPicPr/>
          <p:nvPr/>
        </p:nvPicPr>
        <p:blipFill>
          <a:blip r:embed="rId2"/>
          <a:srcRect l="25142" t="29595" r="24499" b="8457"/>
          <a:stretch/>
        </p:blipFill>
        <p:spPr>
          <a:xfrm>
            <a:off x="611280" y="3191040"/>
            <a:ext cx="31496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529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30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9"/>
          <p:cNvSpPr/>
          <p:nvPr/>
        </p:nvSpPr>
        <p:spPr>
          <a:xfrm>
            <a:off x="419832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35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38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42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3770280" y="4076640"/>
            <a:ext cx="4834080" cy="865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55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6"/>
          <p:cNvSpPr/>
          <p:nvPr/>
        </p:nvSpPr>
        <p:spPr>
          <a:xfrm>
            <a:off x="5435280" y="2112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特色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标注 37"/>
          <p:cNvSpPr/>
          <p:nvPr/>
        </p:nvSpPr>
        <p:spPr>
          <a:xfrm>
            <a:off x="4172040" y="5016600"/>
            <a:ext cx="4000320" cy="501480"/>
          </a:xfrm>
          <a:prstGeom prst="wedgeRectCallout">
            <a:avLst>
              <a:gd name="adj1" fmla="val 72467"/>
              <a:gd name="adj2" fmla="val -604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园文化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育人氛围更加浓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标注 38"/>
          <p:cNvSpPr/>
          <p:nvPr/>
        </p:nvSpPr>
        <p:spPr>
          <a:xfrm>
            <a:off x="4172040" y="4226040"/>
            <a:ext cx="4000320" cy="500040"/>
          </a:xfrm>
          <a:prstGeom prst="wedgeRectCallout">
            <a:avLst>
              <a:gd name="adj1" fmla="val 72467"/>
              <a:gd name="adj2" fmla="val 2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有了自己的办学愿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标注 42"/>
          <p:cNvSpPr/>
          <p:nvPr/>
        </p:nvSpPr>
        <p:spPr>
          <a:xfrm>
            <a:off x="4172040" y="3360600"/>
            <a:ext cx="4000320" cy="500040"/>
          </a:xfrm>
          <a:prstGeom prst="wedgeRectCallout">
            <a:avLst>
              <a:gd name="adj1" fmla="val 75837"/>
              <a:gd name="adj2" fmla="val 65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管理者理念提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43" descr="快乐小学生07.jpg"/>
          <p:cNvPicPr/>
          <p:nvPr/>
        </p:nvPicPr>
        <p:blipFill>
          <a:blip r:embed="rId2"/>
          <a:srcRect l="0" t="-999" r="0" b="-999"/>
          <a:stretch/>
        </p:blipFill>
        <p:spPr>
          <a:xfrm>
            <a:off x="611280" y="3198960"/>
            <a:ext cx="3149640" cy="2535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2"/>
          <p:cNvSpPr/>
          <p:nvPr/>
        </p:nvSpPr>
        <p:spPr>
          <a:xfrm>
            <a:off x="1673280" y="5300640"/>
            <a:ext cx="1098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65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68" name="直接连接符 30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72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"/>
          <p:cNvSpPr/>
          <p:nvPr/>
        </p:nvSpPr>
        <p:spPr>
          <a:xfrm>
            <a:off x="611280" y="3191040"/>
            <a:ext cx="7993080" cy="254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六边形 50"/>
          <p:cNvSpPr/>
          <p:nvPr/>
        </p:nvSpPr>
        <p:spPr>
          <a:xfrm rot="1825800">
            <a:off x="4083120" y="2203560"/>
            <a:ext cx="584280" cy="504720"/>
          </a:xfrm>
          <a:prstGeom prst="hexagon">
            <a:avLst>
              <a:gd name="adj" fmla="val 2934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1"/>
          <p:cNvSpPr/>
          <p:nvPr/>
        </p:nvSpPr>
        <p:spPr>
          <a:xfrm>
            <a:off x="414396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83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5"/>
          <p:cNvSpPr/>
          <p:nvPr/>
        </p:nvSpPr>
        <p:spPr>
          <a:xfrm>
            <a:off x="5374440" y="2184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强大的教改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34"/>
          <p:cNvSpPr/>
          <p:nvPr/>
        </p:nvSpPr>
        <p:spPr>
          <a:xfrm>
            <a:off x="790560" y="3465360"/>
            <a:ext cx="1297080" cy="129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35"/>
          <p:cNvSpPr/>
          <p:nvPr/>
        </p:nvSpPr>
        <p:spPr>
          <a:xfrm>
            <a:off x="3959280" y="3465360"/>
            <a:ext cx="1297080" cy="129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9"/>
          <p:cNvSpPr/>
          <p:nvPr/>
        </p:nvSpPr>
        <p:spPr>
          <a:xfrm>
            <a:off x="7164360" y="3429000"/>
            <a:ext cx="1297080" cy="1297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5"/>
          <p:cNvSpPr/>
          <p:nvPr/>
        </p:nvSpPr>
        <p:spPr>
          <a:xfrm>
            <a:off x="2266920" y="3213000"/>
            <a:ext cx="1513080" cy="254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59"/>
          <p:cNvSpPr/>
          <p:nvPr/>
        </p:nvSpPr>
        <p:spPr>
          <a:xfrm>
            <a:off x="5435640" y="3213000"/>
            <a:ext cx="1530360" cy="254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611280" y="5300640"/>
            <a:ext cx="7993080" cy="4320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925560" y="533232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级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160160" y="53323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7529400" y="533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19480"/>
          <p:cNvGrpSpPr/>
          <p:nvPr/>
        </p:nvGrpSpPr>
        <p:grpSpPr>
          <a:xfrm>
            <a:off x="2655000" y="3849120"/>
            <a:ext cx="737280" cy="732240"/>
            <a:chOff x="2655000" y="3849120"/>
            <a:chExt cx="737280" cy="732240"/>
          </a:xfrm>
        </p:grpSpPr>
        <p:sp>
          <p:nvSpPr>
            <p:cNvPr id="596" name="半闭框 61"/>
            <p:cNvSpPr/>
            <p:nvPr/>
          </p:nvSpPr>
          <p:spPr>
            <a:xfrm flipH="1" rot="2943000">
              <a:off x="2775600" y="3942000"/>
              <a:ext cx="495360" cy="546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698200" y="3876120"/>
              <a:ext cx="677160" cy="668160"/>
              <a:chOff x="2698200" y="3876120"/>
              <a:chExt cx="677160" cy="668160"/>
            </a:xfrm>
          </p:grpSpPr>
          <p:sp>
            <p:nvSpPr>
              <p:cNvPr id="598" name="直接连接符 62"/>
              <p:cNvSpPr/>
              <p:nvPr/>
            </p:nvSpPr>
            <p:spPr>
              <a:xfrm flipH="1">
                <a:off x="2698560" y="4203360"/>
                <a:ext cx="676800" cy="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 rot="8342400">
                <a:off x="2776320" y="3993840"/>
                <a:ext cx="52056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组合 19483"/>
          <p:cNvGrpSpPr/>
          <p:nvPr/>
        </p:nvGrpSpPr>
        <p:grpSpPr>
          <a:xfrm>
            <a:off x="5851440" y="3861360"/>
            <a:ext cx="736200" cy="730800"/>
            <a:chOff x="5851440" y="3861360"/>
            <a:chExt cx="736200" cy="730800"/>
          </a:xfrm>
        </p:grpSpPr>
        <p:sp>
          <p:nvSpPr>
            <p:cNvPr id="601" name="半闭框 64"/>
            <p:cNvSpPr/>
            <p:nvPr/>
          </p:nvSpPr>
          <p:spPr>
            <a:xfrm flipH="1" rot="2943000">
              <a:off x="5972040" y="3953520"/>
              <a:ext cx="493920" cy="546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894280" y="3888720"/>
              <a:ext cx="676080" cy="667080"/>
              <a:chOff x="5894280" y="3888720"/>
              <a:chExt cx="676080" cy="667080"/>
            </a:xfrm>
          </p:grpSpPr>
          <p:sp>
            <p:nvSpPr>
              <p:cNvPr id="603" name="直接连接符 65"/>
              <p:cNvSpPr/>
              <p:nvPr/>
            </p:nvSpPr>
            <p:spPr>
              <a:xfrm flipH="1">
                <a:off x="5894280" y="4214520"/>
                <a:ext cx="676080" cy="1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 rot="8342400">
                <a:off x="5972040" y="4006080"/>
                <a:ext cx="5205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六边形 66"/>
          <p:cNvSpPr/>
          <p:nvPr/>
        </p:nvSpPr>
        <p:spPr>
          <a:xfrm rot="1825800">
            <a:off x="2363400" y="3330360"/>
            <a:ext cx="233280" cy="201600"/>
          </a:xfrm>
          <a:prstGeom prst="hexagon">
            <a:avLst>
              <a:gd name="adj" fmla="val 29400"/>
              <a:gd name="vf" fmla="val 11547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六边形 67"/>
          <p:cNvSpPr/>
          <p:nvPr/>
        </p:nvSpPr>
        <p:spPr>
          <a:xfrm rot="1825800">
            <a:off x="5595480" y="3333240"/>
            <a:ext cx="233640" cy="201600"/>
          </a:xfrm>
          <a:prstGeom prst="hexagon">
            <a:avLst>
              <a:gd name="adj" fmla="val 29445"/>
              <a:gd name="vf" fmla="val 11547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09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12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文本框 8194"/>
          <p:cNvSpPr/>
          <p:nvPr/>
        </p:nvSpPr>
        <p:spPr>
          <a:xfrm>
            <a:off x="1638360" y="126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1"/>
          <a:srcRect l="0" t="3124" r="0" b="6021"/>
          <a:stretch/>
        </p:blipFill>
        <p:spPr>
          <a:xfrm>
            <a:off x="0" y="105264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617" name="矩形 5"/>
          <p:cNvSpPr/>
          <p:nvPr/>
        </p:nvSpPr>
        <p:spPr>
          <a:xfrm rot="16200000">
            <a:off x="2012040" y="-908640"/>
            <a:ext cx="5148000" cy="9109080"/>
          </a:xfrm>
          <a:prstGeom prst="rect">
            <a:avLst/>
          </a:prstGeom>
          <a:gradFill rotWithShape="0">
            <a:gsLst>
              <a:gs pos="0">
                <a:srgbClr val="000e1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0"/>
          <p:cNvSpPr/>
          <p:nvPr/>
        </p:nvSpPr>
        <p:spPr>
          <a:xfrm>
            <a:off x="5348160" y="3774960"/>
            <a:ext cx="26085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六边形 13"/>
          <p:cNvSpPr/>
          <p:nvPr/>
        </p:nvSpPr>
        <p:spPr>
          <a:xfrm rot="1825800">
            <a:off x="1453680" y="2828520"/>
            <a:ext cx="2476440" cy="2133720"/>
          </a:xfrm>
          <a:prstGeom prst="hexagon">
            <a:avLst>
              <a:gd name="adj" fmla="val 29402"/>
              <a:gd name="vf" fmla="val 115470"/>
            </a:avLst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217240" y="35719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4" descr=""/>
          <p:cNvPicPr/>
          <p:nvPr/>
        </p:nvPicPr>
        <p:blipFill>
          <a:blip r:embed="rId2"/>
          <a:stretch/>
        </p:blipFill>
        <p:spPr>
          <a:xfrm>
            <a:off x="425520" y="1322280"/>
            <a:ext cx="728640" cy="727200"/>
          </a:xfrm>
          <a:prstGeom prst="rect">
            <a:avLst/>
          </a:prstGeom>
          <a:ln w="0">
            <a:noFill/>
          </a:ln>
        </p:spPr>
      </p:pic>
      <p:sp>
        <p:nvSpPr>
          <p:cNvPr id="623" name="椭圆 7"/>
          <p:cNvSpPr/>
          <p:nvPr/>
        </p:nvSpPr>
        <p:spPr>
          <a:xfrm>
            <a:off x="2411280" y="2924280"/>
            <a:ext cx="613080" cy="61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六边形 43"/>
          <p:cNvSpPr/>
          <p:nvPr/>
        </p:nvSpPr>
        <p:spPr>
          <a:xfrm rot="1825800">
            <a:off x="8292960" y="5832360"/>
            <a:ext cx="584280" cy="5032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六边形 45"/>
          <p:cNvSpPr/>
          <p:nvPr/>
        </p:nvSpPr>
        <p:spPr>
          <a:xfrm rot="1825800">
            <a:off x="7495920" y="6143760"/>
            <a:ext cx="291960" cy="252360"/>
          </a:xfrm>
          <a:prstGeom prst="hexagon">
            <a:avLst>
              <a:gd name="adj" fmla="val 29356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六边形 46"/>
          <p:cNvSpPr/>
          <p:nvPr/>
        </p:nvSpPr>
        <p:spPr>
          <a:xfrm rot="1825800">
            <a:off x="8731080" y="5385960"/>
            <a:ext cx="328680" cy="284400"/>
          </a:xfrm>
          <a:prstGeom prst="hexagon">
            <a:avLst>
              <a:gd name="adj" fmla="val 29325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1"/>
          <p:cNvSpPr/>
          <p:nvPr/>
        </p:nvSpPr>
        <p:spPr>
          <a:xfrm>
            <a:off x="2401200" y="284148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30" name="直接连接符 18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33" name="直接连接符 19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3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2"/>
          <p:cNvSpPr/>
          <p:nvPr/>
        </p:nvSpPr>
        <p:spPr>
          <a:xfrm>
            <a:off x="1403280" y="2138400"/>
            <a:ext cx="6193080" cy="28749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1"/>
          <p:cNvSpPr/>
          <p:nvPr/>
        </p:nvSpPr>
        <p:spPr>
          <a:xfrm>
            <a:off x="1568520" y="2276640"/>
            <a:ext cx="5883120" cy="259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六边形 17"/>
          <p:cNvSpPr/>
          <p:nvPr/>
        </p:nvSpPr>
        <p:spPr>
          <a:xfrm rot="1825800">
            <a:off x="3703320" y="1652760"/>
            <a:ext cx="1757160" cy="1515960"/>
          </a:xfrm>
          <a:prstGeom prst="hexagon">
            <a:avLst>
              <a:gd name="adj" fmla="val 29380"/>
              <a:gd name="vf" fmla="val 115470"/>
            </a:avLst>
          </a:prstGeom>
          <a:solidFill>
            <a:srgbClr val="c00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六边形 18"/>
          <p:cNvSpPr/>
          <p:nvPr/>
        </p:nvSpPr>
        <p:spPr>
          <a:xfrm rot="1825800">
            <a:off x="4663800" y="3610080"/>
            <a:ext cx="2049480" cy="1768320"/>
          </a:xfrm>
          <a:prstGeom prst="hexagon">
            <a:avLst>
              <a:gd name="adj" fmla="val 29382"/>
              <a:gd name="vf" fmla="val 115470"/>
            </a:avLst>
          </a:prstGeom>
          <a:solidFill>
            <a:srgbClr val="ff66ff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六边形 19"/>
          <p:cNvSpPr/>
          <p:nvPr/>
        </p:nvSpPr>
        <p:spPr>
          <a:xfrm rot="1825800">
            <a:off x="2307960" y="3610080"/>
            <a:ext cx="2049480" cy="1768320"/>
          </a:xfrm>
          <a:prstGeom prst="hexagon">
            <a:avLst>
              <a:gd name="adj" fmla="val 29382"/>
              <a:gd name="vf" fmla="val 115470"/>
            </a:avLst>
          </a:prstGeom>
          <a:solidFill>
            <a:srgbClr val="92d05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六边形 20"/>
          <p:cNvSpPr/>
          <p:nvPr/>
        </p:nvSpPr>
        <p:spPr>
          <a:xfrm rot="1825800">
            <a:off x="1133280" y="1666800"/>
            <a:ext cx="2050920" cy="17668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六边形 21"/>
          <p:cNvSpPr/>
          <p:nvPr/>
        </p:nvSpPr>
        <p:spPr>
          <a:xfrm rot="1825800">
            <a:off x="5886000" y="1666440"/>
            <a:ext cx="2051280" cy="1766880"/>
          </a:xfrm>
          <a:prstGeom prst="hexagon">
            <a:avLst>
              <a:gd name="adj" fmla="val 29432"/>
              <a:gd name="vf" fmla="val 115470"/>
            </a:avLst>
          </a:prstGeom>
          <a:solidFill>
            <a:srgbClr val="ffc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2"/>
          <p:cNvSpPr/>
          <p:nvPr/>
        </p:nvSpPr>
        <p:spPr>
          <a:xfrm>
            <a:off x="4127040" y="1994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1771560" y="1881360"/>
            <a:ext cx="790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重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项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实施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4"/>
          <p:cNvSpPr/>
          <p:nvPr/>
        </p:nvSpPr>
        <p:spPr>
          <a:xfrm>
            <a:off x="2734560" y="3832200"/>
            <a:ext cx="1206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管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胆创新和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的项目设计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5"/>
          <p:cNvSpPr/>
          <p:nvPr/>
        </p:nvSpPr>
        <p:spPr>
          <a:xfrm>
            <a:off x="5216400" y="3860640"/>
            <a:ext cx="942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化的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和支持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成功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7"/>
          <p:cNvSpPr/>
          <p:nvPr/>
        </p:nvSpPr>
        <p:spPr>
          <a:xfrm>
            <a:off x="6341400" y="1973160"/>
            <a:ext cx="11408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促进学校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育教学工作是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项目实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六边形 28"/>
          <p:cNvSpPr/>
          <p:nvPr/>
        </p:nvSpPr>
        <p:spPr>
          <a:xfrm rot="1825800">
            <a:off x="6831000" y="1707840"/>
            <a:ext cx="163440" cy="141120"/>
          </a:xfrm>
          <a:prstGeom prst="hexagon">
            <a:avLst>
              <a:gd name="adj" fmla="val 2931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六边形 29"/>
          <p:cNvSpPr/>
          <p:nvPr/>
        </p:nvSpPr>
        <p:spPr>
          <a:xfrm rot="1825800">
            <a:off x="2076120" y="1641240"/>
            <a:ext cx="165240" cy="142920"/>
          </a:xfrm>
          <a:prstGeom prst="hexagon">
            <a:avLst>
              <a:gd name="adj" fmla="val 29268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六边形 30"/>
          <p:cNvSpPr/>
          <p:nvPr/>
        </p:nvSpPr>
        <p:spPr>
          <a:xfrm rot="1825800">
            <a:off x="3255480" y="3616200"/>
            <a:ext cx="165240" cy="141480"/>
          </a:xfrm>
          <a:prstGeom prst="hexagon">
            <a:avLst>
              <a:gd name="adj" fmla="val 29566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六边形 31"/>
          <p:cNvSpPr/>
          <p:nvPr/>
        </p:nvSpPr>
        <p:spPr>
          <a:xfrm rot="1825800">
            <a:off x="5607000" y="3638160"/>
            <a:ext cx="163440" cy="141480"/>
          </a:xfrm>
          <a:prstGeom prst="hexagon">
            <a:avLst>
              <a:gd name="adj" fmla="val 29244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34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35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36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37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38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3644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6" descr="221342190540609"/>
          <p:cNvPicPr/>
          <p:nvPr/>
        </p:nvPicPr>
        <p:blipFill>
          <a:blip r:embed="rId2"/>
          <a:stretch/>
        </p:blipFill>
        <p:spPr>
          <a:xfrm>
            <a:off x="75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61" name="直接连接符 33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64" name="直接连接符 4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1"/>
          <a:srcRect l="0" t="-11287" r="0" b="-11287"/>
          <a:stretch/>
        </p:blipFill>
        <p:spPr>
          <a:xfrm>
            <a:off x="34920" y="333360"/>
            <a:ext cx="9109080" cy="678492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 rot="16200000">
            <a:off x="1815840" y="-799920"/>
            <a:ext cx="5546880" cy="9109080"/>
          </a:xfrm>
          <a:prstGeom prst="rect">
            <a:avLst/>
          </a:prstGeom>
          <a:gradFill rotWithShape="0">
            <a:gsLst>
              <a:gs pos="0">
                <a:srgbClr val="000e1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867280" y="2997360"/>
            <a:ext cx="1962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机构保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6105600" y="3384720"/>
            <a:ext cx="17240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会精神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219640" y="3774960"/>
            <a:ext cx="2610000" cy="39888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试点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724360" y="4175280"/>
            <a:ext cx="210348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动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300720" y="4589640"/>
            <a:ext cx="1528920" cy="398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推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六边形 13"/>
          <p:cNvSpPr/>
          <p:nvPr/>
        </p:nvSpPr>
        <p:spPr>
          <a:xfrm rot="1825800">
            <a:off x="1453680" y="2901960"/>
            <a:ext cx="2476440" cy="2135160"/>
          </a:xfrm>
          <a:prstGeom prst="hexagon">
            <a:avLst>
              <a:gd name="adj" fmla="val 29382"/>
              <a:gd name="vf" fmla="val 115470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89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111400" y="3645000"/>
            <a:ext cx="11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 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 行 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" descr=""/>
          <p:cNvPicPr/>
          <p:nvPr/>
        </p:nvPicPr>
        <p:blipFill>
          <a:blip r:embed="rId2"/>
          <a:stretch/>
        </p:blipFill>
        <p:spPr>
          <a:xfrm>
            <a:off x="425520" y="1322280"/>
            <a:ext cx="728640" cy="727200"/>
          </a:xfrm>
          <a:prstGeom prst="rect">
            <a:avLst/>
          </a:prstGeom>
          <a:ln w="0">
            <a:noFill/>
          </a:ln>
        </p:spPr>
      </p:pic>
      <p:sp>
        <p:nvSpPr>
          <p:cNvPr id="88" name="椭圆 7"/>
          <p:cNvSpPr/>
          <p:nvPr/>
        </p:nvSpPr>
        <p:spPr>
          <a:xfrm>
            <a:off x="2411280" y="2997360"/>
            <a:ext cx="613080" cy="612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409120" y="291456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六边形 43"/>
          <p:cNvSpPr/>
          <p:nvPr/>
        </p:nvSpPr>
        <p:spPr>
          <a:xfrm rot="1825800">
            <a:off x="8292960" y="5832360"/>
            <a:ext cx="584280" cy="5032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六边形 45"/>
          <p:cNvSpPr/>
          <p:nvPr/>
        </p:nvSpPr>
        <p:spPr>
          <a:xfrm rot="1825800">
            <a:off x="7495920" y="6143760"/>
            <a:ext cx="291960" cy="252360"/>
          </a:xfrm>
          <a:prstGeom prst="hexagon">
            <a:avLst>
              <a:gd name="adj" fmla="val 29356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六边形 46"/>
          <p:cNvSpPr/>
          <p:nvPr/>
        </p:nvSpPr>
        <p:spPr>
          <a:xfrm rot="1825800">
            <a:off x="8731080" y="5385960"/>
            <a:ext cx="328680" cy="284400"/>
          </a:xfrm>
          <a:prstGeom prst="hexagon">
            <a:avLst>
              <a:gd name="adj" fmla="val 29325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95" name="直接连接符 22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98" name="直接连接符 2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09A7-15DA-490B-A820-042143DD8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10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六边形 1"/>
          <p:cNvSpPr/>
          <p:nvPr/>
        </p:nvSpPr>
        <p:spPr>
          <a:xfrm rot="1924200">
            <a:off x="569520" y="2060640"/>
            <a:ext cx="2608200" cy="2212920"/>
          </a:xfrm>
          <a:prstGeom prst="hexagon">
            <a:avLst>
              <a:gd name="adj" fmla="val 3105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205360" y="24703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谢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034680" y="35434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013.6.16</a:t>
            </a: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修改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282920" y="3262320"/>
            <a:ext cx="4170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家教育体制改革试点项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602400" y="6429240"/>
            <a:ext cx="1714680" cy="360"/>
            <a:chOff x="6602400" y="6429240"/>
            <a:chExt cx="1714680" cy="360"/>
          </a:xfrm>
        </p:grpSpPr>
        <p:sp>
          <p:nvSpPr>
            <p:cNvPr id="676" name="直接连接符 7"/>
            <p:cNvSpPr/>
            <p:nvPr/>
          </p:nvSpPr>
          <p:spPr>
            <a:xfrm>
              <a:off x="6602400" y="6429240"/>
              <a:ext cx="1714680" cy="0"/>
            </a:xfrm>
            <a:prstGeom prst="line">
              <a:avLst/>
            </a:prstGeom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6602400" y="6429240"/>
              <a:ext cx="1714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4"/>
          <p:cNvSpPr/>
          <p:nvPr/>
        </p:nvSpPr>
        <p:spPr>
          <a:xfrm>
            <a:off x="6721560" y="6429240"/>
            <a:ext cx="16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81" name="直接连接符 1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84" name="直接连接符 16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614960" y="14130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度重视，成立领导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六边形 43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8776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00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4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家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6227640" y="30942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"/>
          <p:cNvPicPr/>
          <p:nvPr/>
        </p:nvPicPr>
        <p:blipFill>
          <a:blip r:embed="rId2"/>
          <a:stretch/>
        </p:blipFill>
        <p:spPr>
          <a:xfrm>
            <a:off x="4788000" y="3146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6" descr=""/>
          <p:cNvPicPr/>
          <p:nvPr/>
        </p:nvPicPr>
        <p:blipFill>
          <a:blip r:embed="rId3"/>
          <a:stretch/>
        </p:blipFill>
        <p:spPr>
          <a:xfrm>
            <a:off x="3375000" y="3119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46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3644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6" descr="221342190540609"/>
          <p:cNvPicPr/>
          <p:nvPr/>
        </p:nvPicPr>
        <p:blipFill>
          <a:blip r:embed="rId4"/>
          <a:stretch/>
        </p:blipFill>
        <p:spPr>
          <a:xfrm>
            <a:off x="75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23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26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864080" y="14130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会议精神，安排试点工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六边形 46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7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5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8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9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0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00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49440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分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" descr=""/>
          <p:cNvPicPr/>
          <p:nvPr/>
        </p:nvPicPr>
        <p:blipFill>
          <a:blip r:embed="rId1"/>
          <a:stretch/>
        </p:blipFill>
        <p:spPr>
          <a:xfrm>
            <a:off x="6262560" y="3333600"/>
            <a:ext cx="1384560" cy="743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" descr=""/>
          <p:cNvPicPr/>
          <p:nvPr/>
        </p:nvPicPr>
        <p:blipFill>
          <a:blip r:embed="rId2"/>
          <a:stretch/>
        </p:blipFill>
        <p:spPr>
          <a:xfrm>
            <a:off x="3591000" y="3174840"/>
            <a:ext cx="550800" cy="901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599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思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6158"/>
          <p:cNvGrpSpPr/>
          <p:nvPr/>
        </p:nvGrpSpPr>
        <p:grpSpPr>
          <a:xfrm>
            <a:off x="4890960" y="3333600"/>
            <a:ext cx="976320" cy="628920"/>
            <a:chOff x="4890960" y="3333600"/>
            <a:chExt cx="976320" cy="628920"/>
          </a:xfrm>
        </p:grpSpPr>
        <p:pic>
          <p:nvPicPr>
            <p:cNvPr id="142" name="图片 7" descr=""/>
            <p:cNvPicPr/>
            <p:nvPr/>
          </p:nvPicPr>
          <p:blipFill>
            <a:blip r:embed="rId3"/>
            <a:stretch/>
          </p:blipFill>
          <p:spPr>
            <a:xfrm>
              <a:off x="4890960" y="3334680"/>
              <a:ext cx="976320" cy="6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11"/>
            <p:cNvSpPr/>
            <p:nvPr/>
          </p:nvSpPr>
          <p:spPr>
            <a:xfrm>
              <a:off x="5025240" y="3333600"/>
              <a:ext cx="820440" cy="6177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51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2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3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4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5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9646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ject 6" descr="221342190540609"/>
          <p:cNvPicPr/>
          <p:nvPr/>
        </p:nvPicPr>
        <p:blipFill>
          <a:blip r:embed="rId4"/>
          <a:stretch/>
        </p:blipFill>
        <p:spPr>
          <a:xfrm>
            <a:off x="2355840" y="6469200"/>
            <a:ext cx="503280" cy="344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53" name="直接连接符 31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56" name="直接连接符 34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文本框 8194"/>
          <p:cNvSpPr/>
          <p:nvPr/>
        </p:nvSpPr>
        <p:spPr>
          <a:xfrm>
            <a:off x="1289160" y="2381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410920" y="141300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项目试点县、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1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2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3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554280" y="4540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政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117040" y="4540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康乐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384600" y="45086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" descr=""/>
          <p:cNvPicPr/>
          <p:nvPr/>
        </p:nvPicPr>
        <p:blipFill>
          <a:blip r:embed="rId1"/>
          <a:stretch/>
        </p:blipFill>
        <p:spPr>
          <a:xfrm>
            <a:off x="6534000" y="3139920"/>
            <a:ext cx="917640" cy="841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" descr=""/>
          <p:cNvPicPr/>
          <p:nvPr/>
        </p:nvPicPr>
        <p:blipFill>
          <a:blip r:embed="rId2"/>
          <a:stretch/>
        </p:blipFill>
        <p:spPr>
          <a:xfrm>
            <a:off x="4932360" y="3238560"/>
            <a:ext cx="955800" cy="716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 flipH="1">
            <a:off x="3431880" y="3222720"/>
            <a:ext cx="995400" cy="747720"/>
          </a:xfrm>
          <a:prstGeom prst="rect">
            <a:avLst/>
          </a:prstGeom>
          <a:ln w="0">
            <a:noFill/>
          </a:ln>
        </p:spPr>
      </p:pic>
      <p:sp>
        <p:nvSpPr>
          <p:cNvPr id="171" name="六边形 5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6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7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8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9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0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1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47696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6" descr="221342190540609"/>
          <p:cNvPicPr/>
          <p:nvPr/>
        </p:nvPicPr>
        <p:blipFill>
          <a:blip r:embed="rId4"/>
          <a:stretch/>
        </p:blipFill>
        <p:spPr>
          <a:xfrm>
            <a:off x="386712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82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85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725840" y="141300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宣传引导  营造体改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1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2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3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499560" y="4468680"/>
            <a:ext cx="9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舆论导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011560" y="446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电视广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22120" y="446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平面媒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5" descr=""/>
          <p:cNvPicPr/>
          <p:nvPr/>
        </p:nvPicPr>
        <p:blipFill>
          <a:blip r:embed="rId1"/>
          <a:stretch/>
        </p:blipFill>
        <p:spPr>
          <a:xfrm>
            <a:off x="5003640" y="3220920"/>
            <a:ext cx="790560" cy="789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 rot="6300000">
            <a:off x="6484680" y="3205080"/>
            <a:ext cx="901800" cy="8287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" descr=""/>
          <p:cNvPicPr/>
          <p:nvPr/>
        </p:nvPicPr>
        <p:blipFill>
          <a:blip r:embed="rId3"/>
          <a:stretch/>
        </p:blipFill>
        <p:spPr>
          <a:xfrm>
            <a:off x="3516480" y="3267000"/>
            <a:ext cx="887400" cy="666720"/>
          </a:xfrm>
          <a:prstGeom prst="rect">
            <a:avLst/>
          </a:prstGeom>
          <a:ln w="0">
            <a:noFill/>
          </a:ln>
        </p:spPr>
      </p:pic>
      <p:sp>
        <p:nvSpPr>
          <p:cNvPr id="199" name="六边形 5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7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8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9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0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1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04512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ject 6" descr="221342190540609"/>
          <p:cNvPicPr/>
          <p:nvPr/>
        </p:nvPicPr>
        <p:blipFill>
          <a:blip r:embed="rId4"/>
          <a:stretch/>
        </p:blipFill>
        <p:spPr>
          <a:xfrm>
            <a:off x="543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10" name="直接连接符 30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13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243520" y="141300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，我们一起走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9"/>
          <p:cNvSpPr/>
          <p:nvPr/>
        </p:nvSpPr>
        <p:spPr>
          <a:xfrm>
            <a:off x="6156360" y="2658960"/>
            <a:ext cx="1495440" cy="23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 项目启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六边形 80"/>
          <p:cNvSpPr/>
          <p:nvPr/>
        </p:nvSpPr>
        <p:spPr>
          <a:xfrm rot="1825800">
            <a:off x="4656240" y="2355840"/>
            <a:ext cx="1522440" cy="1314360"/>
          </a:xfrm>
          <a:prstGeom prst="hexagon">
            <a:avLst>
              <a:gd name="adj" fmla="val 2936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1"/>
          <p:cNvSpPr/>
          <p:nvPr/>
        </p:nvSpPr>
        <p:spPr>
          <a:xfrm>
            <a:off x="6156360" y="2894040"/>
            <a:ext cx="2511360" cy="23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/26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帮助学校总结梳理中英项目经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6156360" y="3124080"/>
            <a:ext cx="2249280" cy="23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/11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开会动员推进项目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4779360" y="2635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六边形 83"/>
          <p:cNvSpPr/>
          <p:nvPr/>
        </p:nvSpPr>
        <p:spPr>
          <a:xfrm rot="1825800">
            <a:off x="3142800" y="3260520"/>
            <a:ext cx="1555920" cy="1341360"/>
          </a:xfrm>
          <a:prstGeom prst="hexagon">
            <a:avLst>
              <a:gd name="adj" fmla="val 29401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4"/>
          <p:cNvSpPr/>
          <p:nvPr/>
        </p:nvSpPr>
        <p:spPr>
          <a:xfrm>
            <a:off x="3231360" y="3575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5"/>
          <p:cNvSpPr/>
          <p:nvPr/>
        </p:nvSpPr>
        <p:spPr>
          <a:xfrm>
            <a:off x="1809720" y="3438360"/>
            <a:ext cx="1355760" cy="23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1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业培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6"/>
          <p:cNvSpPr/>
          <p:nvPr/>
        </p:nvSpPr>
        <p:spPr>
          <a:xfrm>
            <a:off x="1957320" y="3670200"/>
            <a:ext cx="1208160" cy="23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7"/>
          <p:cNvSpPr/>
          <p:nvPr/>
        </p:nvSpPr>
        <p:spPr>
          <a:xfrm>
            <a:off x="1278000" y="3917880"/>
            <a:ext cx="1887480" cy="2311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8"/>
          <p:cNvSpPr/>
          <p:nvPr/>
        </p:nvSpPr>
        <p:spPr>
          <a:xfrm>
            <a:off x="793800" y="4149720"/>
            <a:ext cx="2371680" cy="23112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针对性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效性督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9"/>
          <p:cNvSpPr/>
          <p:nvPr/>
        </p:nvSpPr>
        <p:spPr>
          <a:xfrm>
            <a:off x="6156360" y="4438800"/>
            <a:ext cx="2249280" cy="23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解读文本把握工作重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0"/>
          <p:cNvSpPr/>
          <p:nvPr/>
        </p:nvSpPr>
        <p:spPr>
          <a:xfrm>
            <a:off x="6156360" y="4676760"/>
            <a:ext cx="1584360" cy="23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深入调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1"/>
          <p:cNvSpPr/>
          <p:nvPr/>
        </p:nvSpPr>
        <p:spPr>
          <a:xfrm>
            <a:off x="6156360" y="4906800"/>
            <a:ext cx="2392200" cy="23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题培训推进项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六边形 92"/>
          <p:cNvSpPr/>
          <p:nvPr/>
        </p:nvSpPr>
        <p:spPr>
          <a:xfrm rot="1825800">
            <a:off x="4654440" y="4090680"/>
            <a:ext cx="1557360" cy="134136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3"/>
          <p:cNvSpPr/>
          <p:nvPr/>
        </p:nvSpPr>
        <p:spPr>
          <a:xfrm>
            <a:off x="4779360" y="443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六边形 94"/>
          <p:cNvSpPr/>
          <p:nvPr/>
        </p:nvSpPr>
        <p:spPr>
          <a:xfrm rot="1825800">
            <a:off x="3223800" y="3330360"/>
            <a:ext cx="1392120" cy="1199880"/>
          </a:xfrm>
          <a:prstGeom prst="hexagon">
            <a:avLst>
              <a:gd name="adj" fmla="val 29419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六边形 95"/>
          <p:cNvSpPr/>
          <p:nvPr/>
        </p:nvSpPr>
        <p:spPr>
          <a:xfrm rot="1825800">
            <a:off x="4719600" y="4168800"/>
            <a:ext cx="1392120" cy="1200240"/>
          </a:xfrm>
          <a:prstGeom prst="hexagon">
            <a:avLst>
              <a:gd name="adj" fmla="val 29410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六边形 96"/>
          <p:cNvSpPr/>
          <p:nvPr/>
        </p:nvSpPr>
        <p:spPr>
          <a:xfrm rot="1825800">
            <a:off x="4703760" y="2409840"/>
            <a:ext cx="1392120" cy="1200240"/>
          </a:xfrm>
          <a:prstGeom prst="hexagon">
            <a:avLst>
              <a:gd name="adj" fmla="val 29410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六边形 42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3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4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5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6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7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8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446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6" descr="221342190540609"/>
          <p:cNvPicPr/>
          <p:nvPr/>
        </p:nvPicPr>
        <p:blipFill>
          <a:blip r:embed="rId1"/>
          <a:stretch/>
        </p:blipFill>
        <p:spPr>
          <a:xfrm>
            <a:off x="70358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47" name="直接连接符 3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50" name="直接连接符 36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1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44769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" descr=""/>
          <p:cNvPicPr/>
          <p:nvPr/>
        </p:nvPicPr>
        <p:blipFill>
          <a:blip r:embed="rId2"/>
          <a:stretch/>
        </p:blipFill>
        <p:spPr>
          <a:xfrm>
            <a:off x="3040200" y="3289320"/>
            <a:ext cx="3547800" cy="2268360"/>
          </a:xfrm>
          <a:prstGeom prst="rect">
            <a:avLst/>
          </a:prstGeom>
          <a:ln w="0">
            <a:noFill/>
          </a:ln>
        </p:spPr>
      </p:pic>
      <p:sp>
        <p:nvSpPr>
          <p:cNvPr id="255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六边形 23"/>
          <p:cNvSpPr/>
          <p:nvPr/>
        </p:nvSpPr>
        <p:spPr>
          <a:xfrm rot="1825800">
            <a:off x="1053720" y="2614320"/>
            <a:ext cx="2476440" cy="2133360"/>
          </a:xfrm>
          <a:prstGeom prst="hexagon">
            <a:avLst>
              <a:gd name="adj" fmla="val 29407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9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70480" y="33814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进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6"/>
          <p:cNvSpPr/>
          <p:nvPr/>
        </p:nvSpPr>
        <p:spPr>
          <a:xfrm>
            <a:off x="2011320" y="2708280"/>
            <a:ext cx="612720" cy="61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2063520" y="26607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六边形 31"/>
          <p:cNvSpPr/>
          <p:nvPr/>
        </p:nvSpPr>
        <p:spPr>
          <a:xfrm rot="1825800">
            <a:off x="5754240" y="2482920"/>
            <a:ext cx="1171800" cy="100944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92d05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六边形 33"/>
          <p:cNvSpPr/>
          <p:nvPr/>
        </p:nvSpPr>
        <p:spPr>
          <a:xfrm rot="1825800">
            <a:off x="7122600" y="2505240"/>
            <a:ext cx="1171800" cy="100944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00b0f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六边形 34"/>
          <p:cNvSpPr/>
          <p:nvPr/>
        </p:nvSpPr>
        <p:spPr>
          <a:xfrm rot="1825800">
            <a:off x="6404040" y="3633480"/>
            <a:ext cx="1170000" cy="1009440"/>
          </a:xfrm>
          <a:prstGeom prst="hexagon">
            <a:avLst>
              <a:gd name="adj" fmla="val 29384"/>
              <a:gd name="vf" fmla="val 115470"/>
            </a:avLst>
          </a:prstGeom>
          <a:solidFill>
            <a:srgbClr val="ff0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6017040" y="2660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1"/>
          <p:cNvSpPr/>
          <p:nvPr/>
        </p:nvSpPr>
        <p:spPr>
          <a:xfrm>
            <a:off x="7417080" y="2700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664680" y="38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ject 6" descr="221342190540609"/>
          <p:cNvPicPr/>
          <p:nvPr/>
        </p:nvPicPr>
        <p:blipFill>
          <a:blip r:embed="rId3"/>
          <a:stretch/>
        </p:blipFill>
        <p:spPr>
          <a:xfrm>
            <a:off x="179280" y="6334200"/>
            <a:ext cx="576360" cy="39348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5" descr=""/>
          <p:cNvPicPr/>
          <p:nvPr/>
        </p:nvPicPr>
        <p:blipFill>
          <a:blip r:embed="rId4"/>
          <a:stretch/>
        </p:blipFill>
        <p:spPr>
          <a:xfrm>
            <a:off x="485640" y="1380960"/>
            <a:ext cx="608040" cy="609840"/>
          </a:xfrm>
          <a:prstGeom prst="rect">
            <a:avLst/>
          </a:prstGeom>
          <a:ln w="0">
            <a:noFill/>
          </a:ln>
        </p:spPr>
      </p:pic>
      <p:sp>
        <p:nvSpPr>
          <p:cNvPr id="268" name="六边形 50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六边形 51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六边形 52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73" name="直接连接符 36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76" name="直接连接符 37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 rot="730800">
            <a:off x="1483200" y="3665160"/>
            <a:ext cx="107496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0" bIns="20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临夏州实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借鉴中英项目经验，改革教学内容、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学方法和评价制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教育体制改革试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项目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878000" y="51674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项目以来取得的进步与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691160" y="427356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托项目开展的主要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342680" y="33577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与理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7171200" y="24210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oga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1282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296" name="半闭框 59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298" name="直接连接符 8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02" name="直接连接符 26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05" name="直接连接符 27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3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5Z</dcterms:modified>
  <cp:revision>1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