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8F0-3728-42F4-BEEF-85FCEF1B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556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3796200"/>
            <a:ext cx="556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C1FE-8FD9-4DAE-8AC0-5CC5C6C7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1224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5771-50CA-4B95-8F79-74589C65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642760" y="144792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23760" y="144792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379620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642760" y="379620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23760" y="379620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BC09-C601-4DBD-911C-12CD42ED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D498-61EB-4F07-9E71-0F3E4B6C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37A4-5087-45B9-BA7D-A21074AA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D5C4-AB89-4826-BEEF-81689C84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3F24-6825-452E-9CB6-55EF8DB3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9D83-D8BE-4DB2-8DA9-16E768D9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320" y="76320"/>
            <a:ext cx="7620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16CB-34DF-44DC-936E-14623A07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176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90AF-C830-43C7-982F-C4AC8433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3A0-8652-4DCC-8FB0-5C0F7406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1224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0F62-5D71-4BC7-B2C7-287481D9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796200"/>
            <a:ext cx="556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0B99-DE13-4DD5-8DB8-1AA6A12E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556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1760" y="3796200"/>
            <a:ext cx="556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DA57-F40F-4E87-8505-C620D104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176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61224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B598-BA3E-4449-B611-68C12F8C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42760" y="144792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23760" y="144792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1760" y="379620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642760" y="379620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523760" y="379620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022E-A50F-4E72-B396-57781B1C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263A4-3C03-4991-A027-A3046A24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11D76-51C9-4A3F-8177-6E5CADB5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EE20C-8299-43F2-96E7-DC4810FE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D8D0C-BCF0-4BAB-ACAD-7B869479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3F15C-41C2-432D-BA80-6B2273EE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73F2-D450-4EBF-A699-519DC3AA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66320" y="76320"/>
            <a:ext cx="7620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B6122-0B82-4CEC-8AE9-35DF9FC0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176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5E909-497A-4A53-9810-D7D3B042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61224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3B251-374B-4CEF-BE16-0D7C2B83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1760" y="3796200"/>
            <a:ext cx="556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76768-8E19-4B10-B262-30C018D8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556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1760" y="3796200"/>
            <a:ext cx="556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00F97-85C3-4CAE-B090-A49E3DEB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176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61224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7F4B9-ED89-45EA-8A37-818558AC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642760" y="144792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23760" y="144792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1760" y="379620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642760" y="379620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4523760" y="379620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F3480-E40E-4ED7-964A-1D08CCBD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3D9-1DC6-45A8-B7E2-6F1711D2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AB3D-90A5-45FE-B019-FDC74147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6320"/>
            <a:ext cx="7620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19EA-0966-4827-8B7C-3D46386F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272-B62C-420F-906C-B045E031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1224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4C4-DB81-4BEF-90C8-033C8926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3796200"/>
            <a:ext cx="556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E5A-B2FD-4B5E-818E-D846688A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4479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44DF-BFC8-4FDF-B894-1618601023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1030" descr="dome_snowman_md_clr"/>
          <p:cNvPicPr/>
          <p:nvPr/>
        </p:nvPicPr>
        <p:blipFill>
          <a:blip r:embed="rId3"/>
          <a:stretch/>
        </p:blipFill>
        <p:spPr>
          <a:xfrm>
            <a:off x="7924680" y="2362320"/>
            <a:ext cx="990720" cy="699840"/>
          </a:xfrm>
          <a:prstGeom prst="rect">
            <a:avLst/>
          </a:prstGeom>
          <a:ln w="0">
            <a:noFill/>
          </a:ln>
        </p:spPr>
      </p:pic>
      <p:pic>
        <p:nvPicPr>
          <p:cNvPr id="6" name="图片 1031" descr="fireplace_stockings_lg_clr"/>
          <p:cNvPicPr/>
          <p:nvPr/>
        </p:nvPicPr>
        <p:blipFill>
          <a:blip r:embed="rId4"/>
          <a:stretch/>
        </p:blipFill>
        <p:spPr>
          <a:xfrm>
            <a:off x="7829640" y="4038480"/>
            <a:ext cx="780840" cy="781200"/>
          </a:xfrm>
          <a:prstGeom prst="rect">
            <a:avLst/>
          </a:prstGeom>
          <a:ln w="0">
            <a:noFill/>
          </a:ln>
        </p:spPr>
      </p:pic>
      <p:pic>
        <p:nvPicPr>
          <p:cNvPr id="7" name="图片 1032" descr="happy_holidays_md_clr"/>
          <p:cNvPicPr/>
          <p:nvPr/>
        </p:nvPicPr>
        <p:blipFill>
          <a:blip r:embed="rId5"/>
          <a:stretch/>
        </p:blipFill>
        <p:spPr>
          <a:xfrm>
            <a:off x="7162920" y="5722920"/>
            <a:ext cx="91440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A390-D017-4F94-84C3-10F7A2E2858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5757-A77F-4944-B61D-FBD2A25E29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1760" y="14479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7A2B-B82E-451A-9A3C-5AF03C40068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19720" y="2590560"/>
            <a:ext cx="396216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宋体"/>
              </a:rPr>
              <a:t>cyber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19720" y="33523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entury Gothic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"/>
          <p:cNvSpPr/>
          <p:nvPr/>
        </p:nvSpPr>
        <p:spPr>
          <a:xfrm>
            <a:off x="2426760" y="228600"/>
            <a:ext cx="513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线条背景报告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1760" y="14479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宋体"/>
              </a:rPr>
              <a:t>YOUR SUBTOPICS GO HE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88E6-0D0E-43E3-A6F2-AA9F9582F42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61760" y="14479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6:31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46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