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DC4-D827-439B-8037-5D1E1678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A2C-941F-4459-B0A9-C29E89DA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3B2-558C-492E-8769-777A2163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5E4-867B-4324-A5C7-1EF90F62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184-F0C7-44FB-B55E-F754B74F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BA50-A0C3-4D26-99AD-47C62B7A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323C-EBFA-4C41-8D61-8201B710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D582-F72F-43E9-8209-054F6316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72C1-8F46-4F94-9CF0-6C745E3D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E1EC-035B-45FE-B3C7-23176D4A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D0D9-210D-4578-ADDC-A84609D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5DF-D44C-4DA7-AB11-4911F3C5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E490-D090-403D-840B-BF4446CE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DD9B-D095-4332-9D4E-0E72A64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28D9-9EDF-4655-9D55-FC4505FD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3438-083C-42A0-AA50-F15E787D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F74B-83E9-4A5A-BDD5-FEBE12BD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3139-BCA9-4EE0-8581-53E6A425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8DB8-6F21-444B-B6FE-6917918D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F315-C965-4CAE-953D-3DB1D41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0632-C8E4-4363-AF13-0B664AB8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AD66-17E6-49AD-9141-12DA16E5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56D-9C55-4EED-B120-64508150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1780-8538-4C1C-A32A-24A6E6D6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9DE4-4CDC-445B-92E5-D67C5E87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836A-CEFF-4C8B-B75B-30285F7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16B8-19B9-4085-BDD6-0CC40CE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4D5E-D92A-40E9-89A7-51458FB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B430-D9EC-4933-A1D9-E6A13EE7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AF70-8DDB-4AC9-B409-F750B337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676C-AB5F-40F3-89BD-5BDCC4A1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10CD-0805-44BE-BA19-67847B44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48A5-AB4D-4CA3-9AB6-6D5723C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3DF-397B-4B3E-9A36-74682DC3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01F8-53F2-44FE-AC60-169F90C2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F9AD6-008C-40F9-B2A7-68DFD564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BAD9-AABC-4A45-B35A-1E953640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7866-A629-4A2C-B5FF-F531614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C828F-AC71-4D73-80F2-14D90E94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5408-9800-4107-8FB5-6F94331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DCF2-BABE-4A40-AB28-5BD0F770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86725-4E6A-48C5-A1AB-FE43B847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0767-809C-49B2-B37A-61FA0D50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44B51-A1FD-4664-8EA6-E7F9FF7E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3A6-A84C-4015-98A0-ABC465F9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45054-A5D6-4675-8E52-B645CC63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85A5-55AD-441E-B94F-33D1703D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F871C-EDC4-435B-8FDE-BD3FE0F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67225-C8F7-4E55-9447-9330C993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3F1BD-EEC8-4D3F-A373-35BFCF58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DE67-0B2F-4A47-A881-F2362A2F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39F2-41B2-45AE-9E08-B8C7A99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1CAF-FD8B-4BAA-9783-772F4F5C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8E8AC-23A3-482D-BB84-79AB96F0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1884-5E58-41EA-8762-B238EF58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27D-1DBD-4ED5-9218-06C9BD6B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EBD94-A375-49F0-80BE-519481B9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1D4-1C16-45D5-A675-E2B847A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280-451F-4DB7-B3C9-4052BD34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352-E2BD-47A4-9580-49FE145E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C945-CB08-4FEC-9832-DC88AFA5F9F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0A9B-72D7-4C2C-9CFC-D20B7B52C37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0786-67AA-46A5-9BBE-1F38521029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390F-0FB0-4320-82A0-6A2E1B6456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guoliang_liu\桌面\中国移动通信logo.png"/>
          <p:cNvPicPr/>
          <p:nvPr/>
        </p:nvPicPr>
        <p:blipFill>
          <a:blip r:embed="rId3"/>
          <a:stretch/>
        </p:blipFill>
        <p:spPr>
          <a:xfrm>
            <a:off x="271440" y="222120"/>
            <a:ext cx="1919160" cy="67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guoliang_liu\桌面\移动改变生活副本.png"/>
          <p:cNvPicPr/>
          <p:nvPr/>
        </p:nvPicPr>
        <p:blipFill>
          <a:blip r:embed="rId4"/>
          <a:srcRect l="0" t="50057" r="0" b="0"/>
          <a:stretch/>
        </p:blipFill>
        <p:spPr>
          <a:xfrm>
            <a:off x="7236000" y="446040"/>
            <a:ext cx="1577880" cy="316080"/>
          </a:xfrm>
          <a:prstGeom prst="rect">
            <a:avLst/>
          </a:prstGeom>
          <a:ln w="0">
            <a:noFill/>
          </a:ln>
        </p:spPr>
      </p:pic>
      <p:sp>
        <p:nvSpPr>
          <p:cNvPr id="85" name="标题 1"/>
          <p:cNvSpPr/>
          <p:nvPr/>
        </p:nvSpPr>
        <p:spPr>
          <a:xfrm>
            <a:off x="826920" y="443700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3A93-ED8E-47B9-9EA8-909D82A249A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B967-ADD1-4004-BD78-42DD60983F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133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guoliang_liu\桌面\中国移动通信logo.png"/>
          <p:cNvPicPr/>
          <p:nvPr/>
        </p:nvPicPr>
        <p:blipFill>
          <a:blip r:embed="rId3"/>
          <a:stretch/>
        </p:blipFill>
        <p:spPr>
          <a:xfrm>
            <a:off x="8007480" y="90360"/>
            <a:ext cx="1101600" cy="385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313-6003-4718-B75D-960298C7AF0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EAC-6797-4BBD-9C77-290AD86BE7D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1" name="副标题 2"/>
            <p:cNvSpPr/>
            <p:nvPr/>
          </p:nvSpPr>
          <p:spPr>
            <a:xfrm>
              <a:off x="3803760" y="2924280"/>
              <a:ext cx="15364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谢 谢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1457280"/>
              <a:ext cx="9144000" cy="54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C:\Documents and Settings\guoliang_liu\桌面\中国移动通信logo.png"/>
            <p:cNvPicPr/>
            <p:nvPr/>
          </p:nvPicPr>
          <p:blipFill>
            <a:blip r:embed="rId3"/>
            <a:srcRect l="0" t="50037" r="0" b="0"/>
            <a:stretch/>
          </p:blipFill>
          <p:spPr>
            <a:xfrm>
              <a:off x="7428960" y="6243480"/>
              <a:ext cx="1422720" cy="4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" descr="C:\Documents and Settings\guoliang_liu\桌面\移动改变生活副本.png"/>
            <p:cNvPicPr/>
            <p:nvPr/>
          </p:nvPicPr>
          <p:blipFill>
            <a:blip r:embed="rId4"/>
            <a:srcRect l="0" t="0" r="0" b="50057"/>
            <a:stretch/>
          </p:blipFill>
          <p:spPr>
            <a:xfrm>
              <a:off x="329400" y="6309360"/>
              <a:ext cx="1578240" cy="3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11"/>
            <p:cNvSpPr/>
            <p:nvPr/>
          </p:nvSpPr>
          <p:spPr>
            <a:xfrm>
              <a:off x="3058920" y="2492280"/>
              <a:ext cx="295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谢 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09A3-2F3B-436F-A47E-675F8B6BA28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5F2B-CB86-47E4-B428-DFD1160C56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华文中宋"/>
              </a:rPr>
              <a:t>移动背景卡通</a:t>
            </a:r>
            <a:r>
              <a:rPr b="1" lang="en-US" sz="4000" spc="-1" strike="noStrike">
                <a:solidFill>
                  <a:srgbClr val="ffffff"/>
                </a:solidFill>
                <a:latin typeface="华文中宋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华文中宋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98360"/>
            <a:ext cx="396108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alibri"/>
                <a:ea typeface="华文中宋"/>
              </a:rPr>
              <a:t>本页标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17B9-991F-49A8-BB40-D83FB3BC11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5:20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5:58Z</dcterms:modified>
  <cp:revision>44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