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07D-36A1-4954-914D-077A45B2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C53-4489-4262-85C1-D6DD7624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41C-D1F4-462F-A89B-E926446B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BCF-BFC8-4B14-8BC2-1C996B98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30A-2C6C-4972-BB0E-A9BA3A02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B6D-81B2-40E5-9C90-F194003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F52-CCA7-4CCD-9824-7E8DA618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EC9-4791-4C2F-AF91-C8A180B0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D53-417D-4C3D-838B-818C6E95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99E-3314-4E5E-B85B-F820A5CD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CB3-DF2D-4E44-B3A1-97445CFE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A8B-991E-40F5-A198-8E15AB4C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2D4A-FF12-4D01-947F-1DBF3D73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FC1A-5FB9-41AB-BBA9-21706014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B60D-921B-4E34-8DB7-C8C30111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6293-74A1-4948-9F70-85D67132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BB5E-4172-4A62-BAC4-FEEC628D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4D20-2E95-412B-B8C3-1987683E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FB37-A86A-42F7-BDC9-2AC2B8D5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2DE8-2E8F-425F-B891-46506246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42FA-E3DF-4D07-BF98-994A4BD6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3FB3-7C94-462F-A095-6D9009C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46DD-2556-447C-9DC2-B94D1139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2E41-A3F7-498E-9BB0-0D6E12FA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4148-655C-4B7E-9FDF-EC3EEB0E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D42B-1A3C-4BCF-8F54-EFA4C0ED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9BEC-FC34-4E5E-A1BE-5D7E44EA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E6DD-DE89-4469-8B12-A013F2DF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ABBA-EBE0-44DA-96C3-A23C7714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1715-D1FA-4A57-8359-6581922E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325F-E427-4527-B8A7-7DD6A47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D3A3-20F4-4E11-9358-FC0EE50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C65B-1BF7-40BB-A074-9F3CE37F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B3F18-0BCD-458E-BC4F-9C060836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B589-0400-4C2B-AE4D-5753C302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3A45-F9B0-421C-8EDB-1453AC5E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模板内页灰色112`12`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复件 模板内页灰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36DA-210D-4241-8BDB-A2E8F7C70399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24000" y="0"/>
            <a:ext cx="8820000" cy="10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24000" y="1052640"/>
            <a:ext cx="8820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title"/>
          </p:nvPr>
        </p:nvSpPr>
        <p:spPr>
          <a:xfrm>
            <a:off x="323640" y="-36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8317080" y="685800"/>
            <a:ext cx="755640" cy="511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5"/>
          <p:cNvSpPr/>
          <p:nvPr/>
        </p:nvSpPr>
        <p:spPr>
          <a:xfrm>
            <a:off x="313200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</a:t>
            </a:r>
            <a:fld id="{B26AE982-DE70-4CD7-84C0-584DB4983E6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&lt;number&gt;</a:t>
            </a:fld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8339-417B-47DF-A349-157982E62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复件 模板内页灰色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复件 模板内页灰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2553-3691-490B-91E4-D6A036D20276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24000" y="0"/>
            <a:ext cx="8820000" cy="10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24000" y="1052640"/>
            <a:ext cx="8820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title"/>
          </p:nvPr>
        </p:nvSpPr>
        <p:spPr>
          <a:xfrm>
            <a:off x="323640" y="-36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8317080" y="685800"/>
            <a:ext cx="755640" cy="511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313200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</a:t>
            </a:r>
            <a:fld id="{524C39DC-DAC7-4A58-9EF2-E150028B6CA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&lt;number&gt;</a:t>
            </a:fld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AF41-A106-41CC-81AD-FC8496752CC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5"/>
          <p:cNvSpPr/>
          <p:nvPr/>
        </p:nvSpPr>
        <p:spPr>
          <a:xfrm>
            <a:off x="2077200" y="2276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移动公司工作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5:58:09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5:57Z</dcterms:modified>
  <cp:revision>886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