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94D4-524C-425B-977A-9F0596DB1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F0B16-B579-4A4C-814C-D6AF3D6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9284-1DCB-4106-BE09-BD4C209F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400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36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400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36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AA75-A48D-4BA1-9F73-335585CAAD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B7497-CBE8-4362-AA0D-B5BD3034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B488F-A92F-44C3-B613-AB09AE64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0A754-C870-4E3A-B3E8-983DFC4A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444CD-4460-4F2F-992B-F179E85E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2FA6C-D63A-48F4-A97B-3C67A1BB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C4E05-2D6A-4E55-BE2B-C11AC0A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076FD-AC82-4628-A106-9D7DCA3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0E79-F275-4B77-B608-C5CAF429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B9985-6910-4100-AA25-B8A49827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DC47F-D14D-4364-995B-93D0340D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A6FB7-4603-41C5-964E-11FD1AA0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77C04-748A-4AFD-88FC-94CFEBF5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400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236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400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236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2F454-98C3-4875-8603-44E80AEB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4D8D5-877A-477E-BA0F-05AD7B5A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7328A-B88E-4FD9-9210-CE8C16A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8D5B4-2931-4A72-BC95-CBEEC633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34B305-7303-4AE0-B6A5-925EC792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11D2E-360C-4C93-9888-A38F9BE4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84BC0-0C4E-4980-808E-E0B5225C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200DF-AFEA-4C89-9F85-DF107382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31B22-9F20-4A83-81DE-6B8957A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4B32C-8173-4B0E-BE7B-A5D9B0F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BD434-EC1B-4D46-9B3F-C484603D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B1995-8B4F-4AD3-912F-590B3D21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B9AAC-2766-4957-8252-D30A5CEF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400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2360" y="16286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400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2360" y="4056840"/>
            <a:ext cx="26744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B3787-FCDC-4C2C-BBA7-95209B03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33E1-E0B9-42D5-BCEE-D37E38A0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6A85-CD50-46C6-9613-E47B7430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655560"/>
            <a:ext cx="4952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5B5A-6C49-484C-86D5-AFBF10A7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6AFEF-80F3-4EB8-95B8-CD9BF715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0568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C2D9-1452-4380-BDDE-62A7AE76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1628640"/>
            <a:ext cx="40532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4056840"/>
            <a:ext cx="83059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B653-393B-4B8C-BB41-22B8BFE6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400440"/>
            <a:ext cx="2133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2971440" y="64004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36AB-0294-4A5C-A3F8-AE9E02339F5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228A-F60B-47CB-B3CB-8283F7FF2A2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ADB-7430-4C71-B856-DFAB7548DF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3085"/>
          <p:cNvSpPr/>
          <p:nvPr/>
        </p:nvSpPr>
        <p:spPr>
          <a:xfrm>
            <a:off x="368280" y="3952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23516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628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C1C2-73BE-45FB-AB81-1BF8C9002DC1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738216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医疗科技企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053"/>
          <p:cNvSpPr/>
          <p:nvPr/>
        </p:nvSpPr>
        <p:spPr>
          <a:xfrm>
            <a:off x="3261240" y="26859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399b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809880" y="5006160"/>
            <a:ext cx="4724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r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werPoint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内容占位符 69634" descr=""/>
          <p:cNvPicPr/>
          <p:nvPr/>
        </p:nvPicPr>
        <p:blipFill>
          <a:blip r:embed="rId1"/>
          <a:stretch/>
        </p:blipFill>
        <p:spPr>
          <a:xfrm>
            <a:off x="1614600" y="2085840"/>
            <a:ext cx="5638680" cy="3767400"/>
          </a:xfrm>
          <a:prstGeom prst="rect">
            <a:avLst/>
          </a:prstGeom>
          <a:ln w="0">
            <a:noFill/>
          </a:ln>
        </p:spPr>
      </p:pic>
      <p:sp>
        <p:nvSpPr>
          <p:cNvPr id="319" name="文本框 69635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69636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47133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47134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任意多边形 47135"/>
          <p:cNvSpPr/>
          <p:nvPr/>
        </p:nvSpPr>
        <p:spPr>
          <a:xfrm>
            <a:off x="7834320" y="2286000"/>
            <a:ext cx="57636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194b54"/>
              </a:gs>
              <a:gs pos="100000">
                <a:srgbClr val="36a1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47136"/>
          <p:cNvSpPr/>
          <p:nvPr/>
        </p:nvSpPr>
        <p:spPr>
          <a:xfrm>
            <a:off x="5073480" y="2286000"/>
            <a:ext cx="3343320" cy="54144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gradFill rotWithShape="0">
            <a:gsLst>
              <a:gs pos="0">
                <a:srgbClr val="8bc9d5"/>
              </a:gs>
              <a:gs pos="100000">
                <a:srgbClr val="36a1b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任意多边形 47137"/>
          <p:cNvSpPr/>
          <p:nvPr/>
        </p:nvSpPr>
        <p:spPr>
          <a:xfrm>
            <a:off x="7254720" y="3117960"/>
            <a:ext cx="576360" cy="8413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3e69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47138"/>
          <p:cNvSpPr/>
          <p:nvPr/>
        </p:nvSpPr>
        <p:spPr>
          <a:xfrm>
            <a:off x="4243320" y="3117960"/>
            <a:ext cx="3594240" cy="53964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gradFill rotWithShape="0">
            <a:gsLst>
              <a:gs pos="0">
                <a:srgbClr val="96baef"/>
              </a:gs>
              <a:gs pos="100000">
                <a:srgbClr val="4987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47139"/>
          <p:cNvSpPr/>
          <p:nvPr/>
        </p:nvSpPr>
        <p:spPr>
          <a:xfrm>
            <a:off x="6673680" y="3949560"/>
            <a:ext cx="573120" cy="84456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3b521f"/>
              </a:gs>
              <a:gs pos="100000">
                <a:srgbClr val="7fb24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任意多边形 47140"/>
          <p:cNvSpPr/>
          <p:nvPr/>
        </p:nvSpPr>
        <p:spPr>
          <a:xfrm>
            <a:off x="6095880" y="4772160"/>
            <a:ext cx="577800" cy="846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61190a"/>
              </a:gs>
              <a:gs pos="100000">
                <a:srgbClr val="d2351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47141"/>
          <p:cNvSpPr/>
          <p:nvPr/>
        </p:nvSpPr>
        <p:spPr>
          <a:xfrm>
            <a:off x="2592360" y="4776840"/>
            <a:ext cx="4081320" cy="53964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gradFill rotWithShape="0">
            <a:gsLst>
              <a:gs pos="0">
                <a:srgbClr val="e58b79"/>
              </a:gs>
              <a:gs pos="100000">
                <a:srgbClr val="d2351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47142"/>
          <p:cNvGrpSpPr/>
          <p:nvPr/>
        </p:nvGrpSpPr>
        <p:grpSpPr>
          <a:xfrm>
            <a:off x="872640" y="2276640"/>
            <a:ext cx="5034600" cy="3324240"/>
            <a:chOff x="872640" y="2276640"/>
            <a:chExt cx="5034600" cy="3324240"/>
          </a:xfrm>
        </p:grpSpPr>
        <p:grpSp>
          <p:nvGrpSpPr>
            <p:cNvPr id="332" name=""/>
            <p:cNvGrpSpPr/>
            <p:nvPr/>
          </p:nvGrpSpPr>
          <p:grpSpPr>
            <a:xfrm>
              <a:off x="873000" y="5599080"/>
              <a:ext cx="1657440" cy="1800"/>
              <a:chOff x="873000" y="5599080"/>
              <a:chExt cx="1657440" cy="1800"/>
            </a:xfrm>
          </p:grpSpPr>
          <p:sp>
            <p:nvSpPr>
              <p:cNvPr id="333" name="直接连接符 47143"/>
              <p:cNvSpPr/>
              <p:nvPr/>
            </p:nvSpPr>
            <p:spPr>
              <a:xfrm flipH="1">
                <a:off x="873000" y="5599080"/>
                <a:ext cx="1657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873000" y="559908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873000" y="4782960"/>
              <a:ext cx="2438640" cy="360"/>
              <a:chOff x="873000" y="4782960"/>
              <a:chExt cx="2438640" cy="360"/>
            </a:xfrm>
          </p:grpSpPr>
          <p:sp>
            <p:nvSpPr>
              <p:cNvPr id="336" name="直接连接符 47144"/>
              <p:cNvSpPr/>
              <p:nvPr/>
            </p:nvSpPr>
            <p:spPr>
              <a:xfrm flipH="1">
                <a:off x="873000" y="4782960"/>
                <a:ext cx="243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873000" y="4782960"/>
                <a:ext cx="2438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873000" y="3952800"/>
              <a:ext cx="3353040" cy="360"/>
              <a:chOff x="873000" y="3952800"/>
              <a:chExt cx="3353040" cy="360"/>
            </a:xfrm>
          </p:grpSpPr>
          <p:sp>
            <p:nvSpPr>
              <p:cNvPr id="339" name="直接连接符 47145"/>
              <p:cNvSpPr/>
              <p:nvPr/>
            </p:nvSpPr>
            <p:spPr>
              <a:xfrm flipH="1">
                <a:off x="873000" y="3952800"/>
                <a:ext cx="335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873000" y="3952800"/>
                <a:ext cx="335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872640" y="3124080"/>
              <a:ext cx="4165920" cy="360"/>
              <a:chOff x="872640" y="3124080"/>
              <a:chExt cx="4165920" cy="360"/>
            </a:xfrm>
          </p:grpSpPr>
          <p:sp>
            <p:nvSpPr>
              <p:cNvPr id="342" name="直接连接符 47146"/>
              <p:cNvSpPr/>
              <p:nvPr/>
            </p:nvSpPr>
            <p:spPr>
              <a:xfrm flipH="1">
                <a:off x="872640" y="312408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873000" y="312408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873000" y="2282400"/>
              <a:ext cx="5034240" cy="360"/>
              <a:chOff x="873000" y="2282400"/>
              <a:chExt cx="5034240" cy="360"/>
            </a:xfrm>
          </p:grpSpPr>
          <p:sp>
            <p:nvSpPr>
              <p:cNvPr id="345" name="直接连接符 47147"/>
              <p:cNvSpPr/>
              <p:nvPr/>
            </p:nvSpPr>
            <p:spPr>
              <a:xfrm flipH="1">
                <a:off x="873000" y="2282760"/>
                <a:ext cx="503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 rot="10800000">
                <a:off x="873000" y="2282040"/>
                <a:ext cx="5034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1025640" y="2276640"/>
              <a:ext cx="360" cy="871200"/>
              <a:chOff x="1025640" y="2276640"/>
              <a:chExt cx="360" cy="871200"/>
            </a:xfrm>
          </p:grpSpPr>
          <p:sp>
            <p:nvSpPr>
              <p:cNvPr id="348" name="直接连接符 47148"/>
              <p:cNvSpPr/>
              <p:nvPr/>
            </p:nvSpPr>
            <p:spPr>
              <a:xfrm>
                <a:off x="1025640" y="2276640"/>
                <a:ext cx="0" cy="87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1025640" y="2276640"/>
                <a:ext cx="360" cy="87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025640" y="3147840"/>
              <a:ext cx="360" cy="817560"/>
              <a:chOff x="1025640" y="3147840"/>
              <a:chExt cx="360" cy="817560"/>
            </a:xfrm>
          </p:grpSpPr>
          <p:sp>
            <p:nvSpPr>
              <p:cNvPr id="351" name="直接连接符 47149"/>
              <p:cNvSpPr/>
              <p:nvPr/>
            </p:nvSpPr>
            <p:spPr>
              <a:xfrm>
                <a:off x="1025640" y="314784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>
                <a:off x="1025640" y="314784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025640" y="3965400"/>
              <a:ext cx="360" cy="816120"/>
              <a:chOff x="1025640" y="3965400"/>
              <a:chExt cx="360" cy="816120"/>
            </a:xfrm>
          </p:grpSpPr>
          <p:sp>
            <p:nvSpPr>
              <p:cNvPr id="354" name="直接连接符 47150"/>
              <p:cNvSpPr/>
              <p:nvPr/>
            </p:nvSpPr>
            <p:spPr>
              <a:xfrm>
                <a:off x="1025640" y="396540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>
                <a:off x="1025640" y="396540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1025640" y="4782960"/>
              <a:ext cx="360" cy="816120"/>
              <a:chOff x="1025640" y="4782960"/>
              <a:chExt cx="360" cy="816120"/>
            </a:xfrm>
          </p:grpSpPr>
          <p:sp>
            <p:nvSpPr>
              <p:cNvPr id="357" name="直接连接符 47151"/>
              <p:cNvSpPr/>
              <p:nvPr/>
            </p:nvSpPr>
            <p:spPr>
              <a:xfrm>
                <a:off x="1025640" y="47829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>
                <a:off x="1025640" y="47829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文本框 4715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文本框 4715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文本框 4715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4715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47156"/>
            <p:cNvSpPr/>
            <p:nvPr/>
          </p:nvSpPr>
          <p:spPr>
            <a:xfrm>
              <a:off x="318456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矩形 47157"/>
          <p:cNvSpPr/>
          <p:nvPr/>
        </p:nvSpPr>
        <p:spPr>
          <a:xfrm>
            <a:off x="5079960" y="2827440"/>
            <a:ext cx="2766960" cy="304560"/>
          </a:xfrm>
          <a:prstGeom prst="rect">
            <a:avLst/>
          </a:prstGeom>
          <a:gradFill rotWithShape="0">
            <a:gsLst>
              <a:gs pos="0">
                <a:srgbClr val="36a1b6"/>
              </a:gs>
              <a:gs pos="50000">
                <a:srgbClr val="91ccd7"/>
              </a:gs>
              <a:gs pos="100000">
                <a:srgbClr val="36a1b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47158"/>
          <p:cNvSpPr/>
          <p:nvPr/>
        </p:nvSpPr>
        <p:spPr>
          <a:xfrm>
            <a:off x="4245120" y="3657600"/>
            <a:ext cx="3016080" cy="298440"/>
          </a:xfrm>
          <a:prstGeom prst="rect">
            <a:avLst/>
          </a:prstGeom>
          <a:gradFill rotWithShape="0">
            <a:gsLst>
              <a:gs pos="0">
                <a:srgbClr val="4987e3"/>
              </a:gs>
              <a:gs pos="50000">
                <a:srgbClr val="9cbef0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任意多边形 47159"/>
          <p:cNvSpPr/>
          <p:nvPr/>
        </p:nvSpPr>
        <p:spPr>
          <a:xfrm>
            <a:off x="3419640" y="3949560"/>
            <a:ext cx="3833640" cy="54468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gradFill rotWithShape="0">
            <a:gsLst>
              <a:gs pos="0">
                <a:srgbClr val="b5d392"/>
              </a:gs>
              <a:gs pos="100000">
                <a:srgbClr val="7fb24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47160"/>
          <p:cNvSpPr/>
          <p:nvPr/>
        </p:nvSpPr>
        <p:spPr>
          <a:xfrm>
            <a:off x="3422520" y="4492800"/>
            <a:ext cx="3264120" cy="298440"/>
          </a:xfrm>
          <a:prstGeom prst="rect">
            <a:avLst/>
          </a:prstGeom>
          <a:gradFill rotWithShape="0">
            <a:gsLst>
              <a:gs pos="0">
                <a:srgbClr val="7fb242"/>
              </a:gs>
              <a:gs pos="50000">
                <a:srgbClr val="b9d598"/>
              </a:gs>
              <a:gs pos="100000">
                <a:srgbClr val="7fb24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47161"/>
          <p:cNvSpPr/>
          <p:nvPr/>
        </p:nvSpPr>
        <p:spPr>
          <a:xfrm>
            <a:off x="2590920" y="5318280"/>
            <a:ext cx="3512880" cy="296640"/>
          </a:xfrm>
          <a:prstGeom prst="rect">
            <a:avLst/>
          </a:prstGeom>
          <a:gradFill rotWithShape="0">
            <a:gsLst>
              <a:gs pos="0">
                <a:srgbClr val="d23516"/>
              </a:gs>
              <a:gs pos="50000">
                <a:srgbClr val="e69180"/>
              </a:gs>
              <a:gs pos="100000">
                <a:srgbClr val="d2351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右箭头 51202"/>
          <p:cNvSpPr/>
          <p:nvPr/>
        </p:nvSpPr>
        <p:spPr>
          <a:xfrm rot="17973000">
            <a:off x="4774320" y="2530800"/>
            <a:ext cx="792360" cy="289080"/>
          </a:xfrm>
          <a:prstGeom prst="rightArrow">
            <a:avLst>
              <a:gd name="adj1" fmla="val 35167"/>
              <a:gd name="adj2" fmla="val 110971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右箭头 51203"/>
          <p:cNvSpPr/>
          <p:nvPr/>
        </p:nvSpPr>
        <p:spPr>
          <a:xfrm rot="3465600">
            <a:off x="4776480" y="4697280"/>
            <a:ext cx="790560" cy="288720"/>
          </a:xfrm>
          <a:prstGeom prst="rightArrow">
            <a:avLst>
              <a:gd name="adj1" fmla="val 35167"/>
              <a:gd name="adj2" fmla="val 110857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右箭头 51204"/>
          <p:cNvSpPr/>
          <p:nvPr/>
        </p:nvSpPr>
        <p:spPr>
          <a:xfrm rot="14368800">
            <a:off x="3555000" y="2607120"/>
            <a:ext cx="792000" cy="288720"/>
          </a:xfrm>
          <a:prstGeom prst="rightArrow">
            <a:avLst>
              <a:gd name="adj1" fmla="val 35167"/>
              <a:gd name="adj2" fmla="val 111059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右箭头 51205"/>
          <p:cNvSpPr/>
          <p:nvPr/>
        </p:nvSpPr>
        <p:spPr>
          <a:xfrm rot="7534800">
            <a:off x="3516840" y="4661640"/>
            <a:ext cx="792360" cy="288720"/>
          </a:xfrm>
          <a:prstGeom prst="rightArrow">
            <a:avLst>
              <a:gd name="adj1" fmla="val 35167"/>
              <a:gd name="adj2" fmla="val 111109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右箭头 51206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71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右箭头 51207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05"/>
            </a:avLst>
          </a:prstGeom>
          <a:gradFill rotWithShape="0">
            <a:gsLst>
              <a:gs pos="0">
                <a:srgbClr val="ababab">
                  <a:alpha val="0"/>
                </a:srgbClr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51208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3739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51215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78" name="椭圆 51216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51217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椭圆 51227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6a1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51228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6a1b6">
                  <a:alpha val="32156"/>
                </a:srgbClr>
              </a:gs>
              <a:gs pos="100000">
                <a:srgbClr val="194b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51229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1d5762"/>
              </a:gs>
              <a:gs pos="50000">
                <a:srgbClr val="36a1b6"/>
              </a:gs>
              <a:gs pos="100000">
                <a:srgbClr val="1d576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51230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226674"/>
              </a:gs>
              <a:gs pos="100000">
                <a:srgbClr val="36a1b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51231"/>
          <p:cNvSpPr/>
          <p:nvPr/>
        </p:nvSpPr>
        <p:spPr>
          <a:xfrm>
            <a:off x="3835440" y="305748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51232"/>
          <p:cNvSpPr/>
          <p:nvPr/>
        </p:nvSpPr>
        <p:spPr>
          <a:xfrm>
            <a:off x="3857760" y="307656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51233"/>
          <p:cNvSpPr/>
          <p:nvPr/>
        </p:nvSpPr>
        <p:spPr>
          <a:xfrm>
            <a:off x="3875040" y="3086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51234"/>
          <p:cNvSpPr/>
          <p:nvPr/>
        </p:nvSpPr>
        <p:spPr>
          <a:xfrm>
            <a:off x="3890880" y="310032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51235"/>
          <p:cNvSpPr/>
          <p:nvPr/>
        </p:nvSpPr>
        <p:spPr>
          <a:xfrm>
            <a:off x="3971880" y="313704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51236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51237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51238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1239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51240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51241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51242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51243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97" name="椭圆 51244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51245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51246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400" name="椭圆 51247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51248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组合 51249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403" name="椭圆 51250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51251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51252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406" name="椭圆 51253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51254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1255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409" name="椭圆 51256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23516"/>
                </a:gs>
                <a:gs pos="100000">
                  <a:srgbClr val="661a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51257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fb5aa"/>
                </a:gs>
                <a:gs pos="100000">
                  <a:srgbClr val="d2351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928800" y="2619360"/>
          <a:ext cx="7315200" cy="273204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4240"/>
                <a:gridCol w="1931760"/>
                <a:gridCol w="338400"/>
                <a:gridCol w="179532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/>
                    </a:solidFill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9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/>
                    </a:solidFill>
                  </a:tcPr>
                </a:tc>
                <a:tc row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/>
                    </a:solidFill>
                  </a:tcPr>
                </a:tc>
              </a:tr>
              <a:tr h="4240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73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82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  <a:tr h="486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>
                        <a:alpha val="8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80000"/>
                      </a:srgbClr>
                    </a:solidFill>
                  </a:tcPr>
                </a:tc>
              </a:tr>
              <a:tr h="482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1a5e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dbfb3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77de5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组合 71682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15" name="圆角矩形 71683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圆角矩形 71684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圆角矩形 71685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71686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71687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71688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71689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22" name="椭圆 71690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椭圆 71691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椭圆 71692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椭圆 71693"/>
              <p:cNvSpPr/>
              <p:nvPr/>
            </p:nvSpPr>
            <p:spPr>
              <a:xfrm>
                <a:off x="198468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椭圆 71694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文本框 71695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71696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71697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30" name="圆角矩形 71698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71699"/>
            <p:cNvSpPr/>
            <p:nvPr/>
          </p:nvSpPr>
          <p:spPr>
            <a:xfrm>
              <a:off x="361440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71700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圆角矩形 71701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71702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71703"/>
            <p:cNvSpPr/>
            <p:nvPr/>
          </p:nvSpPr>
          <p:spPr>
            <a:xfrm>
              <a:off x="4331880" y="183636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71704"/>
            <p:cNvSpPr/>
            <p:nvPr/>
          </p:nvSpPr>
          <p:spPr>
            <a:xfrm>
              <a:off x="4340160" y="183960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椭圆 71705"/>
            <p:cNvSpPr/>
            <p:nvPr/>
          </p:nvSpPr>
          <p:spPr>
            <a:xfrm>
              <a:off x="4346280" y="184608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71706"/>
            <p:cNvSpPr/>
            <p:nvPr/>
          </p:nvSpPr>
          <p:spPr>
            <a:xfrm>
              <a:off x="4381200" y="186192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文本框 71707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文本框 71708"/>
            <p:cNvSpPr/>
            <p:nvPr/>
          </p:nvSpPr>
          <p:spPr>
            <a:xfrm>
              <a:off x="36572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71709"/>
            <p:cNvSpPr/>
            <p:nvPr/>
          </p:nvSpPr>
          <p:spPr>
            <a:xfrm>
              <a:off x="3584160" y="499716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71710"/>
            <p:cNvSpPr/>
            <p:nvPr/>
          </p:nvSpPr>
          <p:spPr>
            <a:xfrm>
              <a:off x="36288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71711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44" name="圆角矩形 71712"/>
            <p:cNvSpPr/>
            <p:nvPr/>
          </p:nvSpPr>
          <p:spPr>
            <a:xfrm>
              <a:off x="5943240" y="2139480"/>
              <a:ext cx="2163960" cy="2857320"/>
            </a:xfrm>
            <a:custGeom>
              <a:avLst/>
              <a:gdLst>
                <a:gd name="textAreaLeft" fmla="*/ 110880 w 2163960"/>
                <a:gd name="textAreaRight" fmla="*/ 2053080 w 216396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0">
                  <a:moveTo>
                    <a:pt x="3782" y="0"/>
                  </a:moveTo>
                  <a:arcTo wR="3782" hR="3782" stAng="16200000" swAng="-5400000"/>
                  <a:lnTo>
                    <a:pt x="0" y="24738"/>
                  </a:lnTo>
                  <a:arcTo wR="3782" hR="3782" stAng="10800000" swAng="-5400000"/>
                  <a:lnTo>
                    <a:pt x="17818" y="28520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71713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71714"/>
            <p:cNvSpPr/>
            <p:nvPr/>
          </p:nvSpPr>
          <p:spPr>
            <a:xfrm>
              <a:off x="5994000" y="4211280"/>
              <a:ext cx="207036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圆角矩形 71715"/>
            <p:cNvSpPr/>
            <p:nvPr/>
          </p:nvSpPr>
          <p:spPr>
            <a:xfrm>
              <a:off x="5994000" y="216972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组合 71716"/>
            <p:cNvGrpSpPr/>
            <p:nvPr/>
          </p:nvGrpSpPr>
          <p:grpSpPr>
            <a:xfrm>
              <a:off x="6687720" y="1832040"/>
              <a:ext cx="642960" cy="642600"/>
              <a:chOff x="6687720" y="1832040"/>
              <a:chExt cx="642960" cy="642600"/>
            </a:xfrm>
          </p:grpSpPr>
          <p:sp>
            <p:nvSpPr>
              <p:cNvPr id="449" name="椭圆 71717"/>
              <p:cNvSpPr/>
              <p:nvPr/>
            </p:nvSpPr>
            <p:spPr>
              <a:xfrm>
                <a:off x="668772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椭圆 71718"/>
              <p:cNvSpPr/>
              <p:nvPr/>
            </p:nvSpPr>
            <p:spPr>
              <a:xfrm>
                <a:off x="669420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椭圆 71719"/>
              <p:cNvSpPr/>
              <p:nvPr/>
            </p:nvSpPr>
            <p:spPr>
              <a:xfrm>
                <a:off x="670212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椭圆 71720"/>
              <p:cNvSpPr/>
              <p:nvPr/>
            </p:nvSpPr>
            <p:spPr>
              <a:xfrm>
                <a:off x="6708600" y="18464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71721"/>
              <p:cNvSpPr/>
              <p:nvPr/>
            </p:nvSpPr>
            <p:spPr>
              <a:xfrm>
                <a:off x="674244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文本框 71722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文本框 71723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圆角矩形 71724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圆角矩形 71725"/>
            <p:cNvSpPr/>
            <p:nvPr/>
          </p:nvSpPr>
          <p:spPr>
            <a:xfrm>
              <a:off x="598140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组合 53339"/>
          <p:cNvGrpSpPr/>
          <p:nvPr/>
        </p:nvGrpSpPr>
        <p:grpSpPr>
          <a:xfrm>
            <a:off x="152280" y="3205080"/>
            <a:ext cx="8839080" cy="147240"/>
            <a:chOff x="152280" y="3205080"/>
            <a:chExt cx="8839080" cy="147240"/>
          </a:xfrm>
        </p:grpSpPr>
        <p:sp>
          <p:nvSpPr>
            <p:cNvPr id="460" name="矩形 53250"/>
            <p:cNvSpPr/>
            <p:nvPr/>
          </p:nvSpPr>
          <p:spPr>
            <a:xfrm>
              <a:off x="152280" y="3205080"/>
              <a:ext cx="8839080" cy="40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53251"/>
            <p:cNvSpPr/>
            <p:nvPr/>
          </p:nvSpPr>
          <p:spPr>
            <a:xfrm>
              <a:off x="152280" y="3245400"/>
              <a:ext cx="8839080" cy="106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53252"/>
          <p:cNvGrpSpPr/>
          <p:nvPr/>
        </p:nvGrpSpPr>
        <p:grpSpPr>
          <a:xfrm>
            <a:off x="4938840" y="3495960"/>
            <a:ext cx="1512360" cy="2383560"/>
            <a:chOff x="4938840" y="3495960"/>
            <a:chExt cx="1512360" cy="2383560"/>
          </a:xfrm>
        </p:grpSpPr>
        <p:grpSp>
          <p:nvGrpSpPr>
            <p:cNvPr id="463" name="组合 53253"/>
            <p:cNvGrpSpPr/>
            <p:nvPr/>
          </p:nvGrpSpPr>
          <p:grpSpPr>
            <a:xfrm>
              <a:off x="4938840" y="3654360"/>
              <a:ext cx="1401480" cy="2225160"/>
              <a:chOff x="4938840" y="3654360"/>
              <a:chExt cx="1401480" cy="2225160"/>
            </a:xfrm>
          </p:grpSpPr>
          <p:sp>
            <p:nvSpPr>
              <p:cNvPr id="464" name="任意多边形 53254"/>
              <p:cNvSpPr/>
              <p:nvPr/>
            </p:nvSpPr>
            <p:spPr>
              <a:xfrm rot="3876600">
                <a:off x="4524840" y="4520160"/>
                <a:ext cx="222912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任意多边形 53255"/>
              <p:cNvSpPr/>
              <p:nvPr/>
            </p:nvSpPr>
            <p:spPr>
              <a:xfrm rot="3876600">
                <a:off x="5864400" y="53823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组合 53256"/>
            <p:cNvGrpSpPr/>
            <p:nvPr/>
          </p:nvGrpSpPr>
          <p:grpSpPr>
            <a:xfrm>
              <a:off x="5375880" y="3495960"/>
              <a:ext cx="1075320" cy="1707840"/>
              <a:chOff x="5375880" y="3495960"/>
              <a:chExt cx="1075320" cy="1707840"/>
            </a:xfrm>
          </p:grpSpPr>
          <p:sp>
            <p:nvSpPr>
              <p:cNvPr id="467" name="任意多边形 53257"/>
              <p:cNvSpPr/>
              <p:nvPr/>
            </p:nvSpPr>
            <p:spPr>
              <a:xfrm flipV="1" rot="3876600">
                <a:off x="5058000" y="4160520"/>
                <a:ext cx="171072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任意多边形 53258"/>
              <p:cNvSpPr/>
              <p:nvPr/>
            </p:nvSpPr>
            <p:spPr>
              <a:xfrm flipV="1" rot="3876600">
                <a:off x="6071040" y="4829040"/>
                <a:ext cx="26892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9" name="组合 53259"/>
          <p:cNvGrpSpPr/>
          <p:nvPr/>
        </p:nvGrpSpPr>
        <p:grpSpPr>
          <a:xfrm>
            <a:off x="4521240" y="2673360"/>
            <a:ext cx="1271520" cy="1282680"/>
            <a:chOff x="4521240" y="2673360"/>
            <a:chExt cx="1271520" cy="1282680"/>
          </a:xfrm>
        </p:grpSpPr>
        <p:sp>
          <p:nvSpPr>
            <p:cNvPr id="470" name="椭圆 53260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53261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椭圆 53262"/>
            <p:cNvSpPr/>
            <p:nvPr/>
          </p:nvSpPr>
          <p:spPr>
            <a:xfrm>
              <a:off x="460512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53263"/>
            <p:cNvSpPr/>
            <p:nvPr/>
          </p:nvSpPr>
          <p:spPr>
            <a:xfrm>
              <a:off x="460512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椭圆 53264"/>
            <p:cNvSpPr/>
            <p:nvPr/>
          </p:nvSpPr>
          <p:spPr>
            <a:xfrm>
              <a:off x="465984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组合 53265"/>
            <p:cNvGrpSpPr/>
            <p:nvPr/>
          </p:nvGrpSpPr>
          <p:grpSpPr>
            <a:xfrm>
              <a:off x="4675320" y="2828880"/>
              <a:ext cx="963000" cy="973080"/>
              <a:chOff x="4675320" y="2828880"/>
              <a:chExt cx="963000" cy="973080"/>
            </a:xfrm>
          </p:grpSpPr>
          <p:sp>
            <p:nvSpPr>
              <p:cNvPr id="476" name="椭圆 53266"/>
              <p:cNvSpPr/>
              <p:nvPr/>
            </p:nvSpPr>
            <p:spPr>
              <a:xfrm>
                <a:off x="467532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椭圆 53267"/>
              <p:cNvSpPr/>
              <p:nvPr/>
            </p:nvSpPr>
            <p:spPr>
              <a:xfrm>
                <a:off x="468720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53268"/>
              <p:cNvSpPr/>
              <p:nvPr/>
            </p:nvSpPr>
            <p:spPr>
              <a:xfrm>
                <a:off x="469764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椭圆 53269"/>
              <p:cNvSpPr/>
              <p:nvPr/>
            </p:nvSpPr>
            <p:spPr>
              <a:xfrm>
                <a:off x="474984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组合 53270"/>
          <p:cNvGrpSpPr/>
          <p:nvPr/>
        </p:nvGrpSpPr>
        <p:grpSpPr>
          <a:xfrm>
            <a:off x="6909120" y="3559320"/>
            <a:ext cx="1513800" cy="2384280"/>
            <a:chOff x="6909120" y="3559320"/>
            <a:chExt cx="1513800" cy="2384280"/>
          </a:xfrm>
        </p:grpSpPr>
        <p:grpSp>
          <p:nvGrpSpPr>
            <p:cNvPr id="481" name="组合 53271"/>
            <p:cNvGrpSpPr/>
            <p:nvPr/>
          </p:nvGrpSpPr>
          <p:grpSpPr>
            <a:xfrm>
              <a:off x="6909120" y="3718080"/>
              <a:ext cx="1402200" cy="2225520"/>
              <a:chOff x="6909120" y="3718080"/>
              <a:chExt cx="1402200" cy="2225520"/>
            </a:xfrm>
          </p:grpSpPr>
          <p:sp>
            <p:nvSpPr>
              <p:cNvPr id="482" name="任意多边形 53272"/>
              <p:cNvSpPr/>
              <p:nvPr/>
            </p:nvSpPr>
            <p:spPr>
              <a:xfrm rot="3876600">
                <a:off x="6495480" y="4583520"/>
                <a:ext cx="2228760" cy="4942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任意多边形 53273"/>
              <p:cNvSpPr/>
              <p:nvPr/>
            </p:nvSpPr>
            <p:spPr>
              <a:xfrm rot="3876600">
                <a:off x="7835040" y="5445360"/>
                <a:ext cx="350280" cy="4042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组合 53274"/>
            <p:cNvGrpSpPr/>
            <p:nvPr/>
          </p:nvGrpSpPr>
          <p:grpSpPr>
            <a:xfrm>
              <a:off x="7347240" y="3559320"/>
              <a:ext cx="1075680" cy="1707840"/>
              <a:chOff x="7347240" y="3559320"/>
              <a:chExt cx="1075680" cy="1707840"/>
            </a:xfrm>
          </p:grpSpPr>
          <p:sp>
            <p:nvSpPr>
              <p:cNvPr id="485" name="任意多边形 53275"/>
              <p:cNvSpPr/>
              <p:nvPr/>
            </p:nvSpPr>
            <p:spPr>
              <a:xfrm flipV="1" rot="3876600">
                <a:off x="7029720" y="4223520"/>
                <a:ext cx="1710360" cy="3790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任意多边形 53276"/>
              <p:cNvSpPr/>
              <p:nvPr/>
            </p:nvSpPr>
            <p:spPr>
              <a:xfrm flipV="1" rot="3876600">
                <a:off x="8042400" y="4892040"/>
                <a:ext cx="268560" cy="3103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7" name="椭圆 53277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53278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椭圆 53279"/>
          <p:cNvSpPr/>
          <p:nvPr/>
        </p:nvSpPr>
        <p:spPr>
          <a:xfrm>
            <a:off x="6402240" y="263196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53280"/>
          <p:cNvSpPr/>
          <p:nvPr/>
        </p:nvSpPr>
        <p:spPr>
          <a:xfrm>
            <a:off x="6404040" y="263520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53281"/>
          <p:cNvSpPr/>
          <p:nvPr/>
        </p:nvSpPr>
        <p:spPr>
          <a:xfrm>
            <a:off x="6469200" y="270036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3282"/>
          <p:cNvGrpSpPr/>
          <p:nvPr/>
        </p:nvGrpSpPr>
        <p:grpSpPr>
          <a:xfrm>
            <a:off x="6486480" y="2719440"/>
            <a:ext cx="1158840" cy="1165320"/>
            <a:chOff x="6486480" y="2719440"/>
            <a:chExt cx="1158840" cy="1165320"/>
          </a:xfrm>
        </p:grpSpPr>
        <p:sp>
          <p:nvSpPr>
            <p:cNvPr id="493" name="椭圆 53283"/>
            <p:cNvSpPr/>
            <p:nvPr/>
          </p:nvSpPr>
          <p:spPr>
            <a:xfrm>
              <a:off x="6486480" y="2719440"/>
              <a:ext cx="1158840" cy="1165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椭圆 53284"/>
            <p:cNvSpPr/>
            <p:nvPr/>
          </p:nvSpPr>
          <p:spPr>
            <a:xfrm>
              <a:off x="6500880" y="2725920"/>
              <a:ext cx="1131120" cy="113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53285"/>
            <p:cNvSpPr/>
            <p:nvPr/>
          </p:nvSpPr>
          <p:spPr>
            <a:xfrm>
              <a:off x="6513120" y="2737080"/>
              <a:ext cx="1075320" cy="1062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53286"/>
            <p:cNvSpPr/>
            <p:nvPr/>
          </p:nvSpPr>
          <p:spPr>
            <a:xfrm>
              <a:off x="6576120" y="2766600"/>
              <a:ext cx="956160" cy="86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53287"/>
          <p:cNvGrpSpPr/>
          <p:nvPr/>
        </p:nvGrpSpPr>
        <p:grpSpPr>
          <a:xfrm>
            <a:off x="3130920" y="3496320"/>
            <a:ext cx="1511280" cy="2382840"/>
            <a:chOff x="3130920" y="3496320"/>
            <a:chExt cx="1511280" cy="2382840"/>
          </a:xfrm>
        </p:grpSpPr>
        <p:grpSp>
          <p:nvGrpSpPr>
            <p:cNvPr id="498" name="组合 53288"/>
            <p:cNvGrpSpPr/>
            <p:nvPr/>
          </p:nvGrpSpPr>
          <p:grpSpPr>
            <a:xfrm>
              <a:off x="3130920" y="3654360"/>
              <a:ext cx="1400760" cy="2224800"/>
              <a:chOff x="3130920" y="3654360"/>
              <a:chExt cx="1400760" cy="2224800"/>
            </a:xfrm>
          </p:grpSpPr>
          <p:sp>
            <p:nvSpPr>
              <p:cNvPr id="499" name="任意多边形 53289"/>
              <p:cNvSpPr/>
              <p:nvPr/>
            </p:nvSpPr>
            <p:spPr>
              <a:xfrm rot="3876600">
                <a:off x="2716560" y="4520520"/>
                <a:ext cx="222912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任意多边形 53290"/>
              <p:cNvSpPr/>
              <p:nvPr/>
            </p:nvSpPr>
            <p:spPr>
              <a:xfrm rot="3876600">
                <a:off x="405612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组合 53291"/>
            <p:cNvGrpSpPr/>
            <p:nvPr/>
          </p:nvGrpSpPr>
          <p:grpSpPr>
            <a:xfrm>
              <a:off x="3567240" y="3496320"/>
              <a:ext cx="1074960" cy="1707480"/>
              <a:chOff x="3567240" y="3496320"/>
              <a:chExt cx="1074960" cy="1707480"/>
            </a:xfrm>
          </p:grpSpPr>
          <p:sp>
            <p:nvSpPr>
              <p:cNvPr id="502" name="任意多边形 53292"/>
              <p:cNvSpPr/>
              <p:nvPr/>
            </p:nvSpPr>
            <p:spPr>
              <a:xfrm flipV="1" rot="3876600">
                <a:off x="324900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任意多边形 53293"/>
              <p:cNvSpPr/>
              <p:nvPr/>
            </p:nvSpPr>
            <p:spPr>
              <a:xfrm flipV="1" rot="3876600">
                <a:off x="4262040" y="4829400"/>
                <a:ext cx="26892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4" name="组合 53294"/>
          <p:cNvGrpSpPr/>
          <p:nvPr/>
        </p:nvGrpSpPr>
        <p:grpSpPr>
          <a:xfrm>
            <a:off x="2711520" y="2673360"/>
            <a:ext cx="1271520" cy="1282680"/>
            <a:chOff x="2711520" y="2673360"/>
            <a:chExt cx="1271520" cy="1282680"/>
          </a:xfrm>
        </p:grpSpPr>
        <p:sp>
          <p:nvSpPr>
            <p:cNvPr id="505" name="椭圆 53295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椭圆 53296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椭圆 53297"/>
            <p:cNvSpPr/>
            <p:nvPr/>
          </p:nvSpPr>
          <p:spPr>
            <a:xfrm>
              <a:off x="279540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椭圆 53298"/>
            <p:cNvSpPr/>
            <p:nvPr/>
          </p:nvSpPr>
          <p:spPr>
            <a:xfrm>
              <a:off x="279540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53299"/>
            <p:cNvSpPr/>
            <p:nvPr/>
          </p:nvSpPr>
          <p:spPr>
            <a:xfrm>
              <a:off x="285012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组合 53300"/>
            <p:cNvGrpSpPr/>
            <p:nvPr/>
          </p:nvGrpSpPr>
          <p:grpSpPr>
            <a:xfrm>
              <a:off x="2865600" y="2828880"/>
              <a:ext cx="963000" cy="973080"/>
              <a:chOff x="2865600" y="2828880"/>
              <a:chExt cx="963000" cy="973080"/>
            </a:xfrm>
          </p:grpSpPr>
          <p:sp>
            <p:nvSpPr>
              <p:cNvPr id="511" name="椭圆 53301"/>
              <p:cNvSpPr/>
              <p:nvPr/>
            </p:nvSpPr>
            <p:spPr>
              <a:xfrm>
                <a:off x="286560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椭圆 53302"/>
              <p:cNvSpPr/>
              <p:nvPr/>
            </p:nvSpPr>
            <p:spPr>
              <a:xfrm>
                <a:off x="287748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椭圆 53303"/>
              <p:cNvSpPr/>
              <p:nvPr/>
            </p:nvSpPr>
            <p:spPr>
              <a:xfrm>
                <a:off x="288792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椭圆 53304"/>
              <p:cNvSpPr/>
              <p:nvPr/>
            </p:nvSpPr>
            <p:spPr>
              <a:xfrm>
                <a:off x="294012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5" name="组合 53305"/>
          <p:cNvGrpSpPr/>
          <p:nvPr/>
        </p:nvGrpSpPr>
        <p:grpSpPr>
          <a:xfrm>
            <a:off x="1379880" y="3496320"/>
            <a:ext cx="1511280" cy="2382840"/>
            <a:chOff x="1379880" y="3496320"/>
            <a:chExt cx="1511280" cy="2382840"/>
          </a:xfrm>
        </p:grpSpPr>
        <p:grpSp>
          <p:nvGrpSpPr>
            <p:cNvPr id="516" name="组合 53306"/>
            <p:cNvGrpSpPr/>
            <p:nvPr/>
          </p:nvGrpSpPr>
          <p:grpSpPr>
            <a:xfrm>
              <a:off x="1379880" y="3654360"/>
              <a:ext cx="1400760" cy="2224800"/>
              <a:chOff x="1379880" y="3654360"/>
              <a:chExt cx="1400760" cy="2224800"/>
            </a:xfrm>
          </p:grpSpPr>
          <p:sp>
            <p:nvSpPr>
              <p:cNvPr id="517" name="任意多边形 53307"/>
              <p:cNvSpPr/>
              <p:nvPr/>
            </p:nvSpPr>
            <p:spPr>
              <a:xfrm rot="3876600">
                <a:off x="965520" y="4520520"/>
                <a:ext cx="2229120" cy="4924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任意多边形 53308"/>
              <p:cNvSpPr/>
              <p:nvPr/>
            </p:nvSpPr>
            <p:spPr>
              <a:xfrm rot="3876600">
                <a:off x="230508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组合 53309"/>
            <p:cNvGrpSpPr/>
            <p:nvPr/>
          </p:nvGrpSpPr>
          <p:grpSpPr>
            <a:xfrm>
              <a:off x="1816200" y="3496320"/>
              <a:ext cx="1074960" cy="1707480"/>
              <a:chOff x="1816200" y="3496320"/>
              <a:chExt cx="1074960" cy="1707480"/>
            </a:xfrm>
          </p:grpSpPr>
          <p:sp>
            <p:nvSpPr>
              <p:cNvPr id="520" name="任意多边形 53310"/>
              <p:cNvSpPr/>
              <p:nvPr/>
            </p:nvSpPr>
            <p:spPr>
              <a:xfrm flipV="1" rot="3876600">
                <a:off x="149796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任意多边形 53311"/>
              <p:cNvSpPr/>
              <p:nvPr/>
            </p:nvSpPr>
            <p:spPr>
              <a:xfrm flipV="1" rot="3876600">
                <a:off x="2511000" y="4829400"/>
                <a:ext cx="268920" cy="3088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2" name="组合 53312"/>
          <p:cNvGrpSpPr/>
          <p:nvPr/>
        </p:nvGrpSpPr>
        <p:grpSpPr>
          <a:xfrm>
            <a:off x="960480" y="2673360"/>
            <a:ext cx="1271520" cy="1282680"/>
            <a:chOff x="960480" y="2673360"/>
            <a:chExt cx="1271520" cy="1282680"/>
          </a:xfrm>
        </p:grpSpPr>
        <p:sp>
          <p:nvSpPr>
            <p:cNvPr id="523" name="椭圆 53313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椭圆 53314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椭圆 53315"/>
            <p:cNvSpPr/>
            <p:nvPr/>
          </p:nvSpPr>
          <p:spPr>
            <a:xfrm>
              <a:off x="1044360" y="275652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53316"/>
            <p:cNvSpPr/>
            <p:nvPr/>
          </p:nvSpPr>
          <p:spPr>
            <a:xfrm>
              <a:off x="1044360" y="2759400"/>
              <a:ext cx="1103400" cy="111456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椭圆 53317"/>
            <p:cNvSpPr/>
            <p:nvPr/>
          </p:nvSpPr>
          <p:spPr>
            <a:xfrm>
              <a:off x="1099080" y="2813040"/>
              <a:ext cx="993960" cy="1002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组合 53318"/>
            <p:cNvGrpSpPr/>
            <p:nvPr/>
          </p:nvGrpSpPr>
          <p:grpSpPr>
            <a:xfrm>
              <a:off x="1114560" y="2828880"/>
              <a:ext cx="963000" cy="973080"/>
              <a:chOff x="1114560" y="2828880"/>
              <a:chExt cx="963000" cy="973080"/>
            </a:xfrm>
          </p:grpSpPr>
          <p:sp>
            <p:nvSpPr>
              <p:cNvPr id="529" name="椭圆 53319"/>
              <p:cNvSpPr/>
              <p:nvPr/>
            </p:nvSpPr>
            <p:spPr>
              <a:xfrm>
                <a:off x="1114560" y="2828880"/>
                <a:ext cx="963000" cy="973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椭圆 53320"/>
              <p:cNvSpPr/>
              <p:nvPr/>
            </p:nvSpPr>
            <p:spPr>
              <a:xfrm>
                <a:off x="1126440" y="2834280"/>
                <a:ext cx="939960" cy="948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53321"/>
              <p:cNvSpPr/>
              <p:nvPr/>
            </p:nvSpPr>
            <p:spPr>
              <a:xfrm>
                <a:off x="1136880" y="2843640"/>
                <a:ext cx="893880" cy="886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椭圆 53322"/>
              <p:cNvSpPr/>
              <p:nvPr/>
            </p:nvSpPr>
            <p:spPr>
              <a:xfrm>
                <a:off x="1189080" y="2868480"/>
                <a:ext cx="79452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文本框 53323"/>
          <p:cNvSpPr/>
          <p:nvPr/>
        </p:nvSpPr>
        <p:spPr>
          <a:xfrm rot="3925800">
            <a:off x="13312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53324"/>
          <p:cNvSpPr/>
          <p:nvPr/>
        </p:nvSpPr>
        <p:spPr>
          <a:xfrm rot="3925800">
            <a:off x="1794600" y="4190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53325"/>
          <p:cNvSpPr/>
          <p:nvPr/>
        </p:nvSpPr>
        <p:spPr>
          <a:xfrm rot="3925800">
            <a:off x="3080880" y="4461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53326"/>
          <p:cNvSpPr/>
          <p:nvPr/>
        </p:nvSpPr>
        <p:spPr>
          <a:xfrm rot="3925800">
            <a:off x="3540600" y="41900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53327"/>
          <p:cNvSpPr/>
          <p:nvPr/>
        </p:nvSpPr>
        <p:spPr>
          <a:xfrm rot="3925800">
            <a:off x="4898520" y="44632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53328"/>
          <p:cNvSpPr/>
          <p:nvPr/>
        </p:nvSpPr>
        <p:spPr>
          <a:xfrm rot="3925800">
            <a:off x="5360040" y="4189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53329"/>
          <p:cNvSpPr/>
          <p:nvPr/>
        </p:nvSpPr>
        <p:spPr>
          <a:xfrm rot="3925800">
            <a:off x="6854400" y="4604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53330"/>
          <p:cNvSpPr/>
          <p:nvPr/>
        </p:nvSpPr>
        <p:spPr>
          <a:xfrm rot="3925800">
            <a:off x="7312680" y="43329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3331"/>
          <p:cNvSpPr/>
          <p:nvPr/>
        </p:nvSpPr>
        <p:spPr>
          <a:xfrm>
            <a:off x="12510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53332"/>
          <p:cNvSpPr/>
          <p:nvPr/>
        </p:nvSpPr>
        <p:spPr>
          <a:xfrm>
            <a:off x="300996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53333"/>
          <p:cNvSpPr/>
          <p:nvPr/>
        </p:nvSpPr>
        <p:spPr>
          <a:xfrm>
            <a:off x="47592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53334"/>
          <p:cNvSpPr/>
          <p:nvPr/>
        </p:nvSpPr>
        <p:spPr>
          <a:xfrm>
            <a:off x="6572520" y="1981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直接箭头连接符 53335"/>
          <p:cNvCxnSpPr>
            <a:stCxn id="541" idx="3"/>
            <a:endCxn id="542" idx="1"/>
          </p:cNvCxnSpPr>
          <p:nvPr/>
        </p:nvCxnSpPr>
        <p:spPr>
          <a:xfrm>
            <a:off x="1898280" y="2182320"/>
            <a:ext cx="108036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46" name="直接箭头连接符 53336"/>
          <p:cNvCxnSpPr>
            <a:stCxn id="542" idx="3"/>
            <a:endCxn id="543" idx="1"/>
          </p:cNvCxnSpPr>
          <p:nvPr/>
        </p:nvCxnSpPr>
        <p:spPr>
          <a:xfrm>
            <a:off x="3656160" y="2182320"/>
            <a:ext cx="1072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47" name="直接箭头连接符 53337"/>
          <p:cNvCxnSpPr>
            <a:stCxn id="543" idx="3"/>
            <a:endCxn id="544" idx="1"/>
          </p:cNvCxnSpPr>
          <p:nvPr/>
        </p:nvCxnSpPr>
        <p:spPr>
          <a:xfrm>
            <a:off x="5406840" y="2182320"/>
            <a:ext cx="1076760" cy="252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54280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550" name="燕尾形 54274"/>
            <p:cNvSpPr/>
            <p:nvPr/>
          </p:nvSpPr>
          <p:spPr>
            <a:xfrm>
              <a:off x="5552640" y="2801880"/>
              <a:ext cx="2676600" cy="2836440"/>
            </a:xfrm>
            <a:custGeom>
              <a:avLst/>
              <a:gdLst>
                <a:gd name="textAreaLeft" fmla="*/ 0 w 2676600"/>
                <a:gd name="textAreaRight" fmla="*/ 2676960 w 267660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5" y="0"/>
                  </a:lnTo>
                  <a:lnTo>
                    <a:pt x="21600" y="10800"/>
                  </a:lnTo>
                  <a:lnTo>
                    <a:pt x="18045" y="21600"/>
                  </a:lnTo>
                  <a:lnTo>
                    <a:pt x="0" y="21600"/>
                  </a:lnTo>
                  <a:lnTo>
                    <a:pt x="3555" y="10800"/>
                  </a:lnTo>
                  <a:close/>
                </a:path>
              </a:pathLst>
            </a:custGeom>
            <a:solidFill>
              <a:srgbClr val="37399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燕尾形 54275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solidFill>
              <a:srgbClr val="4987e3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燕尾形 54276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7" y="0"/>
                  </a:lnTo>
                  <a:lnTo>
                    <a:pt x="21600" y="10800"/>
                  </a:lnTo>
                  <a:lnTo>
                    <a:pt x="17847" y="21600"/>
                  </a:lnTo>
                  <a:lnTo>
                    <a:pt x="0" y="21600"/>
                  </a:lnTo>
                  <a:lnTo>
                    <a:pt x="3753" y="10800"/>
                  </a:lnTo>
                  <a:close/>
                </a:path>
              </a:pathLst>
            </a:custGeom>
            <a:solidFill>
              <a:srgbClr val="36a1b6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圆角矩形 54277"/>
            <p:cNvSpPr/>
            <p:nvPr/>
          </p:nvSpPr>
          <p:spPr>
            <a:xfrm>
              <a:off x="128340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6a1b6"/>
            </a:soli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圆角矩形 54278"/>
            <p:cNvSpPr/>
            <p:nvPr/>
          </p:nvSpPr>
          <p:spPr>
            <a:xfrm>
              <a:off x="348588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4987e3"/>
            </a:soli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圆角矩形 54279"/>
            <p:cNvSpPr/>
            <p:nvPr/>
          </p:nvSpPr>
          <p:spPr>
            <a:xfrm>
              <a:off x="569736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37399b"/>
            </a:soli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55298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圆角矩形 55299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圆角矩形 55300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圆角矩形 55301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55302"/>
          <p:cNvGrpSpPr/>
          <p:nvPr/>
        </p:nvGrpSpPr>
        <p:grpSpPr>
          <a:xfrm>
            <a:off x="1111680" y="1858680"/>
            <a:ext cx="6437160" cy="1387800"/>
            <a:chOff x="1111680" y="1858680"/>
            <a:chExt cx="6437160" cy="1387800"/>
          </a:xfrm>
        </p:grpSpPr>
        <p:sp>
          <p:nvSpPr>
            <p:cNvPr id="562" name="矩形 55303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组合 55304"/>
            <p:cNvGrpSpPr/>
            <p:nvPr/>
          </p:nvGrpSpPr>
          <p:grpSpPr>
            <a:xfrm>
              <a:off x="2286360" y="2255400"/>
              <a:ext cx="931680" cy="131760"/>
              <a:chOff x="2286360" y="2255400"/>
              <a:chExt cx="931680" cy="131760"/>
            </a:xfrm>
          </p:grpSpPr>
          <p:sp>
            <p:nvSpPr>
              <p:cNvPr id="564" name="椭圆 55305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矩形 55306"/>
              <p:cNvSpPr/>
              <p:nvPr/>
            </p:nvSpPr>
            <p:spPr>
              <a:xfrm>
                <a:off x="237564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55307"/>
              <p:cNvSpPr/>
              <p:nvPr/>
            </p:nvSpPr>
            <p:spPr>
              <a:xfrm>
                <a:off x="307692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椭圆 55308"/>
              <p:cNvSpPr/>
              <p:nvPr/>
            </p:nvSpPr>
            <p:spPr>
              <a:xfrm>
                <a:off x="31528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矩形 55309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组合 55310"/>
            <p:cNvGrpSpPr/>
            <p:nvPr/>
          </p:nvGrpSpPr>
          <p:grpSpPr>
            <a:xfrm>
              <a:off x="4007880" y="2255400"/>
              <a:ext cx="931680" cy="131760"/>
              <a:chOff x="4007880" y="2255400"/>
              <a:chExt cx="931680" cy="131760"/>
            </a:xfrm>
          </p:grpSpPr>
          <p:sp>
            <p:nvSpPr>
              <p:cNvPr id="570" name="椭圆 55311"/>
              <p:cNvSpPr/>
              <p:nvPr/>
            </p:nvSpPr>
            <p:spPr>
              <a:xfrm>
                <a:off x="400788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矩形 55312"/>
              <p:cNvSpPr/>
              <p:nvPr/>
            </p:nvSpPr>
            <p:spPr>
              <a:xfrm>
                <a:off x="4097160" y="225648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椭圆 55313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55314"/>
              <p:cNvSpPr/>
              <p:nvPr/>
            </p:nvSpPr>
            <p:spPr>
              <a:xfrm>
                <a:off x="487440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矩形 55315"/>
            <p:cNvSpPr/>
            <p:nvPr/>
          </p:nvSpPr>
          <p:spPr>
            <a:xfrm rot="3418800">
              <a:off x="4692600" y="20178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55316"/>
            <p:cNvGrpSpPr/>
            <p:nvPr/>
          </p:nvGrpSpPr>
          <p:grpSpPr>
            <a:xfrm>
              <a:off x="5729040" y="2255400"/>
              <a:ext cx="1218240" cy="131760"/>
              <a:chOff x="5729040" y="2255400"/>
              <a:chExt cx="1218240" cy="131760"/>
            </a:xfrm>
          </p:grpSpPr>
          <p:sp>
            <p:nvSpPr>
              <p:cNvPr id="576" name="椭圆 55317"/>
              <p:cNvSpPr/>
              <p:nvPr/>
            </p:nvSpPr>
            <p:spPr>
              <a:xfrm>
                <a:off x="5729040" y="225540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矩形 55318"/>
              <p:cNvSpPr/>
              <p:nvPr/>
            </p:nvSpPr>
            <p:spPr>
              <a:xfrm>
                <a:off x="584568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椭圆 55319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椭圆 55320"/>
              <p:cNvSpPr/>
              <p:nvPr/>
            </p:nvSpPr>
            <p:spPr>
              <a:xfrm>
                <a:off x="686196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0" name="矩形 55321"/>
            <p:cNvSpPr/>
            <p:nvPr/>
          </p:nvSpPr>
          <p:spPr>
            <a:xfrm rot="3418800">
              <a:off x="6413760" y="2017800"/>
              <a:ext cx="924480" cy="1003680"/>
            </a:xfrm>
            <a:prstGeom prst="rect">
              <a:avLst/>
            </a:pr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矩形 55322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55323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55324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55325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55326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55327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55328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5329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组合 56431"/>
          <p:cNvGrpSpPr/>
          <p:nvPr/>
        </p:nvGrpSpPr>
        <p:grpSpPr>
          <a:xfrm>
            <a:off x="1447560" y="2057400"/>
            <a:ext cx="6428880" cy="3649320"/>
            <a:chOff x="1447560" y="2057400"/>
            <a:chExt cx="6428880" cy="3649320"/>
          </a:xfrm>
        </p:grpSpPr>
        <p:grpSp>
          <p:nvGrpSpPr>
            <p:cNvPr id="591" name=""/>
            <p:cNvGrpSpPr/>
            <p:nvPr/>
          </p:nvGrpSpPr>
          <p:grpSpPr>
            <a:xfrm>
              <a:off x="1447560" y="5702400"/>
              <a:ext cx="1712160" cy="1440"/>
              <a:chOff x="1447560" y="5702400"/>
              <a:chExt cx="1712160" cy="1440"/>
            </a:xfrm>
          </p:grpSpPr>
          <p:sp>
            <p:nvSpPr>
              <p:cNvPr id="592" name="直接连接符 56395"/>
              <p:cNvSpPr/>
              <p:nvPr/>
            </p:nvSpPr>
            <p:spPr>
              <a:xfrm flipH="1">
                <a:off x="1447560" y="5702400"/>
                <a:ext cx="1711800" cy="144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>
                <a:off x="1447920" y="5702400"/>
                <a:ext cx="1711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1447560" y="4968000"/>
              <a:ext cx="2208960" cy="1080"/>
              <a:chOff x="1447560" y="4968000"/>
              <a:chExt cx="2208960" cy="1080"/>
            </a:xfrm>
          </p:grpSpPr>
          <p:sp>
            <p:nvSpPr>
              <p:cNvPr id="595" name="直接连接符 56396"/>
              <p:cNvSpPr/>
              <p:nvPr/>
            </p:nvSpPr>
            <p:spPr>
              <a:xfrm flipH="1">
                <a:off x="1447560" y="4968000"/>
                <a:ext cx="220860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1447920" y="4968000"/>
                <a:ext cx="22086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447920" y="4206240"/>
              <a:ext cx="2594160" cy="1080"/>
              <a:chOff x="1447920" y="4206240"/>
              <a:chExt cx="2594160" cy="1080"/>
            </a:xfrm>
          </p:grpSpPr>
          <p:sp>
            <p:nvSpPr>
              <p:cNvPr id="598" name="直接连接符 56397"/>
              <p:cNvSpPr/>
              <p:nvPr/>
            </p:nvSpPr>
            <p:spPr>
              <a:xfrm flipH="1">
                <a:off x="1447920" y="4206240"/>
                <a:ext cx="259416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>
                <a:off x="1447920" y="4206240"/>
                <a:ext cx="2594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1447920" y="3456000"/>
              <a:ext cx="3035520" cy="1080"/>
              <a:chOff x="1447920" y="3456000"/>
              <a:chExt cx="3035520" cy="1080"/>
            </a:xfrm>
          </p:grpSpPr>
          <p:sp>
            <p:nvSpPr>
              <p:cNvPr id="601" name="直接连接符 56398"/>
              <p:cNvSpPr/>
              <p:nvPr/>
            </p:nvSpPr>
            <p:spPr>
              <a:xfrm flipH="1">
                <a:off x="1447920" y="3456000"/>
                <a:ext cx="303552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 txBox="1"/>
              <p:nvPr/>
            </p:nvSpPr>
            <p:spPr>
              <a:xfrm>
                <a:off x="1447920" y="3456000"/>
                <a:ext cx="3035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447560" y="2701440"/>
              <a:ext cx="3476880" cy="1080"/>
              <a:chOff x="1447560" y="2701440"/>
              <a:chExt cx="3476880" cy="1080"/>
            </a:xfrm>
          </p:grpSpPr>
          <p:sp>
            <p:nvSpPr>
              <p:cNvPr id="604" name="直接连接符 56399"/>
              <p:cNvSpPr/>
              <p:nvPr/>
            </p:nvSpPr>
            <p:spPr>
              <a:xfrm flipH="1">
                <a:off x="1447560" y="2701440"/>
                <a:ext cx="3476520" cy="108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 txBox="1"/>
              <p:nvPr/>
            </p:nvSpPr>
            <p:spPr>
              <a:xfrm>
                <a:off x="1447920" y="2701440"/>
                <a:ext cx="3476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1447560" y="2057400"/>
              <a:ext cx="3864240" cy="1440"/>
              <a:chOff x="1447560" y="2057400"/>
              <a:chExt cx="3864240" cy="1440"/>
            </a:xfrm>
          </p:grpSpPr>
          <p:sp>
            <p:nvSpPr>
              <p:cNvPr id="607" name="直接连接符 56400"/>
              <p:cNvSpPr/>
              <p:nvPr/>
            </p:nvSpPr>
            <p:spPr>
              <a:xfrm flipH="1">
                <a:off x="1447560" y="2057400"/>
                <a:ext cx="3863880" cy="1440"/>
              </a:xfrm>
              <a:prstGeom prst="line">
                <a:avLst/>
              </a:prstGeom>
              <a:ln cap="rnd" w="19080">
                <a:solidFill>
                  <a:srgbClr val="5f5f5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 txBox="1"/>
              <p:nvPr/>
            </p:nvSpPr>
            <p:spPr>
              <a:xfrm>
                <a:off x="1447920" y="2057400"/>
                <a:ext cx="3863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667520" y="2057400"/>
              <a:ext cx="1080" cy="644040"/>
              <a:chOff x="1667520" y="2057400"/>
              <a:chExt cx="1080" cy="644040"/>
            </a:xfrm>
          </p:grpSpPr>
          <p:sp>
            <p:nvSpPr>
              <p:cNvPr id="610" name="直接连接符 56401"/>
              <p:cNvSpPr/>
              <p:nvPr/>
            </p:nvSpPr>
            <p:spPr>
              <a:xfrm>
                <a:off x="1667520" y="2057400"/>
                <a:ext cx="1080" cy="64404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 txBox="1"/>
              <p:nvPr/>
            </p:nvSpPr>
            <p:spPr>
              <a:xfrm>
                <a:off x="1667520" y="2057400"/>
                <a:ext cx="1080" cy="64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1667520" y="2701440"/>
              <a:ext cx="1080" cy="761400"/>
              <a:chOff x="1667520" y="2701440"/>
              <a:chExt cx="1080" cy="761400"/>
            </a:xfrm>
          </p:grpSpPr>
          <p:sp>
            <p:nvSpPr>
              <p:cNvPr id="613" name="直接连接符 56402"/>
              <p:cNvSpPr/>
              <p:nvPr/>
            </p:nvSpPr>
            <p:spPr>
              <a:xfrm>
                <a:off x="1667520" y="2701440"/>
                <a:ext cx="1080" cy="7614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 txBox="1"/>
              <p:nvPr/>
            </p:nvSpPr>
            <p:spPr>
              <a:xfrm>
                <a:off x="1667520" y="2701440"/>
                <a:ext cx="1080" cy="76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667520" y="3463200"/>
              <a:ext cx="1080" cy="761400"/>
              <a:chOff x="1667520" y="3463200"/>
              <a:chExt cx="1080" cy="761400"/>
            </a:xfrm>
          </p:grpSpPr>
          <p:sp>
            <p:nvSpPr>
              <p:cNvPr id="616" name="直接连接符 56403"/>
              <p:cNvSpPr/>
              <p:nvPr/>
            </p:nvSpPr>
            <p:spPr>
              <a:xfrm>
                <a:off x="1667520" y="3463200"/>
                <a:ext cx="1080" cy="7614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1667520" y="3463200"/>
                <a:ext cx="1080" cy="76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1667520" y="4224960"/>
              <a:ext cx="1080" cy="761400"/>
              <a:chOff x="1667520" y="4224960"/>
              <a:chExt cx="1080" cy="761400"/>
            </a:xfrm>
          </p:grpSpPr>
          <p:sp>
            <p:nvSpPr>
              <p:cNvPr id="619" name="直接连接符 56404"/>
              <p:cNvSpPr/>
              <p:nvPr/>
            </p:nvSpPr>
            <p:spPr>
              <a:xfrm>
                <a:off x="1667520" y="4224960"/>
                <a:ext cx="1080" cy="7614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1667520" y="4224960"/>
                <a:ext cx="1080" cy="76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1667520" y="4986720"/>
              <a:ext cx="1080" cy="703080"/>
              <a:chOff x="1667520" y="4986720"/>
              <a:chExt cx="1080" cy="703080"/>
            </a:xfrm>
          </p:grpSpPr>
          <p:sp>
            <p:nvSpPr>
              <p:cNvPr id="622" name="直接连接符 56405"/>
              <p:cNvSpPr/>
              <p:nvPr/>
            </p:nvSpPr>
            <p:spPr>
              <a:xfrm>
                <a:off x="1667520" y="4986720"/>
                <a:ext cx="1080" cy="70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1667520" y="4986720"/>
                <a:ext cx="1080" cy="70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文本框 56406"/>
            <p:cNvSpPr/>
            <p:nvPr/>
          </p:nvSpPr>
          <p:spPr>
            <a:xfrm>
              <a:off x="1720080" y="2237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文本框 56407"/>
            <p:cNvSpPr/>
            <p:nvPr/>
          </p:nvSpPr>
          <p:spPr>
            <a:xfrm>
              <a:off x="1720080" y="2981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文本框 56408"/>
            <p:cNvSpPr/>
            <p:nvPr/>
          </p:nvSpPr>
          <p:spPr>
            <a:xfrm>
              <a:off x="1720080" y="3724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文本框 56409"/>
            <p:cNvSpPr/>
            <p:nvPr/>
          </p:nvSpPr>
          <p:spPr>
            <a:xfrm>
              <a:off x="1720080" y="4469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文本框 56410"/>
            <p:cNvSpPr/>
            <p:nvPr/>
          </p:nvSpPr>
          <p:spPr>
            <a:xfrm>
              <a:off x="1720080" y="5213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f5f5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56411"/>
            <p:cNvGrpSpPr/>
            <p:nvPr/>
          </p:nvGrpSpPr>
          <p:grpSpPr>
            <a:xfrm>
              <a:off x="3186360" y="2057400"/>
              <a:ext cx="4690080" cy="3649320"/>
              <a:chOff x="3186360" y="2057400"/>
              <a:chExt cx="4690080" cy="3649320"/>
            </a:xfrm>
          </p:grpSpPr>
          <p:sp>
            <p:nvSpPr>
              <p:cNvPr id="630" name="任意多边形 56412"/>
              <p:cNvSpPr/>
              <p:nvPr/>
            </p:nvSpPr>
            <p:spPr>
              <a:xfrm>
                <a:off x="7049160" y="4587120"/>
                <a:ext cx="827280" cy="111852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182f76"/>
                  </a:gs>
                  <a:gs pos="100000">
                    <a:srgbClr val="33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 56413"/>
              <p:cNvSpPr/>
              <p:nvPr/>
            </p:nvSpPr>
            <p:spPr>
              <a:xfrm>
                <a:off x="3561120" y="4587120"/>
                <a:ext cx="3854160" cy="47664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2041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 56414"/>
              <p:cNvSpPr/>
              <p:nvPr/>
            </p:nvSpPr>
            <p:spPr>
              <a:xfrm>
                <a:off x="3186360" y="5060880"/>
                <a:ext cx="4254840" cy="64584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7799dd"/>
                  </a:gs>
                  <a:gs pos="100000">
                    <a:srgbClr val="3366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 56415"/>
              <p:cNvSpPr/>
              <p:nvPr/>
            </p:nvSpPr>
            <p:spPr>
              <a:xfrm>
                <a:off x="6617520" y="3953880"/>
                <a:ext cx="731160" cy="10126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9570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 56416"/>
              <p:cNvSpPr/>
              <p:nvPr/>
            </p:nvSpPr>
            <p:spPr>
              <a:xfrm>
                <a:off x="3998880" y="3953880"/>
                <a:ext cx="2895480" cy="35640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a4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 56417"/>
              <p:cNvSpPr/>
              <p:nvPr/>
            </p:nvSpPr>
            <p:spPr>
              <a:xfrm>
                <a:off x="3632760" y="4309200"/>
                <a:ext cx="3361680" cy="6573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86e7cf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 56418"/>
              <p:cNvSpPr/>
              <p:nvPr/>
            </p:nvSpPr>
            <p:spPr>
              <a:xfrm>
                <a:off x="6185520" y="3327120"/>
                <a:ext cx="640080" cy="87948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254a70"/>
                  </a:gs>
                  <a:gs pos="100000">
                    <a:srgbClr val="33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 56419"/>
              <p:cNvSpPr/>
              <p:nvPr/>
            </p:nvSpPr>
            <p:spPr>
              <a:xfrm>
                <a:off x="4434840" y="3327120"/>
                <a:ext cx="1933200" cy="23760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336699"/>
                  </a:gs>
                  <a:gs pos="100000">
                    <a:srgbClr val="1830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 56420"/>
              <p:cNvSpPr/>
              <p:nvPr/>
            </p:nvSpPr>
            <p:spPr>
              <a:xfrm>
                <a:off x="4062240" y="3563640"/>
                <a:ext cx="2501640" cy="64332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9eb6e7"/>
                  </a:gs>
                  <a:gs pos="100000">
                    <a:srgbClr val="3366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 56421"/>
              <p:cNvSpPr/>
              <p:nvPr/>
            </p:nvSpPr>
            <p:spPr>
              <a:xfrm>
                <a:off x="5748480" y="2691720"/>
                <a:ext cx="551160" cy="76608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00a279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 56422"/>
              <p:cNvSpPr/>
              <p:nvPr/>
            </p:nvSpPr>
            <p:spPr>
              <a:xfrm>
                <a:off x="4877640" y="2691720"/>
                <a:ext cx="964800" cy="1148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684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 56423"/>
              <p:cNvSpPr/>
              <p:nvPr/>
            </p:nvSpPr>
            <p:spPr>
              <a:xfrm>
                <a:off x="4497840" y="2805480"/>
                <a:ext cx="1629000" cy="65232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7fe5cc"/>
                  </a:gs>
                  <a:gs pos="100000">
                    <a:srgbClr val="00cc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 56424"/>
              <p:cNvSpPr/>
              <p:nvPr/>
            </p:nvSpPr>
            <p:spPr>
              <a:xfrm>
                <a:off x="5308200" y="2057400"/>
                <a:ext cx="465840" cy="6483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285179"/>
                  </a:gs>
                  <a:gs pos="100000">
                    <a:srgbClr val="33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任意多边形 56425"/>
              <p:cNvSpPr/>
              <p:nvPr/>
            </p:nvSpPr>
            <p:spPr>
              <a:xfrm>
                <a:off x="4930920" y="2057400"/>
                <a:ext cx="755280" cy="6483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b1c5ec"/>
                  </a:gs>
                  <a:gs pos="100000">
                    <a:srgbClr val="3366c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文本框 56426"/>
              <p:cNvSpPr/>
              <p:nvPr/>
            </p:nvSpPr>
            <p:spPr>
              <a:xfrm>
                <a:off x="5048280" y="24022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文本框 56427"/>
              <p:cNvSpPr/>
              <p:nvPr/>
            </p:nvSpPr>
            <p:spPr>
              <a:xfrm>
                <a:off x="5048280" y="308592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文本框 56428"/>
              <p:cNvSpPr/>
              <p:nvPr/>
            </p:nvSpPr>
            <p:spPr>
              <a:xfrm>
                <a:off x="5048280" y="38286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文本框 56429"/>
              <p:cNvSpPr/>
              <p:nvPr/>
            </p:nvSpPr>
            <p:spPr>
              <a:xfrm>
                <a:off x="5048280" y="45712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文本框 56430"/>
              <p:cNvSpPr/>
              <p:nvPr/>
            </p:nvSpPr>
            <p:spPr>
              <a:xfrm>
                <a:off x="5048280" y="53168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椭圆 72708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组合 72725"/>
          <p:cNvGrpSpPr/>
          <p:nvPr/>
        </p:nvGrpSpPr>
        <p:grpSpPr>
          <a:xfrm>
            <a:off x="1020960" y="1438200"/>
            <a:ext cx="6729120" cy="4539960"/>
            <a:chOff x="1020960" y="1438200"/>
            <a:chExt cx="6729120" cy="4539960"/>
          </a:xfrm>
        </p:grpSpPr>
        <p:sp>
          <p:nvSpPr>
            <p:cNvPr id="652" name="椭圆 72706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椭圆 72707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72709"/>
            <p:cNvSpPr/>
            <p:nvPr/>
          </p:nvSpPr>
          <p:spPr>
            <a:xfrm rot="20601600">
              <a:off x="4036680" y="211572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0"/>
                  </a:moveTo>
                  <a:cubicBezTo>
                    <a:pt x="19544" y="3813"/>
                    <a:pt x="21600" y="8834"/>
                    <a:pt x="21600" y="14335"/>
                  </a:cubicBezTo>
                  <a:cubicBezTo>
                    <a:pt x="21600" y="17311"/>
                    <a:pt x="20998" y="20146"/>
                    <a:pt x="19911" y="22723"/>
                  </a:cubicBezTo>
                </a:path>
                <a:path stroke="0" w="21600" h="22718">
                  <a:moveTo>
                    <a:pt x="19906" y="22718"/>
                  </a:moveTo>
                  <a:cubicBezTo>
                    <a:pt x="20398" y="18083"/>
                    <a:pt x="21213" y="15054"/>
                    <a:pt x="22135" y="15054"/>
                  </a:cubicBezTo>
                  <a:cubicBezTo>
                    <a:pt x="23638" y="15054"/>
                    <a:pt x="24856" y="23098"/>
                    <a:pt x="24856" y="33021"/>
                  </a:cubicBezTo>
                  <a:cubicBezTo>
                    <a:pt x="24856" y="33593"/>
                    <a:pt x="24852" y="34158"/>
                    <a:pt x="24844" y="34711"/>
                  </a:cubicBezTo>
                  <a:lnTo>
                    <a:pt x="16157" y="0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72710"/>
            <p:cNvSpPr/>
            <p:nvPr/>
          </p:nvSpPr>
          <p:spPr>
            <a:xfrm flipH="1" rot="20602200">
              <a:off x="1441800" y="342864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0"/>
                  </a:moveTo>
                  <a:cubicBezTo>
                    <a:pt x="21198" y="2176"/>
                    <a:pt x="21600" y="4515"/>
                    <a:pt x="21600" y="6947"/>
                  </a:cubicBezTo>
                  <a:cubicBezTo>
                    <a:pt x="21600" y="14141"/>
                    <a:pt x="18083" y="20514"/>
                    <a:pt x="12674" y="24440"/>
                  </a:cubicBezTo>
                </a:path>
                <a:path stroke="0" w="21600" h="24439">
                  <a:moveTo>
                    <a:pt x="12672" y="24438"/>
                  </a:moveTo>
                  <a:cubicBezTo>
                    <a:pt x="12673" y="24669"/>
                    <a:pt x="12673" y="24902"/>
                    <a:pt x="12673" y="25136"/>
                  </a:cubicBezTo>
                  <a:cubicBezTo>
                    <a:pt x="12673" y="25267"/>
                    <a:pt x="12673" y="25397"/>
                    <a:pt x="12673" y="25526"/>
                  </a:cubicBezTo>
                  <a:lnTo>
                    <a:pt x="20452" y="0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72711"/>
            <p:cNvSpPr/>
            <p:nvPr/>
          </p:nvSpPr>
          <p:spPr>
            <a:xfrm rot="20601600">
              <a:off x="3281400" y="184428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8"/>
                  </a:moveTo>
                  <a:cubicBezTo>
                    <a:pt x="1553" y="187"/>
                    <a:pt x="3174" y="-1"/>
                    <a:pt x="4839" y="-1"/>
                  </a:cubicBezTo>
                  <a:cubicBezTo>
                    <a:pt x="11488" y="-1"/>
                    <a:pt x="17435" y="3003"/>
                    <a:pt x="21397" y="7728"/>
                  </a:cubicBezTo>
                </a:path>
                <a:path stroke="0" w="21397" h="21600">
                  <a:moveTo>
                    <a:pt x="21397" y="7729"/>
                  </a:moveTo>
                  <a:cubicBezTo>
                    <a:pt x="18811" y="3837"/>
                    <a:pt x="17194" y="-1710"/>
                    <a:pt x="17194" y="-7866"/>
                  </a:cubicBezTo>
                  <a:cubicBezTo>
                    <a:pt x="17194" y="-19644"/>
                    <a:pt x="23112" y="-29192"/>
                    <a:pt x="30413" y="-29192"/>
                  </a:cubicBezTo>
                  <a:cubicBezTo>
                    <a:pt x="37714" y="-29192"/>
                    <a:pt x="43632" y="-19644"/>
                    <a:pt x="43632" y="-7866"/>
                  </a:cubicBezTo>
                  <a:cubicBezTo>
                    <a:pt x="43632" y="-4730"/>
                    <a:pt x="43213" y="-1753"/>
                    <a:pt x="42460" y="926"/>
                  </a:cubicBezTo>
                  <a:lnTo>
                    <a:pt x="0" y="548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72712"/>
            <p:cNvSpPr/>
            <p:nvPr/>
          </p:nvSpPr>
          <p:spPr>
            <a:xfrm flipH="1" rot="20602200">
              <a:off x="1242720" y="249660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0"/>
                  </a:moveTo>
                  <a:cubicBezTo>
                    <a:pt x="12505" y="1681"/>
                    <a:pt x="18923" y="7870"/>
                    <a:pt x="20936" y="15808"/>
                  </a:cubicBezTo>
                </a:path>
                <a:path stroke="0" w="20934" h="21142">
                  <a:moveTo>
                    <a:pt x="20934" y="15819"/>
                  </a:moveTo>
                  <a:cubicBezTo>
                    <a:pt x="20723" y="13980"/>
                    <a:pt x="20612" y="12035"/>
                    <a:pt x="20612" y="10026"/>
                  </a:cubicBezTo>
                  <a:cubicBezTo>
                    <a:pt x="20612" y="-1777"/>
                    <a:pt x="24457" y="-11345"/>
                    <a:pt x="29200" y="-11345"/>
                  </a:cubicBezTo>
                  <a:cubicBezTo>
                    <a:pt x="33943" y="-11345"/>
                    <a:pt x="37788" y="-1777"/>
                    <a:pt x="37788" y="10026"/>
                  </a:cubicBezTo>
                  <a:cubicBezTo>
                    <a:pt x="37788" y="11841"/>
                    <a:pt x="37697" y="13604"/>
                    <a:pt x="37526" y="15281"/>
                  </a:cubicBezTo>
                  <a:lnTo>
                    <a:pt x="4423" y="0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椭圆 72713"/>
            <p:cNvSpPr/>
            <p:nvPr/>
          </p:nvSpPr>
          <p:spPr>
            <a:xfrm rot="20601600">
              <a:off x="2849400" y="2752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文本框 72714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文本框 72715"/>
            <p:cNvSpPr/>
            <p:nvPr/>
          </p:nvSpPr>
          <p:spPr>
            <a:xfrm>
              <a:off x="406980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文本框 72716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72717"/>
            <p:cNvSpPr/>
            <p:nvPr/>
          </p:nvSpPr>
          <p:spPr>
            <a:xfrm>
              <a:off x="6172200" y="305100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72718"/>
            <p:cNvSpPr/>
            <p:nvPr/>
          </p:nvSpPr>
          <p:spPr>
            <a:xfrm rot="20539200">
              <a:off x="4570560" y="3057120"/>
              <a:ext cx="298440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0" y="12257"/>
                    <a:pt x="14630" y="16973"/>
                    <a:pt x="9249" y="19525"/>
                  </a:cubicBezTo>
                </a:path>
                <a:path stroke="0" w="20601" h="19523">
                  <a:moveTo>
                    <a:pt x="9242" y="19522"/>
                  </a:moveTo>
                  <a:cubicBezTo>
                    <a:pt x="9242" y="19598"/>
                    <a:pt x="9242" y="19675"/>
                    <a:pt x="9242" y="19752"/>
                  </a:cubicBezTo>
                  <a:cubicBezTo>
                    <a:pt x="9242" y="19892"/>
                    <a:pt x="9242" y="20031"/>
                    <a:pt x="9241" y="20168"/>
                  </a:cubicBez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任意多边形 72719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2720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72721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72722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72723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椭圆 72724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1008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1009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09680" y="2359080"/>
            <a:ext cx="4800600" cy="360"/>
            <a:chOff x="2209680" y="2359080"/>
            <a:chExt cx="4800600" cy="360"/>
          </a:xfrm>
        </p:grpSpPr>
        <p:sp>
          <p:nvSpPr>
            <p:cNvPr id="131" name="直接连接符 41010"/>
            <p:cNvSpPr/>
            <p:nvPr/>
          </p:nvSpPr>
          <p:spPr>
            <a:xfrm>
              <a:off x="2209680" y="2359080"/>
              <a:ext cx="480060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209680" y="235908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1011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134" name="直角三角形 41012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角三角形 41013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文本框 41014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41015"/>
          <p:cNvGrpSpPr/>
          <p:nvPr/>
        </p:nvGrpSpPr>
        <p:grpSpPr>
          <a:xfrm>
            <a:off x="1928880" y="2819520"/>
            <a:ext cx="5081400" cy="568440"/>
            <a:chOff x="1928880" y="2819520"/>
            <a:chExt cx="5081400" cy="568440"/>
          </a:xfrm>
        </p:grpSpPr>
        <p:grpSp>
          <p:nvGrpSpPr>
            <p:cNvPr id="138" name=""/>
            <p:cNvGrpSpPr/>
            <p:nvPr/>
          </p:nvGrpSpPr>
          <p:grpSpPr>
            <a:xfrm>
              <a:off x="2209680" y="3273480"/>
              <a:ext cx="4800600" cy="360"/>
              <a:chOff x="2209680" y="3273480"/>
              <a:chExt cx="4800600" cy="360"/>
            </a:xfrm>
          </p:grpSpPr>
          <p:sp>
            <p:nvSpPr>
              <p:cNvPr id="139" name="直接连接符 41016"/>
              <p:cNvSpPr/>
              <p:nvPr/>
            </p:nvSpPr>
            <p:spPr>
              <a:xfrm>
                <a:off x="2209680" y="327348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2209680" y="32734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组合 41017"/>
            <p:cNvGrpSpPr/>
            <p:nvPr/>
          </p:nvGrpSpPr>
          <p:grpSpPr>
            <a:xfrm>
              <a:off x="1928880" y="3129480"/>
              <a:ext cx="258480" cy="258480"/>
              <a:chOff x="1928880" y="3129480"/>
              <a:chExt cx="258480" cy="258480"/>
            </a:xfrm>
          </p:grpSpPr>
          <p:sp>
            <p:nvSpPr>
              <p:cNvPr id="142" name="直角三角形 41018"/>
              <p:cNvSpPr/>
              <p:nvPr/>
            </p:nvSpPr>
            <p:spPr>
              <a:xfrm rot="2700000">
                <a:off x="1966680" y="31672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直角三角形 41019"/>
              <p:cNvSpPr/>
              <p:nvPr/>
            </p:nvSpPr>
            <p:spPr>
              <a:xfrm flipH="1" rot="18900000">
                <a:off x="1966680" y="3167280"/>
                <a:ext cx="182880" cy="182520"/>
              </a:xfrm>
              <a:prstGeom prst="rtTriangle">
                <a:avLst/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41020"/>
            <p:cNvSpPr/>
            <p:nvPr/>
          </p:nvSpPr>
          <p:spPr>
            <a:xfrm>
              <a:off x="301716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41021"/>
          <p:cNvGrpSpPr/>
          <p:nvPr/>
        </p:nvGrpSpPr>
        <p:grpSpPr>
          <a:xfrm>
            <a:off x="1928880" y="3736800"/>
            <a:ext cx="5081400" cy="568440"/>
            <a:chOff x="1928880" y="3736800"/>
            <a:chExt cx="5081400" cy="568440"/>
          </a:xfrm>
        </p:grpSpPr>
        <p:grpSp>
          <p:nvGrpSpPr>
            <p:cNvPr id="146" name=""/>
            <p:cNvGrpSpPr/>
            <p:nvPr/>
          </p:nvGrpSpPr>
          <p:grpSpPr>
            <a:xfrm>
              <a:off x="2209680" y="4190760"/>
              <a:ext cx="4800600" cy="360"/>
              <a:chOff x="2209680" y="4190760"/>
              <a:chExt cx="4800600" cy="360"/>
            </a:xfrm>
          </p:grpSpPr>
          <p:sp>
            <p:nvSpPr>
              <p:cNvPr id="147" name="直接连接符 41022"/>
              <p:cNvSpPr/>
              <p:nvPr/>
            </p:nvSpPr>
            <p:spPr>
              <a:xfrm>
                <a:off x="2209680" y="419076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2209680" y="419076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组合 41023"/>
            <p:cNvGrpSpPr/>
            <p:nvPr/>
          </p:nvGrpSpPr>
          <p:grpSpPr>
            <a:xfrm>
              <a:off x="1928880" y="4046760"/>
              <a:ext cx="258480" cy="258480"/>
              <a:chOff x="1928880" y="4046760"/>
              <a:chExt cx="258480" cy="258480"/>
            </a:xfrm>
          </p:grpSpPr>
          <p:sp>
            <p:nvSpPr>
              <p:cNvPr id="150" name="直角三角形 41024"/>
              <p:cNvSpPr/>
              <p:nvPr/>
            </p:nvSpPr>
            <p:spPr>
              <a:xfrm rot="2700000">
                <a:off x="1966680" y="408456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角三角形 41025"/>
              <p:cNvSpPr/>
              <p:nvPr/>
            </p:nvSpPr>
            <p:spPr>
              <a:xfrm flipH="1" rot="18900000">
                <a:off x="1966680" y="4084560"/>
                <a:ext cx="182880" cy="182520"/>
              </a:xfrm>
              <a:prstGeom prst="rtTriangle">
                <a:avLst/>
              </a:prstGeom>
              <a:solidFill>
                <a:srgbClr val="4987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文本框 41026"/>
            <p:cNvSpPr/>
            <p:nvPr/>
          </p:nvSpPr>
          <p:spPr>
            <a:xfrm>
              <a:off x="301716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41027"/>
          <p:cNvGrpSpPr/>
          <p:nvPr/>
        </p:nvGrpSpPr>
        <p:grpSpPr>
          <a:xfrm>
            <a:off x="1928880" y="4648320"/>
            <a:ext cx="5081400" cy="568440"/>
            <a:chOff x="1928880" y="4648320"/>
            <a:chExt cx="5081400" cy="568440"/>
          </a:xfrm>
        </p:grpSpPr>
        <p:grpSp>
          <p:nvGrpSpPr>
            <p:cNvPr id="154" name=""/>
            <p:cNvGrpSpPr/>
            <p:nvPr/>
          </p:nvGrpSpPr>
          <p:grpSpPr>
            <a:xfrm>
              <a:off x="2209680" y="5102280"/>
              <a:ext cx="4800600" cy="360"/>
              <a:chOff x="2209680" y="5102280"/>
              <a:chExt cx="4800600" cy="360"/>
            </a:xfrm>
          </p:grpSpPr>
          <p:sp>
            <p:nvSpPr>
              <p:cNvPr id="155" name="直接连接符 41028"/>
              <p:cNvSpPr/>
              <p:nvPr/>
            </p:nvSpPr>
            <p:spPr>
              <a:xfrm>
                <a:off x="2209680" y="5102280"/>
                <a:ext cx="48006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 txBox="1"/>
              <p:nvPr/>
            </p:nvSpPr>
            <p:spPr>
              <a:xfrm>
                <a:off x="2209680" y="5102280"/>
                <a:ext cx="48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组合 41029"/>
            <p:cNvGrpSpPr/>
            <p:nvPr/>
          </p:nvGrpSpPr>
          <p:grpSpPr>
            <a:xfrm>
              <a:off x="1928880" y="4958280"/>
              <a:ext cx="258480" cy="258480"/>
              <a:chOff x="1928880" y="4958280"/>
              <a:chExt cx="258480" cy="258480"/>
            </a:xfrm>
          </p:grpSpPr>
          <p:sp>
            <p:nvSpPr>
              <p:cNvPr id="158" name="直角三角形 41030"/>
              <p:cNvSpPr/>
              <p:nvPr/>
            </p:nvSpPr>
            <p:spPr>
              <a:xfrm rot="2700000">
                <a:off x="1966680" y="4996080"/>
                <a:ext cx="182520" cy="18252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角三角形 41031"/>
              <p:cNvSpPr/>
              <p:nvPr/>
            </p:nvSpPr>
            <p:spPr>
              <a:xfrm flipH="1" rot="18900000">
                <a:off x="1966680" y="4996080"/>
                <a:ext cx="182880" cy="182520"/>
              </a:xfrm>
              <a:prstGeom prst="rtTriangle">
                <a:avLst/>
              </a:prstGeom>
              <a:solidFill>
                <a:srgbClr val="36a1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文本框 41032"/>
            <p:cNvSpPr/>
            <p:nvPr/>
          </p:nvSpPr>
          <p:spPr>
            <a:xfrm>
              <a:off x="301716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38C0-25A6-431F-A709-A45059F7A3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59394"/>
          <p:cNvSpPr txBox="1"/>
          <p:nvPr/>
        </p:nvSpPr>
        <p:spPr>
          <a:xfrm>
            <a:off x="990720" y="2286000"/>
            <a:ext cx="5029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36a1b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37399b"/>
                  </a:gs>
                  <a:gs pos="100000">
                    <a:srgbClr val="36a1b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75" name="矩形 59397"/>
          <p:cNvSpPr/>
          <p:nvPr/>
        </p:nvSpPr>
        <p:spPr>
          <a:xfrm>
            <a:off x="8677440" y="3581280"/>
            <a:ext cx="75960" cy="228600"/>
          </a:xfrm>
          <a:prstGeom prst="rect">
            <a:avLst/>
          </a:prstGeom>
          <a:solidFill>
            <a:srgbClr val="498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71600" y="1922040"/>
            <a:ext cx="807696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3200" spc="-1" strike="noStrike">
                <a:solidFill>
                  <a:srgbClr val="37399b"/>
                </a:solidFill>
                <a:latin typeface="Arial"/>
                <a:ea typeface="宋体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37399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1988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41991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46107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67" name="任意多边形 46108"/>
            <p:cNvSpPr/>
            <p:nvPr/>
          </p:nvSpPr>
          <p:spPr>
            <a:xfrm>
              <a:off x="1320840" y="2155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46109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96baef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46110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70" name="任意多边形 46111"/>
            <p:cNvSpPr/>
            <p:nvPr/>
          </p:nvSpPr>
          <p:spPr>
            <a:xfrm>
              <a:off x="1320840" y="3298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46112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8bc9d5"/>
                </a:gs>
                <a:gs pos="100000">
                  <a:srgbClr val="36a1b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46113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73" name="任意多边形 46114"/>
            <p:cNvSpPr/>
            <p:nvPr/>
          </p:nvSpPr>
          <p:spPr>
            <a:xfrm>
              <a:off x="1320840" y="4441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矩形 46115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37399b"/>
                </a:gs>
                <a:gs pos="50000">
                  <a:srgbClr val="8c8dc5"/>
                </a:gs>
                <a:gs pos="100000">
                  <a:srgbClr val="37399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46116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76" name="任意多边形 46117"/>
            <p:cNvSpPr/>
            <p:nvPr/>
          </p:nvSpPr>
          <p:spPr>
            <a:xfrm>
              <a:off x="1320840" y="5584680"/>
              <a:ext cx="15206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6c6c6c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46118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7fb242"/>
                </a:gs>
                <a:gs pos="50000">
                  <a:srgbClr val="b5d392"/>
                </a:gs>
                <a:gs pos="100000">
                  <a:srgbClr val="7fb2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8" name="直接箭头连接符 46119"/>
          <p:cNvCxnSpPr>
            <a:stCxn id="167" idx="0"/>
            <a:endCxn id="171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round/>
          </a:ln>
        </p:spPr>
      </p:cxnSp>
      <p:cxnSp>
        <p:nvCxnSpPr>
          <p:cNvPr id="179" name="直接箭头连接符 46120"/>
          <p:cNvCxnSpPr>
            <a:stCxn id="170" idx="0"/>
            <a:endCxn id="174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round/>
          </a:ln>
        </p:spPr>
      </p:cxnSp>
      <p:cxnSp>
        <p:nvCxnSpPr>
          <p:cNvPr id="180" name="直接箭头连接符 46121"/>
          <p:cNvCxnSpPr>
            <a:stCxn id="173" idx="0"/>
            <a:endCxn id="177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round/>
          </a:ln>
        </p:spPr>
      </p:cxnSp>
      <p:grpSp>
        <p:nvGrpSpPr>
          <p:cNvPr id="181" name=""/>
          <p:cNvGrpSpPr/>
          <p:nvPr/>
        </p:nvGrpSpPr>
        <p:grpSpPr>
          <a:xfrm>
            <a:off x="2133720" y="2590920"/>
            <a:ext cx="5943600" cy="360"/>
            <a:chOff x="2133720" y="2590920"/>
            <a:chExt cx="5943600" cy="360"/>
          </a:xfrm>
        </p:grpSpPr>
        <p:sp>
          <p:nvSpPr>
            <p:cNvPr id="182" name="直接连接符 46122"/>
            <p:cNvSpPr/>
            <p:nvPr/>
          </p:nvSpPr>
          <p:spPr>
            <a:xfrm>
              <a:off x="2133720" y="2590920"/>
              <a:ext cx="594360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2133720" y="259092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133720" y="3835440"/>
            <a:ext cx="5943600" cy="360"/>
            <a:chOff x="2133720" y="3835440"/>
            <a:chExt cx="5943600" cy="360"/>
          </a:xfrm>
        </p:grpSpPr>
        <p:sp>
          <p:nvSpPr>
            <p:cNvPr id="185" name="直接连接符 46123"/>
            <p:cNvSpPr/>
            <p:nvPr/>
          </p:nvSpPr>
          <p:spPr>
            <a:xfrm>
              <a:off x="2133720" y="3835440"/>
              <a:ext cx="594360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133720" y="383544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133720" y="4956120"/>
            <a:ext cx="5943600" cy="360"/>
            <a:chOff x="2133720" y="4956120"/>
            <a:chExt cx="5943600" cy="360"/>
          </a:xfrm>
        </p:grpSpPr>
        <p:sp>
          <p:nvSpPr>
            <p:cNvPr id="188" name="直接连接符 46124"/>
            <p:cNvSpPr/>
            <p:nvPr/>
          </p:nvSpPr>
          <p:spPr>
            <a:xfrm>
              <a:off x="2133720" y="4956120"/>
              <a:ext cx="5943600" cy="0"/>
            </a:xfrm>
            <a:prstGeom prst="line">
              <a:avLst/>
            </a:prstGeom>
            <a:ln cap="rnd" w="38160">
              <a:solidFill>
                <a:srgbClr val="5f5f5f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2133720" y="4956120"/>
              <a:ext cx="594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文本框 46125"/>
          <p:cNvSpPr/>
          <p:nvPr/>
        </p:nvSpPr>
        <p:spPr>
          <a:xfrm>
            <a:off x="3540600" y="1752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46126"/>
          <p:cNvSpPr/>
          <p:nvPr/>
        </p:nvSpPr>
        <p:spPr>
          <a:xfrm>
            <a:off x="3540600" y="2895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46127"/>
          <p:cNvSpPr/>
          <p:nvPr/>
        </p:nvSpPr>
        <p:spPr>
          <a:xfrm>
            <a:off x="3540600" y="4038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6128"/>
          <p:cNvSpPr/>
          <p:nvPr/>
        </p:nvSpPr>
        <p:spPr>
          <a:xfrm>
            <a:off x="3540600" y="51814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6129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6130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圆角矩形 43010"/>
          <p:cNvSpPr/>
          <p:nvPr/>
        </p:nvSpPr>
        <p:spPr>
          <a:xfrm>
            <a:off x="53881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43012"/>
          <p:cNvSpPr/>
          <p:nvPr/>
        </p:nvSpPr>
        <p:spPr>
          <a:xfrm>
            <a:off x="12193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3013"/>
          <p:cNvSpPr/>
          <p:nvPr/>
        </p:nvSpPr>
        <p:spPr>
          <a:xfrm>
            <a:off x="1309680" y="358920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3015"/>
          <p:cNvSpPr/>
          <p:nvPr/>
        </p:nvSpPr>
        <p:spPr>
          <a:xfrm>
            <a:off x="3181320" y="33051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36a1b6"/>
              </a:gs>
              <a:gs pos="100000">
                <a:srgbClr val="bfe1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3016"/>
          <p:cNvSpPr/>
          <p:nvPr/>
        </p:nvSpPr>
        <p:spPr>
          <a:xfrm flipH="1">
            <a:off x="4733280" y="33019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43017"/>
          <p:cNvSpPr/>
          <p:nvPr/>
        </p:nvSpPr>
        <p:spPr>
          <a:xfrm flipH="1">
            <a:off x="4738680" y="33051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4987e3"/>
              </a:gs>
              <a:gs pos="100000">
                <a:srgbClr val="c5d9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43018"/>
          <p:cNvGrpSpPr/>
          <p:nvPr/>
        </p:nvGrpSpPr>
        <p:grpSpPr>
          <a:xfrm>
            <a:off x="3016080" y="1752480"/>
            <a:ext cx="2827080" cy="1528200"/>
            <a:chOff x="3016080" y="1752480"/>
            <a:chExt cx="2827080" cy="1528200"/>
          </a:xfrm>
        </p:grpSpPr>
        <p:grpSp>
          <p:nvGrpSpPr>
            <p:cNvPr id="204" name="组合 43019"/>
            <p:cNvGrpSpPr/>
            <p:nvPr/>
          </p:nvGrpSpPr>
          <p:grpSpPr>
            <a:xfrm>
              <a:off x="3016080" y="1888560"/>
              <a:ext cx="2827080" cy="1392120"/>
              <a:chOff x="3016080" y="1888560"/>
              <a:chExt cx="2827080" cy="1392120"/>
            </a:xfrm>
          </p:grpSpPr>
          <p:sp>
            <p:nvSpPr>
              <p:cNvPr id="205" name="椭圆 43020"/>
              <p:cNvSpPr/>
              <p:nvPr/>
            </p:nvSpPr>
            <p:spPr>
              <a:xfrm>
                <a:off x="3046680" y="19328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a4e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椭圆 43021"/>
              <p:cNvSpPr/>
              <p:nvPr/>
            </p:nvSpPr>
            <p:spPr>
              <a:xfrm>
                <a:off x="3016080" y="1888560"/>
                <a:ext cx="2796480" cy="1347480"/>
              </a:xfrm>
              <a:prstGeom prst="ellipse">
                <a:avLst/>
              </a:prstGeom>
              <a:gradFill rotWithShape="0">
                <a:gsLst>
                  <a:gs pos="0">
                    <a:srgbClr val="c6ddab"/>
                  </a:gs>
                  <a:gs pos="100000">
                    <a:srgbClr val="7fb2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椭圆 43022"/>
            <p:cNvSpPr/>
            <p:nvPr/>
          </p:nvSpPr>
          <p:spPr>
            <a:xfrm>
              <a:off x="3149280" y="1752480"/>
              <a:ext cx="2530800" cy="128052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43023"/>
            <p:cNvSpPr/>
            <p:nvPr/>
          </p:nvSpPr>
          <p:spPr>
            <a:xfrm>
              <a:off x="3182400" y="1759680"/>
              <a:ext cx="2469600" cy="124848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bfd5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43024"/>
            <p:cNvSpPr/>
            <p:nvPr/>
          </p:nvSpPr>
          <p:spPr>
            <a:xfrm>
              <a:off x="3207600" y="1772280"/>
              <a:ext cx="2349720" cy="1166400"/>
            </a:xfrm>
            <a:prstGeom prst="ellipse">
              <a:avLst/>
            </a:prstGeom>
            <a:gradFill rotWithShape="0">
              <a:gsLst>
                <a:gs pos="0">
                  <a:srgbClr val="3a6bb4"/>
                </a:gs>
                <a:gs pos="100000">
                  <a:srgbClr val="4987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43025"/>
            <p:cNvSpPr/>
            <p:nvPr/>
          </p:nvSpPr>
          <p:spPr>
            <a:xfrm>
              <a:off x="3331800" y="1797840"/>
              <a:ext cx="206820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987e3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文本框 43026"/>
          <p:cNvSpPr/>
          <p:nvPr/>
        </p:nvSpPr>
        <p:spPr>
          <a:xfrm>
            <a:off x="3770280" y="1943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3027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3028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43030"/>
          <p:cNvSpPr/>
          <p:nvPr/>
        </p:nvSpPr>
        <p:spPr>
          <a:xfrm>
            <a:off x="5562720" y="3581280"/>
            <a:ext cx="19224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任意多边形 70659"/>
          <p:cNvSpPr/>
          <p:nvPr/>
        </p:nvSpPr>
        <p:spPr>
          <a:xfrm>
            <a:off x="1143000" y="196200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7fb242"/>
              </a:gs>
              <a:gs pos="100000">
                <a:srgbClr val="36a1b6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70688"/>
          <p:cNvSpPr/>
          <p:nvPr/>
        </p:nvSpPr>
        <p:spPr>
          <a:xfrm>
            <a:off x="5562720" y="3409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99b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70689"/>
          <p:cNvSpPr/>
          <p:nvPr/>
        </p:nvSpPr>
        <p:spPr>
          <a:xfrm rot="20876400">
            <a:off x="339264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70690"/>
          <p:cNvSpPr/>
          <p:nvPr/>
        </p:nvSpPr>
        <p:spPr>
          <a:xfrm>
            <a:off x="332424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70691"/>
          <p:cNvSpPr/>
          <p:nvPr/>
        </p:nvSpPr>
        <p:spPr>
          <a:xfrm>
            <a:off x="33447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70692"/>
          <p:cNvSpPr/>
          <p:nvPr/>
        </p:nvSpPr>
        <p:spPr>
          <a:xfrm>
            <a:off x="336240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70693"/>
          <p:cNvSpPr/>
          <p:nvPr/>
        </p:nvSpPr>
        <p:spPr>
          <a:xfrm>
            <a:off x="3454560" y="3803760"/>
            <a:ext cx="140940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70694"/>
          <p:cNvSpPr/>
          <p:nvPr/>
        </p:nvSpPr>
        <p:spPr>
          <a:xfrm>
            <a:off x="37418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70695"/>
          <p:cNvSpPr/>
          <p:nvPr/>
        </p:nvSpPr>
        <p:spPr>
          <a:xfrm rot="20826600">
            <a:off x="154944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70696"/>
          <p:cNvGrpSpPr/>
          <p:nvPr/>
        </p:nvGrpSpPr>
        <p:grpSpPr>
          <a:xfrm>
            <a:off x="1473120" y="3352680"/>
            <a:ext cx="1371240" cy="1441080"/>
            <a:chOff x="1473120" y="3352680"/>
            <a:chExt cx="1371240" cy="1441080"/>
          </a:xfrm>
        </p:grpSpPr>
        <p:sp>
          <p:nvSpPr>
            <p:cNvPr id="226" name="椭圆 70697"/>
            <p:cNvSpPr/>
            <p:nvPr/>
          </p:nvSpPr>
          <p:spPr>
            <a:xfrm>
              <a:off x="14731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70698"/>
            <p:cNvSpPr/>
            <p:nvPr/>
          </p:nvSpPr>
          <p:spPr>
            <a:xfrm>
              <a:off x="14907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70699"/>
            <p:cNvSpPr/>
            <p:nvPr/>
          </p:nvSpPr>
          <p:spPr>
            <a:xfrm>
              <a:off x="15040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70700"/>
            <p:cNvSpPr/>
            <p:nvPr/>
          </p:nvSpPr>
          <p:spPr>
            <a:xfrm>
              <a:off x="15757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70701"/>
            <p:cNvSpPr/>
            <p:nvPr/>
          </p:nvSpPr>
          <p:spPr>
            <a:xfrm>
              <a:off x="17535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椭圆 70702"/>
          <p:cNvSpPr/>
          <p:nvPr/>
        </p:nvSpPr>
        <p:spPr>
          <a:xfrm>
            <a:off x="137160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70703"/>
          <p:cNvSpPr/>
          <p:nvPr/>
        </p:nvSpPr>
        <p:spPr>
          <a:xfrm>
            <a:off x="144792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70704"/>
          <p:cNvSpPr/>
          <p:nvPr/>
        </p:nvSpPr>
        <p:spPr>
          <a:xfrm>
            <a:off x="146052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70705"/>
          <p:cNvSpPr/>
          <p:nvPr/>
        </p:nvSpPr>
        <p:spPr>
          <a:xfrm>
            <a:off x="147168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70706"/>
          <p:cNvSpPr/>
          <p:nvPr/>
        </p:nvSpPr>
        <p:spPr>
          <a:xfrm>
            <a:off x="152568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0707"/>
          <p:cNvSpPr/>
          <p:nvPr/>
        </p:nvSpPr>
        <p:spPr>
          <a:xfrm>
            <a:off x="164484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70708"/>
          <p:cNvSpPr/>
          <p:nvPr/>
        </p:nvSpPr>
        <p:spPr>
          <a:xfrm>
            <a:off x="263844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70709"/>
          <p:cNvSpPr/>
          <p:nvPr/>
        </p:nvSpPr>
        <p:spPr>
          <a:xfrm>
            <a:off x="276084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0710"/>
          <p:cNvSpPr/>
          <p:nvPr/>
        </p:nvSpPr>
        <p:spPr>
          <a:xfrm>
            <a:off x="277020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70711"/>
          <p:cNvSpPr/>
          <p:nvPr/>
        </p:nvSpPr>
        <p:spPr>
          <a:xfrm>
            <a:off x="277668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70712"/>
          <p:cNvSpPr/>
          <p:nvPr/>
        </p:nvSpPr>
        <p:spPr>
          <a:xfrm>
            <a:off x="2813040" y="1552680"/>
            <a:ext cx="56340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70713"/>
          <p:cNvSpPr/>
          <p:nvPr/>
        </p:nvSpPr>
        <p:spPr>
          <a:xfrm>
            <a:off x="283104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70714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0715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45076"/>
          <p:cNvGrpSpPr/>
          <p:nvPr/>
        </p:nvGrpSpPr>
        <p:grpSpPr>
          <a:xfrm>
            <a:off x="1066680" y="1828800"/>
            <a:ext cx="6629400" cy="4035600"/>
            <a:chOff x="1066680" y="1828800"/>
            <a:chExt cx="6629400" cy="4035600"/>
          </a:xfrm>
        </p:grpSpPr>
        <p:sp>
          <p:nvSpPr>
            <p:cNvPr id="247" name="圆柱形 45058"/>
            <p:cNvSpPr/>
            <p:nvPr/>
          </p:nvSpPr>
          <p:spPr>
            <a:xfrm>
              <a:off x="3588480" y="405216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圆柱形 45059"/>
            <p:cNvSpPr/>
            <p:nvPr/>
          </p:nvSpPr>
          <p:spPr>
            <a:xfrm>
              <a:off x="3588480" y="35474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圆柱形 45060"/>
            <p:cNvSpPr/>
            <p:nvPr/>
          </p:nvSpPr>
          <p:spPr>
            <a:xfrm>
              <a:off x="3588480" y="304308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3e69"/>
                </a:gs>
                <a:gs pos="50000">
                  <a:srgbClr val="4987e3"/>
                </a:gs>
                <a:gs pos="100000">
                  <a:srgbClr val="223e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45061"/>
            <p:cNvSpPr/>
            <p:nvPr/>
          </p:nvSpPr>
          <p:spPr>
            <a:xfrm>
              <a:off x="4083840" y="3260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45062"/>
            <p:cNvSpPr/>
            <p:nvPr/>
          </p:nvSpPr>
          <p:spPr>
            <a:xfrm>
              <a:off x="4083840" y="376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45063"/>
            <p:cNvSpPr/>
            <p:nvPr/>
          </p:nvSpPr>
          <p:spPr>
            <a:xfrm>
              <a:off x="4083840" y="42696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左箭头 45064"/>
            <p:cNvSpPr/>
            <p:nvPr/>
          </p:nvSpPr>
          <p:spPr>
            <a:xfrm>
              <a:off x="2940120" y="2826720"/>
              <a:ext cx="504360" cy="1945440"/>
            </a:xfrm>
            <a:prstGeom prst="leftArrow">
              <a:avLst>
                <a:gd name="adj1" fmla="val 65583"/>
                <a:gd name="adj2" fmla="val 65171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圆角矩形 45065"/>
            <p:cNvSpPr/>
            <p:nvPr/>
          </p:nvSpPr>
          <p:spPr>
            <a:xfrm>
              <a:off x="1066680" y="23227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739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45066"/>
            <p:cNvSpPr/>
            <p:nvPr/>
          </p:nvSpPr>
          <p:spPr>
            <a:xfrm>
              <a:off x="1138320" y="25387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圆角矩形 45067"/>
            <p:cNvSpPr/>
            <p:nvPr/>
          </p:nvSpPr>
          <p:spPr>
            <a:xfrm>
              <a:off x="5966640" y="232272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739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45068"/>
            <p:cNvSpPr/>
            <p:nvPr/>
          </p:nvSpPr>
          <p:spPr>
            <a:xfrm>
              <a:off x="6038640" y="253872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右箭头 45069"/>
            <p:cNvSpPr/>
            <p:nvPr/>
          </p:nvSpPr>
          <p:spPr>
            <a:xfrm>
              <a:off x="5321160" y="2826720"/>
              <a:ext cx="501120" cy="1945440"/>
            </a:xfrm>
            <a:prstGeom prst="rightArrow">
              <a:avLst>
                <a:gd name="adj1" fmla="val 67750"/>
                <a:gd name="adj2" fmla="val 66157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圆柱形 45070"/>
            <p:cNvSpPr/>
            <p:nvPr/>
          </p:nvSpPr>
          <p:spPr>
            <a:xfrm>
              <a:off x="3124440" y="182880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94b54"/>
                </a:gs>
                <a:gs pos="50000">
                  <a:srgbClr val="36a1b6"/>
                </a:gs>
                <a:gs pos="100000">
                  <a:srgbClr val="194b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上箭头 45071"/>
            <p:cNvSpPr/>
            <p:nvPr/>
          </p:nvSpPr>
          <p:spPr>
            <a:xfrm>
              <a:off x="3556800" y="2466720"/>
              <a:ext cx="1657440" cy="504360"/>
            </a:xfrm>
            <a:prstGeom prst="upArrow">
              <a:avLst>
                <a:gd name="adj1" fmla="val 68380"/>
                <a:gd name="adj2" fmla="val 70824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45072"/>
            <p:cNvSpPr/>
            <p:nvPr/>
          </p:nvSpPr>
          <p:spPr>
            <a:xfrm>
              <a:off x="4061520" y="1966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圆柱形 45073"/>
            <p:cNvSpPr/>
            <p:nvPr/>
          </p:nvSpPr>
          <p:spPr>
            <a:xfrm>
              <a:off x="3154680" y="527688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文本框 45074"/>
            <p:cNvSpPr/>
            <p:nvPr/>
          </p:nvSpPr>
          <p:spPr>
            <a:xfrm>
              <a:off x="4061520" y="54961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下箭头 45075"/>
            <p:cNvSpPr/>
            <p:nvPr/>
          </p:nvSpPr>
          <p:spPr>
            <a:xfrm>
              <a:off x="3535920" y="4700520"/>
              <a:ext cx="1660320" cy="496440"/>
            </a:xfrm>
            <a:prstGeom prst="downArrow">
              <a:avLst>
                <a:gd name="adj1" fmla="val 67093"/>
                <a:gd name="adj2" fmla="val 64042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文本框 45077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5078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右箭头 48130"/>
          <p:cNvSpPr/>
          <p:nvPr/>
        </p:nvSpPr>
        <p:spPr>
          <a:xfrm>
            <a:off x="196920" y="1676520"/>
            <a:ext cx="5975280" cy="4495680"/>
          </a:xfrm>
          <a:prstGeom prst="rightArrow">
            <a:avLst>
              <a:gd name="adj1" fmla="val 79306"/>
              <a:gd name="adj2" fmla="val 32908"/>
            </a:avLst>
          </a:prstGeom>
          <a:gradFill rotWithShape="0">
            <a:gsLst>
              <a:gs pos="0">
                <a:srgbClr val="f9fbfe"/>
              </a:gs>
              <a:gs pos="100000">
                <a:srgbClr val="4987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48131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50000">
                <a:srgbClr val="86afec"/>
              </a:gs>
              <a:gs pos="100000">
                <a:srgbClr val="4987e3"/>
              </a:gs>
            </a:gsLst>
            <a:lin ang="27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圆角矩形 48132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a1b6"/>
              </a:gs>
              <a:gs pos="50000">
                <a:srgbClr val="79c0ce"/>
              </a:gs>
              <a:gs pos="100000">
                <a:srgbClr val="36a1b6"/>
              </a:gs>
            </a:gsLst>
            <a:lin ang="27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圆角矩形 48133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fb242"/>
              </a:gs>
              <a:gs pos="50000">
                <a:srgbClr val="aacc81"/>
              </a:gs>
              <a:gs pos="100000">
                <a:srgbClr val="7fb242"/>
              </a:gs>
            </a:gsLst>
            <a:lin ang="27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圆角矩形 48134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48135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48136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655560"/>
            <a:ext cx="4952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9192"/>
          <p:cNvGrpSpPr/>
          <p:nvPr/>
        </p:nvGrpSpPr>
        <p:grpSpPr>
          <a:xfrm>
            <a:off x="914400" y="2362320"/>
            <a:ext cx="7162560" cy="2895120"/>
            <a:chOff x="914400" y="2362320"/>
            <a:chExt cx="7162560" cy="2895120"/>
          </a:xfrm>
        </p:grpSpPr>
        <p:sp>
          <p:nvSpPr>
            <p:cNvPr id="277" name="燕尾形 49154"/>
            <p:cNvSpPr/>
            <p:nvPr/>
          </p:nvSpPr>
          <p:spPr>
            <a:xfrm>
              <a:off x="2941920" y="311904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燕尾形 49155"/>
            <p:cNvSpPr/>
            <p:nvPr/>
          </p:nvSpPr>
          <p:spPr>
            <a:xfrm>
              <a:off x="5508720" y="311904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9" y="0"/>
                  </a:lnTo>
                  <a:lnTo>
                    <a:pt x="21600" y="10800"/>
                  </a:lnTo>
                  <a:lnTo>
                    <a:pt x="10259" y="21600"/>
                  </a:lnTo>
                  <a:lnTo>
                    <a:pt x="0" y="21600"/>
                  </a:lnTo>
                  <a:lnTo>
                    <a:pt x="11341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49156"/>
            <p:cNvSpPr/>
            <p:nvPr/>
          </p:nvSpPr>
          <p:spPr>
            <a:xfrm>
              <a:off x="6049440" y="23680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6a1b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椭圆 49157"/>
            <p:cNvSpPr/>
            <p:nvPr/>
          </p:nvSpPr>
          <p:spPr>
            <a:xfrm>
              <a:off x="6049440" y="23680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椭圆 49158"/>
            <p:cNvSpPr/>
            <p:nvPr/>
          </p:nvSpPr>
          <p:spPr>
            <a:xfrm>
              <a:off x="6182280" y="25020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1d5762"/>
                </a:gs>
                <a:gs pos="50000">
                  <a:srgbClr val="36a1b6"/>
                </a:gs>
                <a:gs pos="100000">
                  <a:srgbClr val="1d576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49159"/>
            <p:cNvSpPr/>
            <p:nvPr/>
          </p:nvSpPr>
          <p:spPr>
            <a:xfrm>
              <a:off x="6211800" y="2512800"/>
              <a:ext cx="1762200" cy="1779840"/>
            </a:xfrm>
            <a:prstGeom prst="ellipse">
              <a:avLst/>
            </a:prstGeom>
            <a:gradFill rotWithShape="0">
              <a:gsLst>
                <a:gs pos="0">
                  <a:srgbClr val="226674"/>
                </a:gs>
                <a:gs pos="100000">
                  <a:srgbClr val="36a1b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49160"/>
            <p:cNvSpPr/>
            <p:nvPr/>
          </p:nvSpPr>
          <p:spPr>
            <a:xfrm>
              <a:off x="6277320" y="2590920"/>
              <a:ext cx="1586160" cy="160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9161"/>
            <p:cNvSpPr/>
            <p:nvPr/>
          </p:nvSpPr>
          <p:spPr>
            <a:xfrm>
              <a:off x="914400" y="236232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fb24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49162"/>
            <p:cNvSpPr/>
            <p:nvPr/>
          </p:nvSpPr>
          <p:spPr>
            <a:xfrm>
              <a:off x="914400" y="236232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7fb242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9163"/>
            <p:cNvSpPr/>
            <p:nvPr/>
          </p:nvSpPr>
          <p:spPr>
            <a:xfrm>
              <a:off x="1046520" y="249588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456024"/>
                </a:gs>
                <a:gs pos="50000">
                  <a:srgbClr val="7fb242"/>
                </a:gs>
                <a:gs pos="100000">
                  <a:srgbClr val="45602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49164"/>
            <p:cNvSpPr/>
            <p:nvPr/>
          </p:nvSpPr>
          <p:spPr>
            <a:xfrm>
              <a:off x="1048320" y="249912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51712a"/>
                </a:gs>
                <a:gs pos="100000">
                  <a:srgbClr val="7fb24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49165"/>
            <p:cNvSpPr/>
            <p:nvPr/>
          </p:nvSpPr>
          <p:spPr>
            <a:xfrm>
              <a:off x="1134720" y="258480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组合 49166"/>
            <p:cNvGrpSpPr/>
            <p:nvPr/>
          </p:nvGrpSpPr>
          <p:grpSpPr>
            <a:xfrm>
              <a:off x="1160280" y="2608920"/>
              <a:ext cx="1535760" cy="1551240"/>
              <a:chOff x="1160280" y="2608920"/>
              <a:chExt cx="1535760" cy="1551240"/>
            </a:xfrm>
          </p:grpSpPr>
          <p:sp>
            <p:nvSpPr>
              <p:cNvPr id="290" name="椭圆 49167"/>
              <p:cNvSpPr/>
              <p:nvPr/>
            </p:nvSpPr>
            <p:spPr>
              <a:xfrm>
                <a:off x="1160280" y="260892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椭圆 49168"/>
              <p:cNvSpPr/>
              <p:nvPr/>
            </p:nvSpPr>
            <p:spPr>
              <a:xfrm>
                <a:off x="1179720" y="261756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椭圆 49169"/>
              <p:cNvSpPr/>
              <p:nvPr/>
            </p:nvSpPr>
            <p:spPr>
              <a:xfrm>
                <a:off x="1195560" y="263232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椭圆 49170"/>
              <p:cNvSpPr/>
              <p:nvPr/>
            </p:nvSpPr>
            <p:spPr>
              <a:xfrm>
                <a:off x="1279080" y="267192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椭圆 49171"/>
            <p:cNvSpPr/>
            <p:nvPr/>
          </p:nvSpPr>
          <p:spPr>
            <a:xfrm>
              <a:off x="3482640" y="23680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98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49172"/>
            <p:cNvSpPr/>
            <p:nvPr/>
          </p:nvSpPr>
          <p:spPr>
            <a:xfrm>
              <a:off x="3482640" y="23680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32156"/>
                  </a:srgbClr>
                </a:gs>
                <a:gs pos="100000">
                  <a:srgbClr val="223e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49173"/>
            <p:cNvSpPr/>
            <p:nvPr/>
          </p:nvSpPr>
          <p:spPr>
            <a:xfrm>
              <a:off x="3615120" y="2502000"/>
              <a:ext cx="1762200" cy="1780200"/>
            </a:xfrm>
            <a:prstGeom prst="ellipse">
              <a:avLst/>
            </a:prstGeom>
            <a:gradFill rotWithShape="0">
              <a:gsLst>
                <a:gs pos="0">
                  <a:srgbClr val="28497b"/>
                </a:gs>
                <a:gs pos="50000">
                  <a:srgbClr val="4987e3"/>
                </a:gs>
                <a:gs pos="100000">
                  <a:srgbClr val="28497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49174"/>
            <p:cNvSpPr/>
            <p:nvPr/>
          </p:nvSpPr>
          <p:spPr>
            <a:xfrm>
              <a:off x="3616560" y="2505240"/>
              <a:ext cx="1762200" cy="1779840"/>
            </a:xfrm>
            <a:prstGeom prst="ellipse">
              <a:avLst/>
            </a:prstGeom>
            <a:gradFill rotWithShape="0">
              <a:gsLst>
                <a:gs pos="0">
                  <a:srgbClr val="2e5690"/>
                </a:gs>
                <a:gs pos="100000">
                  <a:srgbClr val="498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49175"/>
            <p:cNvSpPr/>
            <p:nvPr/>
          </p:nvSpPr>
          <p:spPr>
            <a:xfrm>
              <a:off x="3702960" y="2590920"/>
              <a:ext cx="1586160" cy="1602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组合 49176"/>
            <p:cNvGrpSpPr/>
            <p:nvPr/>
          </p:nvGrpSpPr>
          <p:grpSpPr>
            <a:xfrm>
              <a:off x="3728520" y="2608920"/>
              <a:ext cx="1535760" cy="1551240"/>
              <a:chOff x="3728520" y="2608920"/>
              <a:chExt cx="1535760" cy="1551240"/>
            </a:xfrm>
          </p:grpSpPr>
          <p:sp>
            <p:nvSpPr>
              <p:cNvPr id="300" name="椭圆 49177"/>
              <p:cNvSpPr/>
              <p:nvPr/>
            </p:nvSpPr>
            <p:spPr>
              <a:xfrm>
                <a:off x="3728520" y="260892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椭圆 49178"/>
              <p:cNvSpPr/>
              <p:nvPr/>
            </p:nvSpPr>
            <p:spPr>
              <a:xfrm>
                <a:off x="3747960" y="261756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椭圆 49179"/>
              <p:cNvSpPr/>
              <p:nvPr/>
            </p:nvSpPr>
            <p:spPr>
              <a:xfrm>
                <a:off x="3763800" y="263232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椭圆 49180"/>
              <p:cNvSpPr/>
              <p:nvPr/>
            </p:nvSpPr>
            <p:spPr>
              <a:xfrm>
                <a:off x="3847320" y="267192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组合 49181"/>
            <p:cNvGrpSpPr/>
            <p:nvPr/>
          </p:nvGrpSpPr>
          <p:grpSpPr>
            <a:xfrm>
              <a:off x="6305760" y="2608920"/>
              <a:ext cx="1535760" cy="1551240"/>
              <a:chOff x="6305760" y="2608920"/>
              <a:chExt cx="1535760" cy="1551240"/>
            </a:xfrm>
          </p:grpSpPr>
          <p:sp>
            <p:nvSpPr>
              <p:cNvPr id="305" name="椭圆 49182"/>
              <p:cNvSpPr/>
              <p:nvPr/>
            </p:nvSpPr>
            <p:spPr>
              <a:xfrm>
                <a:off x="6305760" y="2608920"/>
                <a:ext cx="1535760" cy="1551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椭圆 49183"/>
              <p:cNvSpPr/>
              <p:nvPr/>
            </p:nvSpPr>
            <p:spPr>
              <a:xfrm>
                <a:off x="6325200" y="2617560"/>
                <a:ext cx="1499040" cy="1512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49184"/>
              <p:cNvSpPr/>
              <p:nvPr/>
            </p:nvSpPr>
            <p:spPr>
              <a:xfrm>
                <a:off x="6341040" y="2632320"/>
                <a:ext cx="1425240" cy="1413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椭圆 49185"/>
              <p:cNvSpPr/>
              <p:nvPr/>
            </p:nvSpPr>
            <p:spPr>
              <a:xfrm>
                <a:off x="6424560" y="2671920"/>
                <a:ext cx="1266840" cy="114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圆角矩形 49186"/>
            <p:cNvSpPr/>
            <p:nvPr/>
          </p:nvSpPr>
          <p:spPr>
            <a:xfrm>
              <a:off x="96048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圆角矩形 49187"/>
            <p:cNvSpPr/>
            <p:nvPr/>
          </p:nvSpPr>
          <p:spPr>
            <a:xfrm>
              <a:off x="352584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圆角矩形 49188"/>
            <p:cNvSpPr/>
            <p:nvPr/>
          </p:nvSpPr>
          <p:spPr>
            <a:xfrm>
              <a:off x="6109200" y="476856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文本框 49189"/>
            <p:cNvSpPr/>
            <p:nvPr/>
          </p:nvSpPr>
          <p:spPr>
            <a:xfrm>
              <a:off x="154404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文本框 49190"/>
            <p:cNvSpPr/>
            <p:nvPr/>
          </p:nvSpPr>
          <p:spPr>
            <a:xfrm>
              <a:off x="411840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49191"/>
            <p:cNvSpPr/>
            <p:nvPr/>
          </p:nvSpPr>
          <p:spPr>
            <a:xfrm>
              <a:off x="6692760" y="31824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文本框 49193"/>
          <p:cNvSpPr/>
          <p:nvPr/>
        </p:nvSpPr>
        <p:spPr>
          <a:xfrm>
            <a:off x="5607000" y="60948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23516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49194"/>
          <p:cNvSpPr/>
          <p:nvPr/>
        </p:nvSpPr>
        <p:spPr>
          <a:xfrm>
            <a:off x="5638680" y="101124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7T05:15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2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