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D47-ACFA-4AB9-92AF-EB68D3A8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380-3514-443C-83A4-9212D329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638-7A5A-4191-88C2-50F351FD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CD5-0D6A-4183-A833-A160FDB5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26A-5B86-4AB6-955D-C11EAEFC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2D4-9B43-4823-8597-35B74A51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8EC-E0AC-45D3-BF6E-DC0B190C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D70-953F-42A4-B143-29A264AF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896-EFEA-4D74-A28B-228DCAA1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B49-8B3A-40C4-A435-74296F58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DD1-3F94-46A1-B7AE-533040A3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394-F331-4196-8983-056CC8EB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D75D-CAEC-46CC-8B6E-321620BD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37B3-1BC8-4C6B-9D2F-BCC524ED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8885-62A1-4491-9E8D-15BF3CE0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A4E1-75A4-499A-B95D-123992F7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892B-D69D-4210-BF13-057BBB71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E48F-6071-425E-A903-3E7AD669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822A-DD73-4C21-AFBC-9B611D17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92FD-9A75-437D-ADF9-99920BA6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D196-37F6-48D9-9D59-E9DD22BC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ACA0-02C5-473A-B84F-3C1FBFD2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DA16-FA59-4381-B2CA-564D7332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BF01-F456-483A-B7AE-37602CEA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FAA3-15ED-44FA-9D6F-54D6FC66E7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65CA-EA00-4231-AE97-96751D3B1A6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BCCF-AE8A-462E-9ADA-185B862858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2049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622080"/>
            <a:ext cx="7635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黑体"/>
              </a:rPr>
              <a:t>医疗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黑体"/>
              </a:rPr>
              <a:t>纳米光子学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黑体"/>
              </a:rPr>
              <a:t>PPT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2376360"/>
            <a:ext cx="462456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3399"/>
              </a:solidFill>
              <a:latin typeface="Arial"/>
              <a:ea typeface="黑体"/>
            </a:endParaRPr>
          </a:p>
        </p:txBody>
      </p:sp>
      <p:sp>
        <p:nvSpPr>
          <p:cNvPr id="16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55700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7159-09D4-40DD-B424-7114FEFE8B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5280" y="14860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8199"/>
          <p:cNvSpPr/>
          <p:nvPr/>
        </p:nvSpPr>
        <p:spPr>
          <a:xfrm>
            <a:off x="2266920" y="4726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29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