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439-FF70-4061-A249-431CA385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0E6-EC15-4012-9542-3CAD815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CF9-D16D-478E-BB9F-66CAFB0A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018-F6F0-4947-A833-03F46B53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110-6E87-4CEE-BE6E-6EF5E97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0EF-F58D-4CB7-B97D-8A108141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199-02C8-4BB7-AA64-52D1F1D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C64-E7DF-46D2-8499-EB30234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8F9-4335-4927-80A8-DDDC8B3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AA8-C7B3-4B2A-B863-9B91AEB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2BF-D4E8-4DDA-A6A1-480FDCEC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172-B832-499B-A629-3D80FD7E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DD91-CC98-49AD-AAC8-92BE809DFD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2425-9A5F-4A87-988B-C0CD8A7E52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52320" y="1523880"/>
            <a:ext cx="61246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1111"/>
                </a:solidFill>
                <a:latin typeface="Arial"/>
              </a:rPr>
              <a:t>Lessons from the Pharmaceutical Scandals: Preventing Misconduct in Clinical Research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2880" y="3300480"/>
            <a:ext cx="2865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Jason Anderson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Spring 2008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057400" y="304920"/>
            <a:ext cx="68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Arial"/>
              </a:rPr>
              <a:t>医疗试管</a:t>
            </a:r>
            <a:r>
              <a:rPr b="0" lang="en-US" sz="4000" spc="-1" strike="noStrike">
                <a:solidFill>
                  <a:srgbClr val="111111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Recent Scandal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Zetia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Used to lower cholesterol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Enhance study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elayed release of resul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r. Kastelei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Zetia as a last resor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Avandi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Used to treat diabete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wo black box warnings for heart risk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GlaxoSmithKline’s improper influence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DA’s internal struggl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NEJM peer reviewer: Dr. Haffner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1484280"/>
            <a:ext cx="7072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omplaints and Calls for Chang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About the pharmaceutical companies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ocus on profi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Medical knowledge became a private commodity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0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Location and control of clinical trial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Bias in medical journal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Ghostwriting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rial design manipul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Exploitation of regulation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文本框 164867"/>
          <p:cNvSpPr/>
          <p:nvPr/>
        </p:nvSpPr>
        <p:spPr>
          <a:xfrm>
            <a:off x="222120" y="6202440"/>
            <a:ext cx="26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0) Abramson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note 9, at 696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1484280"/>
            <a:ext cx="7072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omplaints and Calls for Chang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About the FDA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urrogate endpoin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op-down pressur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DUFA and speed vs. safety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enator Grassley: on a miss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48" name="图片 169988" descr="grassley"/>
          <p:cNvPicPr/>
          <p:nvPr/>
        </p:nvPicPr>
        <p:blipFill>
          <a:blip r:embed="rId1"/>
          <a:stretch/>
        </p:blipFill>
        <p:spPr>
          <a:xfrm>
            <a:off x="7010280" y="2895480"/>
            <a:ext cx="1737000" cy="3318120"/>
          </a:xfrm>
          <a:prstGeom prst="rect">
            <a:avLst/>
          </a:prstGeom>
          <a:ln w="9360">
            <a:solidFill>
              <a:srgbClr val="1111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636560"/>
            <a:ext cx="81392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Regulatory</a:t>
            </a:r>
            <a:br>
              <a:rPr sz="3200"/>
            </a:b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Chang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7920" y="252540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rovide or require differences of opinion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1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Drug specific procedural safeguard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2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Strictly enforce existing regulation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3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enalize improper industry influence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4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Modify adverse event reporting system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5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Modify inspections program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6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文本框 165891"/>
          <p:cNvSpPr/>
          <p:nvPr/>
        </p:nvSpPr>
        <p:spPr>
          <a:xfrm>
            <a:off x="207000" y="5410080"/>
            <a:ext cx="812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1)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Baswell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supra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 note 3, at 1804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12)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note 1, at 617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3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d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at 622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4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d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at 623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5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d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6) Stephen A. Goldman, U.S. Postmarketing Pharmacovigilance Compliance in the Midst of Regulatory Uncertainty,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2 Food &amp; Drug L. J. 513, 513 (2007).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636560"/>
            <a:ext cx="874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Changes to </a:t>
            </a:r>
            <a:br>
              <a:rPr sz="3200"/>
            </a:b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Industry Practic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37920" y="260172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ocus more on social responsibility and less on profit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Increase pharmacovigilance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7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top using “competitive enrollment”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8</a:t>
            </a: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Voluntary moratorium on ghostwriting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文本框 171011"/>
          <p:cNvSpPr/>
          <p:nvPr/>
        </p:nvSpPr>
        <p:spPr>
          <a:xfrm>
            <a:off x="204840" y="6019920"/>
            <a:ext cx="824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7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ee generally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tephen A. Goldman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U.S. Postmarketing Pharmacovigilance Compliance in the Midst of Regulatory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Uncertainty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 62 Food &amp; Drug L. J. 513, 514 (2007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8) Woodin &amp; Schneider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note 5, at 218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C025-8EE6-41FA-A454-05907C00F3C0}" type="slidenum">
              <a:rPr b="0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27636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Questions or Comments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矩形 157699"/>
          <p:cNvSpPr/>
          <p:nvPr/>
        </p:nvSpPr>
        <p:spPr>
          <a:xfrm>
            <a:off x="2594520" y="6299280"/>
            <a:ext cx="37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Template Design by PoweredTemplates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Road Map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Historical context of regulation and pharmaceutical compani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urrent Regulatory Framework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urrent Industry Practic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cent Scandal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omplaints and Calls for Chang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Regulatory Chang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Changes to Industry Practic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Questions or Comments?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Historical Contex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gulation of drugs vs. regulation of clinical research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Government regulation prompted by tragedie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gulation of food and drugs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r. Wiley, the Poison Squad, and food additives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Pure Food and Drugs Ac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ulfanilamide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Food, Drug, and Cosmetic Ac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halidomide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Kefauver-Harris Amendmen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文本框 159747"/>
          <p:cNvSpPr/>
          <p:nvPr/>
        </p:nvSpPr>
        <p:spPr>
          <a:xfrm>
            <a:off x="194760" y="5937120"/>
            <a:ext cx="84168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)</a:t>
            </a:r>
            <a:r>
              <a:rPr b="0" lang="en-US" sz="1200" spc="-1" strike="noStrike" baseline="30000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e 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Only a Matter of Time: Lessons Unlearned at the Food and Drug Administration Keep Americans at Risk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0 Food &amp; Drug L.J. 603, 603 (2005).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Historical Contex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gulation of clinical research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Nazi experiments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Nuremberg Cod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Other subject abuses: 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uskegee Syphilis study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Jewish Chronic Disease Hospita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Willowbrook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eclaration of Helsinki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Belmont Repor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Historical Contex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harmaceutical industry evolution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Influences government/market through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Litig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Intense marketing effor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Lobbying (PhRMA)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Prescription Drug User Fee Act: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ecreased review times</a:t>
            </a:r>
            <a:r>
              <a:rPr b="0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2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Affects FDA’s funding</a:t>
            </a:r>
            <a:r>
              <a:rPr b="0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3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文本框 167939"/>
          <p:cNvSpPr/>
          <p:nvPr/>
        </p:nvSpPr>
        <p:spPr>
          <a:xfrm>
            <a:off x="208800" y="5900760"/>
            <a:ext cx="79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2) Sonia Shah, The Body Hunters: Testing New Drugs on the World’s Poorest Patients 40 (The New Press 2006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3) Karen Baswell, Note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Time For A Change: Why the FDA Should Require Greater Disclosure of Differences of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Opinion on the Safety and Efficacy of Approved Drugs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 35 Hofstra L. Rev. 1799, 1828 (2007)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484280"/>
            <a:ext cx="6615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urrent Regulatory Framework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Kefauver-Harris Amendments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Requires IND application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4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Requires minimal amount of safety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5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Three phases of clinical trials: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6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hase I – safety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hase II – efficacy (and safety)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hase III – efficacy, safety, and side-effec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hase IV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DA mandated post-market safety trials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7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ost-market treatment as experiment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文本框 160771"/>
          <p:cNvSpPr/>
          <p:nvPr/>
        </p:nvSpPr>
        <p:spPr>
          <a:xfrm>
            <a:off x="208800" y="5776920"/>
            <a:ext cx="844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4) 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note 1, at 609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5) Karen E. Woodin, &amp; John C. Schneider, The CRA's Guide to Monitoring Clinical Research 37-38 (CenterWatch 2003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) 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note 1, at 609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7) Carl H. Coleman, Jerry A. Menikoff, Jesse A. Goldner &amp; Nancy Neveloff Dubler, The Ethics and Regulation of Research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with Human Subjects 153 (LexisNexis 2005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148428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urrent Regulatory Framework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Types of disclosure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NDA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Adverse events and alert repor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issemination of off-label use inform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ood and Drug Administration Modernization Act of 2007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Clinicaltrials.gov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Efficacy requirements for serious or life-threatening illness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Accelerated approval – 6 month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urrogate endpoin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1484280"/>
            <a:ext cx="5624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urrent Industry Practic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Maximize profit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duce costs: CROs and SMO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8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Transition from academic medical centers to CRO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9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ost avoidance strategi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Good Clinical Practices (GCPs)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文本框 162819"/>
          <p:cNvSpPr/>
          <p:nvPr/>
        </p:nvSpPr>
        <p:spPr>
          <a:xfrm>
            <a:off x="206640" y="5943600"/>
            <a:ext cx="82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8) Richard A. Rettig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The Industrialization of Clinical Research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n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The Ethics and Regulation of Research with Human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bjects 80-81 (LexisNexis 2005)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9) John Abramson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The Reliability of Our Medical Knowledge as a Product of Industry Relationships,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35 Hofstra L. Rev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91, 695-96 (2006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Recent Scandal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Improper reporting of trial results and other misconduc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Ketek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Used to treat bacterial infection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Reports of liver injury and failur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2007: FDA removed two indication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tudy 3014 and Dr. Kirkman-Campbell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PD and Aventis’ inac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DA’s inac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42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1Z</dcterms:modified>
  <cp:revision>7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