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C6F-14CB-4490-AD8B-1817AD5D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100-7553-4042-935B-B121DC0C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475-6CE5-47B9-9DD9-E865018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0D5-2CAD-4EFD-9AA9-95DF62EF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FBEB-4670-4AE3-B91A-3098EB13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DC53-E0AA-4858-B896-46C1D5B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005-E356-461B-B62A-2686FAE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0FCE-F1ED-41BD-A745-F71D1E28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13D-1736-415D-9EBF-1E55A683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AEF3-6D58-4310-AEE0-51D64F17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4CB0-E393-4949-A382-6A3E0AF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FB2-FEC2-42C8-93C9-3A6EA1C5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51AE-8098-4561-AA62-3E44F31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A006-A716-4018-92CC-EBA00C9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DFB-7A4C-4627-941A-C4BBEBC2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25F-BD02-484E-8DF6-8266ED74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F18D-9987-4F41-A627-1D419506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896-A24E-4193-9EF7-F6814105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767-91D5-4419-8C5A-C82F38B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EB5-1368-40F3-B06D-91655B8C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32B-E48A-44F6-8EAF-8BD0F52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97D-B8E8-41D3-9418-28A957C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31F-40C8-4036-9928-2BE6992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D23-9BDE-4D50-B869-E1D5130C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AE8F-7678-4574-B9B4-4C74295A0D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4EC9-555A-4FDD-BC99-2A4349CD8E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245B-C955-4773-BEA1-62F101635B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药物医学治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214800" y="4429080"/>
            <a:ext cx="48574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医学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9"/>
          <p:cNvSpPr/>
          <p:nvPr/>
        </p:nvSpPr>
        <p:spPr>
          <a:xfrm>
            <a:off x="3286080" y="4929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FB6D-31B6-40E1-A11D-5C08B072CD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2"/>
          <p:cNvGrpSpPr/>
          <p:nvPr/>
        </p:nvGrpSpPr>
        <p:grpSpPr>
          <a:xfrm>
            <a:off x="1356840" y="1685880"/>
            <a:ext cx="7061760" cy="4743360"/>
            <a:chOff x="1356840" y="1685880"/>
            <a:chExt cx="7061760" cy="4743360"/>
          </a:xfrm>
        </p:grpSpPr>
        <p:sp>
          <p:nvSpPr>
            <p:cNvPr id="215" name="五边形 10"/>
            <p:cNvSpPr/>
            <p:nvPr/>
          </p:nvSpPr>
          <p:spPr>
            <a:xfrm>
              <a:off x="3566160" y="1685880"/>
              <a:ext cx="4852440" cy="2404080"/>
            </a:xfrm>
            <a:custGeom>
              <a:avLst/>
              <a:gdLst>
                <a:gd name="textAreaLeft" fmla="*/ 0 w 4852440"/>
                <a:gd name="textAreaRight" fmla="*/ 4852800 w 4852440"/>
                <a:gd name="textAreaTop" fmla="*/ 0 h 2404080"/>
                <a:gd name="textAreaBottom" fmla="*/ 2404440 h 240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0" y="0"/>
                  </a:lnTo>
                  <a:lnTo>
                    <a:pt x="21600" y="10800"/>
                  </a:lnTo>
                  <a:lnTo>
                    <a:pt x="16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五边形 11"/>
            <p:cNvSpPr/>
            <p:nvPr/>
          </p:nvSpPr>
          <p:spPr>
            <a:xfrm flipH="1">
              <a:off x="1356480" y="4025160"/>
              <a:ext cx="4852440" cy="2404080"/>
            </a:xfrm>
            <a:custGeom>
              <a:avLst/>
              <a:gdLst>
                <a:gd name="textAreaLeft" fmla="*/ -360 w 4852440"/>
                <a:gd name="textAreaRight" fmla="*/ 4852440 w 4852440"/>
                <a:gd name="textAreaTop" fmla="*/ 0 h 2404080"/>
                <a:gd name="textAreaBottom" fmla="*/ 2404440 h 240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50" y="0"/>
                  </a:lnTo>
                  <a:lnTo>
                    <a:pt x="21600" y="10800"/>
                  </a:lnTo>
                  <a:lnTo>
                    <a:pt x="1625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640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32119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6"/>
          <p:cNvGrpSpPr/>
          <p:nvPr/>
        </p:nvGrpSpPr>
        <p:grpSpPr>
          <a:xfrm>
            <a:off x="3002040" y="2286000"/>
            <a:ext cx="3784680" cy="428760"/>
            <a:chOff x="3002040" y="2286000"/>
            <a:chExt cx="3784680" cy="428760"/>
          </a:xfrm>
        </p:grpSpPr>
        <p:sp>
          <p:nvSpPr>
            <p:cNvPr id="89" name="矩形 13"/>
            <p:cNvSpPr/>
            <p:nvPr/>
          </p:nvSpPr>
          <p:spPr>
            <a:xfrm>
              <a:off x="3002040" y="228600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4"/>
            <p:cNvSpPr/>
            <p:nvPr/>
          </p:nvSpPr>
          <p:spPr>
            <a:xfrm>
              <a:off x="3002040" y="235728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7"/>
          <p:cNvGrpSpPr/>
          <p:nvPr/>
        </p:nvGrpSpPr>
        <p:grpSpPr>
          <a:xfrm>
            <a:off x="3002040" y="2928960"/>
            <a:ext cx="3784680" cy="428760"/>
            <a:chOff x="3002040" y="2928960"/>
            <a:chExt cx="3784680" cy="428760"/>
          </a:xfrm>
        </p:grpSpPr>
        <p:sp>
          <p:nvSpPr>
            <p:cNvPr id="92" name="矩形 18"/>
            <p:cNvSpPr/>
            <p:nvPr/>
          </p:nvSpPr>
          <p:spPr>
            <a:xfrm>
              <a:off x="3002040" y="292896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19"/>
            <p:cNvSpPr/>
            <p:nvPr/>
          </p:nvSpPr>
          <p:spPr>
            <a:xfrm>
              <a:off x="3002040" y="300024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0"/>
          <p:cNvGrpSpPr/>
          <p:nvPr/>
        </p:nvGrpSpPr>
        <p:grpSpPr>
          <a:xfrm>
            <a:off x="3002040" y="3571920"/>
            <a:ext cx="3784680" cy="428760"/>
            <a:chOff x="3002040" y="3571920"/>
            <a:chExt cx="3784680" cy="428760"/>
          </a:xfrm>
        </p:grpSpPr>
        <p:sp>
          <p:nvSpPr>
            <p:cNvPr id="95" name="矩形 21"/>
            <p:cNvSpPr/>
            <p:nvPr/>
          </p:nvSpPr>
          <p:spPr>
            <a:xfrm>
              <a:off x="3002040" y="357192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2"/>
            <p:cNvSpPr/>
            <p:nvPr/>
          </p:nvSpPr>
          <p:spPr>
            <a:xfrm>
              <a:off x="3002040" y="3643200"/>
              <a:ext cx="3784680" cy="3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3002040" y="4214880"/>
            <a:ext cx="3784680" cy="428400"/>
            <a:chOff x="3002040" y="4214880"/>
            <a:chExt cx="3784680" cy="428400"/>
          </a:xfrm>
        </p:grpSpPr>
        <p:sp>
          <p:nvSpPr>
            <p:cNvPr id="98" name="矩形 24"/>
            <p:cNvSpPr/>
            <p:nvPr/>
          </p:nvSpPr>
          <p:spPr>
            <a:xfrm>
              <a:off x="3002040" y="4214880"/>
              <a:ext cx="3784680" cy="7128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25"/>
            <p:cNvSpPr/>
            <p:nvPr/>
          </p:nvSpPr>
          <p:spPr>
            <a:xfrm>
              <a:off x="3002040" y="4286160"/>
              <a:ext cx="378468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214880" y="8571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0"/>
          <p:cNvSpPr/>
          <p:nvPr/>
        </p:nvSpPr>
        <p:spPr>
          <a:xfrm>
            <a:off x="44265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1"/>
          <p:cNvSpPr/>
          <p:nvPr/>
        </p:nvSpPr>
        <p:spPr>
          <a:xfrm>
            <a:off x="4426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2"/>
          <p:cNvSpPr/>
          <p:nvPr/>
        </p:nvSpPr>
        <p:spPr>
          <a:xfrm>
            <a:off x="44992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1"/>
          <p:cNvSpPr/>
          <p:nvPr/>
        </p:nvSpPr>
        <p:spPr>
          <a:xfrm>
            <a:off x="4426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半闭框 10"/>
          <p:cNvSpPr/>
          <p:nvPr/>
        </p:nvSpPr>
        <p:spPr>
          <a:xfrm>
            <a:off x="48578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半闭框 11"/>
          <p:cNvSpPr/>
          <p:nvPr/>
        </p:nvSpPr>
        <p:spPr>
          <a:xfrm flipH="1">
            <a:off x="2786040" y="38577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半闭框 12"/>
          <p:cNvSpPr/>
          <p:nvPr/>
        </p:nvSpPr>
        <p:spPr>
          <a:xfrm flipH="1" flipV="1">
            <a:off x="27860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半闭框 13"/>
          <p:cNvSpPr/>
          <p:nvPr/>
        </p:nvSpPr>
        <p:spPr>
          <a:xfrm flipV="1">
            <a:off x="4857840" y="1785960"/>
            <a:ext cx="2000160" cy="2000160"/>
          </a:xfrm>
          <a:custGeom>
            <a:avLst/>
            <a:gdLst/>
            <a:ahLst/>
            <a:rect l="l" t="t" r="r" b="b"/>
            <a:pathLst>
              <a:path w="2000250" h="2000250">
                <a:moveTo>
                  <a:pt x="0" y="0"/>
                </a:moveTo>
                <a:lnTo>
                  <a:pt x="2000250" y="0"/>
                </a:lnTo>
                <a:lnTo>
                  <a:pt x="1333506" y="666743"/>
                </a:lnTo>
                <a:lnTo>
                  <a:pt x="666743" y="666743"/>
                </a:lnTo>
                <a:lnTo>
                  <a:pt x="666743" y="1333506"/>
                </a:lnTo>
                <a:lnTo>
                  <a:pt x="0" y="200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3497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斜纹 10"/>
          <p:cNvSpPr/>
          <p:nvPr/>
        </p:nvSpPr>
        <p:spPr>
          <a:xfrm>
            <a:off x="2593800" y="1951200"/>
            <a:ext cx="2478240" cy="247788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斜纹 11"/>
          <p:cNvSpPr/>
          <p:nvPr/>
        </p:nvSpPr>
        <p:spPr>
          <a:xfrm flipV="1">
            <a:off x="2593800" y="3236760"/>
            <a:ext cx="2478240" cy="247824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斜纹 12"/>
          <p:cNvSpPr/>
          <p:nvPr/>
        </p:nvSpPr>
        <p:spPr>
          <a:xfrm flipH="1" flipV="1">
            <a:off x="5022720" y="3236760"/>
            <a:ext cx="2478240" cy="247824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斜纹 13"/>
          <p:cNvSpPr/>
          <p:nvPr/>
        </p:nvSpPr>
        <p:spPr>
          <a:xfrm flipH="1">
            <a:off x="5022720" y="1951200"/>
            <a:ext cx="2478240" cy="2477880"/>
          </a:xfrm>
          <a:custGeom>
            <a:avLst/>
            <a:gdLst/>
            <a:ahLst/>
            <a:rect l="l" t="t" r="r" b="b"/>
            <a:pathLst>
              <a:path w="2478087" h="2478087">
                <a:moveTo>
                  <a:pt x="0" y="1239043"/>
                </a:moveTo>
                <a:lnTo>
                  <a:pt x="1239043" y="0"/>
                </a:lnTo>
                <a:lnTo>
                  <a:pt x="2478087" y="0"/>
                </a:lnTo>
                <a:lnTo>
                  <a:pt x="0" y="2478087"/>
                </a:lnTo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3548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62125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3140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1"/>
          <p:cNvSpPr/>
          <p:nvPr/>
        </p:nvSpPr>
        <p:spPr>
          <a:xfrm>
            <a:off x="928800" y="2500200"/>
            <a:ext cx="107136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292896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5006880" y="2500200"/>
            <a:ext cx="1071720" cy="30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7215120" y="2428920"/>
            <a:ext cx="107172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上弧形箭头 10"/>
          <p:cNvSpPr/>
          <p:nvPr/>
        </p:nvSpPr>
        <p:spPr>
          <a:xfrm>
            <a:off x="2071800" y="1928880"/>
            <a:ext cx="850680" cy="511200"/>
          </a:xfrm>
          <a:custGeom>
            <a:avLst/>
            <a:gdLst>
              <a:gd name="textAreaLeft" fmla="*/ 164520 w 850680"/>
              <a:gd name="textAreaRight" fmla="*/ 622080 w 85068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弧形箭头 12"/>
          <p:cNvSpPr/>
          <p:nvPr/>
        </p:nvSpPr>
        <p:spPr>
          <a:xfrm>
            <a:off x="407196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上弧形箭头 14"/>
          <p:cNvSpPr/>
          <p:nvPr/>
        </p:nvSpPr>
        <p:spPr>
          <a:xfrm>
            <a:off x="6149880" y="1928880"/>
            <a:ext cx="851040" cy="511200"/>
          </a:xfrm>
          <a:custGeom>
            <a:avLst/>
            <a:gdLst>
              <a:gd name="textAreaLeft" fmla="*/ 164880 w 851040"/>
              <a:gd name="textAreaRight" fmla="*/ 622440 w 851040"/>
              <a:gd name="textAreaTop" fmla="*/ 68400 h 511200"/>
              <a:gd name="textAreaBottom" fmla="*/ 442800 h 511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7" hR="21600" stAng="10800000" swAng="5400000"/>
                <a:lnTo>
                  <a:pt x="11611" y="0"/>
                </a:lnTo>
                <a:arcTo wR="8367" hR="21600" stAng="-5400000" swAng="3378853"/>
                <a:lnTo>
                  <a:pt x="21334" y="16200"/>
                </a:lnTo>
                <a:lnTo>
                  <a:pt x="18356" y="21600"/>
                </a:lnTo>
                <a:lnTo>
                  <a:pt x="14846" y="16200"/>
                </a:lnTo>
                <a:lnTo>
                  <a:pt x="16468" y="16200"/>
                </a:lnTo>
                <a:arcTo wR="8367" hR="21600" stAng="-2021147" swAng="-3116224"/>
                <a:lnTo>
                  <a:pt x="9989" y="410"/>
                </a:lnTo>
                <a:arcTo wR="8367" hR="21600" stAng="-5662629" swAng="-5137371"/>
                <a:close/>
              </a:path>
              <a:path fill="darkenLess" w="21600" h="21600">
                <a:moveTo>
                  <a:pt x="0" y="21600"/>
                </a:moveTo>
                <a:arcTo wR="8367" hR="21600" stAng="10800000" swAng="5400000"/>
                <a:lnTo>
                  <a:pt x="8367" y="0"/>
                </a:lnTo>
                <a:arcTo wR="8367" hR="21600" stAng="-5400000" swAng="262629"/>
                <a:lnTo>
                  <a:pt x="9989" y="410"/>
                </a:lnTo>
                <a:arcTo wR="8367" hR="21600" stAng="-5662629" swAng="-5137371"/>
                <a:close/>
              </a:path>
            </a:pathLst>
          </a:cu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7214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070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925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圆角矩形 10"/>
          <p:cNvSpPr/>
          <p:nvPr/>
        </p:nvSpPr>
        <p:spPr>
          <a:xfrm>
            <a:off x="3071880" y="2000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11"/>
          <p:cNvSpPr/>
          <p:nvPr/>
        </p:nvSpPr>
        <p:spPr>
          <a:xfrm>
            <a:off x="3071880" y="2786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2"/>
          <p:cNvSpPr/>
          <p:nvPr/>
        </p:nvSpPr>
        <p:spPr>
          <a:xfrm>
            <a:off x="3071880" y="3500280"/>
            <a:ext cx="37861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3"/>
          <p:cNvSpPr/>
          <p:nvPr/>
        </p:nvSpPr>
        <p:spPr>
          <a:xfrm>
            <a:off x="3071880" y="428616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4"/>
          <p:cNvSpPr/>
          <p:nvPr/>
        </p:nvSpPr>
        <p:spPr>
          <a:xfrm>
            <a:off x="3071880" y="5072040"/>
            <a:ext cx="37861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左大括号 15"/>
          <p:cNvSpPr/>
          <p:nvPr/>
        </p:nvSpPr>
        <p:spPr>
          <a:xfrm>
            <a:off x="2357280" y="2143080"/>
            <a:ext cx="500400" cy="3071880"/>
          </a:xfrm>
          <a:custGeom>
            <a:avLst/>
            <a:gdLst>
              <a:gd name="textAreaLeft" fmla="*/ 319680 w 500400"/>
              <a:gd name="textAreaRight" fmla="*/ 500760 w 500400"/>
              <a:gd name="textAreaTop" fmla="*/ 72360 h 3071880"/>
              <a:gd name="textAreaBottom" fmla="*/ 2999520 h 30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5"/>
                  <a:pt x="10800" y="1629"/>
                </a:cubicBezTo>
                <a:lnTo>
                  <a:pt x="10800" y="9171"/>
                </a:lnTo>
                <a:cubicBezTo>
                  <a:pt x="10800" y="9986"/>
                  <a:pt x="5400" y="10800"/>
                  <a:pt x="0" y="10800"/>
                </a:cubicBezTo>
                <a:cubicBezTo>
                  <a:pt x="5400" y="10800"/>
                  <a:pt x="10800" y="11615"/>
                  <a:pt x="10800" y="12429"/>
                </a:cubicBezTo>
                <a:lnTo>
                  <a:pt x="10800" y="19971"/>
                </a:lnTo>
                <a:cubicBezTo>
                  <a:pt x="10800" y="20786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cbcb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4428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44978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4497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4497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流程图: 终止 10"/>
          <p:cNvSpPr/>
          <p:nvPr/>
        </p:nvSpPr>
        <p:spPr>
          <a:xfrm>
            <a:off x="4405320" y="235728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流程图: 终止 11"/>
          <p:cNvSpPr/>
          <p:nvPr/>
        </p:nvSpPr>
        <p:spPr>
          <a:xfrm rot="16200000">
            <a:off x="2916720" y="3130920"/>
            <a:ext cx="2310120" cy="76176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流程图: 终止 12"/>
          <p:cNvSpPr/>
          <p:nvPr/>
        </p:nvSpPr>
        <p:spPr>
          <a:xfrm>
            <a:off x="3309840" y="4595760"/>
            <a:ext cx="2309760" cy="762120"/>
          </a:xfrm>
          <a:prstGeom prst="flowChartTermina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终止 13"/>
          <p:cNvSpPr/>
          <p:nvPr/>
        </p:nvSpPr>
        <p:spPr>
          <a:xfrm rot="16200000">
            <a:off x="4845600" y="3893040"/>
            <a:ext cx="2309760" cy="762120"/>
          </a:xfrm>
          <a:prstGeom prst="flowChartTerminator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5140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39265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5929200" y="342900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3929040" y="2643120"/>
            <a:ext cx="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0"/>
          <p:cNvSpPr/>
          <p:nvPr/>
        </p:nvSpPr>
        <p:spPr>
          <a:xfrm>
            <a:off x="1714680" y="28576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1"/>
          <p:cNvSpPr/>
          <p:nvPr/>
        </p:nvSpPr>
        <p:spPr>
          <a:xfrm>
            <a:off x="3286080" y="2643120"/>
            <a:ext cx="150012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4857840" y="2143080"/>
            <a:ext cx="1500120" cy="3643200"/>
          </a:xfrm>
          <a:prstGeom prst="rect">
            <a:avLst/>
          </a:prstGeom>
          <a:solidFill>
            <a:srgbClr val="cbc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/>
          <p:cNvSpPr/>
          <p:nvPr/>
        </p:nvSpPr>
        <p:spPr>
          <a:xfrm>
            <a:off x="6429240" y="1500120"/>
            <a:ext cx="1500480" cy="364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34977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6714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51422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1997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8"/>
          <p:cNvGrpSpPr/>
          <p:nvPr/>
        </p:nvGrpSpPr>
        <p:grpSpPr>
          <a:xfrm>
            <a:off x="3357720" y="1643040"/>
            <a:ext cx="3165480" cy="4860720"/>
            <a:chOff x="3357720" y="1643040"/>
            <a:chExt cx="3165480" cy="4860720"/>
          </a:xfrm>
        </p:grpSpPr>
        <p:sp>
          <p:nvSpPr>
            <p:cNvPr id="196" name="矩形 10"/>
            <p:cNvSpPr/>
            <p:nvPr/>
          </p:nvSpPr>
          <p:spPr>
            <a:xfrm rot="16200000">
              <a:off x="4177080" y="415872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1"/>
            <p:cNvSpPr/>
            <p:nvPr/>
          </p:nvSpPr>
          <p:spPr>
            <a:xfrm rot="16200000">
              <a:off x="4177080" y="252000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2"/>
            <p:cNvSpPr/>
            <p:nvPr/>
          </p:nvSpPr>
          <p:spPr>
            <a:xfrm rot="16200000">
              <a:off x="4177080" y="881280"/>
              <a:ext cx="1525680" cy="3164400"/>
            </a:xfrm>
            <a:prstGeom prst="rect">
              <a:avLst/>
            </a:prstGeom>
            <a:solidFill>
              <a:srgbClr val="cb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4"/>
            <p:cNvSpPr/>
            <p:nvPr/>
          </p:nvSpPr>
          <p:spPr>
            <a:xfrm>
              <a:off x="3357720" y="4920840"/>
              <a:ext cx="316548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15"/>
            <p:cNvSpPr/>
            <p:nvPr/>
          </p:nvSpPr>
          <p:spPr>
            <a:xfrm>
              <a:off x="3357720" y="1643040"/>
              <a:ext cx="316440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17"/>
            <p:cNvSpPr/>
            <p:nvPr/>
          </p:nvSpPr>
          <p:spPr>
            <a:xfrm>
              <a:off x="3357720" y="3283200"/>
              <a:ext cx="3164400" cy="1080"/>
            </a:xfrm>
            <a:prstGeom prst="line">
              <a:avLst/>
            </a:prstGeom>
            <a:ln w="442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42220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4569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442656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26Z</dcterms:modified>
  <cp:revision>2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