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B4D-EDF6-4668-9F5D-BB6528FD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FEA-F3AE-4DA4-BEA8-E00517E8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A46-48BC-42D6-820A-3193E56B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F96-D0F6-4625-A5A8-B580C355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871F-C5F4-48A5-BD8B-2E6A7201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27A2-5FC9-413C-840D-C4E31C20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9CB0-FD54-4159-A94C-3F94CD93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F4A9-EFEE-4FA6-91EE-6145CBC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3AB4-9A4D-48A2-BF0A-E74C5AA9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80D8-CF74-4323-A504-AA7E777B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687E-C181-442C-A1E1-020CFBE3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F5D-9236-4CC2-8AC5-2B035D84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7114-1851-426B-80D5-5DDD56D5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0CCF-54EE-4DD5-922F-DD584E6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D26F-BC07-404C-B13B-ADFEBAA7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7B6D-893B-496D-B2D7-F2BC0E21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3074-60B9-48CF-8428-12C75259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EBF5-F8AB-4C12-BFDF-25D2969B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586A-CA63-4BCD-B680-7A14FD1E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9FEEF-F2C7-4F1E-BA10-5227C162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8B70-EC3E-4E26-AFB7-DEF779F8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1E2A-4E70-4E32-A296-F0AF1537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852-B079-43B7-A56F-7ED683C2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84074-ED77-40EB-93AA-CDB404B7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1B032-12D5-4125-9A65-AEE1536B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BA2E-050A-4095-8D03-E3C6DBFC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7BCB-820F-4DC4-AFA4-45C7B2D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C893-E9A6-490C-B64C-ABAAE2D1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2A98-4BF5-4CC0-BEB0-4DB15824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ACB7-77A0-46BB-B7D2-EC1C8D05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F4A5-1126-4859-AE97-40A433AA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7037-F0D5-4836-9235-8AA72493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FF2F-1772-4E0B-BC46-FF66C8FB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EE2-D0F9-438A-9EB7-B4A431E2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437E-A467-4B7E-AA43-902CF120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4935-4BA2-4021-86C7-1CD5AA25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8207-3F6E-4F34-9D68-8EDFF54C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E1BF-B625-4753-A9FC-77CF558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758C1-BC97-4145-84AB-9971D58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2A415-18D1-40BA-8198-96D7A153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C27B-F35D-4B62-8F03-514D4727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685F-58F3-489C-AAF1-3D112899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BC018-6986-4C0F-8B4C-B23AFA31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C3111-41FA-46F8-B9C3-26D536B4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4E7-D01A-44A9-92AF-C0A6C6C2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C9E1-B0AD-4042-AABB-4D53792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CCEB2-495E-4904-B2C9-AFFB77FA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5A8BF-1971-4E19-8C0D-A26D0A92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36A4-FC05-4105-8583-D19D5191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1A61E-2F33-4977-8323-BF996C0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149C-19B6-4A1B-8BE6-C56CB75D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2591C-4747-4C90-86D4-C89037CC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47BA8-54AE-462F-B617-3DD9FBBF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B9AD-97B5-4590-9F87-CD3BB6A6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E36E-E005-4CAB-BD72-4EA27C86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343-AB66-4F11-902A-48FDA350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7C84-BD5E-4898-99C5-9D74F80A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0AF-7DF0-48DB-83B8-F0B6F09C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B0E-5E41-496B-8B2C-B7B57205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202-0A6E-4446-95A8-75990D9E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8F5-6827-41CB-87E6-D10C84B117A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99C8-304E-47D5-9969-B6DC39FB5E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56A1-B138-4B49-B3AA-7EF315B6986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B5C0-659C-4B40-A877-6BA140EDFE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5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0" y="0"/>
            <a:ext cx="12192120" cy="549360"/>
          </a:xfrm>
          <a:prstGeom prst="rect">
            <a:avLst/>
          </a:prstGeom>
          <a:solidFill>
            <a:srgbClr val="2b6cad"/>
          </a:solidFill>
          <a:ln w="0">
            <a:noFill/>
          </a:ln>
          <a:effectLst>
            <a:outerShdw dist="38160" dir="5400000" blurRad="0" rotWithShape="0">
              <a:srgbClr val="2b6cad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6"/>
          <p:cNvGrpSpPr/>
          <p:nvPr/>
        </p:nvGrpSpPr>
        <p:grpSpPr>
          <a:xfrm>
            <a:off x="9036000" y="79200"/>
            <a:ext cx="19080" cy="390600"/>
            <a:chOff x="9036000" y="79200"/>
            <a:chExt cx="19080" cy="390600"/>
          </a:xfrm>
        </p:grpSpPr>
        <p:sp>
          <p:nvSpPr>
            <p:cNvPr id="84" name="直接连接符 7"/>
            <p:cNvSpPr/>
            <p:nvPr/>
          </p:nvSpPr>
          <p:spPr>
            <a:xfrm>
              <a:off x="9036000" y="79200"/>
              <a:ext cx="0" cy="390600"/>
            </a:xfrm>
            <a:prstGeom prst="line">
              <a:avLst/>
            </a:prstGeom>
            <a:ln w="648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直接连接符 8"/>
            <p:cNvSpPr/>
            <p:nvPr/>
          </p:nvSpPr>
          <p:spPr>
            <a:xfrm>
              <a:off x="9055080" y="79200"/>
              <a:ext cx="0" cy="390600"/>
            </a:xfrm>
            <a:prstGeom prst="line">
              <a:avLst/>
            </a:prstGeom>
            <a:ln w="6480">
              <a:solidFill>
                <a:srgbClr val="739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矩形 9" descr=""/>
          <p:cNvPicPr/>
          <p:nvPr/>
        </p:nvPicPr>
        <p:blipFill>
          <a:blip r:embed="rId2"/>
          <a:stretch/>
        </p:blipFill>
        <p:spPr>
          <a:xfrm>
            <a:off x="622440" y="6480"/>
            <a:ext cx="2752560" cy="54288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0"/>
          <p:cNvSpPr/>
          <p:nvPr/>
        </p:nvSpPr>
        <p:spPr>
          <a:xfrm>
            <a:off x="1222200" y="96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过去五年工作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1"/>
          <p:cNvSpPr/>
          <p:nvPr/>
        </p:nvSpPr>
        <p:spPr>
          <a:xfrm>
            <a:off x="9740520" y="903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政府工作报告图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0" y="833400"/>
            <a:ext cx="10476000" cy="56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8BC-3DF5-4215-8857-5A420B6A646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1E5C-5FBA-4A48-9543-BE453B725D3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5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0" y="0"/>
            <a:ext cx="12192120" cy="549360"/>
          </a:xfrm>
          <a:prstGeom prst="rect">
            <a:avLst/>
          </a:prstGeom>
          <a:solidFill>
            <a:srgbClr val="2b6cad"/>
          </a:solidFill>
          <a:ln w="0">
            <a:noFill/>
          </a:ln>
          <a:effectLst>
            <a:outerShdw dist="38160" dir="5400000" blurRad="0" rotWithShape="0">
              <a:srgbClr val="2b6cad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6"/>
          <p:cNvGrpSpPr/>
          <p:nvPr/>
        </p:nvGrpSpPr>
        <p:grpSpPr>
          <a:xfrm>
            <a:off x="9036000" y="79200"/>
            <a:ext cx="19080" cy="390600"/>
            <a:chOff x="9036000" y="79200"/>
            <a:chExt cx="19080" cy="390600"/>
          </a:xfrm>
        </p:grpSpPr>
        <p:sp>
          <p:nvSpPr>
            <p:cNvPr id="133" name="直接连接符 7"/>
            <p:cNvSpPr/>
            <p:nvPr/>
          </p:nvSpPr>
          <p:spPr>
            <a:xfrm>
              <a:off x="9036000" y="79200"/>
              <a:ext cx="0" cy="390600"/>
            </a:xfrm>
            <a:prstGeom prst="line">
              <a:avLst/>
            </a:prstGeom>
            <a:ln w="648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8"/>
            <p:cNvSpPr/>
            <p:nvPr/>
          </p:nvSpPr>
          <p:spPr>
            <a:xfrm>
              <a:off x="9055080" y="79200"/>
              <a:ext cx="0" cy="390600"/>
            </a:xfrm>
            <a:prstGeom prst="line">
              <a:avLst/>
            </a:prstGeom>
            <a:ln w="6480">
              <a:solidFill>
                <a:srgbClr val="739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" name="矩形 9" descr=""/>
          <p:cNvPicPr/>
          <p:nvPr/>
        </p:nvPicPr>
        <p:blipFill>
          <a:blip r:embed="rId2"/>
          <a:stretch/>
        </p:blipFill>
        <p:spPr>
          <a:xfrm>
            <a:off x="622440" y="6480"/>
            <a:ext cx="2752560" cy="5428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0"/>
          <p:cNvSpPr/>
          <p:nvPr/>
        </p:nvSpPr>
        <p:spPr>
          <a:xfrm>
            <a:off x="1855440" y="96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今年发展总体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9740520" y="903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政府工作报告图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1716120" y="801720"/>
            <a:ext cx="10476000" cy="56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DFDE-749D-4061-97F4-14B80B2E2BA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7035-C2F4-49A7-B886-C0593592FC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5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5"/>
          <p:cNvSpPr/>
          <p:nvPr/>
        </p:nvSpPr>
        <p:spPr>
          <a:xfrm>
            <a:off x="0" y="0"/>
            <a:ext cx="12192120" cy="549360"/>
          </a:xfrm>
          <a:prstGeom prst="rect">
            <a:avLst/>
          </a:prstGeom>
          <a:solidFill>
            <a:srgbClr val="2b6cad"/>
          </a:solidFill>
          <a:ln w="0">
            <a:noFill/>
          </a:ln>
          <a:effectLst>
            <a:outerShdw dist="38160" dir="5400000" blurRad="0" rotWithShape="0">
              <a:srgbClr val="2b6cad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组合 6"/>
          <p:cNvGrpSpPr/>
          <p:nvPr/>
        </p:nvGrpSpPr>
        <p:grpSpPr>
          <a:xfrm>
            <a:off x="9036000" y="79200"/>
            <a:ext cx="19080" cy="390600"/>
            <a:chOff x="9036000" y="79200"/>
            <a:chExt cx="19080" cy="390600"/>
          </a:xfrm>
        </p:grpSpPr>
        <p:sp>
          <p:nvSpPr>
            <p:cNvPr id="182" name="直接连接符 7"/>
            <p:cNvSpPr/>
            <p:nvPr/>
          </p:nvSpPr>
          <p:spPr>
            <a:xfrm>
              <a:off x="9036000" y="79200"/>
              <a:ext cx="0" cy="390600"/>
            </a:xfrm>
            <a:prstGeom prst="line">
              <a:avLst/>
            </a:prstGeom>
            <a:ln w="648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直接连接符 8"/>
            <p:cNvSpPr/>
            <p:nvPr/>
          </p:nvSpPr>
          <p:spPr>
            <a:xfrm>
              <a:off x="9055080" y="79200"/>
              <a:ext cx="0" cy="390600"/>
            </a:xfrm>
            <a:prstGeom prst="line">
              <a:avLst/>
            </a:prstGeom>
            <a:ln w="6480">
              <a:solidFill>
                <a:srgbClr val="739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4" name="矩形 9" descr=""/>
          <p:cNvPicPr/>
          <p:nvPr/>
        </p:nvPicPr>
        <p:blipFill>
          <a:blip r:embed="rId2"/>
          <a:stretch/>
        </p:blipFill>
        <p:spPr>
          <a:xfrm>
            <a:off x="622440" y="6480"/>
            <a:ext cx="2752560" cy="54288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10"/>
          <p:cNvSpPr/>
          <p:nvPr/>
        </p:nvSpPr>
        <p:spPr>
          <a:xfrm>
            <a:off x="1855440" y="96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对政府工作的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9740520" y="903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政府工作报告图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0" y="833400"/>
            <a:ext cx="10476000" cy="56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8E7D-2127-4887-A26A-3904FC98B64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62CD-CED1-4A53-A1E0-5471A65D97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13" descr=""/>
          <p:cNvPicPr/>
          <p:nvPr/>
        </p:nvPicPr>
        <p:blipFill>
          <a:blip r:embed="rId1"/>
          <a:srcRect l="0" t="0" r="0" b="62880"/>
          <a:stretch/>
        </p:blipFill>
        <p:spPr>
          <a:xfrm>
            <a:off x="2438280" y="274680"/>
            <a:ext cx="9753840" cy="228744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2" descr=""/>
          <p:cNvPicPr/>
          <p:nvPr/>
        </p:nvPicPr>
        <p:blipFill>
          <a:blip r:embed="rId2"/>
          <a:srcRect l="71102" t="43532" r="0" b="8037"/>
          <a:stretch/>
        </p:blipFill>
        <p:spPr>
          <a:xfrm>
            <a:off x="10314000" y="-169920"/>
            <a:ext cx="1152360" cy="282096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-12600" y="3784680"/>
            <a:ext cx="12191760" cy="3073320"/>
          </a:xfrm>
          <a:prstGeom prst="rect">
            <a:avLst/>
          </a:prstGeom>
          <a:solidFill>
            <a:srgbClr val="ecf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6"/>
          <p:cNvSpPr/>
          <p:nvPr/>
        </p:nvSpPr>
        <p:spPr>
          <a:xfrm>
            <a:off x="0" y="2523960"/>
            <a:ext cx="12192120" cy="1265400"/>
          </a:xfrm>
          <a:prstGeom prst="rect">
            <a:avLst/>
          </a:prstGeom>
          <a:solidFill>
            <a:srgbClr val="2b6cad"/>
          </a:solidFill>
          <a:ln w="0">
            <a:noFill/>
          </a:ln>
          <a:effectLst>
            <a:outerShdw dist="38160" dir="5400000" blurRad="0" rotWithShape="0">
              <a:srgbClr val="2b6cad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4"/>
          <p:cNvSpPr/>
          <p:nvPr/>
        </p:nvSpPr>
        <p:spPr>
          <a:xfrm>
            <a:off x="968400" y="0"/>
            <a:ext cx="7167600" cy="2522520"/>
          </a:xfrm>
          <a:prstGeom prst="rect">
            <a:avLst/>
          </a:prstGeom>
          <a:gradFill rotWithShape="0">
            <a:gsLst>
              <a:gs pos="0">
                <a:srgbClr val="f7fafd">
                  <a:alpha val="97254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图片 10" descr=""/>
          <p:cNvPicPr/>
          <p:nvPr/>
        </p:nvPicPr>
        <p:blipFill>
          <a:blip r:embed="rId3"/>
          <a:srcRect l="0" t="5384" r="7364" b="11197"/>
          <a:stretch/>
        </p:blipFill>
        <p:spPr>
          <a:xfrm>
            <a:off x="730080" y="782640"/>
            <a:ext cx="1800360" cy="9158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7" name="文本框 15"/>
          <p:cNvSpPr/>
          <p:nvPr/>
        </p:nvSpPr>
        <p:spPr>
          <a:xfrm>
            <a:off x="2419200" y="4646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7e6e6"/>
                </a:solidFill>
                <a:latin typeface="微软雅黑"/>
                <a:ea typeface="微软雅黑"/>
              </a:rPr>
              <a:t>改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6"/>
          <p:cNvSpPr/>
          <p:nvPr/>
        </p:nvSpPr>
        <p:spPr>
          <a:xfrm>
            <a:off x="7535160" y="5321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7e6e6"/>
                </a:solidFill>
                <a:latin typeface="微软雅黑"/>
                <a:ea typeface="微软雅黑"/>
              </a:rPr>
              <a:t>物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10072440" y="454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e6e6"/>
                </a:solidFill>
                <a:latin typeface="微软雅黑"/>
                <a:ea typeface="微软雅黑"/>
              </a:rPr>
              <a:t>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8"/>
          <p:cNvSpPr/>
          <p:nvPr/>
        </p:nvSpPr>
        <p:spPr>
          <a:xfrm>
            <a:off x="168048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e6e6"/>
                </a:solidFill>
                <a:latin typeface="微软雅黑"/>
                <a:ea typeface="微软雅黑"/>
              </a:rPr>
              <a:t>科教兴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9"/>
          <p:cNvSpPr/>
          <p:nvPr/>
        </p:nvSpPr>
        <p:spPr>
          <a:xfrm>
            <a:off x="1488960" y="5678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e6e6"/>
                </a:solidFill>
                <a:latin typeface="微软雅黑"/>
                <a:ea typeface="微软雅黑"/>
              </a:rPr>
              <a:t>经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0"/>
          <p:cNvSpPr/>
          <p:nvPr/>
        </p:nvSpPr>
        <p:spPr>
          <a:xfrm>
            <a:off x="8087040" y="400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e6e6"/>
                </a:solidFill>
                <a:latin typeface="微软雅黑"/>
                <a:ea typeface="微软雅黑"/>
              </a:rPr>
              <a:t>民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1"/>
          <p:cNvSpPr/>
          <p:nvPr/>
        </p:nvSpPr>
        <p:spPr>
          <a:xfrm>
            <a:off x="9788760" y="567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e6e6"/>
                </a:solidFill>
                <a:latin typeface="微软雅黑"/>
                <a:ea typeface="微软雅黑"/>
              </a:rPr>
              <a:t>就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2"/>
          <p:cNvSpPr/>
          <p:nvPr/>
        </p:nvSpPr>
        <p:spPr>
          <a:xfrm>
            <a:off x="4314600" y="515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e6e6"/>
                </a:solidFill>
                <a:latin typeface="微软雅黑"/>
                <a:ea typeface="微软雅黑"/>
              </a:rPr>
              <a:t>教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3"/>
          <p:cNvSpPr/>
          <p:nvPr/>
        </p:nvSpPr>
        <p:spPr>
          <a:xfrm>
            <a:off x="5401080" y="5905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e6e6"/>
                </a:solidFill>
                <a:latin typeface="微软雅黑"/>
                <a:ea typeface="微软雅黑"/>
              </a:rPr>
              <a:t>发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24"/>
          <p:cNvSpPr/>
          <p:nvPr/>
        </p:nvSpPr>
        <p:spPr>
          <a:xfrm>
            <a:off x="5671440" y="4440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e6e6"/>
                </a:solidFill>
                <a:latin typeface="微软雅黑"/>
                <a:ea typeface="微软雅黑"/>
              </a:rPr>
              <a:t>城乡发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"/>
          <p:cNvSpPr/>
          <p:nvPr/>
        </p:nvSpPr>
        <p:spPr>
          <a:xfrm>
            <a:off x="3199680" y="2646360"/>
            <a:ext cx="57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 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政府工作报告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图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3"/>
          <p:cNvSpPr/>
          <p:nvPr/>
        </p:nvSpPr>
        <p:spPr>
          <a:xfrm>
            <a:off x="2756520" y="1835280"/>
            <a:ext cx="48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政府工作报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5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文本框 1"/>
          <p:cNvSpPr/>
          <p:nvPr/>
        </p:nvSpPr>
        <p:spPr>
          <a:xfrm>
            <a:off x="434520" y="187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eebf7"/>
                </a:solidFill>
                <a:latin typeface="微软雅黑"/>
                <a:ea typeface="微软雅黑"/>
              </a:rPr>
              <a:t>目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2"/>
          <p:cNvSpPr/>
          <p:nvPr/>
        </p:nvSpPr>
        <p:spPr>
          <a:xfrm>
            <a:off x="434520" y="4286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dd7ee"/>
                </a:solidFill>
                <a:latin typeface="微软雅黑"/>
                <a:ea typeface="微软雅黑"/>
              </a:rPr>
              <a:t>措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3"/>
          <p:cNvSpPr/>
          <p:nvPr/>
        </p:nvSpPr>
        <p:spPr>
          <a:xfrm>
            <a:off x="3352680" y="1103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现上述目标必须积极采取的措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接连接符 4"/>
          <p:cNvSpPr/>
          <p:nvPr/>
        </p:nvSpPr>
        <p:spPr>
          <a:xfrm>
            <a:off x="2101680" y="1781280"/>
            <a:ext cx="977616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任意多边形 37"/>
          <p:cNvSpPr/>
          <p:nvPr/>
        </p:nvSpPr>
        <p:spPr>
          <a:xfrm>
            <a:off x="6216480" y="2658960"/>
            <a:ext cx="1546560" cy="816120"/>
          </a:xfrm>
          <a:custGeom>
            <a:avLst/>
            <a:gdLst/>
            <a:ahLst/>
            <a:rect l="l" t="t" r="r" b="b"/>
            <a:pathLst>
              <a:path w="1547444" h="816909">
                <a:moveTo>
                  <a:pt x="641786" y="0"/>
                </a:moveTo>
                <a:lnTo>
                  <a:pt x="910724" y="0"/>
                </a:lnTo>
                <a:cubicBezTo>
                  <a:pt x="947858" y="0"/>
                  <a:pt x="977961" y="30103"/>
                  <a:pt x="977961" y="67237"/>
                </a:cubicBezTo>
                <a:lnTo>
                  <a:pt x="977961" y="655545"/>
                </a:lnTo>
                <a:lnTo>
                  <a:pt x="1547444" y="655545"/>
                </a:lnTo>
                <a:lnTo>
                  <a:pt x="1507103" y="816908"/>
                </a:lnTo>
                <a:lnTo>
                  <a:pt x="1241524" y="816908"/>
                </a:lnTo>
                <a:lnTo>
                  <a:pt x="1241524" y="816909"/>
                </a:lnTo>
                <a:lnTo>
                  <a:pt x="910724" y="816909"/>
                </a:lnTo>
                <a:lnTo>
                  <a:pt x="641786" y="816909"/>
                </a:lnTo>
                <a:lnTo>
                  <a:pt x="310986" y="816909"/>
                </a:lnTo>
                <a:lnTo>
                  <a:pt x="310986" y="816908"/>
                </a:lnTo>
                <a:lnTo>
                  <a:pt x="40341" y="816908"/>
                </a:lnTo>
                <a:lnTo>
                  <a:pt x="0" y="655545"/>
                </a:lnTo>
                <a:lnTo>
                  <a:pt x="574549" y="655545"/>
                </a:lnTo>
                <a:lnTo>
                  <a:pt x="574549" y="67237"/>
                </a:lnTo>
                <a:cubicBezTo>
                  <a:pt x="574549" y="30103"/>
                  <a:pt x="604652" y="0"/>
                  <a:pt x="641786" y="0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32"/>
          <p:cNvSpPr/>
          <p:nvPr/>
        </p:nvSpPr>
        <p:spPr>
          <a:xfrm>
            <a:off x="6018840" y="4219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6cad"/>
                </a:solidFill>
                <a:latin typeface="微软雅黑"/>
                <a:ea typeface="微软雅黑"/>
              </a:rPr>
              <a:t>政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任意多边形 29"/>
          <p:cNvSpPr/>
          <p:nvPr/>
        </p:nvSpPr>
        <p:spPr>
          <a:xfrm>
            <a:off x="5452920" y="3475080"/>
            <a:ext cx="979560" cy="1488960"/>
          </a:xfrm>
          <a:custGeom>
            <a:avLst/>
            <a:gdLst/>
            <a:ahLst/>
            <a:rect l="l" t="t" r="r" b="b"/>
            <a:pathLst>
              <a:path w="980097" h="1488079">
                <a:moveTo>
                  <a:pt x="489632" y="216211"/>
                </a:moveTo>
                <a:lnTo>
                  <a:pt x="177943" y="1234816"/>
                </a:lnTo>
                <a:lnTo>
                  <a:pt x="177910" y="1234824"/>
                </a:lnTo>
                <a:lnTo>
                  <a:pt x="148077" y="1332316"/>
                </a:lnTo>
                <a:lnTo>
                  <a:pt x="832615" y="1332316"/>
                </a:lnTo>
                <a:lnTo>
                  <a:pt x="803105" y="1235876"/>
                </a:lnTo>
                <a:lnTo>
                  <a:pt x="801532" y="1235505"/>
                </a:lnTo>
                <a:close/>
                <a:moveTo>
                  <a:pt x="421289" y="0"/>
                </a:moveTo>
                <a:lnTo>
                  <a:pt x="557975" y="0"/>
                </a:lnTo>
                <a:lnTo>
                  <a:pt x="952339" y="1288784"/>
                </a:lnTo>
                <a:lnTo>
                  <a:pt x="954369" y="1290651"/>
                </a:lnTo>
                <a:lnTo>
                  <a:pt x="980097" y="1374729"/>
                </a:lnTo>
                <a:lnTo>
                  <a:pt x="952188" y="1400403"/>
                </a:lnTo>
                <a:cubicBezTo>
                  <a:pt x="888593" y="1443340"/>
                  <a:pt x="753926" y="1475602"/>
                  <a:pt x="590301" y="1485163"/>
                </a:cubicBezTo>
                <a:lnTo>
                  <a:pt x="489024" y="1488079"/>
                </a:lnTo>
                <a:lnTo>
                  <a:pt x="488955" y="1488079"/>
                </a:lnTo>
                <a:lnTo>
                  <a:pt x="387677" y="1485163"/>
                </a:lnTo>
                <a:cubicBezTo>
                  <a:pt x="224053" y="1475602"/>
                  <a:pt x="89386" y="1443340"/>
                  <a:pt x="25790" y="1400403"/>
                </a:cubicBezTo>
                <a:lnTo>
                  <a:pt x="0" y="1376677"/>
                </a:lnTo>
                <a:lnTo>
                  <a:pt x="27157" y="1287926"/>
                </a:lnTo>
                <a:lnTo>
                  <a:pt x="27194" y="1287907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2b6c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31"/>
          <p:cNvSpPr/>
          <p:nvPr/>
        </p:nvSpPr>
        <p:spPr>
          <a:xfrm>
            <a:off x="5198040" y="4219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财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33"/>
          <p:cNvSpPr/>
          <p:nvPr/>
        </p:nvSpPr>
        <p:spPr>
          <a:xfrm>
            <a:off x="8135640" y="4219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6cad"/>
                </a:solidFill>
                <a:latin typeface="微软雅黑"/>
                <a:ea typeface="微软雅黑"/>
              </a:rPr>
              <a:t>政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34"/>
          <p:cNvSpPr/>
          <p:nvPr/>
        </p:nvSpPr>
        <p:spPr>
          <a:xfrm>
            <a:off x="7569360" y="3475080"/>
            <a:ext cx="981000" cy="1488960"/>
          </a:xfrm>
          <a:custGeom>
            <a:avLst/>
            <a:gdLst/>
            <a:ahLst/>
            <a:rect l="l" t="t" r="r" b="b"/>
            <a:pathLst>
              <a:path w="980097" h="1488079">
                <a:moveTo>
                  <a:pt x="489632" y="216211"/>
                </a:moveTo>
                <a:lnTo>
                  <a:pt x="177943" y="1234816"/>
                </a:lnTo>
                <a:lnTo>
                  <a:pt x="177910" y="1234824"/>
                </a:lnTo>
                <a:lnTo>
                  <a:pt x="148077" y="1332316"/>
                </a:lnTo>
                <a:lnTo>
                  <a:pt x="832615" y="1332316"/>
                </a:lnTo>
                <a:lnTo>
                  <a:pt x="803105" y="1235876"/>
                </a:lnTo>
                <a:lnTo>
                  <a:pt x="801532" y="1235505"/>
                </a:lnTo>
                <a:close/>
                <a:moveTo>
                  <a:pt x="421289" y="0"/>
                </a:moveTo>
                <a:lnTo>
                  <a:pt x="557975" y="0"/>
                </a:lnTo>
                <a:lnTo>
                  <a:pt x="952339" y="1288784"/>
                </a:lnTo>
                <a:lnTo>
                  <a:pt x="954369" y="1290651"/>
                </a:lnTo>
                <a:lnTo>
                  <a:pt x="980097" y="1374729"/>
                </a:lnTo>
                <a:lnTo>
                  <a:pt x="952188" y="1400403"/>
                </a:lnTo>
                <a:cubicBezTo>
                  <a:pt x="888593" y="1443340"/>
                  <a:pt x="753926" y="1475602"/>
                  <a:pt x="590301" y="1485163"/>
                </a:cubicBezTo>
                <a:lnTo>
                  <a:pt x="489024" y="1488079"/>
                </a:lnTo>
                <a:lnTo>
                  <a:pt x="488955" y="1488079"/>
                </a:lnTo>
                <a:lnTo>
                  <a:pt x="387677" y="1485163"/>
                </a:lnTo>
                <a:cubicBezTo>
                  <a:pt x="224053" y="1475602"/>
                  <a:pt x="89386" y="1443340"/>
                  <a:pt x="25790" y="1400403"/>
                </a:cubicBezTo>
                <a:lnTo>
                  <a:pt x="0" y="1376677"/>
                </a:lnTo>
                <a:lnTo>
                  <a:pt x="27157" y="1287926"/>
                </a:lnTo>
                <a:lnTo>
                  <a:pt x="27194" y="1287907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2b6c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35"/>
          <p:cNvSpPr/>
          <p:nvPr/>
        </p:nvSpPr>
        <p:spPr>
          <a:xfrm>
            <a:off x="7315200" y="4219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货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46"/>
          <p:cNvSpPr/>
          <p:nvPr/>
        </p:nvSpPr>
        <p:spPr>
          <a:xfrm>
            <a:off x="2048760" y="2654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dd7ee"/>
                </a:solidFill>
                <a:latin typeface="MV Bol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47"/>
          <p:cNvSpPr/>
          <p:nvPr/>
        </p:nvSpPr>
        <p:spPr>
          <a:xfrm>
            <a:off x="2116800" y="33717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dd7ee"/>
                </a:solidFill>
                <a:latin typeface="MV Bol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文本框 39"/>
          <p:cNvSpPr/>
          <p:nvPr/>
        </p:nvSpPr>
        <p:spPr>
          <a:xfrm>
            <a:off x="2712960" y="28828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适当增加财政赤字和国债规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0"/>
          <p:cNvSpPr/>
          <p:nvPr/>
        </p:nvSpPr>
        <p:spPr>
          <a:xfrm>
            <a:off x="2805840" y="36259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结合税制改革完善结构性减税政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8"/>
          <p:cNvSpPr/>
          <p:nvPr/>
        </p:nvSpPr>
        <p:spPr>
          <a:xfrm>
            <a:off x="2116800" y="4110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dd7ee"/>
                </a:solidFill>
                <a:latin typeface="MV Bol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41"/>
          <p:cNvSpPr/>
          <p:nvPr/>
        </p:nvSpPr>
        <p:spPr>
          <a:xfrm>
            <a:off x="2571840" y="4370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着力优化财政支出结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49"/>
          <p:cNvSpPr/>
          <p:nvPr/>
        </p:nvSpPr>
        <p:spPr>
          <a:xfrm>
            <a:off x="2120040" y="48531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dd7ee"/>
                </a:solidFill>
                <a:latin typeface="MV Bol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50"/>
          <p:cNvSpPr/>
          <p:nvPr/>
        </p:nvSpPr>
        <p:spPr>
          <a:xfrm>
            <a:off x="11433960" y="2654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dd7ee"/>
                </a:solidFill>
                <a:latin typeface="MV Bol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42"/>
          <p:cNvSpPr/>
          <p:nvPr/>
        </p:nvSpPr>
        <p:spPr>
          <a:xfrm>
            <a:off x="2712960" y="5116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继续加强地方政府性债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51"/>
          <p:cNvSpPr/>
          <p:nvPr/>
        </p:nvSpPr>
        <p:spPr>
          <a:xfrm>
            <a:off x="11365560" y="3714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dd7ee"/>
                </a:solidFill>
                <a:latin typeface="MV Bol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43"/>
          <p:cNvSpPr/>
          <p:nvPr/>
        </p:nvSpPr>
        <p:spPr>
          <a:xfrm>
            <a:off x="9855360" y="28828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健全宏观审慎政策框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44"/>
          <p:cNvSpPr/>
          <p:nvPr/>
        </p:nvSpPr>
        <p:spPr>
          <a:xfrm>
            <a:off x="9855360" y="4000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促进金融资源优化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52"/>
          <p:cNvSpPr/>
          <p:nvPr/>
        </p:nvSpPr>
        <p:spPr>
          <a:xfrm>
            <a:off x="11365560" y="48531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dd7ee"/>
                </a:solidFill>
                <a:latin typeface="MV Bol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45"/>
          <p:cNvSpPr/>
          <p:nvPr/>
        </p:nvSpPr>
        <p:spPr>
          <a:xfrm>
            <a:off x="8382600" y="51166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守住不发生系统性和区域性金融风险底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8200"/>
          <p:cNvSpPr/>
          <p:nvPr/>
        </p:nvSpPr>
        <p:spPr>
          <a:xfrm>
            <a:off x="2174760" y="1954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文本框 1"/>
          <p:cNvSpPr/>
          <p:nvPr/>
        </p:nvSpPr>
        <p:spPr>
          <a:xfrm>
            <a:off x="10792440" y="994320"/>
            <a:ext cx="1094760" cy="54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dd7ee"/>
                </a:solidFill>
                <a:latin typeface="微软雅黑"/>
                <a:ea typeface="微软雅黑"/>
              </a:rPr>
              <a:t>四  项  建  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1463400" y="11034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今年政府主要工作提出的建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直接连接符 3"/>
          <p:cNvSpPr/>
          <p:nvPr/>
        </p:nvSpPr>
        <p:spPr>
          <a:xfrm>
            <a:off x="295200" y="1781280"/>
            <a:ext cx="977580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组合 88"/>
          <p:cNvGrpSpPr/>
          <p:nvPr/>
        </p:nvGrpSpPr>
        <p:grpSpPr>
          <a:xfrm>
            <a:off x="1270080" y="2196360"/>
            <a:ext cx="1400760" cy="1183320"/>
            <a:chOff x="1270080" y="2196360"/>
            <a:chExt cx="1400760" cy="1183320"/>
          </a:xfrm>
        </p:grpSpPr>
        <p:sp>
          <p:nvSpPr>
            <p:cNvPr id="672" name="任意多边形 85"/>
            <p:cNvSpPr/>
            <p:nvPr/>
          </p:nvSpPr>
          <p:spPr>
            <a:xfrm>
              <a:off x="1270080" y="2606760"/>
              <a:ext cx="855000" cy="772920"/>
            </a:xfrm>
            <a:custGeom>
              <a:avLst/>
              <a:gdLst/>
              <a:ahLst/>
              <a:rect l="l" t="t" r="r" b="b"/>
              <a:pathLst>
                <a:path w="2085993" h="1885454">
                  <a:moveTo>
                    <a:pt x="1042996" y="606642"/>
                  </a:moveTo>
                  <a:cubicBezTo>
                    <a:pt x="857381" y="606642"/>
                    <a:pt x="706911" y="757112"/>
                    <a:pt x="706911" y="942727"/>
                  </a:cubicBezTo>
                  <a:cubicBezTo>
                    <a:pt x="706911" y="1128342"/>
                    <a:pt x="857381" y="1278812"/>
                    <a:pt x="1042996" y="1278812"/>
                  </a:cubicBezTo>
                  <a:cubicBezTo>
                    <a:pt x="1228611" y="1278812"/>
                    <a:pt x="1379081" y="1128342"/>
                    <a:pt x="1379081" y="942727"/>
                  </a:cubicBezTo>
                  <a:cubicBezTo>
                    <a:pt x="1379081" y="757112"/>
                    <a:pt x="1228611" y="606642"/>
                    <a:pt x="1042996" y="606642"/>
                  </a:cubicBezTo>
                  <a:close/>
                  <a:moveTo>
                    <a:pt x="657249" y="2124"/>
                  </a:moveTo>
                  <a:cubicBezTo>
                    <a:pt x="696858" y="8691"/>
                    <a:pt x="733962" y="30369"/>
                    <a:pt x="759173" y="65600"/>
                  </a:cubicBezTo>
                  <a:lnTo>
                    <a:pt x="868900" y="218944"/>
                  </a:lnTo>
                  <a:lnTo>
                    <a:pt x="929341" y="205014"/>
                  </a:lnTo>
                  <a:cubicBezTo>
                    <a:pt x="966400" y="199352"/>
                    <a:pt x="1004356" y="196415"/>
                    <a:pt x="1042997" y="196415"/>
                  </a:cubicBezTo>
                  <a:cubicBezTo>
                    <a:pt x="1081639" y="196415"/>
                    <a:pt x="1119594" y="199352"/>
                    <a:pt x="1156653" y="205014"/>
                  </a:cubicBezTo>
                  <a:lnTo>
                    <a:pt x="1240393" y="224313"/>
                  </a:lnTo>
                  <a:lnTo>
                    <a:pt x="1353992" y="65918"/>
                  </a:lnTo>
                  <a:cubicBezTo>
                    <a:pt x="1379240" y="30714"/>
                    <a:pt x="1416367" y="9076"/>
                    <a:pt x="1455984" y="2551"/>
                  </a:cubicBezTo>
                  <a:cubicBezTo>
                    <a:pt x="1495600" y="-3973"/>
                    <a:pt x="1537706" y="4615"/>
                    <a:pt x="1572910" y="29863"/>
                  </a:cubicBezTo>
                  <a:lnTo>
                    <a:pt x="1755029" y="160476"/>
                  </a:lnTo>
                  <a:cubicBezTo>
                    <a:pt x="1825438" y="210973"/>
                    <a:pt x="1841581" y="308985"/>
                    <a:pt x="1791084" y="379395"/>
                  </a:cubicBezTo>
                  <a:lnTo>
                    <a:pt x="1672975" y="544079"/>
                  </a:lnTo>
                  <a:lnTo>
                    <a:pt x="1681263" y="555737"/>
                  </a:lnTo>
                  <a:cubicBezTo>
                    <a:pt x="1699962" y="586511"/>
                    <a:pt x="1716498" y="618745"/>
                    <a:pt x="1730660" y="652228"/>
                  </a:cubicBezTo>
                  <a:lnTo>
                    <a:pt x="1737352" y="673786"/>
                  </a:lnTo>
                  <a:lnTo>
                    <a:pt x="1929109" y="673786"/>
                  </a:lnTo>
                  <a:cubicBezTo>
                    <a:pt x="2015754" y="673786"/>
                    <a:pt x="2085993" y="744025"/>
                    <a:pt x="2085993" y="830670"/>
                  </a:cubicBezTo>
                  <a:lnTo>
                    <a:pt x="2085993" y="1054784"/>
                  </a:lnTo>
                  <a:cubicBezTo>
                    <a:pt x="2085993" y="1141429"/>
                    <a:pt x="2015754" y="1211668"/>
                    <a:pt x="1929109" y="1211668"/>
                  </a:cubicBezTo>
                  <a:lnTo>
                    <a:pt x="1737352" y="1211668"/>
                  </a:lnTo>
                  <a:lnTo>
                    <a:pt x="1730660" y="1233226"/>
                  </a:lnTo>
                  <a:cubicBezTo>
                    <a:pt x="1716498" y="1266709"/>
                    <a:pt x="1699962" y="1298943"/>
                    <a:pt x="1681263" y="1329717"/>
                  </a:cubicBezTo>
                  <a:lnTo>
                    <a:pt x="1672527" y="1342005"/>
                  </a:lnTo>
                  <a:lnTo>
                    <a:pt x="1790482" y="1506845"/>
                  </a:lnTo>
                  <a:cubicBezTo>
                    <a:pt x="1840903" y="1577308"/>
                    <a:pt x="1824656" y="1675303"/>
                    <a:pt x="1754193" y="1725724"/>
                  </a:cubicBezTo>
                  <a:lnTo>
                    <a:pt x="1571934" y="1856143"/>
                  </a:lnTo>
                  <a:cubicBezTo>
                    <a:pt x="1501471" y="1906564"/>
                    <a:pt x="1403476" y="1890317"/>
                    <a:pt x="1353055" y="1819854"/>
                  </a:cubicBezTo>
                  <a:lnTo>
                    <a:pt x="1239613" y="1661321"/>
                  </a:lnTo>
                  <a:lnTo>
                    <a:pt x="1156653" y="1680440"/>
                  </a:lnTo>
                  <a:cubicBezTo>
                    <a:pt x="1119594" y="1686103"/>
                    <a:pt x="1081639" y="1689039"/>
                    <a:pt x="1042997" y="1689039"/>
                  </a:cubicBezTo>
                  <a:cubicBezTo>
                    <a:pt x="1004356" y="1689039"/>
                    <a:pt x="966400" y="1686103"/>
                    <a:pt x="929341" y="1680440"/>
                  </a:cubicBezTo>
                  <a:lnTo>
                    <a:pt x="868113" y="1666329"/>
                  </a:lnTo>
                  <a:lnTo>
                    <a:pt x="758236" y="1819536"/>
                  </a:lnTo>
                  <a:cubicBezTo>
                    <a:pt x="707739" y="1889945"/>
                    <a:pt x="609727" y="1906087"/>
                    <a:pt x="539317" y="1855591"/>
                  </a:cubicBezTo>
                  <a:lnTo>
                    <a:pt x="357198" y="1724978"/>
                  </a:lnTo>
                  <a:cubicBezTo>
                    <a:pt x="286789" y="1674481"/>
                    <a:pt x="270647" y="1576469"/>
                    <a:pt x="321143" y="1506060"/>
                  </a:cubicBezTo>
                  <a:lnTo>
                    <a:pt x="426079" y="1359744"/>
                  </a:lnTo>
                  <a:lnTo>
                    <a:pt x="404731" y="1329717"/>
                  </a:lnTo>
                  <a:cubicBezTo>
                    <a:pt x="386032" y="1298943"/>
                    <a:pt x="369496" y="1266709"/>
                    <a:pt x="355334" y="1233226"/>
                  </a:cubicBezTo>
                  <a:lnTo>
                    <a:pt x="348642" y="1211668"/>
                  </a:lnTo>
                  <a:lnTo>
                    <a:pt x="156884" y="1211668"/>
                  </a:lnTo>
                  <a:cubicBezTo>
                    <a:pt x="70239" y="1211668"/>
                    <a:pt x="0" y="1141429"/>
                    <a:pt x="0" y="1054784"/>
                  </a:cubicBezTo>
                  <a:lnTo>
                    <a:pt x="0" y="830670"/>
                  </a:lnTo>
                  <a:cubicBezTo>
                    <a:pt x="0" y="744025"/>
                    <a:pt x="70239" y="673786"/>
                    <a:pt x="156884" y="673786"/>
                  </a:cubicBezTo>
                  <a:lnTo>
                    <a:pt x="348642" y="673786"/>
                  </a:lnTo>
                  <a:lnTo>
                    <a:pt x="355334" y="652228"/>
                  </a:lnTo>
                  <a:cubicBezTo>
                    <a:pt x="369496" y="618745"/>
                    <a:pt x="386032" y="586511"/>
                    <a:pt x="404731" y="555737"/>
                  </a:cubicBezTo>
                  <a:lnTo>
                    <a:pt x="426541" y="525060"/>
                  </a:lnTo>
                  <a:lnTo>
                    <a:pt x="321746" y="378609"/>
                  </a:lnTo>
                  <a:cubicBezTo>
                    <a:pt x="271325" y="308146"/>
                    <a:pt x="287572" y="210151"/>
                    <a:pt x="358035" y="159730"/>
                  </a:cubicBezTo>
                  <a:lnTo>
                    <a:pt x="540293" y="29311"/>
                  </a:lnTo>
                  <a:cubicBezTo>
                    <a:pt x="575525" y="4101"/>
                    <a:pt x="617639" y="-4443"/>
                    <a:pt x="657249" y="2124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2b6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任意多边形 86"/>
            <p:cNvSpPr/>
            <p:nvPr/>
          </p:nvSpPr>
          <p:spPr>
            <a:xfrm rot="20299800">
              <a:off x="2034360" y="2451960"/>
              <a:ext cx="562320" cy="508320"/>
            </a:xfrm>
            <a:custGeom>
              <a:avLst/>
              <a:gdLst/>
              <a:ahLst/>
              <a:rect l="l" t="t" r="r" b="b"/>
              <a:pathLst>
                <a:path w="2085993" h="1885454">
                  <a:moveTo>
                    <a:pt x="1042996" y="606642"/>
                  </a:moveTo>
                  <a:cubicBezTo>
                    <a:pt x="857381" y="606642"/>
                    <a:pt x="706911" y="757112"/>
                    <a:pt x="706911" y="942727"/>
                  </a:cubicBezTo>
                  <a:cubicBezTo>
                    <a:pt x="706911" y="1128342"/>
                    <a:pt x="857381" y="1278812"/>
                    <a:pt x="1042996" y="1278812"/>
                  </a:cubicBezTo>
                  <a:cubicBezTo>
                    <a:pt x="1228611" y="1278812"/>
                    <a:pt x="1379081" y="1128342"/>
                    <a:pt x="1379081" y="942727"/>
                  </a:cubicBezTo>
                  <a:cubicBezTo>
                    <a:pt x="1379081" y="757112"/>
                    <a:pt x="1228611" y="606642"/>
                    <a:pt x="1042996" y="606642"/>
                  </a:cubicBezTo>
                  <a:close/>
                  <a:moveTo>
                    <a:pt x="657249" y="2124"/>
                  </a:moveTo>
                  <a:cubicBezTo>
                    <a:pt x="696858" y="8691"/>
                    <a:pt x="733962" y="30369"/>
                    <a:pt x="759173" y="65600"/>
                  </a:cubicBezTo>
                  <a:lnTo>
                    <a:pt x="868900" y="218944"/>
                  </a:lnTo>
                  <a:lnTo>
                    <a:pt x="929341" y="205014"/>
                  </a:lnTo>
                  <a:cubicBezTo>
                    <a:pt x="966400" y="199352"/>
                    <a:pt x="1004356" y="196415"/>
                    <a:pt x="1042997" y="196415"/>
                  </a:cubicBezTo>
                  <a:cubicBezTo>
                    <a:pt x="1081639" y="196415"/>
                    <a:pt x="1119594" y="199352"/>
                    <a:pt x="1156653" y="205014"/>
                  </a:cubicBezTo>
                  <a:lnTo>
                    <a:pt x="1240393" y="224313"/>
                  </a:lnTo>
                  <a:lnTo>
                    <a:pt x="1353992" y="65918"/>
                  </a:lnTo>
                  <a:cubicBezTo>
                    <a:pt x="1379240" y="30714"/>
                    <a:pt x="1416367" y="9076"/>
                    <a:pt x="1455984" y="2551"/>
                  </a:cubicBezTo>
                  <a:cubicBezTo>
                    <a:pt x="1495600" y="-3973"/>
                    <a:pt x="1537706" y="4615"/>
                    <a:pt x="1572910" y="29863"/>
                  </a:cubicBezTo>
                  <a:lnTo>
                    <a:pt x="1755029" y="160476"/>
                  </a:lnTo>
                  <a:cubicBezTo>
                    <a:pt x="1825438" y="210973"/>
                    <a:pt x="1841581" y="308985"/>
                    <a:pt x="1791084" y="379395"/>
                  </a:cubicBezTo>
                  <a:lnTo>
                    <a:pt x="1672975" y="544079"/>
                  </a:lnTo>
                  <a:lnTo>
                    <a:pt x="1681263" y="555737"/>
                  </a:lnTo>
                  <a:cubicBezTo>
                    <a:pt x="1699962" y="586511"/>
                    <a:pt x="1716498" y="618745"/>
                    <a:pt x="1730660" y="652228"/>
                  </a:cubicBezTo>
                  <a:lnTo>
                    <a:pt x="1737352" y="673786"/>
                  </a:lnTo>
                  <a:lnTo>
                    <a:pt x="1929109" y="673786"/>
                  </a:lnTo>
                  <a:cubicBezTo>
                    <a:pt x="2015754" y="673786"/>
                    <a:pt x="2085993" y="744025"/>
                    <a:pt x="2085993" y="830670"/>
                  </a:cubicBezTo>
                  <a:lnTo>
                    <a:pt x="2085993" y="1054784"/>
                  </a:lnTo>
                  <a:cubicBezTo>
                    <a:pt x="2085993" y="1141429"/>
                    <a:pt x="2015754" y="1211668"/>
                    <a:pt x="1929109" y="1211668"/>
                  </a:cubicBezTo>
                  <a:lnTo>
                    <a:pt x="1737352" y="1211668"/>
                  </a:lnTo>
                  <a:lnTo>
                    <a:pt x="1730660" y="1233226"/>
                  </a:lnTo>
                  <a:cubicBezTo>
                    <a:pt x="1716498" y="1266709"/>
                    <a:pt x="1699962" y="1298943"/>
                    <a:pt x="1681263" y="1329717"/>
                  </a:cubicBezTo>
                  <a:lnTo>
                    <a:pt x="1672527" y="1342005"/>
                  </a:lnTo>
                  <a:lnTo>
                    <a:pt x="1790482" y="1506845"/>
                  </a:lnTo>
                  <a:cubicBezTo>
                    <a:pt x="1840903" y="1577308"/>
                    <a:pt x="1824656" y="1675303"/>
                    <a:pt x="1754193" y="1725724"/>
                  </a:cubicBezTo>
                  <a:lnTo>
                    <a:pt x="1571934" y="1856143"/>
                  </a:lnTo>
                  <a:cubicBezTo>
                    <a:pt x="1501471" y="1906564"/>
                    <a:pt x="1403476" y="1890317"/>
                    <a:pt x="1353055" y="1819854"/>
                  </a:cubicBezTo>
                  <a:lnTo>
                    <a:pt x="1239613" y="1661321"/>
                  </a:lnTo>
                  <a:lnTo>
                    <a:pt x="1156653" y="1680440"/>
                  </a:lnTo>
                  <a:cubicBezTo>
                    <a:pt x="1119594" y="1686103"/>
                    <a:pt x="1081639" y="1689039"/>
                    <a:pt x="1042997" y="1689039"/>
                  </a:cubicBezTo>
                  <a:cubicBezTo>
                    <a:pt x="1004356" y="1689039"/>
                    <a:pt x="966400" y="1686103"/>
                    <a:pt x="929341" y="1680440"/>
                  </a:cubicBezTo>
                  <a:lnTo>
                    <a:pt x="868113" y="1666329"/>
                  </a:lnTo>
                  <a:lnTo>
                    <a:pt x="758236" y="1819536"/>
                  </a:lnTo>
                  <a:cubicBezTo>
                    <a:pt x="707739" y="1889945"/>
                    <a:pt x="609727" y="1906087"/>
                    <a:pt x="539317" y="1855591"/>
                  </a:cubicBezTo>
                  <a:lnTo>
                    <a:pt x="357198" y="1724978"/>
                  </a:lnTo>
                  <a:cubicBezTo>
                    <a:pt x="286789" y="1674481"/>
                    <a:pt x="270647" y="1576469"/>
                    <a:pt x="321143" y="1506060"/>
                  </a:cubicBezTo>
                  <a:lnTo>
                    <a:pt x="426079" y="1359744"/>
                  </a:lnTo>
                  <a:lnTo>
                    <a:pt x="404731" y="1329717"/>
                  </a:lnTo>
                  <a:cubicBezTo>
                    <a:pt x="386032" y="1298943"/>
                    <a:pt x="369496" y="1266709"/>
                    <a:pt x="355334" y="1233226"/>
                  </a:cubicBezTo>
                  <a:lnTo>
                    <a:pt x="348642" y="1211668"/>
                  </a:lnTo>
                  <a:lnTo>
                    <a:pt x="156884" y="1211668"/>
                  </a:lnTo>
                  <a:cubicBezTo>
                    <a:pt x="70239" y="1211668"/>
                    <a:pt x="0" y="1141429"/>
                    <a:pt x="0" y="1054784"/>
                  </a:cubicBezTo>
                  <a:lnTo>
                    <a:pt x="0" y="830670"/>
                  </a:lnTo>
                  <a:cubicBezTo>
                    <a:pt x="0" y="744025"/>
                    <a:pt x="70239" y="673786"/>
                    <a:pt x="156884" y="673786"/>
                  </a:cubicBezTo>
                  <a:lnTo>
                    <a:pt x="348642" y="673786"/>
                  </a:lnTo>
                  <a:lnTo>
                    <a:pt x="355334" y="652228"/>
                  </a:lnTo>
                  <a:cubicBezTo>
                    <a:pt x="369496" y="618745"/>
                    <a:pt x="386032" y="586511"/>
                    <a:pt x="404731" y="555737"/>
                  </a:cubicBezTo>
                  <a:lnTo>
                    <a:pt x="426541" y="525060"/>
                  </a:lnTo>
                  <a:lnTo>
                    <a:pt x="321746" y="378609"/>
                  </a:lnTo>
                  <a:cubicBezTo>
                    <a:pt x="271325" y="308146"/>
                    <a:pt x="287572" y="210151"/>
                    <a:pt x="358035" y="159730"/>
                  </a:cubicBezTo>
                  <a:lnTo>
                    <a:pt x="540293" y="29311"/>
                  </a:lnTo>
                  <a:cubicBezTo>
                    <a:pt x="575525" y="4101"/>
                    <a:pt x="617639" y="-4443"/>
                    <a:pt x="657249" y="2124"/>
                  </a:cubicBez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2b6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任意多边形 87"/>
            <p:cNvSpPr/>
            <p:nvPr/>
          </p:nvSpPr>
          <p:spPr>
            <a:xfrm rot="20532000">
              <a:off x="1597320" y="2249640"/>
              <a:ext cx="406080" cy="367200"/>
            </a:xfrm>
            <a:custGeom>
              <a:avLst/>
              <a:gdLst/>
              <a:ahLst/>
              <a:rect l="l" t="t" r="r" b="b"/>
              <a:pathLst>
                <a:path w="2085993" h="1885454">
                  <a:moveTo>
                    <a:pt x="1042996" y="606642"/>
                  </a:moveTo>
                  <a:cubicBezTo>
                    <a:pt x="857381" y="606642"/>
                    <a:pt x="706911" y="757112"/>
                    <a:pt x="706911" y="942727"/>
                  </a:cubicBezTo>
                  <a:cubicBezTo>
                    <a:pt x="706911" y="1128342"/>
                    <a:pt x="857381" y="1278812"/>
                    <a:pt x="1042996" y="1278812"/>
                  </a:cubicBezTo>
                  <a:cubicBezTo>
                    <a:pt x="1228611" y="1278812"/>
                    <a:pt x="1379081" y="1128342"/>
                    <a:pt x="1379081" y="942727"/>
                  </a:cubicBezTo>
                  <a:cubicBezTo>
                    <a:pt x="1379081" y="757112"/>
                    <a:pt x="1228611" y="606642"/>
                    <a:pt x="1042996" y="606642"/>
                  </a:cubicBezTo>
                  <a:close/>
                  <a:moveTo>
                    <a:pt x="657249" y="2124"/>
                  </a:moveTo>
                  <a:cubicBezTo>
                    <a:pt x="696858" y="8691"/>
                    <a:pt x="733962" y="30369"/>
                    <a:pt x="759173" y="65600"/>
                  </a:cubicBezTo>
                  <a:lnTo>
                    <a:pt x="868900" y="218944"/>
                  </a:lnTo>
                  <a:lnTo>
                    <a:pt x="929341" y="205014"/>
                  </a:lnTo>
                  <a:cubicBezTo>
                    <a:pt x="966400" y="199352"/>
                    <a:pt x="1004356" y="196415"/>
                    <a:pt x="1042997" y="196415"/>
                  </a:cubicBezTo>
                  <a:cubicBezTo>
                    <a:pt x="1081639" y="196415"/>
                    <a:pt x="1119594" y="199352"/>
                    <a:pt x="1156653" y="205014"/>
                  </a:cubicBezTo>
                  <a:lnTo>
                    <a:pt x="1240393" y="224313"/>
                  </a:lnTo>
                  <a:lnTo>
                    <a:pt x="1353992" y="65918"/>
                  </a:lnTo>
                  <a:cubicBezTo>
                    <a:pt x="1379240" y="30714"/>
                    <a:pt x="1416367" y="9076"/>
                    <a:pt x="1455984" y="2551"/>
                  </a:cubicBezTo>
                  <a:cubicBezTo>
                    <a:pt x="1495600" y="-3973"/>
                    <a:pt x="1537706" y="4615"/>
                    <a:pt x="1572910" y="29863"/>
                  </a:cubicBezTo>
                  <a:lnTo>
                    <a:pt x="1755029" y="160476"/>
                  </a:lnTo>
                  <a:cubicBezTo>
                    <a:pt x="1825438" y="210973"/>
                    <a:pt x="1841581" y="308985"/>
                    <a:pt x="1791084" y="379395"/>
                  </a:cubicBezTo>
                  <a:lnTo>
                    <a:pt x="1672975" y="544079"/>
                  </a:lnTo>
                  <a:lnTo>
                    <a:pt x="1681263" y="555737"/>
                  </a:lnTo>
                  <a:cubicBezTo>
                    <a:pt x="1699962" y="586511"/>
                    <a:pt x="1716498" y="618745"/>
                    <a:pt x="1730660" y="652228"/>
                  </a:cubicBezTo>
                  <a:lnTo>
                    <a:pt x="1737352" y="673786"/>
                  </a:lnTo>
                  <a:lnTo>
                    <a:pt x="1929109" y="673786"/>
                  </a:lnTo>
                  <a:cubicBezTo>
                    <a:pt x="2015754" y="673786"/>
                    <a:pt x="2085993" y="744025"/>
                    <a:pt x="2085993" y="830670"/>
                  </a:cubicBezTo>
                  <a:lnTo>
                    <a:pt x="2085993" y="1054784"/>
                  </a:lnTo>
                  <a:cubicBezTo>
                    <a:pt x="2085993" y="1141429"/>
                    <a:pt x="2015754" y="1211668"/>
                    <a:pt x="1929109" y="1211668"/>
                  </a:cubicBezTo>
                  <a:lnTo>
                    <a:pt x="1737352" y="1211668"/>
                  </a:lnTo>
                  <a:lnTo>
                    <a:pt x="1730660" y="1233226"/>
                  </a:lnTo>
                  <a:cubicBezTo>
                    <a:pt x="1716498" y="1266709"/>
                    <a:pt x="1699962" y="1298943"/>
                    <a:pt x="1681263" y="1329717"/>
                  </a:cubicBezTo>
                  <a:lnTo>
                    <a:pt x="1672527" y="1342005"/>
                  </a:lnTo>
                  <a:lnTo>
                    <a:pt x="1790482" y="1506845"/>
                  </a:lnTo>
                  <a:cubicBezTo>
                    <a:pt x="1840903" y="1577308"/>
                    <a:pt x="1824656" y="1675303"/>
                    <a:pt x="1754193" y="1725724"/>
                  </a:cubicBezTo>
                  <a:lnTo>
                    <a:pt x="1571934" y="1856143"/>
                  </a:lnTo>
                  <a:cubicBezTo>
                    <a:pt x="1501471" y="1906564"/>
                    <a:pt x="1403476" y="1890317"/>
                    <a:pt x="1353055" y="1819854"/>
                  </a:cubicBezTo>
                  <a:lnTo>
                    <a:pt x="1239613" y="1661321"/>
                  </a:lnTo>
                  <a:lnTo>
                    <a:pt x="1156653" y="1680440"/>
                  </a:lnTo>
                  <a:cubicBezTo>
                    <a:pt x="1119594" y="1686103"/>
                    <a:pt x="1081639" y="1689039"/>
                    <a:pt x="1042997" y="1689039"/>
                  </a:cubicBezTo>
                  <a:cubicBezTo>
                    <a:pt x="1004356" y="1689039"/>
                    <a:pt x="966400" y="1686103"/>
                    <a:pt x="929341" y="1680440"/>
                  </a:cubicBezTo>
                  <a:lnTo>
                    <a:pt x="868113" y="1666329"/>
                  </a:lnTo>
                  <a:lnTo>
                    <a:pt x="758236" y="1819536"/>
                  </a:lnTo>
                  <a:cubicBezTo>
                    <a:pt x="707739" y="1889945"/>
                    <a:pt x="609727" y="1906087"/>
                    <a:pt x="539317" y="1855591"/>
                  </a:cubicBezTo>
                  <a:lnTo>
                    <a:pt x="357198" y="1724978"/>
                  </a:lnTo>
                  <a:cubicBezTo>
                    <a:pt x="286789" y="1674481"/>
                    <a:pt x="270647" y="1576469"/>
                    <a:pt x="321143" y="1506060"/>
                  </a:cubicBezTo>
                  <a:lnTo>
                    <a:pt x="426079" y="1359744"/>
                  </a:lnTo>
                  <a:lnTo>
                    <a:pt x="404731" y="1329717"/>
                  </a:lnTo>
                  <a:cubicBezTo>
                    <a:pt x="386032" y="1298943"/>
                    <a:pt x="369496" y="1266709"/>
                    <a:pt x="355334" y="1233226"/>
                  </a:cubicBezTo>
                  <a:lnTo>
                    <a:pt x="348642" y="1211668"/>
                  </a:lnTo>
                  <a:lnTo>
                    <a:pt x="156884" y="1211668"/>
                  </a:lnTo>
                  <a:cubicBezTo>
                    <a:pt x="70239" y="1211668"/>
                    <a:pt x="0" y="1141429"/>
                    <a:pt x="0" y="1054784"/>
                  </a:cubicBezTo>
                  <a:lnTo>
                    <a:pt x="0" y="830670"/>
                  </a:lnTo>
                  <a:cubicBezTo>
                    <a:pt x="0" y="744025"/>
                    <a:pt x="70239" y="673786"/>
                    <a:pt x="156884" y="673786"/>
                  </a:cubicBezTo>
                  <a:lnTo>
                    <a:pt x="348642" y="673786"/>
                  </a:lnTo>
                  <a:lnTo>
                    <a:pt x="355334" y="652228"/>
                  </a:lnTo>
                  <a:cubicBezTo>
                    <a:pt x="369496" y="618745"/>
                    <a:pt x="386032" y="586511"/>
                    <a:pt x="404731" y="555737"/>
                  </a:cubicBezTo>
                  <a:lnTo>
                    <a:pt x="426541" y="525060"/>
                  </a:lnTo>
                  <a:lnTo>
                    <a:pt x="321746" y="378609"/>
                  </a:lnTo>
                  <a:cubicBezTo>
                    <a:pt x="271325" y="308146"/>
                    <a:pt x="287572" y="210151"/>
                    <a:pt x="358035" y="159730"/>
                  </a:cubicBezTo>
                  <a:lnTo>
                    <a:pt x="540293" y="29311"/>
                  </a:lnTo>
                  <a:cubicBezTo>
                    <a:pt x="575525" y="4101"/>
                    <a:pt x="617639" y="-4443"/>
                    <a:pt x="657249" y="2124"/>
                  </a:cubicBez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2b6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5" name="文本框 89"/>
          <p:cNvSpPr/>
          <p:nvPr/>
        </p:nvSpPr>
        <p:spPr>
          <a:xfrm>
            <a:off x="1024920" y="3556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加快转变经济发展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促进经济持续健康发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106"/>
          <p:cNvGrpSpPr/>
          <p:nvPr/>
        </p:nvGrpSpPr>
        <p:grpSpPr>
          <a:xfrm>
            <a:off x="4194000" y="2216160"/>
            <a:ext cx="2032200" cy="1163520"/>
            <a:chOff x="4194000" y="2216160"/>
            <a:chExt cx="2032200" cy="1163520"/>
          </a:xfrm>
        </p:grpSpPr>
        <p:grpSp>
          <p:nvGrpSpPr>
            <p:cNvPr id="677" name="组合 90"/>
            <p:cNvGrpSpPr/>
            <p:nvPr/>
          </p:nvGrpSpPr>
          <p:grpSpPr>
            <a:xfrm>
              <a:off x="5128200" y="2216160"/>
              <a:ext cx="1098000" cy="1140120"/>
              <a:chOff x="5128200" y="2216160"/>
              <a:chExt cx="1098000" cy="1140120"/>
            </a:xfrm>
          </p:grpSpPr>
          <p:sp>
            <p:nvSpPr>
              <p:cNvPr id="678" name="任意多边形 91"/>
              <p:cNvSpPr/>
              <p:nvPr/>
            </p:nvSpPr>
            <p:spPr>
              <a:xfrm>
                <a:off x="5128200" y="2216160"/>
                <a:ext cx="589320" cy="1140120"/>
              </a:xfrm>
              <a:custGeom>
                <a:avLst/>
                <a:gdLst/>
                <a:ahLst/>
                <a:rect l="l" t="t" r="r" b="b"/>
                <a:pathLst>
                  <a:path w="754380" h="1459499">
                    <a:moveTo>
                      <a:pt x="422910" y="510944"/>
                    </a:moveTo>
                    <a:lnTo>
                      <a:pt x="422910" y="643831"/>
                    </a:lnTo>
                    <a:lnTo>
                      <a:pt x="605790" y="643831"/>
                    </a:lnTo>
                    <a:lnTo>
                      <a:pt x="605790" y="510944"/>
                    </a:lnTo>
                    <a:close/>
                    <a:moveTo>
                      <a:pt x="142545" y="510944"/>
                    </a:moveTo>
                    <a:lnTo>
                      <a:pt x="142545" y="643831"/>
                    </a:lnTo>
                    <a:lnTo>
                      <a:pt x="325425" y="643831"/>
                    </a:lnTo>
                    <a:lnTo>
                      <a:pt x="325425" y="510944"/>
                    </a:lnTo>
                    <a:close/>
                    <a:moveTo>
                      <a:pt x="422910" y="311404"/>
                    </a:moveTo>
                    <a:lnTo>
                      <a:pt x="422910" y="444291"/>
                    </a:lnTo>
                    <a:lnTo>
                      <a:pt x="605790" y="444291"/>
                    </a:lnTo>
                    <a:lnTo>
                      <a:pt x="605790" y="311404"/>
                    </a:lnTo>
                    <a:close/>
                    <a:moveTo>
                      <a:pt x="142545" y="311404"/>
                    </a:moveTo>
                    <a:lnTo>
                      <a:pt x="142545" y="444291"/>
                    </a:lnTo>
                    <a:lnTo>
                      <a:pt x="325425" y="444291"/>
                    </a:lnTo>
                    <a:lnTo>
                      <a:pt x="325425" y="311404"/>
                    </a:lnTo>
                    <a:close/>
                    <a:moveTo>
                      <a:pt x="422910" y="114099"/>
                    </a:moveTo>
                    <a:lnTo>
                      <a:pt x="422910" y="246986"/>
                    </a:lnTo>
                    <a:lnTo>
                      <a:pt x="605790" y="246986"/>
                    </a:lnTo>
                    <a:lnTo>
                      <a:pt x="605790" y="114099"/>
                    </a:lnTo>
                    <a:close/>
                    <a:moveTo>
                      <a:pt x="142545" y="114099"/>
                    </a:moveTo>
                    <a:lnTo>
                      <a:pt x="142545" y="246986"/>
                    </a:lnTo>
                    <a:lnTo>
                      <a:pt x="325425" y="246986"/>
                    </a:lnTo>
                    <a:lnTo>
                      <a:pt x="325425" y="114099"/>
                    </a:lnTo>
                    <a:close/>
                    <a:moveTo>
                      <a:pt x="0" y="0"/>
                    </a:moveTo>
                    <a:lnTo>
                      <a:pt x="754380" y="0"/>
                    </a:lnTo>
                    <a:lnTo>
                      <a:pt x="754380" y="708660"/>
                    </a:lnTo>
                    <a:lnTo>
                      <a:pt x="480060" y="708660"/>
                    </a:lnTo>
                    <a:lnTo>
                      <a:pt x="480060" y="1459499"/>
                    </a:lnTo>
                    <a:lnTo>
                      <a:pt x="0" y="1459499"/>
                    </a:ln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任意多边形 92"/>
              <p:cNvSpPr/>
              <p:nvPr/>
            </p:nvSpPr>
            <p:spPr>
              <a:xfrm>
                <a:off x="5547600" y="2814480"/>
                <a:ext cx="678600" cy="541800"/>
              </a:xfrm>
              <a:custGeom>
                <a:avLst/>
                <a:gdLst/>
                <a:ahLst/>
                <a:rect l="l" t="t" r="r" b="b"/>
                <a:pathLst>
                  <a:path w="868680" h="693689">
                    <a:moveTo>
                      <a:pt x="348285" y="324429"/>
                    </a:moveTo>
                    <a:lnTo>
                      <a:pt x="348285" y="457316"/>
                    </a:lnTo>
                    <a:lnTo>
                      <a:pt x="531165" y="457316"/>
                    </a:lnTo>
                    <a:lnTo>
                      <a:pt x="531165" y="324429"/>
                    </a:lnTo>
                    <a:close/>
                    <a:moveTo>
                      <a:pt x="67920" y="324429"/>
                    </a:moveTo>
                    <a:lnTo>
                      <a:pt x="67920" y="457316"/>
                    </a:lnTo>
                    <a:lnTo>
                      <a:pt x="250800" y="457316"/>
                    </a:lnTo>
                    <a:lnTo>
                      <a:pt x="250800" y="324429"/>
                    </a:lnTo>
                    <a:close/>
                    <a:moveTo>
                      <a:pt x="628650" y="324428"/>
                    </a:moveTo>
                    <a:lnTo>
                      <a:pt x="628650" y="457315"/>
                    </a:lnTo>
                    <a:lnTo>
                      <a:pt x="811530" y="457315"/>
                    </a:lnTo>
                    <a:lnTo>
                      <a:pt x="811530" y="324428"/>
                    </a:lnTo>
                    <a:close/>
                    <a:moveTo>
                      <a:pt x="628650" y="127124"/>
                    </a:moveTo>
                    <a:lnTo>
                      <a:pt x="628650" y="260011"/>
                    </a:lnTo>
                    <a:lnTo>
                      <a:pt x="811530" y="260011"/>
                    </a:lnTo>
                    <a:lnTo>
                      <a:pt x="811530" y="127124"/>
                    </a:lnTo>
                    <a:close/>
                    <a:moveTo>
                      <a:pt x="348285" y="127124"/>
                    </a:moveTo>
                    <a:lnTo>
                      <a:pt x="348285" y="260011"/>
                    </a:lnTo>
                    <a:lnTo>
                      <a:pt x="531165" y="260011"/>
                    </a:lnTo>
                    <a:lnTo>
                      <a:pt x="531165" y="127124"/>
                    </a:lnTo>
                    <a:close/>
                    <a:moveTo>
                      <a:pt x="67920" y="127124"/>
                    </a:moveTo>
                    <a:lnTo>
                      <a:pt x="67920" y="260011"/>
                    </a:lnTo>
                    <a:lnTo>
                      <a:pt x="250800" y="260011"/>
                    </a:lnTo>
                    <a:lnTo>
                      <a:pt x="250800" y="127124"/>
                    </a:lnTo>
                    <a:close/>
                    <a:moveTo>
                      <a:pt x="0" y="0"/>
                    </a:moveTo>
                    <a:lnTo>
                      <a:pt x="868680" y="0"/>
                    </a:lnTo>
                    <a:lnTo>
                      <a:pt x="868680" y="693689"/>
                    </a:lnTo>
                    <a:lnTo>
                      <a:pt x="0" y="693689"/>
                    </a:ln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0" name="任意多边形 98"/>
            <p:cNvSpPr/>
            <p:nvPr/>
          </p:nvSpPr>
          <p:spPr>
            <a:xfrm>
              <a:off x="4194000" y="2865960"/>
              <a:ext cx="580320" cy="513720"/>
            </a:xfrm>
            <a:custGeom>
              <a:avLst/>
              <a:gdLst/>
              <a:ahLst/>
              <a:rect l="l" t="t" r="r" b="b"/>
              <a:pathLst>
                <a:path w="1315655" h="1164071">
                  <a:moveTo>
                    <a:pt x="294595" y="773641"/>
                  </a:moveTo>
                  <a:lnTo>
                    <a:pt x="294595" y="928747"/>
                  </a:lnTo>
                  <a:lnTo>
                    <a:pt x="536643" y="928747"/>
                  </a:lnTo>
                  <a:lnTo>
                    <a:pt x="536643" y="773641"/>
                  </a:lnTo>
                  <a:close/>
                  <a:moveTo>
                    <a:pt x="161583" y="0"/>
                  </a:moveTo>
                  <a:lnTo>
                    <a:pt x="1154072" y="0"/>
                  </a:lnTo>
                  <a:lnTo>
                    <a:pt x="1315655" y="646331"/>
                  </a:lnTo>
                  <a:lnTo>
                    <a:pt x="1239035" y="646331"/>
                  </a:lnTo>
                  <a:lnTo>
                    <a:pt x="1239035" y="1164071"/>
                  </a:lnTo>
                  <a:lnTo>
                    <a:pt x="953176" y="1164071"/>
                  </a:lnTo>
                  <a:lnTo>
                    <a:pt x="953176" y="773641"/>
                  </a:lnTo>
                  <a:lnTo>
                    <a:pt x="754615" y="773641"/>
                  </a:lnTo>
                  <a:lnTo>
                    <a:pt x="754615" y="1164071"/>
                  </a:lnTo>
                  <a:lnTo>
                    <a:pt x="76622" y="1164071"/>
                  </a:lnTo>
                  <a:lnTo>
                    <a:pt x="76622" y="646331"/>
                  </a:lnTo>
                  <a:lnTo>
                    <a:pt x="0" y="646331"/>
                  </a:ln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2b6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1" name="组合 105"/>
            <p:cNvGrpSpPr/>
            <p:nvPr/>
          </p:nvGrpSpPr>
          <p:grpSpPr>
            <a:xfrm>
              <a:off x="4746240" y="2936880"/>
              <a:ext cx="398160" cy="437400"/>
              <a:chOff x="4746240" y="2936880"/>
              <a:chExt cx="398160" cy="437400"/>
            </a:xfrm>
          </p:grpSpPr>
          <p:sp>
            <p:nvSpPr>
              <p:cNvPr id="682" name="任意多边形 103"/>
              <p:cNvSpPr/>
              <p:nvPr/>
            </p:nvSpPr>
            <p:spPr>
              <a:xfrm rot="20431200">
                <a:off x="4779720" y="2984760"/>
                <a:ext cx="330840" cy="258480"/>
              </a:xfrm>
              <a:custGeom>
                <a:avLst/>
                <a:gdLst/>
                <a:ahLst/>
                <a:rect l="l" t="t" r="r" b="b"/>
                <a:pathLst>
                  <a:path w="552050" h="430495">
                    <a:moveTo>
                      <a:pt x="453054" y="5502"/>
                    </a:moveTo>
                    <a:cubicBezTo>
                      <a:pt x="472133" y="14279"/>
                      <a:pt x="485814" y="32655"/>
                      <a:pt x="489490" y="54458"/>
                    </a:cubicBezTo>
                    <a:lnTo>
                      <a:pt x="489690" y="54579"/>
                    </a:lnTo>
                    <a:lnTo>
                      <a:pt x="518460" y="71909"/>
                    </a:lnTo>
                    <a:cubicBezTo>
                      <a:pt x="526500" y="80078"/>
                      <a:pt x="532677" y="90348"/>
                      <a:pt x="536250" y="101971"/>
                    </a:cubicBezTo>
                    <a:cubicBezTo>
                      <a:pt x="541445" y="118844"/>
                      <a:pt x="540705" y="137170"/>
                      <a:pt x="534158" y="153492"/>
                    </a:cubicBezTo>
                    <a:cubicBezTo>
                      <a:pt x="550251" y="175876"/>
                      <a:pt x="555879" y="204893"/>
                      <a:pt x="549447" y="232266"/>
                    </a:cubicBezTo>
                    <a:cubicBezTo>
                      <a:pt x="540896" y="268658"/>
                      <a:pt x="512589" y="295911"/>
                      <a:pt x="477825" y="301222"/>
                    </a:cubicBezTo>
                    <a:cubicBezTo>
                      <a:pt x="477659" y="323936"/>
                      <a:pt x="468304" y="345478"/>
                      <a:pt x="452186" y="360308"/>
                    </a:cubicBezTo>
                    <a:cubicBezTo>
                      <a:pt x="427695" y="382842"/>
                      <a:pt x="392318" y="385738"/>
                      <a:pt x="364892" y="367462"/>
                    </a:cubicBezTo>
                    <a:cubicBezTo>
                      <a:pt x="356022" y="398853"/>
                      <a:pt x="332272" y="422850"/>
                      <a:pt x="302510" y="430495"/>
                    </a:cubicBezTo>
                    <a:lnTo>
                      <a:pt x="266359" y="427821"/>
                    </a:lnTo>
                    <a:lnTo>
                      <a:pt x="303776" y="322088"/>
                    </a:lnTo>
                    <a:lnTo>
                      <a:pt x="150458" y="267831"/>
                    </a:lnTo>
                    <a:lnTo>
                      <a:pt x="107450" y="389364"/>
                    </a:lnTo>
                    <a:lnTo>
                      <a:pt x="100759" y="385906"/>
                    </a:lnTo>
                    <a:cubicBezTo>
                      <a:pt x="90395" y="377551"/>
                      <a:pt x="81405" y="366848"/>
                      <a:pt x="74538" y="354005"/>
                    </a:cubicBezTo>
                    <a:cubicBezTo>
                      <a:pt x="47559" y="357382"/>
                      <a:pt x="22226" y="339497"/>
                      <a:pt x="14632" y="311702"/>
                    </a:cubicBezTo>
                    <a:cubicBezTo>
                      <a:pt x="9132" y="291593"/>
                      <a:pt x="13994" y="269890"/>
                      <a:pt x="27433" y="254600"/>
                    </a:cubicBezTo>
                    <a:cubicBezTo>
                      <a:pt x="8366" y="242607"/>
                      <a:pt x="-2252" y="219591"/>
                      <a:pt x="402" y="196015"/>
                    </a:cubicBezTo>
                    <a:cubicBezTo>
                      <a:pt x="3516" y="168411"/>
                      <a:pt x="24013" y="146789"/>
                      <a:pt x="49767" y="143943"/>
                    </a:cubicBezTo>
                    <a:lnTo>
                      <a:pt x="50239" y="142570"/>
                    </a:lnTo>
                    <a:cubicBezTo>
                      <a:pt x="46780" y="115387"/>
                      <a:pt x="54846" y="87973"/>
                      <a:pt x="72228" y="67794"/>
                    </a:cubicBezTo>
                    <a:cubicBezTo>
                      <a:pt x="99693" y="35921"/>
                      <a:pt x="144220" y="28817"/>
                      <a:pt x="179201" y="50710"/>
                    </a:cubicBezTo>
                    <a:lnTo>
                      <a:pt x="179225" y="50681"/>
                    </a:lnTo>
                    <a:lnTo>
                      <a:pt x="200499" y="24988"/>
                    </a:lnTo>
                    <a:cubicBezTo>
                      <a:pt x="226232" y="5943"/>
                      <a:pt x="262724" y="7350"/>
                      <a:pt x="287055" y="32975"/>
                    </a:cubicBezTo>
                    <a:lnTo>
                      <a:pt x="287440" y="32492"/>
                    </a:lnTo>
                    <a:lnTo>
                      <a:pt x="304335" y="11241"/>
                    </a:lnTo>
                    <a:cubicBezTo>
                      <a:pt x="311552" y="5679"/>
                      <a:pt x="320014" y="1965"/>
                      <a:pt x="329081" y="592"/>
                    </a:cubicBezTo>
                    <a:cubicBezTo>
                      <a:pt x="339061" y="-921"/>
                      <a:pt x="349035" y="507"/>
                      <a:pt x="358042" y="4456"/>
                    </a:cubicBezTo>
                    <a:lnTo>
                      <a:pt x="380530" y="22896"/>
                    </a:lnTo>
                    <a:lnTo>
                      <a:pt x="381202" y="23447"/>
                    </a:lnTo>
                    <a:cubicBezTo>
                      <a:pt x="398839" y="1263"/>
                      <a:pt x="428014" y="-6021"/>
                      <a:pt x="453054" y="5502"/>
                    </a:cubicBez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矩形 104"/>
              <p:cNvSpPr/>
              <p:nvPr/>
            </p:nvSpPr>
            <p:spPr>
              <a:xfrm>
                <a:off x="4880520" y="3164400"/>
                <a:ext cx="110160" cy="209880"/>
              </a:xfrm>
              <a:prstGeom prst="rect">
                <a:avLst/>
              </a:prstGeom>
              <a:solidFill>
                <a:srgbClr val="5b9bd5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4" name="文本框 107"/>
          <p:cNvSpPr/>
          <p:nvPr/>
        </p:nvSpPr>
        <p:spPr>
          <a:xfrm>
            <a:off x="4407840" y="3556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强化农业农村发展基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推动城乡发展一体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5" name="组合 149"/>
          <p:cNvGrpSpPr/>
          <p:nvPr/>
        </p:nvGrpSpPr>
        <p:grpSpPr>
          <a:xfrm>
            <a:off x="3984480" y="4387680"/>
            <a:ext cx="2287800" cy="946440"/>
            <a:chOff x="3984480" y="4387680"/>
            <a:chExt cx="2287800" cy="946440"/>
          </a:xfrm>
        </p:grpSpPr>
        <p:sp>
          <p:nvSpPr>
            <p:cNvPr id="686" name="任意多边形 145"/>
            <p:cNvSpPr/>
            <p:nvPr/>
          </p:nvSpPr>
          <p:spPr>
            <a:xfrm>
              <a:off x="3984480" y="4832640"/>
              <a:ext cx="2287800" cy="501480"/>
            </a:xfrm>
            <a:custGeom>
              <a:avLst/>
              <a:gdLst/>
              <a:ahLst/>
              <a:rect l="l" t="t" r="r" b="b"/>
              <a:pathLst>
                <a:path w="2288318" h="501158">
                  <a:moveTo>
                    <a:pt x="1144159" y="0"/>
                  </a:moveTo>
                  <a:cubicBezTo>
                    <a:pt x="1776061" y="0"/>
                    <a:pt x="2288318" y="79319"/>
                    <a:pt x="2288318" y="177165"/>
                  </a:cubicBezTo>
                  <a:cubicBezTo>
                    <a:pt x="2288318" y="226088"/>
                    <a:pt x="2160254" y="270380"/>
                    <a:pt x="1953202" y="302440"/>
                  </a:cubicBezTo>
                  <a:lnTo>
                    <a:pt x="1908073" y="307151"/>
                  </a:lnTo>
                  <a:lnTo>
                    <a:pt x="1876276" y="434340"/>
                  </a:lnTo>
                  <a:lnTo>
                    <a:pt x="1861213" y="434340"/>
                  </a:lnTo>
                  <a:lnTo>
                    <a:pt x="1816871" y="456320"/>
                  </a:lnTo>
                  <a:cubicBezTo>
                    <a:pt x="1705506" y="482669"/>
                    <a:pt x="1444795" y="501158"/>
                    <a:pt x="1140933" y="501158"/>
                  </a:cubicBezTo>
                  <a:cubicBezTo>
                    <a:pt x="837071" y="501158"/>
                    <a:pt x="576359" y="482669"/>
                    <a:pt x="464995" y="456320"/>
                  </a:cubicBezTo>
                  <a:lnTo>
                    <a:pt x="420653" y="434340"/>
                  </a:lnTo>
                  <a:lnTo>
                    <a:pt x="412040" y="434340"/>
                  </a:lnTo>
                  <a:lnTo>
                    <a:pt x="410821" y="429467"/>
                  </a:lnTo>
                  <a:lnTo>
                    <a:pt x="407346" y="427744"/>
                  </a:lnTo>
                  <a:lnTo>
                    <a:pt x="410055" y="426401"/>
                  </a:lnTo>
                  <a:lnTo>
                    <a:pt x="380243" y="307151"/>
                  </a:lnTo>
                  <a:lnTo>
                    <a:pt x="335117" y="302440"/>
                  </a:lnTo>
                  <a:cubicBezTo>
                    <a:pt x="128064" y="270380"/>
                    <a:pt x="0" y="226088"/>
                    <a:pt x="0" y="177165"/>
                  </a:cubicBezTo>
                  <a:cubicBezTo>
                    <a:pt x="0" y="79319"/>
                    <a:pt x="512257" y="0"/>
                    <a:pt x="1144159" y="0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椭圆 146"/>
            <p:cNvSpPr/>
            <p:nvPr/>
          </p:nvSpPr>
          <p:spPr>
            <a:xfrm>
              <a:off x="4180320" y="4875840"/>
              <a:ext cx="1896120" cy="204480"/>
            </a:xfrm>
            <a:prstGeom prst="ellipse">
              <a:avLst/>
            </a:pr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组合 139"/>
            <p:cNvGrpSpPr/>
            <p:nvPr/>
          </p:nvGrpSpPr>
          <p:grpSpPr>
            <a:xfrm>
              <a:off x="4545360" y="4387680"/>
              <a:ext cx="1297440" cy="503280"/>
              <a:chOff x="4545360" y="4387680"/>
              <a:chExt cx="1297440" cy="503280"/>
            </a:xfrm>
          </p:grpSpPr>
          <p:sp>
            <p:nvSpPr>
              <p:cNvPr id="689" name="任意多边形 133"/>
              <p:cNvSpPr/>
              <p:nvPr/>
            </p:nvSpPr>
            <p:spPr>
              <a:xfrm>
                <a:off x="4545360" y="4387680"/>
                <a:ext cx="1297440" cy="503280"/>
              </a:xfrm>
              <a:custGeom>
                <a:avLst/>
                <a:gdLst/>
                <a:ahLst/>
                <a:rect l="l" t="t" r="r" b="b"/>
                <a:pathLst>
                  <a:path w="1297831" h="502920">
                    <a:moveTo>
                      <a:pt x="743358" y="0"/>
                    </a:moveTo>
                    <a:cubicBezTo>
                      <a:pt x="1049585" y="0"/>
                      <a:pt x="1297831" y="112582"/>
                      <a:pt x="1297831" y="251460"/>
                    </a:cubicBezTo>
                    <a:cubicBezTo>
                      <a:pt x="1297831" y="390338"/>
                      <a:pt x="1049585" y="502920"/>
                      <a:pt x="743358" y="502920"/>
                    </a:cubicBezTo>
                    <a:cubicBezTo>
                      <a:pt x="590245" y="502920"/>
                      <a:pt x="451627" y="474775"/>
                      <a:pt x="351287" y="429269"/>
                    </a:cubicBezTo>
                    <a:lnTo>
                      <a:pt x="260197" y="367999"/>
                    </a:lnTo>
                    <a:lnTo>
                      <a:pt x="0" y="433048"/>
                    </a:lnTo>
                    <a:lnTo>
                      <a:pt x="0" y="69873"/>
                    </a:lnTo>
                    <a:lnTo>
                      <a:pt x="260197" y="134922"/>
                    </a:lnTo>
                    <a:lnTo>
                      <a:pt x="351287" y="73651"/>
                    </a:lnTo>
                    <a:cubicBezTo>
                      <a:pt x="451627" y="28146"/>
                      <a:pt x="590245" y="0"/>
                      <a:pt x="743358" y="0"/>
                    </a:cubicBez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任意多边形 136"/>
              <p:cNvSpPr/>
              <p:nvPr/>
            </p:nvSpPr>
            <p:spPr>
              <a:xfrm>
                <a:off x="5524560" y="4467600"/>
                <a:ext cx="286560" cy="331920"/>
              </a:xfrm>
              <a:custGeom>
                <a:avLst/>
                <a:gdLst/>
                <a:ahLst/>
                <a:rect l="l" t="t" r="r" b="b"/>
                <a:pathLst>
                  <a:path w="370050" h="354330">
                    <a:moveTo>
                      <a:pt x="98215" y="0"/>
                    </a:moveTo>
                    <a:cubicBezTo>
                      <a:pt x="248345" y="0"/>
                      <a:pt x="370050" y="79319"/>
                      <a:pt x="370050" y="177165"/>
                    </a:cubicBezTo>
                    <a:cubicBezTo>
                      <a:pt x="370050" y="275011"/>
                      <a:pt x="248345" y="354330"/>
                      <a:pt x="98215" y="354330"/>
                    </a:cubicBezTo>
                    <a:lnTo>
                      <a:pt x="28700" y="345183"/>
                    </a:lnTo>
                    <a:lnTo>
                      <a:pt x="21362" y="326149"/>
                    </a:lnTo>
                    <a:cubicBezTo>
                      <a:pt x="7607" y="280358"/>
                      <a:pt x="0" y="230012"/>
                      <a:pt x="0" y="177165"/>
                    </a:cubicBezTo>
                    <a:cubicBezTo>
                      <a:pt x="0" y="124318"/>
                      <a:pt x="7607" y="73973"/>
                      <a:pt x="21362" y="28181"/>
                    </a:cubicBezTo>
                    <a:lnTo>
                      <a:pt x="28700" y="9147"/>
                    </a:lnTo>
                    <a:close/>
                  </a:path>
                </a:pathLst>
              </a:custGeom>
              <a:solidFill>
                <a:srgbClr val="bdd7ee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椭圆 138"/>
              <p:cNvSpPr/>
              <p:nvPr/>
            </p:nvSpPr>
            <p:spPr>
              <a:xfrm>
                <a:off x="5667840" y="4599360"/>
                <a:ext cx="79920" cy="79920"/>
              </a:xfrm>
              <a:prstGeom prst="ellipse">
                <a:avLst/>
              </a:pr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2" name="组合 129"/>
            <p:cNvGrpSpPr/>
            <p:nvPr/>
          </p:nvGrpSpPr>
          <p:grpSpPr>
            <a:xfrm>
              <a:off x="4444920" y="4446000"/>
              <a:ext cx="862560" cy="645480"/>
              <a:chOff x="4444920" y="4446000"/>
              <a:chExt cx="862560" cy="645480"/>
            </a:xfrm>
          </p:grpSpPr>
          <p:sp>
            <p:nvSpPr>
              <p:cNvPr id="693" name="任意多边形 124"/>
              <p:cNvSpPr/>
              <p:nvPr/>
            </p:nvSpPr>
            <p:spPr>
              <a:xfrm rot="20487000">
                <a:off x="4889880" y="4489200"/>
                <a:ext cx="350280" cy="479160"/>
              </a:xfrm>
              <a:custGeom>
                <a:avLst/>
                <a:gdLst/>
                <a:ahLst/>
                <a:rect l="l" t="t" r="r" b="b"/>
                <a:pathLst>
                  <a:path w="350373" h="478484">
                    <a:moveTo>
                      <a:pt x="243377" y="18864"/>
                    </a:moveTo>
                    <a:cubicBezTo>
                      <a:pt x="306255" y="55386"/>
                      <a:pt x="350373" y="140887"/>
                      <a:pt x="350373" y="240539"/>
                    </a:cubicBezTo>
                    <a:cubicBezTo>
                      <a:pt x="350373" y="356798"/>
                      <a:pt x="290322" y="453797"/>
                      <a:pt x="210493" y="476230"/>
                    </a:cubicBezTo>
                    <a:lnTo>
                      <a:pt x="194217" y="478484"/>
                    </a:lnTo>
                    <a:lnTo>
                      <a:pt x="152988" y="478045"/>
                    </a:lnTo>
                    <a:lnTo>
                      <a:pt x="139880" y="476231"/>
                    </a:lnTo>
                    <a:cubicBezTo>
                      <a:pt x="60052" y="453798"/>
                      <a:pt x="0" y="356799"/>
                      <a:pt x="0" y="240538"/>
                    </a:cubicBezTo>
                    <a:cubicBezTo>
                      <a:pt x="1" y="140886"/>
                      <a:pt x="44120" y="55387"/>
                      <a:pt x="106996" y="18864"/>
                    </a:cubicBezTo>
                    <a:lnTo>
                      <a:pt x="121792" y="12557"/>
                    </a:lnTo>
                    <a:lnTo>
                      <a:pt x="155818" y="3395"/>
                    </a:lnTo>
                    <a:lnTo>
                      <a:pt x="175492" y="0"/>
                    </a:lnTo>
                    <a:lnTo>
                      <a:pt x="210493" y="4845"/>
                    </a:lnTo>
                    <a:cubicBezTo>
                      <a:pt x="221897" y="8050"/>
                      <a:pt x="232898" y="12777"/>
                      <a:pt x="243377" y="18864"/>
                    </a:cubicBezTo>
                    <a:close/>
                    <a:moveTo>
                      <a:pt x="218609" y="123949"/>
                    </a:moveTo>
                    <a:cubicBezTo>
                      <a:pt x="206040" y="116648"/>
                      <a:pt x="192221" y="112611"/>
                      <a:pt x="177716" y="112611"/>
                    </a:cubicBezTo>
                    <a:cubicBezTo>
                      <a:pt x="119696" y="112611"/>
                      <a:pt x="72662" y="177202"/>
                      <a:pt x="72662" y="256879"/>
                    </a:cubicBezTo>
                    <a:cubicBezTo>
                      <a:pt x="72662" y="336556"/>
                      <a:pt x="119696" y="401146"/>
                      <a:pt x="177717" y="401147"/>
                    </a:cubicBezTo>
                    <a:cubicBezTo>
                      <a:pt x="235736" y="401146"/>
                      <a:pt x="282770" y="336555"/>
                      <a:pt x="282771" y="256879"/>
                    </a:cubicBezTo>
                    <a:cubicBezTo>
                      <a:pt x="282771" y="197122"/>
                      <a:pt x="256314" y="145849"/>
                      <a:pt x="218609" y="123949"/>
                    </a:cubicBezTo>
                    <a:close/>
                  </a:path>
                </a:pathLst>
              </a:custGeom>
              <a:solidFill>
                <a:srgbClr val="bdd7ee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任意多边形 123"/>
              <p:cNvSpPr/>
              <p:nvPr/>
            </p:nvSpPr>
            <p:spPr>
              <a:xfrm rot="20487000">
                <a:off x="5005800" y="4664880"/>
                <a:ext cx="113760" cy="156600"/>
              </a:xfrm>
              <a:custGeom>
                <a:avLst/>
                <a:gdLst/>
                <a:ahLst/>
                <a:rect l="l" t="t" r="r" b="b"/>
                <a:pathLst>
                  <a:path w="113930" h="156458">
                    <a:moveTo>
                      <a:pt x="79138" y="6148"/>
                    </a:moveTo>
                    <a:cubicBezTo>
                      <a:pt x="99584" y="18023"/>
                      <a:pt x="113929" y="45825"/>
                      <a:pt x="113930" y="78229"/>
                    </a:cubicBezTo>
                    <a:cubicBezTo>
                      <a:pt x="113929" y="121434"/>
                      <a:pt x="88425" y="156458"/>
                      <a:pt x="56964" y="156458"/>
                    </a:cubicBezTo>
                    <a:cubicBezTo>
                      <a:pt x="25504" y="156458"/>
                      <a:pt x="0" y="121434"/>
                      <a:pt x="0" y="78230"/>
                    </a:cubicBezTo>
                    <a:cubicBezTo>
                      <a:pt x="0" y="35025"/>
                      <a:pt x="25504" y="1"/>
                      <a:pt x="56965" y="0"/>
                    </a:cubicBezTo>
                    <a:cubicBezTo>
                      <a:pt x="64830" y="0"/>
                      <a:pt x="72323" y="2189"/>
                      <a:pt x="79138" y="6148"/>
                    </a:cubicBezTo>
                    <a:close/>
                  </a:path>
                </a:pathLst>
              </a:custGeom>
              <a:solidFill>
                <a:srgbClr val="bdd7ee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任意多边形 121"/>
              <p:cNvSpPr/>
              <p:nvPr/>
            </p:nvSpPr>
            <p:spPr>
              <a:xfrm rot="20487000">
                <a:off x="4939200" y="4510440"/>
                <a:ext cx="53640" cy="12600"/>
              </a:xfrm>
              <a:custGeom>
                <a:avLst/>
                <a:gdLst/>
                <a:ahLst/>
                <a:rect l="l" t="t" r="r" b="b"/>
                <a:pathLst>
                  <a:path w="53700" h="12599">
                    <a:moveTo>
                      <a:pt x="53700" y="42"/>
                    </a:moveTo>
                    <a:lnTo>
                      <a:pt x="34026" y="3437"/>
                    </a:lnTo>
                    <a:lnTo>
                      <a:pt x="0" y="12599"/>
                    </a:lnTo>
                    <a:lnTo>
                      <a:pt x="18089" y="4888"/>
                    </a:lnTo>
                    <a:cubicBezTo>
                      <a:pt x="29493" y="1683"/>
                      <a:pt x="41301" y="0"/>
                      <a:pt x="53395" y="0"/>
                    </a:cubicBezTo>
                    <a:lnTo>
                      <a:pt x="53700" y="42"/>
                    </a:ln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任意多边形 128"/>
              <p:cNvSpPr/>
              <p:nvPr/>
            </p:nvSpPr>
            <p:spPr>
              <a:xfrm rot="20020800">
                <a:off x="4469040" y="4829400"/>
                <a:ext cx="322200" cy="184320"/>
              </a:xfrm>
              <a:custGeom>
                <a:avLst/>
                <a:gdLst/>
                <a:ahLst/>
                <a:rect l="l" t="t" r="r" b="b"/>
                <a:pathLst>
                  <a:path w="568969" h="324913">
                    <a:moveTo>
                      <a:pt x="568969" y="107851"/>
                    </a:moveTo>
                    <a:lnTo>
                      <a:pt x="568969" y="280974"/>
                    </a:lnTo>
                    <a:lnTo>
                      <a:pt x="185762" y="280974"/>
                    </a:lnTo>
                    <a:lnTo>
                      <a:pt x="184603" y="283449"/>
                    </a:lnTo>
                    <a:cubicBezTo>
                      <a:pt x="150981" y="328880"/>
                      <a:pt x="86895" y="338452"/>
                      <a:pt x="41465" y="304830"/>
                    </a:cubicBezTo>
                    <a:cubicBezTo>
                      <a:pt x="-3966" y="271208"/>
                      <a:pt x="-13539" y="207123"/>
                      <a:pt x="20084" y="161692"/>
                    </a:cubicBezTo>
                    <a:lnTo>
                      <a:pt x="25739" y="156585"/>
                    </a:lnTo>
                    <a:lnTo>
                      <a:pt x="23804" y="154441"/>
                    </a:lnTo>
                    <a:cubicBezTo>
                      <a:pt x="3521" y="120103"/>
                      <a:pt x="4441" y="75537"/>
                      <a:pt x="29658" y="41464"/>
                    </a:cubicBezTo>
                    <a:cubicBezTo>
                      <a:pt x="63280" y="-3967"/>
                      <a:pt x="127365" y="-13539"/>
                      <a:pt x="172796" y="20083"/>
                    </a:cubicBezTo>
                    <a:cubicBezTo>
                      <a:pt x="195511" y="36894"/>
                      <a:pt x="209262" y="61321"/>
                      <a:pt x="213131" y="87224"/>
                    </a:cubicBezTo>
                    <a:lnTo>
                      <a:pt x="212225" y="107851"/>
                    </a:ln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任意多边形 120"/>
              <p:cNvSpPr/>
              <p:nvPr/>
            </p:nvSpPr>
            <p:spPr>
              <a:xfrm rot="20487000">
                <a:off x="4651560" y="4573080"/>
                <a:ext cx="404280" cy="465840"/>
              </a:xfrm>
              <a:custGeom>
                <a:avLst/>
                <a:gdLst/>
                <a:ahLst/>
                <a:rect l="l" t="t" r="r" b="b"/>
                <a:pathLst>
                  <a:path w="404616" h="465488">
                    <a:moveTo>
                      <a:pt x="373420" y="0"/>
                    </a:moveTo>
                    <a:lnTo>
                      <a:pt x="358624" y="6307"/>
                    </a:lnTo>
                    <a:cubicBezTo>
                      <a:pt x="295748" y="42830"/>
                      <a:pt x="251629" y="128329"/>
                      <a:pt x="251628" y="227981"/>
                    </a:cubicBezTo>
                    <a:cubicBezTo>
                      <a:pt x="251628" y="344242"/>
                      <a:pt x="311680" y="441241"/>
                      <a:pt x="391508" y="463674"/>
                    </a:cubicBezTo>
                    <a:lnTo>
                      <a:pt x="404616" y="465488"/>
                    </a:lnTo>
                    <a:lnTo>
                      <a:pt x="363288" y="465049"/>
                    </a:lnTo>
                    <a:cubicBezTo>
                      <a:pt x="162308" y="453126"/>
                      <a:pt x="13628" y="384386"/>
                      <a:pt x="880" y="283903"/>
                    </a:cubicBezTo>
                    <a:cubicBezTo>
                      <a:pt x="-11868" y="183419"/>
                      <a:pt x="114937" y="79730"/>
                      <a:pt x="306572" y="17998"/>
                    </a:cubicBezTo>
                    <a:lnTo>
                      <a:pt x="373420" y="0"/>
                    </a:ln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任意多边形 119"/>
              <p:cNvSpPr/>
              <p:nvPr/>
            </p:nvSpPr>
            <p:spPr>
              <a:xfrm rot="20487000">
                <a:off x="4968000" y="4600440"/>
                <a:ext cx="209880" cy="288720"/>
              </a:xfrm>
              <a:custGeom>
                <a:avLst/>
                <a:gdLst/>
                <a:ahLst/>
                <a:rect l="l" t="t" r="r" b="b"/>
                <a:pathLst>
                  <a:path w="210109" h="288536">
                    <a:moveTo>
                      <a:pt x="145947" y="11338"/>
                    </a:moveTo>
                    <a:cubicBezTo>
                      <a:pt x="183652" y="33238"/>
                      <a:pt x="210109" y="84511"/>
                      <a:pt x="210109" y="144268"/>
                    </a:cubicBezTo>
                    <a:cubicBezTo>
                      <a:pt x="210108" y="223944"/>
                      <a:pt x="163074" y="288535"/>
                      <a:pt x="105055" y="288536"/>
                    </a:cubicBezTo>
                    <a:cubicBezTo>
                      <a:pt x="47034" y="288535"/>
                      <a:pt x="0" y="223945"/>
                      <a:pt x="0" y="144268"/>
                    </a:cubicBezTo>
                    <a:cubicBezTo>
                      <a:pt x="0" y="64591"/>
                      <a:pt x="47034" y="0"/>
                      <a:pt x="105054" y="0"/>
                    </a:cubicBezTo>
                    <a:cubicBezTo>
                      <a:pt x="119559" y="0"/>
                      <a:pt x="133378" y="4037"/>
                      <a:pt x="145947" y="11338"/>
                    </a:cubicBezTo>
                    <a:close/>
                    <a:moveTo>
                      <a:pt x="118395" y="67346"/>
                    </a:moveTo>
                    <a:cubicBezTo>
                      <a:pt x="111580" y="63387"/>
                      <a:pt x="104087" y="61198"/>
                      <a:pt x="96222" y="61198"/>
                    </a:cubicBezTo>
                    <a:cubicBezTo>
                      <a:pt x="64761" y="61199"/>
                      <a:pt x="39257" y="96223"/>
                      <a:pt x="39257" y="139428"/>
                    </a:cubicBezTo>
                    <a:cubicBezTo>
                      <a:pt x="39257" y="182632"/>
                      <a:pt x="64761" y="217656"/>
                      <a:pt x="96221" y="217656"/>
                    </a:cubicBezTo>
                    <a:cubicBezTo>
                      <a:pt x="127682" y="217656"/>
                      <a:pt x="153186" y="182632"/>
                      <a:pt x="153187" y="139427"/>
                    </a:cubicBezTo>
                    <a:cubicBezTo>
                      <a:pt x="153186" y="107023"/>
                      <a:pt x="138841" y="79221"/>
                      <a:pt x="118395" y="67346"/>
                    </a:cubicBez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任意多边形 118"/>
              <p:cNvSpPr/>
              <p:nvPr/>
            </p:nvSpPr>
            <p:spPr>
              <a:xfrm rot="20487000">
                <a:off x="5119560" y="4956120"/>
                <a:ext cx="41040" cy="2880"/>
              </a:xfrm>
              <a:custGeom>
                <a:avLst/>
                <a:gdLst/>
                <a:ahLst/>
                <a:rect l="l" t="t" r="r" b="b"/>
                <a:pathLst>
                  <a:path w="41229" h="3073">
                    <a:moveTo>
                      <a:pt x="41229" y="439"/>
                    </a:moveTo>
                    <a:lnTo>
                      <a:pt x="22199" y="3073"/>
                    </a:lnTo>
                    <a:lnTo>
                      <a:pt x="0" y="0"/>
                    </a:lnTo>
                    <a:lnTo>
                      <a:pt x="41229" y="439"/>
                    </a:ln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0" name="椭圆 147"/>
            <p:cNvSpPr/>
            <p:nvPr/>
          </p:nvSpPr>
          <p:spPr>
            <a:xfrm>
              <a:off x="5167080" y="4817160"/>
              <a:ext cx="383040" cy="259200"/>
            </a:xfrm>
            <a:prstGeom prst="ellipse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椭圆 148"/>
            <p:cNvSpPr/>
            <p:nvPr/>
          </p:nvSpPr>
          <p:spPr>
            <a:xfrm>
              <a:off x="5399280" y="4794480"/>
              <a:ext cx="383040" cy="259200"/>
            </a:xfrm>
            <a:prstGeom prst="ellipse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文本框 150"/>
          <p:cNvSpPr/>
          <p:nvPr/>
        </p:nvSpPr>
        <p:spPr>
          <a:xfrm>
            <a:off x="4089960" y="55101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以保障和改善民生为重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全面提高人民物质文化生活水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162"/>
          <p:cNvSpPr/>
          <p:nvPr/>
        </p:nvSpPr>
        <p:spPr>
          <a:xfrm>
            <a:off x="7759440" y="55101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以更大的政治勇气和智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深入推进改革开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4" name="组合 180"/>
          <p:cNvGrpSpPr/>
          <p:nvPr/>
        </p:nvGrpSpPr>
        <p:grpSpPr>
          <a:xfrm>
            <a:off x="7759800" y="3834720"/>
            <a:ext cx="1861560" cy="1631880"/>
            <a:chOff x="7759800" y="3834720"/>
            <a:chExt cx="1861560" cy="1631880"/>
          </a:xfrm>
        </p:grpSpPr>
        <p:grpSp>
          <p:nvGrpSpPr>
            <p:cNvPr id="705" name="组合 170"/>
            <p:cNvGrpSpPr/>
            <p:nvPr/>
          </p:nvGrpSpPr>
          <p:grpSpPr>
            <a:xfrm>
              <a:off x="7759800" y="3834720"/>
              <a:ext cx="1416600" cy="1631880"/>
              <a:chOff x="7759800" y="3834720"/>
              <a:chExt cx="1416600" cy="1631880"/>
            </a:xfrm>
          </p:grpSpPr>
          <p:sp>
            <p:nvSpPr>
              <p:cNvPr id="706" name="双波形 163"/>
              <p:cNvSpPr/>
              <p:nvPr/>
            </p:nvSpPr>
            <p:spPr>
              <a:xfrm rot="20423400">
                <a:off x="7938720" y="3998880"/>
                <a:ext cx="1126440" cy="855360"/>
              </a:xfrm>
              <a:custGeom>
                <a:avLst/>
                <a:gdLst>
                  <a:gd name="textAreaLeft" fmla="*/ 0 w 1126440"/>
                  <a:gd name="textAreaRight" fmla="*/ 1126800 w 1126440"/>
                  <a:gd name="textAreaTop" fmla="*/ 173160 h 855360"/>
                  <a:gd name="textAreaBottom" fmla="*/ 682200 h 85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86"/>
                    </a:moveTo>
                    <a:cubicBezTo>
                      <a:pt x="3600" y="-5558"/>
                      <a:pt x="7200" y="9930"/>
                      <a:pt x="10800" y="2186"/>
                    </a:cubicBezTo>
                    <a:cubicBezTo>
                      <a:pt x="14400" y="-5558"/>
                      <a:pt x="18000" y="9930"/>
                      <a:pt x="21600" y="2186"/>
                    </a:cubicBezTo>
                    <a:lnTo>
                      <a:pt x="21600" y="19414"/>
                    </a:lnTo>
                    <a:cubicBezTo>
                      <a:pt x="18000" y="27158"/>
                      <a:pt x="14400" y="11670"/>
                      <a:pt x="10800" y="19414"/>
                    </a:cubicBezTo>
                    <a:cubicBezTo>
                      <a:pt x="7200" y="27158"/>
                      <a:pt x="3600" y="11670"/>
                      <a:pt x="0" y="19414"/>
                    </a:cubicBez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任意多边形 167"/>
              <p:cNvSpPr/>
              <p:nvPr/>
            </p:nvSpPr>
            <p:spPr>
              <a:xfrm rot="20423400">
                <a:off x="7974000" y="4201200"/>
                <a:ext cx="77040" cy="1289880"/>
              </a:xfrm>
              <a:custGeom>
                <a:avLst/>
                <a:gdLst/>
                <a:ahLst/>
                <a:rect l="l" t="t" r="r" b="b"/>
                <a:pathLst>
                  <a:path w="77303" h="1289806">
                    <a:moveTo>
                      <a:pt x="77303" y="0"/>
                    </a:moveTo>
                    <a:lnTo>
                      <a:pt x="77303" y="1289806"/>
                    </a:lnTo>
                    <a:lnTo>
                      <a:pt x="0" y="12622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d7ee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8" name="组合 171"/>
            <p:cNvGrpSpPr/>
            <p:nvPr/>
          </p:nvGrpSpPr>
          <p:grpSpPr>
            <a:xfrm>
              <a:off x="8294040" y="4464720"/>
              <a:ext cx="861840" cy="992880"/>
              <a:chOff x="8294040" y="4464720"/>
              <a:chExt cx="861840" cy="992880"/>
            </a:xfrm>
          </p:grpSpPr>
          <p:sp>
            <p:nvSpPr>
              <p:cNvPr id="709" name="双波形 172"/>
              <p:cNvSpPr/>
              <p:nvPr/>
            </p:nvSpPr>
            <p:spPr>
              <a:xfrm rot="20423400">
                <a:off x="8403120" y="4564440"/>
                <a:ext cx="685080" cy="520200"/>
              </a:xfrm>
              <a:custGeom>
                <a:avLst/>
                <a:gdLst>
                  <a:gd name="textAreaLeft" fmla="*/ 0 w 685080"/>
                  <a:gd name="textAreaRight" fmla="*/ 685080 w 685080"/>
                  <a:gd name="textAreaTop" fmla="*/ 105120 h 520200"/>
                  <a:gd name="textAreaBottom" fmla="*/ 415080 h 52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86"/>
                    </a:moveTo>
                    <a:cubicBezTo>
                      <a:pt x="3600" y="-5558"/>
                      <a:pt x="7200" y="9930"/>
                      <a:pt x="10800" y="2186"/>
                    </a:cubicBezTo>
                    <a:cubicBezTo>
                      <a:pt x="14400" y="-5558"/>
                      <a:pt x="18000" y="9930"/>
                      <a:pt x="21600" y="2186"/>
                    </a:cubicBezTo>
                    <a:lnTo>
                      <a:pt x="21600" y="19414"/>
                    </a:lnTo>
                    <a:cubicBezTo>
                      <a:pt x="18000" y="27158"/>
                      <a:pt x="14400" y="11670"/>
                      <a:pt x="10800" y="19414"/>
                    </a:cubicBezTo>
                    <a:cubicBezTo>
                      <a:pt x="7200" y="27158"/>
                      <a:pt x="3600" y="11670"/>
                      <a:pt x="0" y="19414"/>
                    </a:cubicBez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任意多边形 173"/>
              <p:cNvSpPr/>
              <p:nvPr/>
            </p:nvSpPr>
            <p:spPr>
              <a:xfrm rot="20423400">
                <a:off x="8424000" y="4687560"/>
                <a:ext cx="46800" cy="784440"/>
              </a:xfrm>
              <a:custGeom>
                <a:avLst/>
                <a:gdLst/>
                <a:ahLst/>
                <a:rect l="l" t="t" r="r" b="b"/>
                <a:pathLst>
                  <a:path w="77303" h="1289806">
                    <a:moveTo>
                      <a:pt x="77303" y="0"/>
                    </a:moveTo>
                    <a:lnTo>
                      <a:pt x="77303" y="1289806"/>
                    </a:lnTo>
                    <a:lnTo>
                      <a:pt x="0" y="12622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d7ee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1" name="组合 177"/>
            <p:cNvGrpSpPr/>
            <p:nvPr/>
          </p:nvGrpSpPr>
          <p:grpSpPr>
            <a:xfrm>
              <a:off x="8759520" y="4464720"/>
              <a:ext cx="861840" cy="992880"/>
              <a:chOff x="8759520" y="4464720"/>
              <a:chExt cx="861840" cy="992880"/>
            </a:xfrm>
          </p:grpSpPr>
          <p:sp>
            <p:nvSpPr>
              <p:cNvPr id="712" name="双波形 178"/>
              <p:cNvSpPr/>
              <p:nvPr/>
            </p:nvSpPr>
            <p:spPr>
              <a:xfrm rot="20423400">
                <a:off x="8868600" y="4564440"/>
                <a:ext cx="685080" cy="520200"/>
              </a:xfrm>
              <a:custGeom>
                <a:avLst/>
                <a:gdLst>
                  <a:gd name="textAreaLeft" fmla="*/ 0 w 685080"/>
                  <a:gd name="textAreaRight" fmla="*/ 685080 w 685080"/>
                  <a:gd name="textAreaTop" fmla="*/ 105120 h 520200"/>
                  <a:gd name="textAreaBottom" fmla="*/ 415080 h 52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86"/>
                    </a:moveTo>
                    <a:cubicBezTo>
                      <a:pt x="3600" y="-5558"/>
                      <a:pt x="7200" y="9930"/>
                      <a:pt x="10800" y="2186"/>
                    </a:cubicBezTo>
                    <a:cubicBezTo>
                      <a:pt x="14400" y="-5558"/>
                      <a:pt x="18000" y="9930"/>
                      <a:pt x="21600" y="2186"/>
                    </a:cubicBezTo>
                    <a:lnTo>
                      <a:pt x="21600" y="19414"/>
                    </a:lnTo>
                    <a:cubicBezTo>
                      <a:pt x="18000" y="27158"/>
                      <a:pt x="14400" y="11670"/>
                      <a:pt x="10800" y="19414"/>
                    </a:cubicBezTo>
                    <a:cubicBezTo>
                      <a:pt x="7200" y="27158"/>
                      <a:pt x="3600" y="11670"/>
                      <a:pt x="0" y="19414"/>
                    </a:cubicBezTo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任意多边形 179"/>
              <p:cNvSpPr/>
              <p:nvPr/>
            </p:nvSpPr>
            <p:spPr>
              <a:xfrm rot="20423400">
                <a:off x="8889480" y="4687560"/>
                <a:ext cx="46800" cy="784440"/>
              </a:xfrm>
              <a:custGeom>
                <a:avLst/>
                <a:gdLst/>
                <a:ahLst/>
                <a:rect l="l" t="t" r="r" b="b"/>
                <a:pathLst>
                  <a:path w="77303" h="1289806">
                    <a:moveTo>
                      <a:pt x="77303" y="0"/>
                    </a:moveTo>
                    <a:lnTo>
                      <a:pt x="77303" y="1289806"/>
                    </a:lnTo>
                    <a:lnTo>
                      <a:pt x="0" y="12622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d7ee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4" name="文本框 181"/>
          <p:cNvSpPr/>
          <p:nvPr/>
        </p:nvSpPr>
        <p:spPr>
          <a:xfrm>
            <a:off x="2585880" y="3139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V Bol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文本框 182"/>
          <p:cNvSpPr/>
          <p:nvPr/>
        </p:nvSpPr>
        <p:spPr>
          <a:xfrm>
            <a:off x="6130800" y="3139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V Bol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183"/>
          <p:cNvSpPr/>
          <p:nvPr/>
        </p:nvSpPr>
        <p:spPr>
          <a:xfrm>
            <a:off x="6130800" y="5024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V Bol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184"/>
          <p:cNvSpPr/>
          <p:nvPr/>
        </p:nvSpPr>
        <p:spPr>
          <a:xfrm>
            <a:off x="9467640" y="5024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V Bol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6A29-883C-4075-AA56-EE2160C686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3"/>
          <p:cNvSpPr/>
          <p:nvPr/>
        </p:nvSpPr>
        <p:spPr>
          <a:xfrm>
            <a:off x="0" y="0"/>
            <a:ext cx="12192120" cy="549360"/>
          </a:xfrm>
          <a:prstGeom prst="rect">
            <a:avLst/>
          </a:prstGeom>
          <a:solidFill>
            <a:srgbClr val="2b6cad"/>
          </a:solidFill>
          <a:ln w="0">
            <a:noFill/>
          </a:ln>
          <a:effectLst>
            <a:outerShdw dist="38160" dir="5400000" blurRad="0" rotWithShape="0">
              <a:srgbClr val="2b6cad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4"/>
          <p:cNvGrpSpPr/>
          <p:nvPr/>
        </p:nvGrpSpPr>
        <p:grpSpPr>
          <a:xfrm>
            <a:off x="9036000" y="79200"/>
            <a:ext cx="19080" cy="390600"/>
            <a:chOff x="9036000" y="79200"/>
            <a:chExt cx="19080" cy="390600"/>
          </a:xfrm>
        </p:grpSpPr>
        <p:sp>
          <p:nvSpPr>
            <p:cNvPr id="724" name="直接连接符 5"/>
            <p:cNvSpPr/>
            <p:nvPr/>
          </p:nvSpPr>
          <p:spPr>
            <a:xfrm>
              <a:off x="9036000" y="79200"/>
              <a:ext cx="0" cy="390600"/>
            </a:xfrm>
            <a:prstGeom prst="line">
              <a:avLst/>
            </a:prstGeom>
            <a:ln w="648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6"/>
            <p:cNvSpPr/>
            <p:nvPr/>
          </p:nvSpPr>
          <p:spPr>
            <a:xfrm>
              <a:off x="9055080" y="79200"/>
              <a:ext cx="0" cy="390600"/>
            </a:xfrm>
            <a:prstGeom prst="line">
              <a:avLst/>
            </a:prstGeom>
            <a:ln w="6480">
              <a:solidFill>
                <a:srgbClr val="739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6" name="矩形 7" descr=""/>
          <p:cNvPicPr/>
          <p:nvPr/>
        </p:nvPicPr>
        <p:blipFill>
          <a:blip r:embed="rId1"/>
          <a:stretch/>
        </p:blipFill>
        <p:spPr>
          <a:xfrm>
            <a:off x="622440" y="6480"/>
            <a:ext cx="3674880" cy="542880"/>
          </a:xfrm>
          <a:prstGeom prst="rect">
            <a:avLst/>
          </a:prstGeom>
          <a:ln w="0">
            <a:noFill/>
          </a:ln>
        </p:spPr>
      </p:pic>
      <p:sp>
        <p:nvSpPr>
          <p:cNvPr id="727" name="文本框 8"/>
          <p:cNvSpPr/>
          <p:nvPr/>
        </p:nvSpPr>
        <p:spPr>
          <a:xfrm>
            <a:off x="1311120" y="96840"/>
            <a:ext cx="23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个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该支持的提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9"/>
          <p:cNvSpPr/>
          <p:nvPr/>
        </p:nvSpPr>
        <p:spPr>
          <a:xfrm>
            <a:off x="9740520" y="903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政府工作报告图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10"/>
          <p:cNvSpPr/>
          <p:nvPr/>
        </p:nvSpPr>
        <p:spPr>
          <a:xfrm>
            <a:off x="858960" y="833400"/>
            <a:ext cx="10474200" cy="56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18"/>
          <p:cNvSpPr/>
          <p:nvPr/>
        </p:nvSpPr>
        <p:spPr>
          <a:xfrm>
            <a:off x="10082160" y="6110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2013.3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TextBox 19" descr=""/>
          <p:cNvPicPr/>
          <p:nvPr/>
        </p:nvPicPr>
        <p:blipFill>
          <a:blip r:embed="rId2"/>
          <a:stretch/>
        </p:blipFill>
        <p:spPr>
          <a:xfrm>
            <a:off x="4025880" y="1873080"/>
            <a:ext cx="50292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5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任意多边形 44"/>
          <p:cNvSpPr/>
          <p:nvPr/>
        </p:nvSpPr>
        <p:spPr>
          <a:xfrm rot="3035400">
            <a:off x="5710320" y="762120"/>
            <a:ext cx="1208160" cy="7377120"/>
          </a:xfrm>
          <a:custGeom>
            <a:avLst/>
            <a:gdLst/>
            <a:ahLst/>
            <a:rect l="l" t="t" r="r" b="b"/>
            <a:pathLst>
              <a:path w="1207374" h="7377665">
                <a:moveTo>
                  <a:pt x="0" y="433749"/>
                </a:moveTo>
                <a:lnTo>
                  <a:pt x="603687" y="0"/>
                </a:lnTo>
                <a:lnTo>
                  <a:pt x="1207374" y="433749"/>
                </a:lnTo>
                <a:lnTo>
                  <a:pt x="953397" y="433749"/>
                </a:lnTo>
                <a:lnTo>
                  <a:pt x="953397" y="6526451"/>
                </a:lnTo>
                <a:lnTo>
                  <a:pt x="253977" y="7377665"/>
                </a:lnTo>
                <a:lnTo>
                  <a:pt x="253977" y="433749"/>
                </a:lnTo>
                <a:close/>
              </a:path>
            </a:pathLst>
          </a:custGeom>
          <a:solidFill>
            <a:srgbClr val="9dc3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2"/>
          <p:cNvSpPr/>
          <p:nvPr/>
        </p:nvSpPr>
        <p:spPr>
          <a:xfrm>
            <a:off x="630720" y="110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体概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7"/>
          <p:cNvSpPr/>
          <p:nvPr/>
        </p:nvSpPr>
        <p:spPr>
          <a:xfrm>
            <a:off x="295200" y="1781280"/>
            <a:ext cx="977580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15"/>
          <p:cNvSpPr/>
          <p:nvPr/>
        </p:nvSpPr>
        <p:spPr>
          <a:xfrm>
            <a:off x="995760" y="2478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6cad"/>
                </a:solidFill>
                <a:latin typeface="微软雅黑"/>
                <a:ea typeface="微软雅黑"/>
              </a:rPr>
              <a:t>国内生产总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16"/>
          <p:cNvSpPr/>
          <p:nvPr/>
        </p:nvSpPr>
        <p:spPr>
          <a:xfrm>
            <a:off x="995760" y="345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6cad"/>
                </a:solidFill>
                <a:latin typeface="微软雅黑"/>
                <a:ea typeface="微软雅黑"/>
              </a:rPr>
              <a:t>公共财政收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17"/>
          <p:cNvSpPr/>
          <p:nvPr/>
        </p:nvSpPr>
        <p:spPr>
          <a:xfrm>
            <a:off x="982080" y="4435560"/>
            <a:ext cx="1605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2b6cad"/>
                </a:solidFill>
                <a:latin typeface="微软雅黑"/>
                <a:ea typeface="微软雅黑"/>
              </a:rPr>
              <a:t>城镇居民人均可支配收入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9"/>
          <p:cNvSpPr/>
          <p:nvPr/>
        </p:nvSpPr>
        <p:spPr>
          <a:xfrm>
            <a:off x="3284640" y="2530440"/>
            <a:ext cx="2966760" cy="298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1"/>
          <p:cNvSpPr/>
          <p:nvPr/>
        </p:nvSpPr>
        <p:spPr>
          <a:xfrm>
            <a:off x="3436920" y="2682720"/>
            <a:ext cx="5337360" cy="298440"/>
          </a:xfrm>
          <a:prstGeom prst="rect">
            <a:avLst/>
          </a:prstGeom>
          <a:solidFill>
            <a:srgbClr val="5b9bd5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22"/>
          <p:cNvSpPr/>
          <p:nvPr/>
        </p:nvSpPr>
        <p:spPr>
          <a:xfrm>
            <a:off x="5204880" y="2157480"/>
            <a:ext cx="11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6.6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亿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23"/>
          <p:cNvSpPr/>
          <p:nvPr/>
        </p:nvSpPr>
        <p:spPr>
          <a:xfrm>
            <a:off x="7674480" y="2309760"/>
            <a:ext cx="11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51.9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亿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26"/>
          <p:cNvSpPr/>
          <p:nvPr/>
        </p:nvSpPr>
        <p:spPr>
          <a:xfrm>
            <a:off x="4419000" y="31212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1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亿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27"/>
          <p:cNvSpPr/>
          <p:nvPr/>
        </p:nvSpPr>
        <p:spPr>
          <a:xfrm>
            <a:off x="6243480" y="32734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.7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28"/>
          <p:cNvSpPr/>
          <p:nvPr/>
        </p:nvSpPr>
        <p:spPr>
          <a:xfrm>
            <a:off x="3284640" y="3483000"/>
            <a:ext cx="2052360" cy="298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29"/>
          <p:cNvSpPr/>
          <p:nvPr/>
        </p:nvSpPr>
        <p:spPr>
          <a:xfrm>
            <a:off x="3436920" y="3633840"/>
            <a:ext cx="3691080" cy="299880"/>
          </a:xfrm>
          <a:prstGeom prst="rect">
            <a:avLst/>
          </a:prstGeom>
          <a:solidFill>
            <a:srgbClr val="5b9bd5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0"/>
          <p:cNvSpPr/>
          <p:nvPr/>
        </p:nvSpPr>
        <p:spPr>
          <a:xfrm>
            <a:off x="3284640" y="4440240"/>
            <a:ext cx="2849400" cy="298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1"/>
          <p:cNvSpPr/>
          <p:nvPr/>
        </p:nvSpPr>
        <p:spPr>
          <a:xfrm>
            <a:off x="3436920" y="4573440"/>
            <a:ext cx="3860640" cy="298440"/>
          </a:xfrm>
          <a:prstGeom prst="rect">
            <a:avLst/>
          </a:prstGeom>
          <a:solidFill>
            <a:srgbClr val="5b9bd5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32"/>
          <p:cNvSpPr/>
          <p:nvPr/>
        </p:nvSpPr>
        <p:spPr>
          <a:xfrm>
            <a:off x="3284640" y="5281560"/>
            <a:ext cx="1008000" cy="3002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3"/>
          <p:cNvSpPr/>
          <p:nvPr/>
        </p:nvSpPr>
        <p:spPr>
          <a:xfrm>
            <a:off x="3436920" y="5415120"/>
            <a:ext cx="1900080" cy="298440"/>
          </a:xfrm>
          <a:prstGeom prst="rect">
            <a:avLst/>
          </a:prstGeom>
          <a:solidFill>
            <a:srgbClr val="5b9bd5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34"/>
          <p:cNvSpPr/>
          <p:nvPr/>
        </p:nvSpPr>
        <p:spPr>
          <a:xfrm>
            <a:off x="5073120" y="4065480"/>
            <a:ext cx="10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3786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35"/>
          <p:cNvSpPr/>
          <p:nvPr/>
        </p:nvSpPr>
        <p:spPr>
          <a:xfrm>
            <a:off x="6511680" y="4203720"/>
            <a:ext cx="10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4565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36"/>
          <p:cNvSpPr/>
          <p:nvPr/>
        </p:nvSpPr>
        <p:spPr>
          <a:xfrm>
            <a:off x="1004760" y="5199120"/>
            <a:ext cx="1621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微软雅黑"/>
                <a:ea typeface="微软雅黑"/>
              </a:rPr>
              <a:t>农村居民人均纯收入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37"/>
          <p:cNvSpPr/>
          <p:nvPr/>
        </p:nvSpPr>
        <p:spPr>
          <a:xfrm>
            <a:off x="3618000" y="491004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14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38"/>
          <p:cNvSpPr/>
          <p:nvPr/>
        </p:nvSpPr>
        <p:spPr>
          <a:xfrm>
            <a:off x="4624200" y="504684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7917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45"/>
          <p:cNvSpPr/>
          <p:nvPr/>
        </p:nvSpPr>
        <p:spPr>
          <a:xfrm>
            <a:off x="8310960" y="492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载人航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46"/>
          <p:cNvSpPr/>
          <p:nvPr/>
        </p:nvSpPr>
        <p:spPr>
          <a:xfrm>
            <a:off x="8318880" y="4575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探月工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47"/>
          <p:cNvSpPr/>
          <p:nvPr/>
        </p:nvSpPr>
        <p:spPr>
          <a:xfrm>
            <a:off x="9490680" y="4575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载人深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48"/>
          <p:cNvSpPr/>
          <p:nvPr/>
        </p:nvSpPr>
        <p:spPr>
          <a:xfrm>
            <a:off x="8754120" y="5632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北斗卫星导航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49"/>
          <p:cNvSpPr/>
          <p:nvPr/>
        </p:nvSpPr>
        <p:spPr>
          <a:xfrm>
            <a:off x="9306720" y="3871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超级计算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50"/>
          <p:cNvSpPr/>
          <p:nvPr/>
        </p:nvSpPr>
        <p:spPr>
          <a:xfrm>
            <a:off x="9490680" y="492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高速铁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51"/>
          <p:cNvSpPr/>
          <p:nvPr/>
        </p:nvSpPr>
        <p:spPr>
          <a:xfrm>
            <a:off x="9535320" y="4224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第一艘航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52"/>
          <p:cNvSpPr/>
          <p:nvPr/>
        </p:nvSpPr>
        <p:spPr>
          <a:xfrm>
            <a:off x="7844760" y="5280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北京奥运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53"/>
          <p:cNvSpPr/>
          <p:nvPr/>
        </p:nvSpPr>
        <p:spPr>
          <a:xfrm>
            <a:off x="9306720" y="5280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上海世博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54"/>
          <p:cNvSpPr/>
          <p:nvPr/>
        </p:nvSpPr>
        <p:spPr>
          <a:xfrm>
            <a:off x="6409440" y="5985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抗击汶川、玉树地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55"/>
          <p:cNvSpPr/>
          <p:nvPr/>
        </p:nvSpPr>
        <p:spPr>
          <a:xfrm>
            <a:off x="8202240" y="598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抗击舟曲特大山洪泥石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56"/>
          <p:cNvSpPr/>
          <p:nvPr/>
        </p:nvSpPr>
        <p:spPr>
          <a:xfrm>
            <a:off x="7173000" y="5632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e6e6"/>
                </a:solidFill>
                <a:latin typeface="Calibri"/>
                <a:ea typeface="微软雅黑"/>
              </a:rPr>
              <a:t>北京残奥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椭圆 57"/>
          <p:cNvSpPr/>
          <p:nvPr/>
        </p:nvSpPr>
        <p:spPr>
          <a:xfrm rot="10800000">
            <a:off x="10856880" y="1201320"/>
            <a:ext cx="969840" cy="97164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椭圆 59"/>
          <p:cNvSpPr/>
          <p:nvPr/>
        </p:nvSpPr>
        <p:spPr>
          <a:xfrm rot="10800000">
            <a:off x="11161440" y="319356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60"/>
          <p:cNvSpPr/>
          <p:nvPr/>
        </p:nvSpPr>
        <p:spPr>
          <a:xfrm rot="10800000">
            <a:off x="11161440" y="250308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61"/>
          <p:cNvSpPr/>
          <p:nvPr/>
        </p:nvSpPr>
        <p:spPr>
          <a:xfrm>
            <a:off x="11161800" y="3886200"/>
            <a:ext cx="360360" cy="35892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椭圆 62"/>
          <p:cNvSpPr/>
          <p:nvPr/>
        </p:nvSpPr>
        <p:spPr>
          <a:xfrm>
            <a:off x="11161800" y="457668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椭圆 63"/>
          <p:cNvSpPr/>
          <p:nvPr/>
        </p:nvSpPr>
        <p:spPr>
          <a:xfrm>
            <a:off x="11161800" y="526716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椭圆 64"/>
          <p:cNvSpPr/>
          <p:nvPr/>
        </p:nvSpPr>
        <p:spPr>
          <a:xfrm>
            <a:off x="11161800" y="595800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组合 84" descr=""/>
          <p:cNvPicPr/>
          <p:nvPr/>
        </p:nvPicPr>
        <p:blipFill>
          <a:blip r:embed="rId1"/>
          <a:stretch/>
        </p:blipFill>
        <p:spPr>
          <a:xfrm>
            <a:off x="11049120" y="1382760"/>
            <a:ext cx="528480" cy="68400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1"/>
          <p:cNvSpPr/>
          <p:nvPr/>
        </p:nvSpPr>
        <p:spPr>
          <a:xfrm>
            <a:off x="9406440" y="3317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e6e6"/>
                </a:solidFill>
                <a:latin typeface="微软雅黑"/>
                <a:ea typeface="微软雅黑"/>
              </a:rPr>
              <a:t>成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文本框 3"/>
          <p:cNvSpPr/>
          <p:nvPr/>
        </p:nvSpPr>
        <p:spPr>
          <a:xfrm>
            <a:off x="1130400" y="1103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促进经济平稳较快发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接连接符 4"/>
          <p:cNvSpPr/>
          <p:nvPr/>
        </p:nvSpPr>
        <p:spPr>
          <a:xfrm>
            <a:off x="295200" y="1781280"/>
            <a:ext cx="977580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椭圆 5"/>
          <p:cNvSpPr/>
          <p:nvPr/>
        </p:nvSpPr>
        <p:spPr>
          <a:xfrm rot="10800000">
            <a:off x="10856880" y="1893960"/>
            <a:ext cx="969840" cy="96984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椭圆 6"/>
          <p:cNvSpPr/>
          <p:nvPr/>
        </p:nvSpPr>
        <p:spPr>
          <a:xfrm rot="10800000">
            <a:off x="11161440" y="319356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椭圆 7"/>
          <p:cNvSpPr/>
          <p:nvPr/>
        </p:nvSpPr>
        <p:spPr>
          <a:xfrm rot="10800000">
            <a:off x="11161440" y="120132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11161800" y="3886200"/>
            <a:ext cx="360360" cy="35892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椭圆 9"/>
          <p:cNvSpPr/>
          <p:nvPr/>
        </p:nvSpPr>
        <p:spPr>
          <a:xfrm>
            <a:off x="11161800" y="457668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椭圆 10"/>
          <p:cNvSpPr/>
          <p:nvPr/>
        </p:nvSpPr>
        <p:spPr>
          <a:xfrm>
            <a:off x="11161800" y="526716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椭圆 11"/>
          <p:cNvSpPr/>
          <p:nvPr/>
        </p:nvSpPr>
        <p:spPr>
          <a:xfrm>
            <a:off x="11161800" y="595800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任意多边形 16"/>
          <p:cNvSpPr/>
          <p:nvPr/>
        </p:nvSpPr>
        <p:spPr>
          <a:xfrm>
            <a:off x="11017080" y="2111400"/>
            <a:ext cx="650880" cy="533520"/>
          </a:xfrm>
          <a:custGeom>
            <a:avLst/>
            <a:gdLst/>
            <a:ahLst/>
            <a:rect l="l" t="t" r="r" b="b"/>
            <a:pathLst>
              <a:path w="838200" h="685800">
                <a:moveTo>
                  <a:pt x="209550" y="642769"/>
                </a:moveTo>
                <a:lnTo>
                  <a:pt x="628650" y="642769"/>
                </a:lnTo>
                <a:lnTo>
                  <a:pt x="628650" y="685800"/>
                </a:lnTo>
                <a:lnTo>
                  <a:pt x="209550" y="685800"/>
                </a:lnTo>
                <a:close/>
                <a:moveTo>
                  <a:pt x="209550" y="502921"/>
                </a:moveTo>
                <a:lnTo>
                  <a:pt x="628650" y="502921"/>
                </a:lnTo>
                <a:lnTo>
                  <a:pt x="628650" y="597050"/>
                </a:lnTo>
                <a:lnTo>
                  <a:pt x="209550" y="597050"/>
                </a:lnTo>
                <a:close/>
                <a:moveTo>
                  <a:pt x="419100" y="0"/>
                </a:moveTo>
                <a:lnTo>
                  <a:pt x="838200" y="342900"/>
                </a:lnTo>
                <a:lnTo>
                  <a:pt x="628650" y="342900"/>
                </a:lnTo>
                <a:lnTo>
                  <a:pt x="628650" y="457202"/>
                </a:lnTo>
                <a:lnTo>
                  <a:pt x="209550" y="457202"/>
                </a:lnTo>
                <a:lnTo>
                  <a:pt x="209550" y="342900"/>
                </a:lnTo>
                <a:lnTo>
                  <a:pt x="0" y="3429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组合 25"/>
          <p:cNvGrpSpPr/>
          <p:nvPr/>
        </p:nvGrpSpPr>
        <p:grpSpPr>
          <a:xfrm>
            <a:off x="777960" y="2170080"/>
            <a:ext cx="1050840" cy="1052640"/>
            <a:chOff x="777960" y="2170080"/>
            <a:chExt cx="1050840" cy="1052640"/>
          </a:xfrm>
        </p:grpSpPr>
        <p:sp>
          <p:nvSpPr>
            <p:cNvPr id="305" name="圆角矩形 17"/>
            <p:cNvSpPr/>
            <p:nvPr/>
          </p:nvSpPr>
          <p:spPr>
            <a:xfrm>
              <a:off x="777960" y="2170080"/>
              <a:ext cx="1050840" cy="1052640"/>
            </a:xfrm>
            <a:custGeom>
              <a:avLst/>
              <a:gdLst>
                <a:gd name="textAreaLeft" fmla="*/ 51120 w 1050840"/>
                <a:gd name="textAreaRight" fmla="*/ 999720 w 1050840"/>
                <a:gd name="textAreaTop" fmla="*/ 51120 h 1052640"/>
                <a:gd name="textAreaBottom" fmla="*/ 1001520 h 1052640"/>
              </a:gdLst>
              <a:ahLst/>
              <a:rect l="textAreaLeft" t="textAreaTop" r="textAreaRight" b="textAreaBottom"/>
              <a:pathLst>
                <a:path w="21600" h="21637">
                  <a:moveTo>
                    <a:pt x="3600" y="0"/>
                  </a:moveTo>
                  <a:arcTo wR="3600" hR="3600" stAng="16200000" swAng="-5400000"/>
                  <a:lnTo>
                    <a:pt x="0" y="18037"/>
                  </a:lnTo>
                  <a:arcTo wR="3600" hR="3600" stAng="10800000" swAng="-5400000"/>
                  <a:lnTo>
                    <a:pt x="18000" y="216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任意多边形 24"/>
            <p:cNvSpPr/>
            <p:nvPr/>
          </p:nvSpPr>
          <p:spPr>
            <a:xfrm>
              <a:off x="946080" y="2444760"/>
              <a:ext cx="714240" cy="502920"/>
            </a:xfrm>
            <a:custGeom>
              <a:avLst/>
              <a:gdLst/>
              <a:ahLst/>
              <a:rect l="l" t="t" r="r" b="b"/>
              <a:pathLst>
                <a:path w="1417320" h="996140">
                  <a:moveTo>
                    <a:pt x="637582" y="520929"/>
                  </a:moveTo>
                  <a:lnTo>
                    <a:pt x="619634" y="825729"/>
                  </a:lnTo>
                  <a:lnTo>
                    <a:pt x="797686" y="825729"/>
                  </a:lnTo>
                  <a:lnTo>
                    <a:pt x="779738" y="520929"/>
                  </a:lnTo>
                  <a:close/>
                  <a:moveTo>
                    <a:pt x="655193" y="221857"/>
                  </a:moveTo>
                  <a:lnTo>
                    <a:pt x="640275" y="475210"/>
                  </a:lnTo>
                  <a:lnTo>
                    <a:pt x="777045" y="475210"/>
                  </a:lnTo>
                  <a:lnTo>
                    <a:pt x="762127" y="221857"/>
                  </a:lnTo>
                  <a:close/>
                  <a:moveTo>
                    <a:pt x="462398" y="0"/>
                  </a:moveTo>
                  <a:lnTo>
                    <a:pt x="668257" y="0"/>
                  </a:lnTo>
                  <a:lnTo>
                    <a:pt x="657313" y="185857"/>
                  </a:lnTo>
                  <a:lnTo>
                    <a:pt x="760007" y="185857"/>
                  </a:lnTo>
                  <a:lnTo>
                    <a:pt x="749063" y="0"/>
                  </a:lnTo>
                  <a:lnTo>
                    <a:pt x="954922" y="0"/>
                  </a:lnTo>
                  <a:lnTo>
                    <a:pt x="1417320" y="996140"/>
                  </a:lnTo>
                  <a:lnTo>
                    <a:pt x="807720" y="996140"/>
                  </a:lnTo>
                  <a:lnTo>
                    <a:pt x="801925" y="897729"/>
                  </a:lnTo>
                  <a:lnTo>
                    <a:pt x="615395" y="897729"/>
                  </a:lnTo>
                  <a:lnTo>
                    <a:pt x="609600" y="996140"/>
                  </a:lnTo>
                  <a:lnTo>
                    <a:pt x="0" y="996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文本框 26"/>
          <p:cNvSpPr/>
          <p:nvPr/>
        </p:nvSpPr>
        <p:spPr>
          <a:xfrm>
            <a:off x="2776320" y="246528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新增公路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0.9</a:t>
            </a: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万公里，其中高速公路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2</a:t>
            </a: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万公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圆角矩形 28"/>
          <p:cNvSpPr/>
          <p:nvPr/>
        </p:nvSpPr>
        <p:spPr>
          <a:xfrm>
            <a:off x="777960" y="3351240"/>
            <a:ext cx="1050840" cy="10508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30"/>
          <p:cNvSpPr/>
          <p:nvPr/>
        </p:nvSpPr>
        <p:spPr>
          <a:xfrm>
            <a:off x="2772360" y="3646440"/>
            <a:ext cx="48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新增铁路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97</a:t>
            </a: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万公里，其中高速铁路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8951</a:t>
            </a: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万公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任意多边形 46"/>
          <p:cNvSpPr/>
          <p:nvPr/>
        </p:nvSpPr>
        <p:spPr>
          <a:xfrm>
            <a:off x="946080" y="3625920"/>
            <a:ext cx="712800" cy="501480"/>
          </a:xfrm>
          <a:custGeom>
            <a:avLst/>
            <a:gdLst/>
            <a:ahLst/>
            <a:rect l="l" t="t" r="r" b="b"/>
            <a:pathLst>
              <a:path w="713685" h="502242">
                <a:moveTo>
                  <a:pt x="555344" y="239961"/>
                </a:moveTo>
                <a:lnTo>
                  <a:pt x="560274" y="263247"/>
                </a:lnTo>
                <a:lnTo>
                  <a:pt x="480519" y="280132"/>
                </a:lnTo>
                <a:lnTo>
                  <a:pt x="480519" y="282504"/>
                </a:lnTo>
                <a:lnTo>
                  <a:pt x="233153" y="282504"/>
                </a:lnTo>
                <a:lnTo>
                  <a:pt x="233153" y="280130"/>
                </a:lnTo>
                <a:lnTo>
                  <a:pt x="153405" y="263247"/>
                </a:lnTo>
                <a:lnTo>
                  <a:pt x="158330" y="239981"/>
                </a:lnTo>
                <a:lnTo>
                  <a:pt x="97155" y="373110"/>
                </a:lnTo>
                <a:lnTo>
                  <a:pt x="202003" y="395308"/>
                </a:lnTo>
                <a:lnTo>
                  <a:pt x="511674" y="395308"/>
                </a:lnTo>
                <a:lnTo>
                  <a:pt x="616528" y="373109"/>
                </a:lnTo>
                <a:close/>
                <a:moveTo>
                  <a:pt x="482283" y="80967"/>
                </a:moveTo>
                <a:lnTo>
                  <a:pt x="487565" y="105917"/>
                </a:lnTo>
                <a:lnTo>
                  <a:pt x="436318" y="116766"/>
                </a:lnTo>
                <a:lnTo>
                  <a:pt x="436318" y="118291"/>
                </a:lnTo>
                <a:lnTo>
                  <a:pt x="277363" y="118291"/>
                </a:lnTo>
                <a:lnTo>
                  <a:pt x="277363" y="116766"/>
                </a:lnTo>
                <a:lnTo>
                  <a:pt x="226117" y="105917"/>
                </a:lnTo>
                <a:lnTo>
                  <a:pt x="231398" y="80971"/>
                </a:lnTo>
                <a:lnTo>
                  <a:pt x="174414" y="204979"/>
                </a:lnTo>
                <a:lnTo>
                  <a:pt x="249230" y="220818"/>
                </a:lnTo>
                <a:lnTo>
                  <a:pt x="464449" y="220818"/>
                </a:lnTo>
                <a:lnTo>
                  <a:pt x="539268" y="204978"/>
                </a:lnTo>
                <a:close/>
                <a:moveTo>
                  <a:pt x="230790" y="0"/>
                </a:moveTo>
                <a:lnTo>
                  <a:pt x="268606" y="0"/>
                </a:lnTo>
                <a:lnTo>
                  <a:pt x="237361" y="67996"/>
                </a:lnTo>
                <a:lnTo>
                  <a:pt x="287693" y="78652"/>
                </a:lnTo>
                <a:lnTo>
                  <a:pt x="425990" y="78652"/>
                </a:lnTo>
                <a:lnTo>
                  <a:pt x="476323" y="67996"/>
                </a:lnTo>
                <a:lnTo>
                  <a:pt x="445077" y="0"/>
                </a:lnTo>
                <a:lnTo>
                  <a:pt x="482895" y="0"/>
                </a:lnTo>
                <a:lnTo>
                  <a:pt x="713685" y="502242"/>
                </a:lnTo>
                <a:lnTo>
                  <a:pt x="675867" y="502242"/>
                </a:lnTo>
                <a:lnTo>
                  <a:pt x="645095" y="435276"/>
                </a:lnTo>
                <a:lnTo>
                  <a:pt x="649558" y="456358"/>
                </a:lnTo>
                <a:lnTo>
                  <a:pt x="534806" y="480653"/>
                </a:lnTo>
                <a:lnTo>
                  <a:pt x="534806" y="484068"/>
                </a:lnTo>
                <a:lnTo>
                  <a:pt x="178870" y="484068"/>
                </a:lnTo>
                <a:lnTo>
                  <a:pt x="178870" y="480652"/>
                </a:lnTo>
                <a:lnTo>
                  <a:pt x="64119" y="456358"/>
                </a:lnTo>
                <a:lnTo>
                  <a:pt x="68578" y="435300"/>
                </a:lnTo>
                <a:lnTo>
                  <a:pt x="37816" y="502242"/>
                </a:lnTo>
                <a:lnTo>
                  <a:pt x="0" y="502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椭圆 48"/>
          <p:cNvSpPr/>
          <p:nvPr/>
        </p:nvSpPr>
        <p:spPr>
          <a:xfrm>
            <a:off x="757080" y="4532400"/>
            <a:ext cx="1062360" cy="105084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组合 80" descr=""/>
          <p:cNvPicPr/>
          <p:nvPr/>
        </p:nvPicPr>
        <p:blipFill>
          <a:blip r:embed="rId1"/>
          <a:stretch/>
        </p:blipFill>
        <p:spPr>
          <a:xfrm>
            <a:off x="920880" y="4638600"/>
            <a:ext cx="763560" cy="66672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81"/>
          <p:cNvSpPr/>
          <p:nvPr/>
        </p:nvSpPr>
        <p:spPr>
          <a:xfrm>
            <a:off x="2077200" y="482760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新建机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1</a:t>
            </a: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椭圆 82"/>
          <p:cNvSpPr/>
          <p:nvPr/>
        </p:nvSpPr>
        <p:spPr>
          <a:xfrm>
            <a:off x="4381560" y="4532400"/>
            <a:ext cx="1062000" cy="105084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83"/>
          <p:cNvSpPr/>
          <p:nvPr/>
        </p:nvSpPr>
        <p:spPr>
          <a:xfrm>
            <a:off x="6007680" y="482760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新建万吨级港口泊位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02</a:t>
            </a: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合 98"/>
          <p:cNvGrpSpPr/>
          <p:nvPr/>
        </p:nvGrpSpPr>
        <p:grpSpPr>
          <a:xfrm>
            <a:off x="4695840" y="4730760"/>
            <a:ext cx="431640" cy="654120"/>
            <a:chOff x="4695840" y="4730760"/>
            <a:chExt cx="431640" cy="654120"/>
          </a:xfrm>
        </p:grpSpPr>
        <p:sp>
          <p:nvSpPr>
            <p:cNvPr id="317" name="任意多边形 87"/>
            <p:cNvSpPr/>
            <p:nvPr/>
          </p:nvSpPr>
          <p:spPr>
            <a:xfrm rot="10800000">
              <a:off x="4728240" y="4885920"/>
              <a:ext cx="369000" cy="417240"/>
            </a:xfrm>
            <a:custGeom>
              <a:avLst/>
              <a:gdLst/>
              <a:ahLst/>
              <a:rect l="l" t="t" r="r" b="b"/>
              <a:pathLst>
                <a:path w="225334" h="254726">
                  <a:moveTo>
                    <a:pt x="225334" y="254726"/>
                  </a:moveTo>
                  <a:lnTo>
                    <a:pt x="127067" y="254726"/>
                  </a:lnTo>
                  <a:lnTo>
                    <a:pt x="127067" y="138664"/>
                  </a:lnTo>
                  <a:lnTo>
                    <a:pt x="98267" y="138664"/>
                  </a:lnTo>
                  <a:lnTo>
                    <a:pt x="98267" y="254726"/>
                  </a:lnTo>
                  <a:lnTo>
                    <a:pt x="0" y="254726"/>
                  </a:lnTo>
                  <a:lnTo>
                    <a:pt x="56334" y="0"/>
                  </a:lnTo>
                  <a:lnTo>
                    <a:pt x="1690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矩形 88"/>
            <p:cNvSpPr/>
            <p:nvPr/>
          </p:nvSpPr>
          <p:spPr>
            <a:xfrm>
              <a:off x="4747320" y="4815720"/>
              <a:ext cx="33156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89"/>
            <p:cNvSpPr/>
            <p:nvPr/>
          </p:nvSpPr>
          <p:spPr>
            <a:xfrm>
              <a:off x="4795200" y="4756680"/>
              <a:ext cx="23580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90"/>
            <p:cNvSpPr/>
            <p:nvPr/>
          </p:nvSpPr>
          <p:spPr>
            <a:xfrm rot="17602200">
              <a:off x="4761000" y="4794840"/>
              <a:ext cx="748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91"/>
            <p:cNvSpPr/>
            <p:nvPr/>
          </p:nvSpPr>
          <p:spPr>
            <a:xfrm flipH="1" rot="3997800">
              <a:off x="4986000" y="4794840"/>
              <a:ext cx="748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93"/>
            <p:cNvSpPr/>
            <p:nvPr/>
          </p:nvSpPr>
          <p:spPr>
            <a:xfrm>
              <a:off x="4891680" y="4730760"/>
              <a:ext cx="2916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94"/>
            <p:cNvSpPr/>
            <p:nvPr/>
          </p:nvSpPr>
          <p:spPr>
            <a:xfrm>
              <a:off x="4695840" y="4883760"/>
              <a:ext cx="748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95"/>
            <p:cNvSpPr/>
            <p:nvPr/>
          </p:nvSpPr>
          <p:spPr>
            <a:xfrm>
              <a:off x="5052600" y="4883760"/>
              <a:ext cx="748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任意多边形 97"/>
            <p:cNvSpPr/>
            <p:nvPr/>
          </p:nvSpPr>
          <p:spPr>
            <a:xfrm>
              <a:off x="4756680" y="5316480"/>
              <a:ext cx="298080" cy="68400"/>
            </a:xfrm>
            <a:custGeom>
              <a:avLst/>
              <a:gdLst/>
              <a:ahLst/>
              <a:rect l="l" t="t" r="r" b="b"/>
              <a:pathLst>
                <a:path w="182136" h="41951">
                  <a:moveTo>
                    <a:pt x="0" y="0"/>
                  </a:moveTo>
                  <a:cubicBezTo>
                    <a:pt x="2478" y="6195"/>
                    <a:pt x="3162" y="13460"/>
                    <a:pt x="7434" y="18586"/>
                  </a:cubicBezTo>
                  <a:cubicBezTo>
                    <a:pt x="9942" y="21596"/>
                    <a:pt x="14667" y="22303"/>
                    <a:pt x="18585" y="22303"/>
                  </a:cubicBezTo>
                  <a:cubicBezTo>
                    <a:pt x="39685" y="22303"/>
                    <a:pt x="60712" y="19825"/>
                    <a:pt x="81775" y="18586"/>
                  </a:cubicBezTo>
                  <a:cubicBezTo>
                    <a:pt x="91687" y="19825"/>
                    <a:pt x="103200" y="16762"/>
                    <a:pt x="111512" y="22303"/>
                  </a:cubicBezTo>
                  <a:cubicBezTo>
                    <a:pt x="115229" y="24781"/>
                    <a:pt x="103202" y="29073"/>
                    <a:pt x="104078" y="33454"/>
                  </a:cubicBezTo>
                  <a:cubicBezTo>
                    <a:pt x="104954" y="37835"/>
                    <a:pt x="111512" y="38410"/>
                    <a:pt x="115229" y="40888"/>
                  </a:cubicBezTo>
                  <a:cubicBezTo>
                    <a:pt x="133814" y="39649"/>
                    <a:pt x="154585" y="46002"/>
                    <a:pt x="170985" y="37171"/>
                  </a:cubicBezTo>
                  <a:cubicBezTo>
                    <a:pt x="177885" y="33456"/>
                    <a:pt x="163551" y="14869"/>
                    <a:pt x="163551" y="14869"/>
                  </a:cubicBezTo>
                  <a:cubicBezTo>
                    <a:pt x="177330" y="10275"/>
                    <a:pt x="171197" y="12903"/>
                    <a:pt x="182136" y="7434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组合 103"/>
          <p:cNvGrpSpPr/>
          <p:nvPr/>
        </p:nvGrpSpPr>
        <p:grpSpPr>
          <a:xfrm>
            <a:off x="4445640" y="4828680"/>
            <a:ext cx="195840" cy="123840"/>
            <a:chOff x="4445640" y="4828680"/>
            <a:chExt cx="195840" cy="123840"/>
          </a:xfrm>
        </p:grpSpPr>
        <p:sp>
          <p:nvSpPr>
            <p:cNvPr id="327" name="任意多边形 99"/>
            <p:cNvSpPr/>
            <p:nvPr/>
          </p:nvSpPr>
          <p:spPr>
            <a:xfrm rot="20460000">
              <a:off x="4451400" y="4856400"/>
              <a:ext cx="183960" cy="67680"/>
            </a:xfrm>
            <a:custGeom>
              <a:avLst/>
              <a:gdLst/>
              <a:ahLst/>
              <a:rect l="l" t="t" r="r" b="b"/>
              <a:pathLst>
                <a:path w="262890" h="95442">
                  <a:moveTo>
                    <a:pt x="0" y="4002"/>
                  </a:moveTo>
                  <a:cubicBezTo>
                    <a:pt x="38100" y="7812"/>
                    <a:pt x="76455" y="9610"/>
                    <a:pt x="114300" y="15432"/>
                  </a:cubicBezTo>
                  <a:cubicBezTo>
                    <a:pt x="126208" y="17264"/>
                    <a:pt x="141587" y="17058"/>
                    <a:pt x="148590" y="26862"/>
                  </a:cubicBezTo>
                  <a:cubicBezTo>
                    <a:pt x="162596" y="46470"/>
                    <a:pt x="171450" y="95442"/>
                    <a:pt x="171450" y="95442"/>
                  </a:cubicBezTo>
                  <a:cubicBezTo>
                    <a:pt x="175260" y="76392"/>
                    <a:pt x="178168" y="57139"/>
                    <a:pt x="182880" y="38292"/>
                  </a:cubicBezTo>
                  <a:cubicBezTo>
                    <a:pt x="185802" y="26603"/>
                    <a:pt x="183236" y="8748"/>
                    <a:pt x="194310" y="4002"/>
                  </a:cubicBezTo>
                  <a:cubicBezTo>
                    <a:pt x="215322" y="-5003"/>
                    <a:pt x="240030" y="4002"/>
                    <a:pt x="262890" y="4002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接连接符 102"/>
            <p:cNvSpPr/>
            <p:nvPr/>
          </p:nvSpPr>
          <p:spPr>
            <a:xfrm flipV="1">
              <a:off x="4547520" y="4915080"/>
              <a:ext cx="83160" cy="28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组合 104"/>
          <p:cNvGrpSpPr/>
          <p:nvPr/>
        </p:nvGrpSpPr>
        <p:grpSpPr>
          <a:xfrm>
            <a:off x="5143320" y="4741200"/>
            <a:ext cx="118440" cy="83160"/>
            <a:chOff x="5143320" y="4741200"/>
            <a:chExt cx="118440" cy="83160"/>
          </a:xfrm>
        </p:grpSpPr>
        <p:sp>
          <p:nvSpPr>
            <p:cNvPr id="330" name="任意多边形 105"/>
            <p:cNvSpPr/>
            <p:nvPr/>
          </p:nvSpPr>
          <p:spPr>
            <a:xfrm rot="420000">
              <a:off x="5145120" y="4747680"/>
              <a:ext cx="114120" cy="41040"/>
            </a:xfrm>
            <a:custGeom>
              <a:avLst/>
              <a:gdLst/>
              <a:ahLst/>
              <a:rect l="l" t="t" r="r" b="b"/>
              <a:pathLst>
                <a:path w="262890" h="95442">
                  <a:moveTo>
                    <a:pt x="0" y="4002"/>
                  </a:moveTo>
                  <a:cubicBezTo>
                    <a:pt x="38100" y="7812"/>
                    <a:pt x="76455" y="9610"/>
                    <a:pt x="114300" y="15432"/>
                  </a:cubicBezTo>
                  <a:cubicBezTo>
                    <a:pt x="126208" y="17264"/>
                    <a:pt x="141587" y="17058"/>
                    <a:pt x="148590" y="26862"/>
                  </a:cubicBezTo>
                  <a:cubicBezTo>
                    <a:pt x="162596" y="46470"/>
                    <a:pt x="171450" y="95442"/>
                    <a:pt x="171450" y="95442"/>
                  </a:cubicBezTo>
                  <a:cubicBezTo>
                    <a:pt x="175260" y="76392"/>
                    <a:pt x="178168" y="57139"/>
                    <a:pt x="182880" y="38292"/>
                  </a:cubicBezTo>
                  <a:cubicBezTo>
                    <a:pt x="185802" y="26603"/>
                    <a:pt x="183236" y="8748"/>
                    <a:pt x="194310" y="4002"/>
                  </a:cubicBezTo>
                  <a:cubicBezTo>
                    <a:pt x="215322" y="-5003"/>
                    <a:pt x="240030" y="4002"/>
                    <a:pt x="262890" y="4002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直接连接符 106"/>
            <p:cNvSpPr/>
            <p:nvPr/>
          </p:nvSpPr>
          <p:spPr>
            <a:xfrm>
              <a:off x="5181120" y="4817520"/>
              <a:ext cx="54360" cy="6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椭圆 3"/>
          <p:cNvSpPr/>
          <p:nvPr/>
        </p:nvSpPr>
        <p:spPr>
          <a:xfrm rot="10800000">
            <a:off x="10856880" y="2584440"/>
            <a:ext cx="969840" cy="96984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椭圆 4"/>
          <p:cNvSpPr/>
          <p:nvPr/>
        </p:nvSpPr>
        <p:spPr>
          <a:xfrm rot="10800000">
            <a:off x="11161440" y="1893960"/>
            <a:ext cx="360360" cy="3585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椭圆 5"/>
          <p:cNvSpPr/>
          <p:nvPr/>
        </p:nvSpPr>
        <p:spPr>
          <a:xfrm rot="10800000">
            <a:off x="11161440" y="120132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椭圆 6"/>
          <p:cNvSpPr/>
          <p:nvPr/>
        </p:nvSpPr>
        <p:spPr>
          <a:xfrm>
            <a:off x="11161800" y="3886200"/>
            <a:ext cx="360360" cy="35892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7"/>
          <p:cNvSpPr/>
          <p:nvPr/>
        </p:nvSpPr>
        <p:spPr>
          <a:xfrm>
            <a:off x="11161800" y="457668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8"/>
          <p:cNvSpPr/>
          <p:nvPr/>
        </p:nvSpPr>
        <p:spPr>
          <a:xfrm>
            <a:off x="11161800" y="526716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9"/>
          <p:cNvSpPr/>
          <p:nvPr/>
        </p:nvSpPr>
        <p:spPr>
          <a:xfrm>
            <a:off x="11161800" y="595800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5"/>
          <p:cNvGrpSpPr/>
          <p:nvPr/>
        </p:nvGrpSpPr>
        <p:grpSpPr>
          <a:xfrm>
            <a:off x="10989360" y="2731680"/>
            <a:ext cx="683280" cy="686520"/>
            <a:chOff x="10989360" y="2731680"/>
            <a:chExt cx="683280" cy="686520"/>
          </a:xfrm>
        </p:grpSpPr>
        <p:sp>
          <p:nvSpPr>
            <p:cNvPr id="340" name="矩形 13"/>
            <p:cNvSpPr/>
            <p:nvPr/>
          </p:nvSpPr>
          <p:spPr>
            <a:xfrm rot="19732200">
              <a:off x="11015640" y="3024720"/>
              <a:ext cx="57708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eeb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2"/>
            <p:cNvSpPr/>
            <p:nvPr/>
          </p:nvSpPr>
          <p:spPr>
            <a:xfrm rot="19732200">
              <a:off x="11047680" y="2943360"/>
              <a:ext cx="57708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eeb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1"/>
            <p:cNvSpPr/>
            <p:nvPr/>
          </p:nvSpPr>
          <p:spPr>
            <a:xfrm rot="19732200">
              <a:off x="11068920" y="2862000"/>
              <a:ext cx="57708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eeb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文本框 14"/>
            <p:cNvSpPr/>
            <p:nvPr/>
          </p:nvSpPr>
          <p:spPr>
            <a:xfrm rot="19740000">
              <a:off x="11179440" y="2825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eebf7"/>
                  </a:solidFill>
                  <a:latin typeface="微软雅黑"/>
                  <a:ea typeface="微软雅黑"/>
                </a:rPr>
                <a:t>￥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文本框 16"/>
          <p:cNvSpPr/>
          <p:nvPr/>
        </p:nvSpPr>
        <p:spPr>
          <a:xfrm>
            <a:off x="1296720" y="11034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经济发展的质量和效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17"/>
          <p:cNvSpPr/>
          <p:nvPr/>
        </p:nvSpPr>
        <p:spPr>
          <a:xfrm>
            <a:off x="295200" y="1781280"/>
            <a:ext cx="977580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梯形 1"/>
          <p:cNvSpPr/>
          <p:nvPr/>
        </p:nvSpPr>
        <p:spPr>
          <a:xfrm>
            <a:off x="687240" y="2946240"/>
            <a:ext cx="1179720" cy="254160"/>
          </a:xfrm>
          <a:custGeom>
            <a:avLst/>
            <a:gdLst/>
            <a:ahLst/>
            <a:rect l="l" t="t" r="r" b="b"/>
            <a:pathLst>
              <a:path w="1179512" h="254000">
                <a:moveTo>
                  <a:pt x="0" y="254000"/>
                </a:moveTo>
                <a:lnTo>
                  <a:pt x="164028" y="0"/>
                </a:lnTo>
                <a:lnTo>
                  <a:pt x="1015484" y="0"/>
                </a:lnTo>
                <a:lnTo>
                  <a:pt x="1179512" y="254000"/>
                </a:ln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组合 20"/>
          <p:cNvGrpSpPr/>
          <p:nvPr/>
        </p:nvGrpSpPr>
        <p:grpSpPr>
          <a:xfrm>
            <a:off x="1111320" y="2228760"/>
            <a:ext cx="333360" cy="868320"/>
            <a:chOff x="1111320" y="2228760"/>
            <a:chExt cx="333360" cy="868320"/>
          </a:xfrm>
        </p:grpSpPr>
        <p:sp>
          <p:nvSpPr>
            <p:cNvPr id="348" name="椭圆 2"/>
            <p:cNvSpPr/>
            <p:nvPr/>
          </p:nvSpPr>
          <p:spPr>
            <a:xfrm>
              <a:off x="1182960" y="2228760"/>
              <a:ext cx="190080" cy="1908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任意多边形 19"/>
            <p:cNvSpPr/>
            <p:nvPr/>
          </p:nvSpPr>
          <p:spPr>
            <a:xfrm>
              <a:off x="1111320" y="2446560"/>
              <a:ext cx="333360" cy="650520"/>
            </a:xfrm>
            <a:custGeom>
              <a:avLst/>
              <a:gdLst/>
              <a:ahLst/>
              <a:rect l="l" t="t" r="r" b="b"/>
              <a:pathLst>
                <a:path w="561534" h="1089971">
                  <a:moveTo>
                    <a:pt x="280767" y="0"/>
                  </a:moveTo>
                  <a:cubicBezTo>
                    <a:pt x="435830" y="0"/>
                    <a:pt x="561534" y="134672"/>
                    <a:pt x="561534" y="300799"/>
                  </a:cubicBezTo>
                  <a:lnTo>
                    <a:pt x="561534" y="601598"/>
                  </a:lnTo>
                  <a:lnTo>
                    <a:pt x="417195" y="601598"/>
                  </a:lnTo>
                  <a:lnTo>
                    <a:pt x="417195" y="1089971"/>
                  </a:lnTo>
                  <a:lnTo>
                    <a:pt x="144339" y="1089971"/>
                  </a:lnTo>
                  <a:lnTo>
                    <a:pt x="144339" y="601598"/>
                  </a:lnTo>
                  <a:lnTo>
                    <a:pt x="0" y="601598"/>
                  </a:lnTo>
                  <a:lnTo>
                    <a:pt x="0" y="300799"/>
                  </a:lnTo>
                  <a:cubicBezTo>
                    <a:pt x="0" y="134672"/>
                    <a:pt x="125704" y="0"/>
                    <a:pt x="280767" y="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0" name="文本框 21"/>
          <p:cNvSpPr/>
          <p:nvPr/>
        </p:nvSpPr>
        <p:spPr>
          <a:xfrm>
            <a:off x="1835640" y="3668760"/>
            <a:ext cx="146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城市人均住房面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梯形 22"/>
          <p:cNvSpPr/>
          <p:nvPr/>
        </p:nvSpPr>
        <p:spPr>
          <a:xfrm>
            <a:off x="3144960" y="2882880"/>
            <a:ext cx="1419120" cy="306360"/>
          </a:xfrm>
          <a:custGeom>
            <a:avLst/>
            <a:gdLst/>
            <a:ahLst/>
            <a:rect l="l" t="t" r="r" b="b"/>
            <a:pathLst>
              <a:path w="1419225" h="306387">
                <a:moveTo>
                  <a:pt x="0" y="306387"/>
                </a:moveTo>
                <a:lnTo>
                  <a:pt x="197858" y="0"/>
                </a:lnTo>
                <a:lnTo>
                  <a:pt x="1221366" y="0"/>
                </a:lnTo>
                <a:lnTo>
                  <a:pt x="1419225" y="306387"/>
                </a:ln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23"/>
          <p:cNvGrpSpPr/>
          <p:nvPr/>
        </p:nvGrpSpPr>
        <p:grpSpPr>
          <a:xfrm>
            <a:off x="3686040" y="2187720"/>
            <a:ext cx="335160" cy="868320"/>
            <a:chOff x="3686040" y="2187720"/>
            <a:chExt cx="335160" cy="868320"/>
          </a:xfrm>
        </p:grpSpPr>
        <p:sp>
          <p:nvSpPr>
            <p:cNvPr id="353" name="椭圆 24"/>
            <p:cNvSpPr/>
            <p:nvPr/>
          </p:nvSpPr>
          <p:spPr>
            <a:xfrm>
              <a:off x="3758040" y="2187720"/>
              <a:ext cx="191160" cy="1908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25"/>
            <p:cNvSpPr/>
            <p:nvPr/>
          </p:nvSpPr>
          <p:spPr>
            <a:xfrm>
              <a:off x="3686040" y="2405520"/>
              <a:ext cx="335160" cy="650520"/>
            </a:xfrm>
            <a:custGeom>
              <a:avLst/>
              <a:gdLst/>
              <a:ahLst/>
              <a:rect l="l" t="t" r="r" b="b"/>
              <a:pathLst>
                <a:path w="561534" h="1089971">
                  <a:moveTo>
                    <a:pt x="280767" y="0"/>
                  </a:moveTo>
                  <a:cubicBezTo>
                    <a:pt x="435830" y="0"/>
                    <a:pt x="561534" y="134672"/>
                    <a:pt x="561534" y="300799"/>
                  </a:cubicBezTo>
                  <a:lnTo>
                    <a:pt x="561534" y="601598"/>
                  </a:lnTo>
                  <a:lnTo>
                    <a:pt x="417195" y="601598"/>
                  </a:lnTo>
                  <a:lnTo>
                    <a:pt x="417195" y="1089971"/>
                  </a:lnTo>
                  <a:lnTo>
                    <a:pt x="144339" y="1089971"/>
                  </a:lnTo>
                  <a:lnTo>
                    <a:pt x="144339" y="601598"/>
                  </a:lnTo>
                  <a:lnTo>
                    <a:pt x="0" y="601598"/>
                  </a:lnTo>
                  <a:lnTo>
                    <a:pt x="0" y="300799"/>
                  </a:lnTo>
                  <a:cubicBezTo>
                    <a:pt x="0" y="134672"/>
                    <a:pt x="125704" y="0"/>
                    <a:pt x="280767" y="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26"/>
          <p:cNvSpPr/>
          <p:nvPr/>
        </p:nvSpPr>
        <p:spPr>
          <a:xfrm>
            <a:off x="925560" y="3189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27"/>
          <p:cNvSpPr/>
          <p:nvPr/>
        </p:nvSpPr>
        <p:spPr>
          <a:xfrm>
            <a:off x="3502080" y="3189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右箭头 28"/>
          <p:cNvSpPr/>
          <p:nvPr/>
        </p:nvSpPr>
        <p:spPr>
          <a:xfrm>
            <a:off x="2246400" y="2457360"/>
            <a:ext cx="639720" cy="425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29"/>
          <p:cNvSpPr/>
          <p:nvPr/>
        </p:nvSpPr>
        <p:spPr>
          <a:xfrm>
            <a:off x="1480320" y="289872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0.1m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30"/>
          <p:cNvSpPr/>
          <p:nvPr/>
        </p:nvSpPr>
        <p:spPr>
          <a:xfrm>
            <a:off x="4188600" y="28526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2.9m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椭圆 97"/>
          <p:cNvSpPr/>
          <p:nvPr/>
        </p:nvSpPr>
        <p:spPr>
          <a:xfrm>
            <a:off x="4330800" y="3348000"/>
            <a:ext cx="1773000" cy="177480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直接连接符 32"/>
          <p:cNvSpPr/>
          <p:nvPr/>
        </p:nvSpPr>
        <p:spPr>
          <a:xfrm>
            <a:off x="479520" y="4241880"/>
            <a:ext cx="946476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接连接符 34"/>
          <p:cNvSpPr/>
          <p:nvPr/>
        </p:nvSpPr>
        <p:spPr>
          <a:xfrm>
            <a:off x="5211720" y="2022480"/>
            <a:ext cx="0" cy="429588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梯形 49"/>
          <p:cNvSpPr/>
          <p:nvPr/>
        </p:nvSpPr>
        <p:spPr>
          <a:xfrm>
            <a:off x="5581800" y="2882880"/>
            <a:ext cx="1382400" cy="298440"/>
          </a:xfrm>
          <a:custGeom>
            <a:avLst/>
            <a:gdLst/>
            <a:ahLst/>
            <a:rect l="l" t="t" r="r" b="b"/>
            <a:pathLst>
              <a:path w="1382712" h="298450">
                <a:moveTo>
                  <a:pt x="0" y="298450"/>
                </a:moveTo>
                <a:lnTo>
                  <a:pt x="192733" y="0"/>
                </a:lnTo>
                <a:lnTo>
                  <a:pt x="1189979" y="0"/>
                </a:lnTo>
                <a:lnTo>
                  <a:pt x="1382712" y="298450"/>
                </a:ln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39"/>
          <p:cNvSpPr/>
          <p:nvPr/>
        </p:nvSpPr>
        <p:spPr>
          <a:xfrm>
            <a:off x="6818040" y="3668760"/>
            <a:ext cx="146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农村人均住房面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梯形 40"/>
          <p:cNvSpPr/>
          <p:nvPr/>
        </p:nvSpPr>
        <p:spPr>
          <a:xfrm>
            <a:off x="7939080" y="2790720"/>
            <a:ext cx="1776600" cy="384120"/>
          </a:xfrm>
          <a:custGeom>
            <a:avLst/>
            <a:gdLst/>
            <a:ahLst/>
            <a:rect l="l" t="t" r="r" b="b"/>
            <a:pathLst>
              <a:path w="1776412" h="384175">
                <a:moveTo>
                  <a:pt x="0" y="384175"/>
                </a:moveTo>
                <a:lnTo>
                  <a:pt x="248092" y="0"/>
                </a:lnTo>
                <a:lnTo>
                  <a:pt x="1528319" y="0"/>
                </a:lnTo>
                <a:lnTo>
                  <a:pt x="1776412" y="384175"/>
                </a:ln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44"/>
          <p:cNvSpPr/>
          <p:nvPr/>
        </p:nvSpPr>
        <p:spPr>
          <a:xfrm>
            <a:off x="5907600" y="3189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45"/>
          <p:cNvSpPr/>
          <p:nvPr/>
        </p:nvSpPr>
        <p:spPr>
          <a:xfrm>
            <a:off x="8483400" y="3189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右箭头 46"/>
          <p:cNvSpPr/>
          <p:nvPr/>
        </p:nvSpPr>
        <p:spPr>
          <a:xfrm>
            <a:off x="7227720" y="2457360"/>
            <a:ext cx="640080" cy="4255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47"/>
          <p:cNvSpPr/>
          <p:nvPr/>
        </p:nvSpPr>
        <p:spPr>
          <a:xfrm>
            <a:off x="6461280" y="285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1.6m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48"/>
          <p:cNvSpPr/>
          <p:nvPr/>
        </p:nvSpPr>
        <p:spPr>
          <a:xfrm>
            <a:off x="9171720" y="28526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7.1m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组合 56"/>
          <p:cNvGrpSpPr/>
          <p:nvPr/>
        </p:nvGrpSpPr>
        <p:grpSpPr>
          <a:xfrm>
            <a:off x="5855400" y="2228760"/>
            <a:ext cx="588240" cy="868320"/>
            <a:chOff x="5855400" y="2228760"/>
            <a:chExt cx="588240" cy="868320"/>
          </a:xfrm>
        </p:grpSpPr>
        <p:grpSp>
          <p:nvGrpSpPr>
            <p:cNvPr id="372" name="组合 36"/>
            <p:cNvGrpSpPr/>
            <p:nvPr/>
          </p:nvGrpSpPr>
          <p:grpSpPr>
            <a:xfrm>
              <a:off x="6092640" y="2228760"/>
              <a:ext cx="334440" cy="868320"/>
              <a:chOff x="6092640" y="2228760"/>
              <a:chExt cx="334440" cy="868320"/>
            </a:xfrm>
          </p:grpSpPr>
          <p:sp>
            <p:nvSpPr>
              <p:cNvPr id="373" name="椭圆 37"/>
              <p:cNvSpPr/>
              <p:nvPr/>
            </p:nvSpPr>
            <p:spPr>
              <a:xfrm>
                <a:off x="6164280" y="2228760"/>
                <a:ext cx="190800" cy="190800"/>
              </a:xfrm>
              <a:prstGeom prst="ellipse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任意多边形 38"/>
              <p:cNvSpPr/>
              <p:nvPr/>
            </p:nvSpPr>
            <p:spPr>
              <a:xfrm>
                <a:off x="6092640" y="2446560"/>
                <a:ext cx="334440" cy="650520"/>
              </a:xfrm>
              <a:custGeom>
                <a:avLst/>
                <a:gdLst/>
                <a:ahLst/>
                <a:rect l="l" t="t" r="r" b="b"/>
                <a:pathLst>
                  <a:path w="561534" h="1089971">
                    <a:moveTo>
                      <a:pt x="280767" y="0"/>
                    </a:moveTo>
                    <a:cubicBezTo>
                      <a:pt x="435830" y="0"/>
                      <a:pt x="561534" y="134672"/>
                      <a:pt x="561534" y="300799"/>
                    </a:cubicBezTo>
                    <a:lnTo>
                      <a:pt x="561534" y="601598"/>
                    </a:lnTo>
                    <a:lnTo>
                      <a:pt x="417195" y="601598"/>
                    </a:lnTo>
                    <a:lnTo>
                      <a:pt x="417195" y="1089971"/>
                    </a:lnTo>
                    <a:lnTo>
                      <a:pt x="144339" y="1089971"/>
                    </a:lnTo>
                    <a:lnTo>
                      <a:pt x="144339" y="601598"/>
                    </a:lnTo>
                    <a:lnTo>
                      <a:pt x="0" y="601598"/>
                    </a:lnTo>
                    <a:lnTo>
                      <a:pt x="0" y="300799"/>
                    </a:lnTo>
                    <a:cubicBezTo>
                      <a:pt x="0" y="134672"/>
                      <a:pt x="125704" y="0"/>
                      <a:pt x="280767" y="0"/>
                    </a:cubicBez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5" name="直接连接符 51"/>
            <p:cNvSpPr/>
            <p:nvPr/>
          </p:nvSpPr>
          <p:spPr>
            <a:xfrm>
              <a:off x="6084000" y="2324160"/>
              <a:ext cx="3596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6" name="组合 55"/>
            <p:cNvGrpSpPr/>
            <p:nvPr/>
          </p:nvGrpSpPr>
          <p:grpSpPr>
            <a:xfrm>
              <a:off x="5855400" y="2517120"/>
              <a:ext cx="309600" cy="419760"/>
              <a:chOff x="5855400" y="2517120"/>
              <a:chExt cx="309600" cy="419760"/>
            </a:xfrm>
          </p:grpSpPr>
          <p:sp>
            <p:nvSpPr>
              <p:cNvPr id="377" name="直接连接符 53"/>
              <p:cNvSpPr/>
              <p:nvPr/>
            </p:nvSpPr>
            <p:spPr>
              <a:xfrm>
                <a:off x="5978160" y="2517120"/>
                <a:ext cx="186840" cy="419760"/>
              </a:xfrm>
              <a:prstGeom prst="line">
                <a:avLst/>
              </a:prstGeom>
              <a:ln w="255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梯形 54"/>
              <p:cNvSpPr/>
              <p:nvPr/>
            </p:nvSpPr>
            <p:spPr>
              <a:xfrm rot="3960000">
                <a:off x="5895360" y="2524680"/>
                <a:ext cx="65160" cy="130320"/>
              </a:xfrm>
              <a:custGeom>
                <a:avLst/>
                <a:gdLst/>
                <a:ahLst/>
                <a:rect l="l" t="t" r="r" b="b"/>
                <a:pathLst>
                  <a:path w="65442" h="130208">
                    <a:moveTo>
                      <a:pt x="0" y="130208"/>
                    </a:moveTo>
                    <a:lnTo>
                      <a:pt x="16360" y="0"/>
                    </a:lnTo>
                    <a:lnTo>
                      <a:pt x="49081" y="0"/>
                    </a:lnTo>
                    <a:lnTo>
                      <a:pt x="65442" y="130208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9" name="组合 57"/>
          <p:cNvGrpSpPr/>
          <p:nvPr/>
        </p:nvGrpSpPr>
        <p:grpSpPr>
          <a:xfrm>
            <a:off x="8427240" y="2228760"/>
            <a:ext cx="588240" cy="868320"/>
            <a:chOff x="8427240" y="2228760"/>
            <a:chExt cx="588240" cy="868320"/>
          </a:xfrm>
        </p:grpSpPr>
        <p:grpSp>
          <p:nvGrpSpPr>
            <p:cNvPr id="380" name="组合 58"/>
            <p:cNvGrpSpPr/>
            <p:nvPr/>
          </p:nvGrpSpPr>
          <p:grpSpPr>
            <a:xfrm>
              <a:off x="8664480" y="2228760"/>
              <a:ext cx="334440" cy="868320"/>
              <a:chOff x="8664480" y="2228760"/>
              <a:chExt cx="334440" cy="868320"/>
            </a:xfrm>
          </p:grpSpPr>
          <p:sp>
            <p:nvSpPr>
              <p:cNvPr id="381" name="椭圆 63"/>
              <p:cNvSpPr/>
              <p:nvPr/>
            </p:nvSpPr>
            <p:spPr>
              <a:xfrm>
                <a:off x="8736120" y="2228760"/>
                <a:ext cx="190800" cy="190800"/>
              </a:xfrm>
              <a:prstGeom prst="ellipse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任意多边形 64"/>
              <p:cNvSpPr/>
              <p:nvPr/>
            </p:nvSpPr>
            <p:spPr>
              <a:xfrm>
                <a:off x="8664480" y="2446560"/>
                <a:ext cx="334440" cy="650520"/>
              </a:xfrm>
              <a:custGeom>
                <a:avLst/>
                <a:gdLst/>
                <a:ahLst/>
                <a:rect l="l" t="t" r="r" b="b"/>
                <a:pathLst>
                  <a:path w="561534" h="1089971">
                    <a:moveTo>
                      <a:pt x="280767" y="0"/>
                    </a:moveTo>
                    <a:cubicBezTo>
                      <a:pt x="435830" y="0"/>
                      <a:pt x="561534" y="134672"/>
                      <a:pt x="561534" y="300799"/>
                    </a:cubicBezTo>
                    <a:lnTo>
                      <a:pt x="561534" y="601598"/>
                    </a:lnTo>
                    <a:lnTo>
                      <a:pt x="417195" y="601598"/>
                    </a:lnTo>
                    <a:lnTo>
                      <a:pt x="417195" y="1089971"/>
                    </a:lnTo>
                    <a:lnTo>
                      <a:pt x="144339" y="1089971"/>
                    </a:lnTo>
                    <a:lnTo>
                      <a:pt x="144339" y="601598"/>
                    </a:lnTo>
                    <a:lnTo>
                      <a:pt x="0" y="601598"/>
                    </a:lnTo>
                    <a:lnTo>
                      <a:pt x="0" y="300799"/>
                    </a:lnTo>
                    <a:cubicBezTo>
                      <a:pt x="0" y="134672"/>
                      <a:pt x="125704" y="0"/>
                      <a:pt x="280767" y="0"/>
                    </a:cubicBez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3" name="直接连接符 59"/>
            <p:cNvSpPr/>
            <p:nvPr/>
          </p:nvSpPr>
          <p:spPr>
            <a:xfrm>
              <a:off x="8655840" y="2324160"/>
              <a:ext cx="3596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60"/>
            <p:cNvGrpSpPr/>
            <p:nvPr/>
          </p:nvGrpSpPr>
          <p:grpSpPr>
            <a:xfrm>
              <a:off x="8427240" y="2517120"/>
              <a:ext cx="309600" cy="419760"/>
              <a:chOff x="8427240" y="2517120"/>
              <a:chExt cx="309600" cy="419760"/>
            </a:xfrm>
          </p:grpSpPr>
          <p:sp>
            <p:nvSpPr>
              <p:cNvPr id="385" name="直接连接符 61"/>
              <p:cNvSpPr/>
              <p:nvPr/>
            </p:nvSpPr>
            <p:spPr>
              <a:xfrm>
                <a:off x="8550000" y="2517120"/>
                <a:ext cx="186840" cy="419760"/>
              </a:xfrm>
              <a:prstGeom prst="line">
                <a:avLst/>
              </a:prstGeom>
              <a:ln w="255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梯形 62"/>
              <p:cNvSpPr/>
              <p:nvPr/>
            </p:nvSpPr>
            <p:spPr>
              <a:xfrm rot="3960000">
                <a:off x="8467200" y="2524680"/>
                <a:ext cx="65160" cy="130320"/>
              </a:xfrm>
              <a:custGeom>
                <a:avLst/>
                <a:gdLst/>
                <a:ahLst/>
                <a:rect l="l" t="t" r="r" b="b"/>
                <a:pathLst>
                  <a:path w="65442" h="130208">
                    <a:moveTo>
                      <a:pt x="0" y="130208"/>
                    </a:moveTo>
                    <a:lnTo>
                      <a:pt x="16360" y="0"/>
                    </a:lnTo>
                    <a:lnTo>
                      <a:pt x="49081" y="0"/>
                    </a:lnTo>
                    <a:lnTo>
                      <a:pt x="65442" y="130208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87" name="图片 65" descr=""/>
          <p:cNvPicPr/>
          <p:nvPr/>
        </p:nvPicPr>
        <p:blipFill>
          <a:blip r:embed="rId1"/>
          <a:stretch/>
        </p:blipFill>
        <p:spPr>
          <a:xfrm>
            <a:off x="990720" y="4797360"/>
            <a:ext cx="573120" cy="573120"/>
          </a:xfrm>
          <a:prstGeom prst="rect">
            <a:avLst/>
          </a:prstGeom>
          <a:ln w="0">
            <a:noFill/>
          </a:ln>
        </p:spPr>
      </p:pic>
      <p:sp>
        <p:nvSpPr>
          <p:cNvPr id="388" name="文本框 66"/>
          <p:cNvSpPr/>
          <p:nvPr/>
        </p:nvSpPr>
        <p:spPr>
          <a:xfrm>
            <a:off x="1355760" y="5845320"/>
            <a:ext cx="242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城镇居民每百户拥有家用汽车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67"/>
          <p:cNvSpPr/>
          <p:nvPr/>
        </p:nvSpPr>
        <p:spPr>
          <a:xfrm>
            <a:off x="925560" y="535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68"/>
          <p:cNvSpPr/>
          <p:nvPr/>
        </p:nvSpPr>
        <p:spPr>
          <a:xfrm>
            <a:off x="3502080" y="535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69"/>
          <p:cNvSpPr/>
          <p:nvPr/>
        </p:nvSpPr>
        <p:spPr>
          <a:xfrm>
            <a:off x="1587240" y="51577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图片 70" descr=""/>
          <p:cNvPicPr/>
          <p:nvPr/>
        </p:nvPicPr>
        <p:blipFill>
          <a:blip r:embed="rId2"/>
          <a:stretch/>
        </p:blipFill>
        <p:spPr>
          <a:xfrm>
            <a:off x="3389400" y="4441680"/>
            <a:ext cx="928440" cy="9288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71"/>
          <p:cNvSpPr/>
          <p:nvPr/>
        </p:nvSpPr>
        <p:spPr>
          <a:xfrm>
            <a:off x="4249080" y="5157720"/>
            <a:ext cx="8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1.5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右箭头 72"/>
          <p:cNvSpPr/>
          <p:nvPr/>
        </p:nvSpPr>
        <p:spPr>
          <a:xfrm>
            <a:off x="2246400" y="4876920"/>
            <a:ext cx="639720" cy="4251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73"/>
          <p:cNvSpPr/>
          <p:nvPr/>
        </p:nvSpPr>
        <p:spPr>
          <a:xfrm>
            <a:off x="7137360" y="5845320"/>
            <a:ext cx="8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扶贫标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74"/>
          <p:cNvGrpSpPr/>
          <p:nvPr/>
        </p:nvGrpSpPr>
        <p:grpSpPr>
          <a:xfrm>
            <a:off x="5955480" y="4668120"/>
            <a:ext cx="684360" cy="686880"/>
            <a:chOff x="5955480" y="4668120"/>
            <a:chExt cx="684360" cy="686880"/>
          </a:xfrm>
        </p:grpSpPr>
        <p:sp>
          <p:nvSpPr>
            <p:cNvPr id="397" name="矩形 75"/>
            <p:cNvSpPr/>
            <p:nvPr/>
          </p:nvSpPr>
          <p:spPr>
            <a:xfrm rot="19732200">
              <a:off x="5981760" y="4960800"/>
              <a:ext cx="578520" cy="263160"/>
            </a:xfrm>
            <a:prstGeom prst="rect">
              <a:avLst/>
            </a:prstGeom>
            <a:solidFill>
              <a:srgbClr val="deebf7"/>
            </a:solidFill>
            <a:ln w="12600">
              <a:solidFill>
                <a:srgbClr val="2b6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76"/>
            <p:cNvSpPr/>
            <p:nvPr/>
          </p:nvSpPr>
          <p:spPr>
            <a:xfrm rot="19732200">
              <a:off x="6014160" y="4879800"/>
              <a:ext cx="578520" cy="263160"/>
            </a:xfrm>
            <a:prstGeom prst="rect">
              <a:avLst/>
            </a:prstGeom>
            <a:solidFill>
              <a:srgbClr val="deebf7"/>
            </a:solidFill>
            <a:ln w="12600">
              <a:solidFill>
                <a:srgbClr val="2b6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77"/>
            <p:cNvSpPr/>
            <p:nvPr/>
          </p:nvSpPr>
          <p:spPr>
            <a:xfrm rot="19732200">
              <a:off x="6035040" y="4798440"/>
              <a:ext cx="57852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b6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文本框 78"/>
            <p:cNvSpPr/>
            <p:nvPr/>
          </p:nvSpPr>
          <p:spPr>
            <a:xfrm rot="19740000">
              <a:off x="6145920" y="47624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b6cad"/>
                  </a:solidFill>
                  <a:latin typeface="微软雅黑"/>
                  <a:ea typeface="微软雅黑"/>
                </a:rPr>
                <a:t>￥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右箭头 79"/>
          <p:cNvSpPr/>
          <p:nvPr/>
        </p:nvSpPr>
        <p:spPr>
          <a:xfrm>
            <a:off x="7227720" y="4905360"/>
            <a:ext cx="640080" cy="4255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80"/>
          <p:cNvSpPr/>
          <p:nvPr/>
        </p:nvSpPr>
        <p:spPr>
          <a:xfrm>
            <a:off x="5907600" y="535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81"/>
          <p:cNvSpPr/>
          <p:nvPr/>
        </p:nvSpPr>
        <p:spPr>
          <a:xfrm>
            <a:off x="8483400" y="535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82"/>
          <p:cNvSpPr/>
          <p:nvPr/>
        </p:nvSpPr>
        <p:spPr>
          <a:xfrm>
            <a:off x="6482880" y="515772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785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文本框 83"/>
          <p:cNvSpPr/>
          <p:nvPr/>
        </p:nvSpPr>
        <p:spPr>
          <a:xfrm>
            <a:off x="9043920" y="515772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30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组合 96"/>
          <p:cNvGrpSpPr/>
          <p:nvPr/>
        </p:nvGrpSpPr>
        <p:grpSpPr>
          <a:xfrm>
            <a:off x="8484480" y="4444560"/>
            <a:ext cx="741240" cy="892800"/>
            <a:chOff x="8484480" y="4444560"/>
            <a:chExt cx="741240" cy="892800"/>
          </a:xfrm>
        </p:grpSpPr>
        <p:grpSp>
          <p:nvGrpSpPr>
            <p:cNvPr id="407" name="组合 95"/>
            <p:cNvGrpSpPr/>
            <p:nvPr/>
          </p:nvGrpSpPr>
          <p:grpSpPr>
            <a:xfrm>
              <a:off x="8484480" y="4583880"/>
              <a:ext cx="696600" cy="753480"/>
              <a:chOff x="8484480" y="4583880"/>
              <a:chExt cx="696600" cy="753480"/>
            </a:xfrm>
          </p:grpSpPr>
          <p:sp>
            <p:nvSpPr>
              <p:cNvPr id="408" name="矩形 89"/>
              <p:cNvSpPr/>
              <p:nvPr/>
            </p:nvSpPr>
            <p:spPr>
              <a:xfrm rot="19732200">
                <a:off x="8510400" y="4944240"/>
                <a:ext cx="577800" cy="26244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矩形 90"/>
              <p:cNvSpPr/>
              <p:nvPr/>
            </p:nvSpPr>
            <p:spPr>
              <a:xfrm rot="19732200">
                <a:off x="8523000" y="4899240"/>
                <a:ext cx="577800" cy="26244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矩形 91"/>
              <p:cNvSpPr/>
              <p:nvPr/>
            </p:nvSpPr>
            <p:spPr>
              <a:xfrm rot="19732200">
                <a:off x="8537040" y="4852440"/>
                <a:ext cx="577800" cy="26244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矩形 92"/>
              <p:cNvSpPr/>
              <p:nvPr/>
            </p:nvSpPr>
            <p:spPr>
              <a:xfrm rot="19732200">
                <a:off x="8548920" y="4807440"/>
                <a:ext cx="577800" cy="26244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矩形 93"/>
              <p:cNvSpPr/>
              <p:nvPr/>
            </p:nvSpPr>
            <p:spPr>
              <a:xfrm rot="19732200">
                <a:off x="8564040" y="4760640"/>
                <a:ext cx="577800" cy="26244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矩形 94"/>
              <p:cNvSpPr/>
              <p:nvPr/>
            </p:nvSpPr>
            <p:spPr>
              <a:xfrm rot="19732200">
                <a:off x="8576640" y="4714200"/>
                <a:ext cx="577800" cy="26244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4" name="组合 84"/>
            <p:cNvGrpSpPr/>
            <p:nvPr/>
          </p:nvGrpSpPr>
          <p:grpSpPr>
            <a:xfrm>
              <a:off x="8569080" y="4444560"/>
              <a:ext cx="656640" cy="622080"/>
              <a:chOff x="8569080" y="4444560"/>
              <a:chExt cx="656640" cy="622080"/>
            </a:xfrm>
          </p:grpSpPr>
          <p:sp>
            <p:nvSpPr>
              <p:cNvPr id="415" name="矩形 85"/>
              <p:cNvSpPr/>
              <p:nvPr/>
            </p:nvSpPr>
            <p:spPr>
              <a:xfrm rot="19732200">
                <a:off x="8595360" y="4673160"/>
                <a:ext cx="577440" cy="26280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矩形 86"/>
              <p:cNvSpPr/>
              <p:nvPr/>
            </p:nvSpPr>
            <p:spPr>
              <a:xfrm rot="19732200">
                <a:off x="8606880" y="4620960"/>
                <a:ext cx="577440" cy="26280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矩形 87"/>
              <p:cNvSpPr/>
              <p:nvPr/>
            </p:nvSpPr>
            <p:spPr>
              <a:xfrm rot="19732200">
                <a:off x="8622000" y="4574520"/>
                <a:ext cx="577440" cy="262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文本框 88"/>
              <p:cNvSpPr/>
              <p:nvPr/>
            </p:nvSpPr>
            <p:spPr>
              <a:xfrm rot="19740000">
                <a:off x="8732880" y="45381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6cad"/>
                    </a:solidFill>
                    <a:latin typeface="微软雅黑"/>
                    <a:ea typeface="微软雅黑"/>
                  </a:rPr>
                  <a:t>￥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19" name="文本框 98"/>
          <p:cNvSpPr/>
          <p:nvPr/>
        </p:nvSpPr>
        <p:spPr>
          <a:xfrm>
            <a:off x="4732200" y="356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能减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矩形 99"/>
          <p:cNvSpPr/>
          <p:nvPr/>
        </p:nvSpPr>
        <p:spPr>
          <a:xfrm>
            <a:off x="4934880" y="390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态环境保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矩形 100"/>
          <p:cNvSpPr/>
          <p:nvPr/>
        </p:nvSpPr>
        <p:spPr>
          <a:xfrm>
            <a:off x="4633560" y="42451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造林治沙等工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文本框 101"/>
          <p:cNvSpPr/>
          <p:nvPr/>
        </p:nvSpPr>
        <p:spPr>
          <a:xfrm>
            <a:off x="4989960" y="4584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效显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文本框 3"/>
          <p:cNvSpPr/>
          <p:nvPr/>
        </p:nvSpPr>
        <p:spPr>
          <a:xfrm>
            <a:off x="1213200" y="1103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巩固和加强农业基础地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295200" y="1781280"/>
            <a:ext cx="977580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5"/>
          <p:cNvSpPr/>
          <p:nvPr/>
        </p:nvSpPr>
        <p:spPr>
          <a:xfrm rot="10800000">
            <a:off x="10856880" y="3274560"/>
            <a:ext cx="969840" cy="97020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6"/>
          <p:cNvSpPr/>
          <p:nvPr/>
        </p:nvSpPr>
        <p:spPr>
          <a:xfrm rot="10800000">
            <a:off x="11161440" y="1893960"/>
            <a:ext cx="360360" cy="3585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7"/>
          <p:cNvSpPr/>
          <p:nvPr/>
        </p:nvSpPr>
        <p:spPr>
          <a:xfrm rot="10800000">
            <a:off x="11161440" y="120132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8"/>
          <p:cNvSpPr/>
          <p:nvPr/>
        </p:nvSpPr>
        <p:spPr>
          <a:xfrm>
            <a:off x="11161800" y="258444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椭圆 9"/>
          <p:cNvSpPr/>
          <p:nvPr/>
        </p:nvSpPr>
        <p:spPr>
          <a:xfrm>
            <a:off x="11161800" y="457668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 10"/>
          <p:cNvSpPr/>
          <p:nvPr/>
        </p:nvSpPr>
        <p:spPr>
          <a:xfrm>
            <a:off x="11161800" y="526716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椭圆 11"/>
          <p:cNvSpPr/>
          <p:nvPr/>
        </p:nvSpPr>
        <p:spPr>
          <a:xfrm>
            <a:off x="11161800" y="595800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任意多边形 26"/>
          <p:cNvSpPr/>
          <p:nvPr/>
        </p:nvSpPr>
        <p:spPr>
          <a:xfrm>
            <a:off x="11045880" y="3451320"/>
            <a:ext cx="584280" cy="610920"/>
          </a:xfrm>
          <a:custGeom>
            <a:avLst/>
            <a:gdLst/>
            <a:ahLst/>
            <a:rect l="l" t="t" r="r" b="b"/>
            <a:pathLst>
              <a:path w="2189408" h="2287228">
                <a:moveTo>
                  <a:pt x="353158" y="3249"/>
                </a:moveTo>
                <a:cubicBezTo>
                  <a:pt x="425180" y="-5419"/>
                  <a:pt x="505012" y="2859"/>
                  <a:pt x="589523" y="32873"/>
                </a:cubicBezTo>
                <a:lnTo>
                  <a:pt x="651260" y="59043"/>
                </a:lnTo>
                <a:lnTo>
                  <a:pt x="743965" y="121004"/>
                </a:lnTo>
                <a:cubicBezTo>
                  <a:pt x="847681" y="201805"/>
                  <a:pt x="945908" y="302229"/>
                  <a:pt x="1032229" y="419952"/>
                </a:cubicBezTo>
                <a:cubicBezTo>
                  <a:pt x="1161710" y="596536"/>
                  <a:pt x="1246018" y="786965"/>
                  <a:pt x="1284179" y="968228"/>
                </a:cubicBezTo>
                <a:lnTo>
                  <a:pt x="1291625" y="1026291"/>
                </a:lnTo>
                <a:lnTo>
                  <a:pt x="1338885" y="1026291"/>
                </a:lnTo>
                <a:lnTo>
                  <a:pt x="1358328" y="954638"/>
                </a:lnTo>
                <a:cubicBezTo>
                  <a:pt x="1388908" y="862456"/>
                  <a:pt x="1436697" y="768994"/>
                  <a:pt x="1501422" y="680724"/>
                </a:cubicBezTo>
                <a:cubicBezTo>
                  <a:pt x="1558955" y="602261"/>
                  <a:pt x="1624424" y="535328"/>
                  <a:pt x="1693551" y="481473"/>
                </a:cubicBezTo>
                <a:lnTo>
                  <a:pt x="1755340" y="440176"/>
                </a:lnTo>
                <a:lnTo>
                  <a:pt x="1796488" y="422734"/>
                </a:lnTo>
                <a:cubicBezTo>
                  <a:pt x="1852815" y="402729"/>
                  <a:pt x="1906023" y="397212"/>
                  <a:pt x="1954026" y="402989"/>
                </a:cubicBezTo>
                <a:cubicBezTo>
                  <a:pt x="2002029" y="408766"/>
                  <a:pt x="2044826" y="425839"/>
                  <a:pt x="2080330" y="451013"/>
                </a:cubicBezTo>
                <a:cubicBezTo>
                  <a:pt x="2289552" y="599365"/>
                  <a:pt x="2245518" y="1029087"/>
                  <a:pt x="1521085" y="1086972"/>
                </a:cubicBezTo>
                <a:lnTo>
                  <a:pt x="1372542" y="1093166"/>
                </a:lnTo>
                <a:lnTo>
                  <a:pt x="1352560" y="1260415"/>
                </a:lnTo>
                <a:cubicBezTo>
                  <a:pt x="1342094" y="1324006"/>
                  <a:pt x="1328509" y="1389148"/>
                  <a:pt x="1311698" y="1455131"/>
                </a:cubicBezTo>
                <a:cubicBezTo>
                  <a:pt x="1278077" y="1587098"/>
                  <a:pt x="1234734" y="1709936"/>
                  <a:pt x="1185144" y="1819072"/>
                </a:cubicBezTo>
                <a:lnTo>
                  <a:pt x="1117497" y="1950565"/>
                </a:lnTo>
                <a:lnTo>
                  <a:pt x="1135787" y="1951516"/>
                </a:lnTo>
                <a:cubicBezTo>
                  <a:pt x="1406626" y="1980094"/>
                  <a:pt x="1610362" y="2103665"/>
                  <a:pt x="1610362" y="2251773"/>
                </a:cubicBezTo>
                <a:lnTo>
                  <a:pt x="1603431" y="2287228"/>
                </a:lnTo>
                <a:lnTo>
                  <a:pt x="428574" y="2287228"/>
                </a:lnTo>
                <a:lnTo>
                  <a:pt x="421642" y="2251773"/>
                </a:lnTo>
                <a:cubicBezTo>
                  <a:pt x="421642" y="2103665"/>
                  <a:pt x="625378" y="1980094"/>
                  <a:pt x="896218" y="1951516"/>
                </a:cubicBezTo>
                <a:lnTo>
                  <a:pt x="993381" y="1946465"/>
                </a:lnTo>
                <a:lnTo>
                  <a:pt x="1029114" y="1885118"/>
                </a:lnTo>
                <a:cubicBezTo>
                  <a:pt x="1094837" y="1758569"/>
                  <a:pt x="1154523" y="1601033"/>
                  <a:pt x="1199009" y="1426421"/>
                </a:cubicBezTo>
                <a:cubicBezTo>
                  <a:pt x="1228666" y="1310014"/>
                  <a:pt x="1248760" y="1197037"/>
                  <a:pt x="1259703" y="1092412"/>
                </a:cubicBezTo>
                <a:lnTo>
                  <a:pt x="1263147" y="1038589"/>
                </a:lnTo>
                <a:lnTo>
                  <a:pt x="1233911" y="1039113"/>
                </a:lnTo>
                <a:cubicBezTo>
                  <a:pt x="-73688" y="1030465"/>
                  <a:pt x="-171179" y="312723"/>
                  <a:pt x="163656" y="75303"/>
                </a:cubicBezTo>
                <a:cubicBezTo>
                  <a:pt x="216925" y="37532"/>
                  <a:pt x="281136" y="11917"/>
                  <a:pt x="353158" y="32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文本框 27"/>
          <p:cNvSpPr/>
          <p:nvPr/>
        </p:nvSpPr>
        <p:spPr>
          <a:xfrm>
            <a:off x="1263960" y="3913200"/>
            <a:ext cx="2018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中央财政“三农”累计支出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文本框 28"/>
          <p:cNvSpPr/>
          <p:nvPr/>
        </p:nvSpPr>
        <p:spPr>
          <a:xfrm>
            <a:off x="4618440" y="3913200"/>
            <a:ext cx="146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种粮农民补贴资金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文本框 29"/>
          <p:cNvSpPr/>
          <p:nvPr/>
        </p:nvSpPr>
        <p:spPr>
          <a:xfrm>
            <a:off x="7917840" y="3913200"/>
            <a:ext cx="1140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涉农贷款余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6" name="组合 34"/>
          <p:cNvGrpSpPr/>
          <p:nvPr/>
        </p:nvGrpSpPr>
        <p:grpSpPr>
          <a:xfrm>
            <a:off x="1581120" y="2863800"/>
            <a:ext cx="1351080" cy="990360"/>
            <a:chOff x="1581120" y="2863800"/>
            <a:chExt cx="1351080" cy="990360"/>
          </a:xfrm>
        </p:grpSpPr>
        <p:sp>
          <p:nvSpPr>
            <p:cNvPr id="437" name="矩形 30"/>
            <p:cNvSpPr/>
            <p:nvPr/>
          </p:nvSpPr>
          <p:spPr>
            <a:xfrm>
              <a:off x="1582920" y="3558600"/>
              <a:ext cx="640080" cy="226800"/>
            </a:xfrm>
            <a:prstGeom prst="rect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31"/>
            <p:cNvSpPr/>
            <p:nvPr/>
          </p:nvSpPr>
          <p:spPr>
            <a:xfrm>
              <a:off x="2290320" y="2863800"/>
              <a:ext cx="640080" cy="9219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文本框 32"/>
            <p:cNvSpPr/>
            <p:nvPr/>
          </p:nvSpPr>
          <p:spPr>
            <a:xfrm>
              <a:off x="1581120" y="351684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文本框 33"/>
            <p:cNvSpPr/>
            <p:nvPr/>
          </p:nvSpPr>
          <p:spPr>
            <a:xfrm>
              <a:off x="2288160" y="351684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组合 35"/>
          <p:cNvGrpSpPr/>
          <p:nvPr/>
        </p:nvGrpSpPr>
        <p:grpSpPr>
          <a:xfrm>
            <a:off x="4670280" y="2998800"/>
            <a:ext cx="1351080" cy="856080"/>
            <a:chOff x="4670280" y="2998800"/>
            <a:chExt cx="1351080" cy="856080"/>
          </a:xfrm>
        </p:grpSpPr>
        <p:sp>
          <p:nvSpPr>
            <p:cNvPr id="442" name="矩形 36"/>
            <p:cNvSpPr/>
            <p:nvPr/>
          </p:nvSpPr>
          <p:spPr>
            <a:xfrm>
              <a:off x="4672080" y="3558960"/>
              <a:ext cx="640080" cy="226800"/>
            </a:xfrm>
            <a:prstGeom prst="rect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37"/>
            <p:cNvSpPr/>
            <p:nvPr/>
          </p:nvSpPr>
          <p:spPr>
            <a:xfrm>
              <a:off x="5379480" y="2998800"/>
              <a:ext cx="640080" cy="7869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文本框 38"/>
            <p:cNvSpPr/>
            <p:nvPr/>
          </p:nvSpPr>
          <p:spPr>
            <a:xfrm>
              <a:off x="4670280" y="3517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文本框 39"/>
            <p:cNvSpPr/>
            <p:nvPr/>
          </p:nvSpPr>
          <p:spPr>
            <a:xfrm>
              <a:off x="5377320" y="3517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组合 40"/>
          <p:cNvGrpSpPr/>
          <p:nvPr/>
        </p:nvGrpSpPr>
        <p:grpSpPr>
          <a:xfrm>
            <a:off x="7778520" y="2181240"/>
            <a:ext cx="1351080" cy="1673280"/>
            <a:chOff x="7778520" y="2181240"/>
            <a:chExt cx="1351080" cy="1673280"/>
          </a:xfrm>
        </p:grpSpPr>
        <p:sp>
          <p:nvSpPr>
            <p:cNvPr id="447" name="矩形 41"/>
            <p:cNvSpPr/>
            <p:nvPr/>
          </p:nvSpPr>
          <p:spPr>
            <a:xfrm>
              <a:off x="7780680" y="3252240"/>
              <a:ext cx="639720" cy="533160"/>
            </a:xfrm>
            <a:prstGeom prst="rect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42"/>
            <p:cNvSpPr/>
            <p:nvPr/>
          </p:nvSpPr>
          <p:spPr>
            <a:xfrm>
              <a:off x="8487720" y="2181240"/>
              <a:ext cx="639720" cy="160452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文本框 43"/>
            <p:cNvSpPr/>
            <p:nvPr/>
          </p:nvSpPr>
          <p:spPr>
            <a:xfrm>
              <a:off x="7778520" y="351720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文本框 44"/>
            <p:cNvSpPr/>
            <p:nvPr/>
          </p:nvSpPr>
          <p:spPr>
            <a:xfrm>
              <a:off x="8485560" y="351720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1" name="文本框 45"/>
          <p:cNvSpPr/>
          <p:nvPr/>
        </p:nvSpPr>
        <p:spPr>
          <a:xfrm>
            <a:off x="1496160" y="32050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3917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46"/>
          <p:cNvSpPr/>
          <p:nvPr/>
        </p:nvSpPr>
        <p:spPr>
          <a:xfrm>
            <a:off x="2145240" y="2508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2287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47"/>
          <p:cNvSpPr/>
          <p:nvPr/>
        </p:nvSpPr>
        <p:spPr>
          <a:xfrm>
            <a:off x="5291640" y="26510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23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48"/>
          <p:cNvSpPr/>
          <p:nvPr/>
        </p:nvSpPr>
        <p:spPr>
          <a:xfrm>
            <a:off x="4663080" y="32097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639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文本框 49"/>
          <p:cNvSpPr/>
          <p:nvPr/>
        </p:nvSpPr>
        <p:spPr>
          <a:xfrm>
            <a:off x="7531560" y="2900520"/>
            <a:ext cx="8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6.12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50"/>
          <p:cNvSpPr/>
          <p:nvPr/>
        </p:nvSpPr>
        <p:spPr>
          <a:xfrm>
            <a:off x="8333280" y="1839960"/>
            <a:ext cx="99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7.63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矩形 52"/>
          <p:cNvSpPr/>
          <p:nvPr/>
        </p:nvSpPr>
        <p:spPr>
          <a:xfrm>
            <a:off x="860400" y="4557600"/>
            <a:ext cx="4468680" cy="3826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直接连接符 54"/>
          <p:cNvSpPr/>
          <p:nvPr/>
        </p:nvSpPr>
        <p:spPr>
          <a:xfrm>
            <a:off x="965160" y="4746600"/>
            <a:ext cx="424836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组合 72"/>
          <p:cNvGrpSpPr/>
          <p:nvPr/>
        </p:nvGrpSpPr>
        <p:grpSpPr>
          <a:xfrm>
            <a:off x="860400" y="5089680"/>
            <a:ext cx="4322160" cy="576720"/>
            <a:chOff x="860400" y="5089680"/>
            <a:chExt cx="4322160" cy="576720"/>
          </a:xfrm>
        </p:grpSpPr>
        <p:sp>
          <p:nvSpPr>
            <p:cNvPr id="460" name="矩形 56"/>
            <p:cNvSpPr/>
            <p:nvPr/>
          </p:nvSpPr>
          <p:spPr>
            <a:xfrm>
              <a:off x="860400" y="5243400"/>
              <a:ext cx="3600360" cy="9720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57"/>
            <p:cNvSpPr/>
            <p:nvPr/>
          </p:nvSpPr>
          <p:spPr>
            <a:xfrm>
              <a:off x="4488840" y="5198760"/>
              <a:ext cx="288000" cy="18000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矩形 58"/>
            <p:cNvSpPr/>
            <p:nvPr/>
          </p:nvSpPr>
          <p:spPr>
            <a:xfrm>
              <a:off x="4803120" y="5230080"/>
              <a:ext cx="108000" cy="1173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任意多边形 63"/>
            <p:cNvSpPr/>
            <p:nvPr/>
          </p:nvSpPr>
          <p:spPr>
            <a:xfrm>
              <a:off x="4911120" y="5257080"/>
              <a:ext cx="207720" cy="181440"/>
            </a:xfrm>
            <a:custGeom>
              <a:avLst/>
              <a:gdLst/>
              <a:ahLst/>
              <a:rect l="l" t="t" r="r" b="b"/>
              <a:pathLst>
                <a:path w="242284" h="211361">
                  <a:moveTo>
                    <a:pt x="0" y="0"/>
                  </a:moveTo>
                  <a:cubicBezTo>
                    <a:pt x="118760" y="0"/>
                    <a:pt x="217843" y="84239"/>
                    <a:pt x="240758" y="196224"/>
                  </a:cubicBezTo>
                  <a:lnTo>
                    <a:pt x="242284" y="211361"/>
                  </a:lnTo>
                  <a:lnTo>
                    <a:pt x="155120" y="211361"/>
                  </a:lnTo>
                  <a:lnTo>
                    <a:pt x="149328" y="182669"/>
                  </a:lnTo>
                  <a:cubicBezTo>
                    <a:pt x="124725" y="124502"/>
                    <a:pt x="67129" y="83688"/>
                    <a:pt x="0" y="83688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椭圆 65"/>
            <p:cNvSpPr/>
            <p:nvPr/>
          </p:nvSpPr>
          <p:spPr>
            <a:xfrm>
              <a:off x="4473720" y="5105880"/>
              <a:ext cx="190440" cy="4572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椭圆 66"/>
            <p:cNvSpPr/>
            <p:nvPr/>
          </p:nvSpPr>
          <p:spPr>
            <a:xfrm>
              <a:off x="4612680" y="5105880"/>
              <a:ext cx="190440" cy="4572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矩形 67"/>
            <p:cNvSpPr/>
            <p:nvPr/>
          </p:nvSpPr>
          <p:spPr>
            <a:xfrm>
              <a:off x="4587480" y="5164560"/>
              <a:ext cx="90720" cy="2520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椭圆 68"/>
            <p:cNvSpPr/>
            <p:nvPr/>
          </p:nvSpPr>
          <p:spPr>
            <a:xfrm>
              <a:off x="4597920" y="5089680"/>
              <a:ext cx="69840" cy="698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泪滴形 70"/>
            <p:cNvSpPr/>
            <p:nvPr/>
          </p:nvSpPr>
          <p:spPr>
            <a:xfrm rot="18858000">
              <a:off x="5030280" y="5514120"/>
              <a:ext cx="126000" cy="126000"/>
            </a:xfrm>
            <a:custGeom>
              <a:avLst/>
              <a:gdLst/>
              <a:ahLst/>
              <a:rect l="l" t="t" r="r" b="b"/>
              <a:pathLst>
                <a:path w="126000" h="126000">
                  <a:moveTo>
                    <a:pt x="0" y="63000"/>
                  </a:moveTo>
                  <a:cubicBezTo>
                    <a:pt x="0" y="28206"/>
                    <a:pt x="28206" y="0"/>
                    <a:pt x="63000" y="0"/>
                  </a:cubicBezTo>
                  <a:cubicBezTo>
                    <a:pt x="84000" y="0"/>
                    <a:pt x="105000" y="0"/>
                    <a:pt x="126000" y="0"/>
                  </a:cubicBezTo>
                  <a:cubicBezTo>
                    <a:pt x="126000" y="21000"/>
                    <a:pt x="126000" y="42000"/>
                    <a:pt x="126000" y="63000"/>
                  </a:cubicBezTo>
                  <a:cubicBezTo>
                    <a:pt x="126000" y="97794"/>
                    <a:pt x="97794" y="126000"/>
                    <a:pt x="63000" y="126000"/>
                  </a:cubicBezTo>
                  <a:cubicBezTo>
                    <a:pt x="28206" y="126000"/>
                    <a:pt x="0" y="97794"/>
                    <a:pt x="0" y="6300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9" name="文本框 73"/>
          <p:cNvSpPr/>
          <p:nvPr/>
        </p:nvSpPr>
        <p:spPr>
          <a:xfrm>
            <a:off x="6143400" y="4527720"/>
            <a:ext cx="275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新建改建农村公路</a:t>
            </a:r>
            <a:r>
              <a:rPr b="1" lang="en-US" sz="2100" spc="-1" strike="noStrike">
                <a:solidFill>
                  <a:srgbClr val="ff0000"/>
                </a:solidFill>
                <a:latin typeface="微软雅黑"/>
              </a:rPr>
              <a:t>146.5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  <a:ea typeface="微软雅黑"/>
              </a:rPr>
              <a:t>万</a:t>
            </a: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公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74"/>
          <p:cNvSpPr/>
          <p:nvPr/>
        </p:nvSpPr>
        <p:spPr>
          <a:xfrm>
            <a:off x="6393600" y="5121360"/>
            <a:ext cx="3021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解决了</a:t>
            </a:r>
            <a:r>
              <a:rPr b="1" lang="en-US" sz="2100" spc="-1" strike="noStrike">
                <a:solidFill>
                  <a:srgbClr val="ff0000"/>
                </a:solidFill>
                <a:latin typeface="微软雅黑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  <a:ea typeface="微软雅黑"/>
              </a:rPr>
              <a:t>亿多</a:t>
            </a: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农村人口的饮水安全问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闪电形 76"/>
          <p:cNvSpPr/>
          <p:nvPr/>
        </p:nvSpPr>
        <p:spPr>
          <a:xfrm>
            <a:off x="860400" y="5707080"/>
            <a:ext cx="436680" cy="436680"/>
          </a:xfrm>
          <a:prstGeom prst="lightningBol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81"/>
          <p:cNvGrpSpPr/>
          <p:nvPr/>
        </p:nvGrpSpPr>
        <p:grpSpPr>
          <a:xfrm>
            <a:off x="1297080" y="5770440"/>
            <a:ext cx="4000320" cy="292320"/>
            <a:chOff x="1297080" y="5770440"/>
            <a:chExt cx="4000320" cy="292320"/>
          </a:xfrm>
        </p:grpSpPr>
        <p:sp>
          <p:nvSpPr>
            <p:cNvPr id="473" name="矩形 75"/>
            <p:cNvSpPr/>
            <p:nvPr/>
          </p:nvSpPr>
          <p:spPr>
            <a:xfrm>
              <a:off x="1297080" y="5893560"/>
              <a:ext cx="3562200" cy="5832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流程图: 延期 77"/>
            <p:cNvSpPr/>
            <p:nvPr/>
          </p:nvSpPr>
          <p:spPr>
            <a:xfrm flipH="1">
              <a:off x="4833000" y="5770440"/>
              <a:ext cx="291960" cy="292320"/>
            </a:xfrm>
            <a:prstGeom prst="flowChartDelay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直接连接符 79"/>
            <p:cNvSpPr/>
            <p:nvPr/>
          </p:nvSpPr>
          <p:spPr>
            <a:xfrm>
              <a:off x="4976280" y="5987520"/>
              <a:ext cx="3200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直接连接符 80"/>
            <p:cNvSpPr/>
            <p:nvPr/>
          </p:nvSpPr>
          <p:spPr>
            <a:xfrm>
              <a:off x="4977360" y="5833800"/>
              <a:ext cx="320040" cy="0"/>
            </a:xfrm>
            <a:prstGeom prst="line">
              <a:avLst/>
            </a:prstGeom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7" name="文本框 82"/>
          <p:cNvSpPr/>
          <p:nvPr/>
        </p:nvSpPr>
        <p:spPr>
          <a:xfrm>
            <a:off x="6243840" y="5715000"/>
            <a:ext cx="284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解决了无电区</a:t>
            </a:r>
            <a:r>
              <a:rPr b="1" lang="en-US" sz="2100" spc="-1" strike="noStrike">
                <a:solidFill>
                  <a:srgbClr val="ff0000"/>
                </a:solidFill>
                <a:latin typeface="微软雅黑"/>
              </a:rPr>
              <a:t>445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  <a:ea typeface="微软雅黑"/>
              </a:rPr>
              <a:t>万</a:t>
            </a:r>
            <a:r>
              <a:rPr b="1" lang="zh-CN" sz="2100" spc="-1" strike="noStrike">
                <a:solidFill>
                  <a:srgbClr val="2b6cad"/>
                </a:solidFill>
                <a:latin typeface="Calibri"/>
                <a:ea typeface="微软雅黑"/>
              </a:rPr>
              <a:t>人的用电问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直接连接符 83"/>
          <p:cNvSpPr/>
          <p:nvPr/>
        </p:nvSpPr>
        <p:spPr>
          <a:xfrm>
            <a:off x="479520" y="4402080"/>
            <a:ext cx="946476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文本框 3"/>
          <p:cNvSpPr/>
          <p:nvPr/>
        </p:nvSpPr>
        <p:spPr>
          <a:xfrm>
            <a:off x="1130400" y="1103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坚持实施科教兴国战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直接连接符 4"/>
          <p:cNvSpPr/>
          <p:nvPr/>
        </p:nvSpPr>
        <p:spPr>
          <a:xfrm>
            <a:off x="295200" y="1781280"/>
            <a:ext cx="977580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椭圆 5"/>
          <p:cNvSpPr/>
          <p:nvPr/>
        </p:nvSpPr>
        <p:spPr>
          <a:xfrm rot="10800000">
            <a:off x="10856880" y="3965040"/>
            <a:ext cx="969840" cy="97164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椭圆 6"/>
          <p:cNvSpPr/>
          <p:nvPr/>
        </p:nvSpPr>
        <p:spPr>
          <a:xfrm rot="10800000">
            <a:off x="11161440" y="1893960"/>
            <a:ext cx="360360" cy="3585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椭圆 7"/>
          <p:cNvSpPr/>
          <p:nvPr/>
        </p:nvSpPr>
        <p:spPr>
          <a:xfrm rot="10800000">
            <a:off x="11161440" y="120132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椭圆 8"/>
          <p:cNvSpPr/>
          <p:nvPr/>
        </p:nvSpPr>
        <p:spPr>
          <a:xfrm>
            <a:off x="11161800" y="258444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椭圆 9"/>
          <p:cNvSpPr/>
          <p:nvPr/>
        </p:nvSpPr>
        <p:spPr>
          <a:xfrm>
            <a:off x="11161800" y="327492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椭圆 10"/>
          <p:cNvSpPr/>
          <p:nvPr/>
        </p:nvSpPr>
        <p:spPr>
          <a:xfrm>
            <a:off x="11161800" y="526716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椭圆 11"/>
          <p:cNvSpPr/>
          <p:nvPr/>
        </p:nvSpPr>
        <p:spPr>
          <a:xfrm>
            <a:off x="11161800" y="595800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组合 38" descr=""/>
          <p:cNvPicPr/>
          <p:nvPr/>
        </p:nvPicPr>
        <p:blipFill>
          <a:blip r:embed="rId1"/>
          <a:stretch/>
        </p:blipFill>
        <p:spPr>
          <a:xfrm>
            <a:off x="10896480" y="4098960"/>
            <a:ext cx="817560" cy="569880"/>
          </a:xfrm>
          <a:prstGeom prst="rect">
            <a:avLst/>
          </a:prstGeom>
          <a:ln w="0">
            <a:noFill/>
          </a:ln>
        </p:spPr>
      </p:pic>
      <p:grpSp>
        <p:nvGrpSpPr>
          <p:cNvPr id="490" name="组合 19"/>
          <p:cNvGrpSpPr/>
          <p:nvPr/>
        </p:nvGrpSpPr>
        <p:grpSpPr>
          <a:xfrm>
            <a:off x="723960" y="2028960"/>
            <a:ext cx="1849320" cy="1274760"/>
            <a:chOff x="723960" y="2028960"/>
            <a:chExt cx="1849320" cy="1274760"/>
          </a:xfrm>
        </p:grpSpPr>
        <p:sp>
          <p:nvSpPr>
            <p:cNvPr id="491" name="矩形 1"/>
            <p:cNvSpPr/>
            <p:nvPr/>
          </p:nvSpPr>
          <p:spPr>
            <a:xfrm>
              <a:off x="1328040" y="2028960"/>
              <a:ext cx="1142640" cy="781920"/>
            </a:xfrm>
            <a:prstGeom prst="rect">
              <a:avLst/>
            </a:pr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2"/>
            <p:cNvSpPr/>
            <p:nvPr/>
          </p:nvSpPr>
          <p:spPr>
            <a:xfrm>
              <a:off x="1225080" y="2810880"/>
              <a:ext cx="1348200" cy="1141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平行四边形 12"/>
            <p:cNvSpPr/>
            <p:nvPr/>
          </p:nvSpPr>
          <p:spPr>
            <a:xfrm>
              <a:off x="1225080" y="2926800"/>
              <a:ext cx="456840" cy="376920"/>
            </a:xfrm>
            <a:prstGeom prst="parallelogram">
              <a:avLst>
                <a:gd name="adj" fmla="val 76420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平行四边形 23"/>
            <p:cNvSpPr/>
            <p:nvPr/>
          </p:nvSpPr>
          <p:spPr>
            <a:xfrm flipH="1">
              <a:off x="2115720" y="2926800"/>
              <a:ext cx="456840" cy="376920"/>
            </a:xfrm>
            <a:prstGeom prst="parallelogram">
              <a:avLst>
                <a:gd name="adj" fmla="val 76420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梯形 13"/>
            <p:cNvSpPr/>
            <p:nvPr/>
          </p:nvSpPr>
          <p:spPr>
            <a:xfrm>
              <a:off x="1487880" y="3051000"/>
              <a:ext cx="820440" cy="132840"/>
            </a:xfrm>
            <a:custGeom>
              <a:avLst/>
              <a:gdLst/>
              <a:ahLst/>
              <a:rect l="l" t="t" r="r" b="b"/>
              <a:pathLst>
                <a:path w="820902" h="133116">
                  <a:moveTo>
                    <a:pt x="0" y="133116"/>
                  </a:moveTo>
                  <a:lnTo>
                    <a:pt x="101985" y="0"/>
                  </a:lnTo>
                  <a:lnTo>
                    <a:pt x="718916" y="0"/>
                  </a:lnTo>
                  <a:lnTo>
                    <a:pt x="820902" y="133116"/>
                  </a:ln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"/>
            <p:cNvSpPr/>
            <p:nvPr/>
          </p:nvSpPr>
          <p:spPr>
            <a:xfrm rot="2700000">
              <a:off x="1099080" y="2270880"/>
              <a:ext cx="45720" cy="107964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文本框 15"/>
            <p:cNvSpPr/>
            <p:nvPr/>
          </p:nvSpPr>
          <p:spPr>
            <a:xfrm>
              <a:off x="1491480" y="2273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adley Hand ITC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文本框 27"/>
            <p:cNvSpPr/>
            <p:nvPr/>
          </p:nvSpPr>
          <p:spPr>
            <a:xfrm>
              <a:off x="1721520" y="22730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adley Hand ITC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文本框 28"/>
            <p:cNvSpPr/>
            <p:nvPr/>
          </p:nvSpPr>
          <p:spPr>
            <a:xfrm>
              <a:off x="1986120" y="22730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adley Hand ITC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矩形 32"/>
          <p:cNvSpPr/>
          <p:nvPr/>
        </p:nvSpPr>
        <p:spPr>
          <a:xfrm>
            <a:off x="2836800" y="2006640"/>
            <a:ext cx="60962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国家财政性教育经费支出五年累计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7.79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年均增长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1.5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2012</a:t>
            </a: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年占国内生产总值比例达到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48"/>
          <p:cNvGrpSpPr/>
          <p:nvPr/>
        </p:nvGrpSpPr>
        <p:grpSpPr>
          <a:xfrm>
            <a:off x="8331120" y="3911760"/>
            <a:ext cx="1036800" cy="703080"/>
            <a:chOff x="8331120" y="3911760"/>
            <a:chExt cx="1036800" cy="703080"/>
          </a:xfrm>
        </p:grpSpPr>
        <p:sp>
          <p:nvSpPr>
            <p:cNvPr id="502" name="圆角矩形 33"/>
            <p:cNvSpPr/>
            <p:nvPr/>
          </p:nvSpPr>
          <p:spPr>
            <a:xfrm>
              <a:off x="8331120" y="3911760"/>
              <a:ext cx="1036800" cy="703080"/>
            </a:xfrm>
            <a:prstGeom prst="roundRect">
              <a:avLst>
                <a:gd name="adj" fmla="val 9343"/>
              </a:avLst>
            </a:pr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40"/>
            <p:cNvSpPr/>
            <p:nvPr/>
          </p:nvSpPr>
          <p:spPr>
            <a:xfrm>
              <a:off x="8331120" y="4092480"/>
              <a:ext cx="1036800" cy="1242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46"/>
            <p:cNvGrpSpPr/>
            <p:nvPr/>
          </p:nvGrpSpPr>
          <p:grpSpPr>
            <a:xfrm>
              <a:off x="9065520" y="4428720"/>
              <a:ext cx="253440" cy="120240"/>
              <a:chOff x="9065520" y="4428720"/>
              <a:chExt cx="253440" cy="120240"/>
            </a:xfrm>
          </p:grpSpPr>
          <p:sp>
            <p:nvSpPr>
              <p:cNvPr id="505" name="平行四边形 42"/>
              <p:cNvSpPr/>
              <p:nvPr/>
            </p:nvSpPr>
            <p:spPr>
              <a:xfrm>
                <a:off x="9065520" y="4428720"/>
                <a:ext cx="137520" cy="120240"/>
              </a:xfrm>
              <a:prstGeom prst="parallelogram">
                <a:avLst>
                  <a:gd name="adj" fmla="val 65377"/>
                </a:avLst>
              </a:prstGeom>
              <a:solidFill>
                <a:srgbClr val="2e7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平行四边形 44"/>
              <p:cNvSpPr/>
              <p:nvPr/>
            </p:nvSpPr>
            <p:spPr>
              <a:xfrm>
                <a:off x="9122040" y="4428720"/>
                <a:ext cx="137520" cy="120240"/>
              </a:xfrm>
              <a:prstGeom prst="parallelogram">
                <a:avLst>
                  <a:gd name="adj" fmla="val 65377"/>
                </a:avLst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平行四边形 45"/>
              <p:cNvSpPr/>
              <p:nvPr/>
            </p:nvSpPr>
            <p:spPr>
              <a:xfrm>
                <a:off x="9181440" y="4428720"/>
                <a:ext cx="137520" cy="120240"/>
              </a:xfrm>
              <a:prstGeom prst="parallelogram">
                <a:avLst>
                  <a:gd name="adj" fmla="val 65377"/>
                </a:avLst>
              </a:prstGeom>
              <a:solidFill>
                <a:srgbClr val="9dc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8" name="矩形 47"/>
            <p:cNvSpPr/>
            <p:nvPr/>
          </p:nvSpPr>
          <p:spPr>
            <a:xfrm>
              <a:off x="8421840" y="4264920"/>
              <a:ext cx="42732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矩形 49"/>
          <p:cNvSpPr/>
          <p:nvPr/>
        </p:nvSpPr>
        <p:spPr>
          <a:xfrm>
            <a:off x="3081240" y="3551400"/>
            <a:ext cx="49975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中央财政每年助学资金近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资助学生近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8000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实施中等职业教育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学费</a:t>
            </a: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政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0" name="组合 53"/>
          <p:cNvGrpSpPr/>
          <p:nvPr/>
        </p:nvGrpSpPr>
        <p:grpSpPr>
          <a:xfrm>
            <a:off x="971640" y="4888080"/>
            <a:ext cx="1120680" cy="1120680"/>
            <a:chOff x="971640" y="4888080"/>
            <a:chExt cx="1120680" cy="1120680"/>
          </a:xfrm>
        </p:grpSpPr>
        <p:sp>
          <p:nvSpPr>
            <p:cNvPr id="511" name="椭圆 50"/>
            <p:cNvSpPr/>
            <p:nvPr/>
          </p:nvSpPr>
          <p:spPr>
            <a:xfrm>
              <a:off x="971640" y="4888080"/>
              <a:ext cx="1120680" cy="1120680"/>
            </a:xfrm>
            <a:prstGeom prst="ellipse">
              <a:avLst/>
            </a:pr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文本框 51"/>
            <p:cNvSpPr/>
            <p:nvPr/>
          </p:nvSpPr>
          <p:spPr>
            <a:xfrm>
              <a:off x="1078560" y="518652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文本框 52"/>
          <p:cNvSpPr/>
          <p:nvPr/>
        </p:nvSpPr>
        <p:spPr>
          <a:xfrm>
            <a:off x="2225160" y="3639240"/>
            <a:ext cx="4546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高等教育毛入学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接连接符 54"/>
          <p:cNvSpPr/>
          <p:nvPr/>
        </p:nvSpPr>
        <p:spPr>
          <a:xfrm>
            <a:off x="723960" y="3487680"/>
            <a:ext cx="893124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直接连接符 57"/>
          <p:cNvSpPr/>
          <p:nvPr/>
        </p:nvSpPr>
        <p:spPr>
          <a:xfrm flipV="1">
            <a:off x="9202680" y="1781280"/>
            <a:ext cx="0" cy="170640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接连接符 58"/>
          <p:cNvSpPr/>
          <p:nvPr/>
        </p:nvSpPr>
        <p:spPr>
          <a:xfrm flipV="1">
            <a:off x="2841480" y="3483000"/>
            <a:ext cx="0" cy="283536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接连接符 60"/>
          <p:cNvSpPr/>
          <p:nvPr/>
        </p:nvSpPr>
        <p:spPr>
          <a:xfrm>
            <a:off x="2836800" y="5011560"/>
            <a:ext cx="681840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直接连接符 66"/>
          <p:cNvSpPr/>
          <p:nvPr/>
        </p:nvSpPr>
        <p:spPr>
          <a:xfrm flipV="1">
            <a:off x="6243480" y="5011560"/>
            <a:ext cx="0" cy="130680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矩形 68"/>
          <p:cNvSpPr/>
          <p:nvPr/>
        </p:nvSpPr>
        <p:spPr>
          <a:xfrm>
            <a:off x="6315120" y="5224320"/>
            <a:ext cx="30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专业技术人才增加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86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高技能人才增加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88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留学回国人员达到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54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0" name="组合 89"/>
          <p:cNvGrpSpPr/>
          <p:nvPr/>
        </p:nvGrpSpPr>
        <p:grpSpPr>
          <a:xfrm>
            <a:off x="9190080" y="5303880"/>
            <a:ext cx="763560" cy="763560"/>
            <a:chOff x="9190080" y="5303880"/>
            <a:chExt cx="763560" cy="763560"/>
          </a:xfrm>
        </p:grpSpPr>
        <p:sp>
          <p:nvSpPr>
            <p:cNvPr id="521" name="椭圆 69"/>
            <p:cNvSpPr/>
            <p:nvPr/>
          </p:nvSpPr>
          <p:spPr>
            <a:xfrm>
              <a:off x="9190080" y="5303880"/>
              <a:ext cx="763560" cy="763560"/>
            </a:xfrm>
            <a:prstGeom prst="ellipse">
              <a:avLst/>
            </a:pr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2" name="组合 80"/>
            <p:cNvGrpSpPr/>
            <p:nvPr/>
          </p:nvGrpSpPr>
          <p:grpSpPr>
            <a:xfrm>
              <a:off x="9269280" y="5456880"/>
              <a:ext cx="605160" cy="418320"/>
              <a:chOff x="9269280" y="5456880"/>
              <a:chExt cx="605160" cy="418320"/>
            </a:xfrm>
          </p:grpSpPr>
          <p:sp>
            <p:nvSpPr>
              <p:cNvPr id="523" name="任意多边形 72"/>
              <p:cNvSpPr/>
              <p:nvPr/>
            </p:nvSpPr>
            <p:spPr>
              <a:xfrm>
                <a:off x="9403920" y="5760360"/>
                <a:ext cx="356760" cy="114840"/>
              </a:xfrm>
              <a:custGeom>
                <a:avLst/>
                <a:gdLst/>
                <a:ahLst/>
                <a:rect l="l" t="t" r="r" b="b"/>
                <a:pathLst>
                  <a:path w="445694" h="143756">
                    <a:moveTo>
                      <a:pt x="397274" y="0"/>
                    </a:moveTo>
                    <a:lnTo>
                      <a:pt x="421768" y="0"/>
                    </a:lnTo>
                    <a:cubicBezTo>
                      <a:pt x="434982" y="0"/>
                      <a:pt x="445694" y="10712"/>
                      <a:pt x="445694" y="23926"/>
                    </a:cubicBezTo>
                    <a:lnTo>
                      <a:pt x="445694" y="119627"/>
                    </a:lnTo>
                    <a:cubicBezTo>
                      <a:pt x="445694" y="132841"/>
                      <a:pt x="434982" y="143553"/>
                      <a:pt x="421768" y="143553"/>
                    </a:cubicBezTo>
                    <a:cubicBezTo>
                      <a:pt x="355785" y="131038"/>
                      <a:pt x="371536" y="107029"/>
                      <a:pt x="223818" y="106007"/>
                    </a:cubicBezTo>
                    <a:cubicBezTo>
                      <a:pt x="76100" y="104985"/>
                      <a:pt x="60707" y="147024"/>
                      <a:pt x="23926" y="143553"/>
                    </a:cubicBezTo>
                    <a:cubicBezTo>
                      <a:pt x="10712" y="143553"/>
                      <a:pt x="0" y="132841"/>
                      <a:pt x="0" y="119627"/>
                    </a:cubicBezTo>
                    <a:lnTo>
                      <a:pt x="0" y="23926"/>
                    </a:lnTo>
                    <a:lnTo>
                      <a:pt x="6754" y="7621"/>
                    </a:lnTo>
                    <a:lnTo>
                      <a:pt x="300876" y="84200"/>
                    </a:lnTo>
                    <a:lnTo>
                      <a:pt x="397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任意多边形 78"/>
              <p:cNvSpPr/>
              <p:nvPr/>
            </p:nvSpPr>
            <p:spPr>
              <a:xfrm rot="875400">
                <a:off x="9291600" y="5523120"/>
                <a:ext cx="559800" cy="251640"/>
              </a:xfrm>
              <a:custGeom>
                <a:avLst/>
                <a:gdLst/>
                <a:ahLst/>
                <a:rect l="l" t="t" r="r" b="b"/>
                <a:pathLst>
                  <a:path w="559768" h="251730">
                    <a:moveTo>
                      <a:pt x="171526" y="0"/>
                    </a:moveTo>
                    <a:lnTo>
                      <a:pt x="559768" y="0"/>
                    </a:lnTo>
                    <a:lnTo>
                      <a:pt x="519447" y="59175"/>
                    </a:lnTo>
                    <a:lnTo>
                      <a:pt x="517354" y="51137"/>
                    </a:lnTo>
                    <a:lnTo>
                      <a:pt x="465096" y="64743"/>
                    </a:lnTo>
                    <a:lnTo>
                      <a:pt x="479073" y="118426"/>
                    </a:lnTo>
                    <a:lnTo>
                      <a:pt x="388242" y="251730"/>
                    </a:lnTo>
                    <a:lnTo>
                      <a:pt x="0" y="2517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矩形 79"/>
              <p:cNvSpPr/>
              <p:nvPr/>
            </p:nvSpPr>
            <p:spPr>
              <a:xfrm>
                <a:off x="9780120" y="5649840"/>
                <a:ext cx="28800" cy="2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26" name="矩形 81"/>
          <p:cNvSpPr/>
          <p:nvPr/>
        </p:nvSpPr>
        <p:spPr>
          <a:xfrm>
            <a:off x="3165480" y="5192640"/>
            <a:ext cx="1793880" cy="2383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82"/>
          <p:cNvSpPr/>
          <p:nvPr/>
        </p:nvSpPr>
        <p:spPr>
          <a:xfrm>
            <a:off x="3165480" y="5460840"/>
            <a:ext cx="1941480" cy="238320"/>
          </a:xfrm>
          <a:prstGeom prst="rect">
            <a:avLst/>
          </a:prstGeom>
          <a:solidFill>
            <a:srgbClr val="5b9bd5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83"/>
          <p:cNvSpPr/>
          <p:nvPr/>
        </p:nvSpPr>
        <p:spPr>
          <a:xfrm>
            <a:off x="5161680" y="5106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</a:rPr>
              <a:t>1.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84"/>
          <p:cNvSpPr/>
          <p:nvPr/>
        </p:nvSpPr>
        <p:spPr>
          <a:xfrm>
            <a:off x="5167080" y="54118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</a:rPr>
              <a:t>1.9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85"/>
          <p:cNvSpPr/>
          <p:nvPr/>
        </p:nvSpPr>
        <p:spPr>
          <a:xfrm>
            <a:off x="3561480" y="5734080"/>
            <a:ext cx="18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6cad"/>
                </a:solidFill>
                <a:latin typeface="微软雅黑"/>
                <a:ea typeface="微软雅黑"/>
              </a:rPr>
              <a:t>全社会研究与试验发展经费支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6cad"/>
                </a:solidFill>
                <a:latin typeface="微软雅黑"/>
                <a:ea typeface="微软雅黑"/>
              </a:rPr>
              <a:t>占国内生产总值的比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1" name="组合 94"/>
          <p:cNvGrpSpPr/>
          <p:nvPr/>
        </p:nvGrpSpPr>
        <p:grpSpPr>
          <a:xfrm>
            <a:off x="1147680" y="3630600"/>
            <a:ext cx="816120" cy="816120"/>
            <a:chOff x="1147680" y="3630600"/>
            <a:chExt cx="816120" cy="816120"/>
          </a:xfrm>
        </p:grpSpPr>
        <p:sp>
          <p:nvSpPr>
            <p:cNvPr id="532" name="椭圆 95"/>
            <p:cNvSpPr/>
            <p:nvPr/>
          </p:nvSpPr>
          <p:spPr>
            <a:xfrm>
              <a:off x="1147680" y="3630600"/>
              <a:ext cx="816120" cy="816120"/>
            </a:xfrm>
            <a:prstGeom prst="ellipse">
              <a:avLst/>
            </a:pr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96"/>
            <p:cNvSpPr/>
            <p:nvPr/>
          </p:nvSpPr>
          <p:spPr>
            <a:xfrm>
              <a:off x="1204560" y="384804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3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文本框 97"/>
          <p:cNvSpPr/>
          <p:nvPr/>
        </p:nvSpPr>
        <p:spPr>
          <a:xfrm>
            <a:off x="1201680" y="4437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98"/>
          <p:cNvSpPr/>
          <p:nvPr/>
        </p:nvSpPr>
        <p:spPr>
          <a:xfrm>
            <a:off x="1179360" y="597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cad"/>
                </a:solidFill>
                <a:latin typeface="Arial Black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文本框 3"/>
          <p:cNvSpPr/>
          <p:nvPr/>
        </p:nvSpPr>
        <p:spPr>
          <a:xfrm>
            <a:off x="1046520" y="1103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力保障和改善民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4"/>
          <p:cNvSpPr/>
          <p:nvPr/>
        </p:nvSpPr>
        <p:spPr>
          <a:xfrm>
            <a:off x="295200" y="1781280"/>
            <a:ext cx="977580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椭圆 5"/>
          <p:cNvSpPr/>
          <p:nvPr/>
        </p:nvSpPr>
        <p:spPr>
          <a:xfrm rot="10800000">
            <a:off x="10856880" y="4657680"/>
            <a:ext cx="969840" cy="96984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椭圆 6"/>
          <p:cNvSpPr/>
          <p:nvPr/>
        </p:nvSpPr>
        <p:spPr>
          <a:xfrm rot="10800000">
            <a:off x="11161440" y="1893960"/>
            <a:ext cx="360360" cy="3585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7"/>
          <p:cNvSpPr/>
          <p:nvPr/>
        </p:nvSpPr>
        <p:spPr>
          <a:xfrm rot="10800000">
            <a:off x="11161440" y="120132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椭圆 8"/>
          <p:cNvSpPr/>
          <p:nvPr/>
        </p:nvSpPr>
        <p:spPr>
          <a:xfrm>
            <a:off x="11161800" y="258444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椭圆 9"/>
          <p:cNvSpPr/>
          <p:nvPr/>
        </p:nvSpPr>
        <p:spPr>
          <a:xfrm>
            <a:off x="11161800" y="327492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椭圆 10"/>
          <p:cNvSpPr/>
          <p:nvPr/>
        </p:nvSpPr>
        <p:spPr>
          <a:xfrm>
            <a:off x="11161800" y="396540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椭圆 11"/>
          <p:cNvSpPr/>
          <p:nvPr/>
        </p:nvSpPr>
        <p:spPr>
          <a:xfrm>
            <a:off x="11161800" y="595800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组合 33"/>
          <p:cNvGrpSpPr/>
          <p:nvPr/>
        </p:nvGrpSpPr>
        <p:grpSpPr>
          <a:xfrm>
            <a:off x="11068920" y="4838760"/>
            <a:ext cx="545040" cy="601560"/>
            <a:chOff x="11068920" y="4838760"/>
            <a:chExt cx="545040" cy="601560"/>
          </a:xfrm>
        </p:grpSpPr>
        <p:sp>
          <p:nvSpPr>
            <p:cNvPr id="546" name="任意多边形 30"/>
            <p:cNvSpPr/>
            <p:nvPr/>
          </p:nvSpPr>
          <p:spPr>
            <a:xfrm rot="10800000">
              <a:off x="11069280" y="5075280"/>
              <a:ext cx="544680" cy="365040"/>
            </a:xfrm>
            <a:custGeom>
              <a:avLst/>
              <a:gdLst/>
              <a:ahLst/>
              <a:rect l="l" t="t" r="r" b="b"/>
              <a:pathLst>
                <a:path w="1250577" h="837985">
                  <a:moveTo>
                    <a:pt x="1113131" y="288200"/>
                  </a:moveTo>
                  <a:lnTo>
                    <a:pt x="770124" y="0"/>
                  </a:lnTo>
                  <a:lnTo>
                    <a:pt x="1041081" y="0"/>
                  </a:lnTo>
                  <a:close/>
                  <a:moveTo>
                    <a:pt x="1184020" y="571755"/>
                  </a:moveTo>
                  <a:lnTo>
                    <a:pt x="503535" y="0"/>
                  </a:lnTo>
                  <a:lnTo>
                    <a:pt x="622589" y="0"/>
                  </a:lnTo>
                  <a:lnTo>
                    <a:pt x="1152362" y="445125"/>
                  </a:lnTo>
                  <a:close/>
                  <a:moveTo>
                    <a:pt x="212035" y="837985"/>
                  </a:moveTo>
                  <a:lnTo>
                    <a:pt x="0" y="837985"/>
                  </a:lnTo>
                  <a:lnTo>
                    <a:pt x="36808" y="690756"/>
                  </a:lnTo>
                  <a:close/>
                  <a:moveTo>
                    <a:pt x="515992" y="837985"/>
                  </a:moveTo>
                  <a:lnTo>
                    <a:pt x="359571" y="837985"/>
                  </a:lnTo>
                  <a:lnTo>
                    <a:pt x="62418" y="588312"/>
                  </a:lnTo>
                  <a:lnTo>
                    <a:pt x="89572" y="479699"/>
                  </a:lnTo>
                  <a:close/>
                  <a:moveTo>
                    <a:pt x="779607" y="837985"/>
                  </a:moveTo>
                  <a:lnTo>
                    <a:pt x="663528" y="837985"/>
                  </a:lnTo>
                  <a:lnTo>
                    <a:pt x="115182" y="377256"/>
                  </a:lnTo>
                  <a:lnTo>
                    <a:pt x="135332" y="296655"/>
                  </a:lnTo>
                  <a:close/>
                  <a:moveTo>
                    <a:pt x="1066340" y="837985"/>
                  </a:moveTo>
                  <a:lnTo>
                    <a:pt x="927142" y="837985"/>
                  </a:lnTo>
                  <a:lnTo>
                    <a:pt x="160943" y="194212"/>
                  </a:lnTo>
                  <a:lnTo>
                    <a:pt x="185107" y="97558"/>
                  </a:lnTo>
                  <a:close/>
                  <a:moveTo>
                    <a:pt x="1250577" y="837985"/>
                  </a:moveTo>
                  <a:lnTo>
                    <a:pt x="1213875" y="837985"/>
                  </a:lnTo>
                  <a:lnTo>
                    <a:pt x="216532" y="0"/>
                  </a:lnTo>
                  <a:lnTo>
                    <a:pt x="355999" y="0"/>
                  </a:lnTo>
                  <a:lnTo>
                    <a:pt x="1223251" y="7286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任意多边形 31"/>
            <p:cNvSpPr/>
            <p:nvPr/>
          </p:nvSpPr>
          <p:spPr>
            <a:xfrm flipH="1" rot="10800000">
              <a:off x="11068560" y="5075280"/>
              <a:ext cx="544680" cy="365040"/>
            </a:xfrm>
            <a:custGeom>
              <a:avLst/>
              <a:gdLst/>
              <a:ahLst/>
              <a:rect l="l" t="t" r="r" b="b"/>
              <a:pathLst>
                <a:path w="1250577" h="837985">
                  <a:moveTo>
                    <a:pt x="1113131" y="288200"/>
                  </a:moveTo>
                  <a:lnTo>
                    <a:pt x="770124" y="0"/>
                  </a:lnTo>
                  <a:lnTo>
                    <a:pt x="1041081" y="0"/>
                  </a:lnTo>
                  <a:close/>
                  <a:moveTo>
                    <a:pt x="1184020" y="571755"/>
                  </a:moveTo>
                  <a:lnTo>
                    <a:pt x="503535" y="0"/>
                  </a:lnTo>
                  <a:lnTo>
                    <a:pt x="622589" y="0"/>
                  </a:lnTo>
                  <a:lnTo>
                    <a:pt x="1152362" y="445125"/>
                  </a:lnTo>
                  <a:close/>
                  <a:moveTo>
                    <a:pt x="212035" y="837985"/>
                  </a:moveTo>
                  <a:lnTo>
                    <a:pt x="0" y="837985"/>
                  </a:lnTo>
                  <a:lnTo>
                    <a:pt x="36808" y="690756"/>
                  </a:lnTo>
                  <a:close/>
                  <a:moveTo>
                    <a:pt x="515992" y="837985"/>
                  </a:moveTo>
                  <a:lnTo>
                    <a:pt x="359571" y="837985"/>
                  </a:lnTo>
                  <a:lnTo>
                    <a:pt x="62418" y="588312"/>
                  </a:lnTo>
                  <a:lnTo>
                    <a:pt x="89572" y="479699"/>
                  </a:lnTo>
                  <a:close/>
                  <a:moveTo>
                    <a:pt x="779607" y="837985"/>
                  </a:moveTo>
                  <a:lnTo>
                    <a:pt x="663528" y="837985"/>
                  </a:lnTo>
                  <a:lnTo>
                    <a:pt x="115182" y="377256"/>
                  </a:lnTo>
                  <a:lnTo>
                    <a:pt x="135332" y="296655"/>
                  </a:lnTo>
                  <a:close/>
                  <a:moveTo>
                    <a:pt x="1066340" y="837985"/>
                  </a:moveTo>
                  <a:lnTo>
                    <a:pt x="927142" y="837985"/>
                  </a:lnTo>
                  <a:lnTo>
                    <a:pt x="160943" y="194212"/>
                  </a:lnTo>
                  <a:lnTo>
                    <a:pt x="185107" y="97558"/>
                  </a:lnTo>
                  <a:close/>
                  <a:moveTo>
                    <a:pt x="1250577" y="837985"/>
                  </a:moveTo>
                  <a:lnTo>
                    <a:pt x="1213875" y="837985"/>
                  </a:lnTo>
                  <a:lnTo>
                    <a:pt x="216532" y="0"/>
                  </a:lnTo>
                  <a:lnTo>
                    <a:pt x="355999" y="0"/>
                  </a:lnTo>
                  <a:lnTo>
                    <a:pt x="1223251" y="7286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空心弧 32"/>
            <p:cNvSpPr/>
            <p:nvPr/>
          </p:nvSpPr>
          <p:spPr>
            <a:xfrm>
              <a:off x="11171880" y="4838760"/>
              <a:ext cx="340200" cy="473040"/>
            </a:xfrm>
            <a:custGeom>
              <a:avLst/>
              <a:gdLst/>
              <a:ahLst/>
              <a:rect l="l" t="t" r="r" b="b"/>
              <a:pathLst>
                <a:path w="340188" h="472751">
                  <a:moveTo>
                    <a:pt x="0" y="236375"/>
                  </a:moveTo>
                  <a:cubicBezTo>
                    <a:pt x="0" y="105829"/>
                    <a:pt x="76154" y="0"/>
                    <a:pt x="170094" y="0"/>
                  </a:cubicBezTo>
                  <a:cubicBezTo>
                    <a:pt x="264034" y="0"/>
                    <a:pt x="340188" y="105829"/>
                    <a:pt x="340188" y="236375"/>
                  </a:cubicBezTo>
                  <a:lnTo>
                    <a:pt x="298436" y="236375"/>
                  </a:lnTo>
                  <a:cubicBezTo>
                    <a:pt x="298436" y="128887"/>
                    <a:pt x="240975" y="41751"/>
                    <a:pt x="170094" y="41751"/>
                  </a:cubicBezTo>
                  <a:cubicBezTo>
                    <a:pt x="99213" y="41751"/>
                    <a:pt x="41752" y="128887"/>
                    <a:pt x="41752" y="2363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组合 50"/>
          <p:cNvGrpSpPr/>
          <p:nvPr/>
        </p:nvGrpSpPr>
        <p:grpSpPr>
          <a:xfrm>
            <a:off x="1643040" y="2054160"/>
            <a:ext cx="1182600" cy="1060560"/>
            <a:chOff x="1643040" y="2054160"/>
            <a:chExt cx="1182600" cy="1060560"/>
          </a:xfrm>
        </p:grpSpPr>
        <p:sp>
          <p:nvSpPr>
            <p:cNvPr id="550" name="任意多边形 48"/>
            <p:cNvSpPr/>
            <p:nvPr/>
          </p:nvSpPr>
          <p:spPr>
            <a:xfrm>
              <a:off x="1643040" y="2265840"/>
              <a:ext cx="1182600" cy="467640"/>
            </a:xfrm>
            <a:custGeom>
              <a:avLst/>
              <a:gdLst/>
              <a:ahLst/>
              <a:rect l="l" t="t" r="r" b="b"/>
              <a:pathLst>
                <a:path w="1434129" h="567326">
                  <a:moveTo>
                    <a:pt x="147342" y="0"/>
                  </a:moveTo>
                  <a:lnTo>
                    <a:pt x="406587" y="0"/>
                  </a:lnTo>
                  <a:lnTo>
                    <a:pt x="398876" y="53329"/>
                  </a:lnTo>
                  <a:lnTo>
                    <a:pt x="481387" y="53330"/>
                  </a:lnTo>
                  <a:lnTo>
                    <a:pt x="489317" y="0"/>
                  </a:lnTo>
                  <a:lnTo>
                    <a:pt x="945614" y="0"/>
                  </a:lnTo>
                  <a:lnTo>
                    <a:pt x="952646" y="59507"/>
                  </a:lnTo>
                  <a:lnTo>
                    <a:pt x="1035127" y="61670"/>
                  </a:lnTo>
                  <a:lnTo>
                    <a:pt x="1028024" y="0"/>
                  </a:lnTo>
                  <a:lnTo>
                    <a:pt x="1286787" y="0"/>
                  </a:lnTo>
                  <a:cubicBezTo>
                    <a:pt x="1368162" y="0"/>
                    <a:pt x="1434129" y="70697"/>
                    <a:pt x="1434129" y="157906"/>
                  </a:cubicBezTo>
                  <a:lnTo>
                    <a:pt x="1434129" y="473611"/>
                  </a:lnTo>
                  <a:lnTo>
                    <a:pt x="1217143" y="526877"/>
                  </a:lnTo>
                  <a:cubicBezTo>
                    <a:pt x="1140292" y="541578"/>
                    <a:pt x="1059619" y="552993"/>
                    <a:pt x="975985" y="560733"/>
                  </a:cubicBezTo>
                  <a:lnTo>
                    <a:pt x="831364" y="567326"/>
                  </a:lnTo>
                  <a:lnTo>
                    <a:pt x="831364" y="447537"/>
                  </a:lnTo>
                  <a:cubicBezTo>
                    <a:pt x="831364" y="426494"/>
                    <a:pt x="814306" y="409436"/>
                    <a:pt x="793263" y="409436"/>
                  </a:cubicBezTo>
                  <a:lnTo>
                    <a:pt x="640865" y="409436"/>
                  </a:lnTo>
                  <a:cubicBezTo>
                    <a:pt x="619822" y="409436"/>
                    <a:pt x="602764" y="426494"/>
                    <a:pt x="602764" y="447537"/>
                  </a:cubicBezTo>
                  <a:lnTo>
                    <a:pt x="602764" y="567326"/>
                  </a:lnTo>
                  <a:lnTo>
                    <a:pt x="458145" y="560733"/>
                  </a:lnTo>
                  <a:cubicBezTo>
                    <a:pt x="374512" y="552993"/>
                    <a:pt x="293839" y="541578"/>
                    <a:pt x="216986" y="526877"/>
                  </a:cubicBezTo>
                  <a:lnTo>
                    <a:pt x="0" y="473611"/>
                  </a:lnTo>
                  <a:lnTo>
                    <a:pt x="0" y="157906"/>
                  </a:lnTo>
                  <a:cubicBezTo>
                    <a:pt x="0" y="70697"/>
                    <a:pt x="65967" y="0"/>
                    <a:pt x="147342" y="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任意多边形 42"/>
            <p:cNvSpPr/>
            <p:nvPr/>
          </p:nvSpPr>
          <p:spPr>
            <a:xfrm>
              <a:off x="1668600" y="2691000"/>
              <a:ext cx="1131120" cy="423720"/>
            </a:xfrm>
            <a:custGeom>
              <a:avLst/>
              <a:gdLst/>
              <a:ahLst/>
              <a:rect l="l" t="t" r="r" b="b"/>
              <a:pathLst>
                <a:path w="1371600" h="513997">
                  <a:moveTo>
                    <a:pt x="0" y="0"/>
                  </a:moveTo>
                  <a:lnTo>
                    <a:pt x="185722" y="45591"/>
                  </a:lnTo>
                  <a:cubicBezTo>
                    <a:pt x="262575" y="60292"/>
                    <a:pt x="343248" y="71707"/>
                    <a:pt x="426881" y="79447"/>
                  </a:cubicBezTo>
                  <a:lnTo>
                    <a:pt x="571500" y="86040"/>
                  </a:lnTo>
                  <a:lnTo>
                    <a:pt x="571500" y="152938"/>
                  </a:lnTo>
                  <a:cubicBezTo>
                    <a:pt x="571500" y="173981"/>
                    <a:pt x="588558" y="191039"/>
                    <a:pt x="609601" y="191039"/>
                  </a:cubicBezTo>
                  <a:lnTo>
                    <a:pt x="761999" y="191039"/>
                  </a:lnTo>
                  <a:cubicBezTo>
                    <a:pt x="783042" y="191039"/>
                    <a:pt x="800100" y="173981"/>
                    <a:pt x="800100" y="152938"/>
                  </a:cubicBezTo>
                  <a:lnTo>
                    <a:pt x="800100" y="86040"/>
                  </a:lnTo>
                  <a:lnTo>
                    <a:pt x="944721" y="79447"/>
                  </a:lnTo>
                  <a:cubicBezTo>
                    <a:pt x="1028355" y="71707"/>
                    <a:pt x="1109028" y="60292"/>
                    <a:pt x="1185879" y="45591"/>
                  </a:cubicBezTo>
                  <a:lnTo>
                    <a:pt x="1371600" y="0"/>
                  </a:lnTo>
                  <a:lnTo>
                    <a:pt x="1371600" y="373079"/>
                  </a:lnTo>
                  <a:cubicBezTo>
                    <a:pt x="1371600" y="450906"/>
                    <a:pt x="1308509" y="513997"/>
                    <a:pt x="1230682" y="513997"/>
                  </a:cubicBezTo>
                  <a:lnTo>
                    <a:pt x="140918" y="513997"/>
                  </a:lnTo>
                  <a:cubicBezTo>
                    <a:pt x="63091" y="513997"/>
                    <a:pt x="0" y="450906"/>
                    <a:pt x="0" y="37307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圆角矩形 46"/>
            <p:cNvSpPr/>
            <p:nvPr/>
          </p:nvSpPr>
          <p:spPr>
            <a:xfrm>
              <a:off x="2178360" y="2635200"/>
              <a:ext cx="111600" cy="186480"/>
            </a:xfrm>
            <a:custGeom>
              <a:avLst/>
              <a:gdLst>
                <a:gd name="textAreaLeft" fmla="*/ 5400 w 111600"/>
                <a:gd name="textAreaRight" fmla="*/ 106200 w 111600"/>
                <a:gd name="textAreaTop" fmla="*/ 5400 h 186480"/>
                <a:gd name="textAreaBottom" fmla="*/ 181080 h 186480"/>
              </a:gdLst>
              <a:ahLst/>
              <a:rect l="textAreaLeft" t="textAreaTop" r="textAreaRight" b="textAreaBottom"/>
              <a:pathLst>
                <a:path w="21600" h="36046">
                  <a:moveTo>
                    <a:pt x="3600" y="0"/>
                  </a:moveTo>
                  <a:arcTo wR="3600" hR="3600" stAng="16200000" swAng="-5400000"/>
                  <a:lnTo>
                    <a:pt x="0" y="32446"/>
                  </a:lnTo>
                  <a:arcTo wR="3600" hR="3600" stAng="10800000" swAng="-5400000"/>
                  <a:lnTo>
                    <a:pt x="18000" y="360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空心弧 49"/>
            <p:cNvSpPr/>
            <p:nvPr/>
          </p:nvSpPr>
          <p:spPr>
            <a:xfrm>
              <a:off x="1982880" y="2054160"/>
              <a:ext cx="504360" cy="504000"/>
            </a:xfrm>
            <a:custGeom>
              <a:avLst/>
              <a:gdLst/>
              <a:ahLst/>
              <a:rect l="l" t="t" r="r" b="b"/>
              <a:pathLst>
                <a:path w="611660" h="611200">
                  <a:moveTo>
                    <a:pt x="0" y="305600"/>
                  </a:moveTo>
                  <a:cubicBezTo>
                    <a:pt x="0" y="136822"/>
                    <a:pt x="136925" y="0"/>
                    <a:pt x="305830" y="0"/>
                  </a:cubicBezTo>
                  <a:cubicBezTo>
                    <a:pt x="474735" y="0"/>
                    <a:pt x="611660" y="136822"/>
                    <a:pt x="611660" y="305600"/>
                  </a:cubicBezTo>
                  <a:cubicBezTo>
                    <a:pt x="611660" y="308097"/>
                    <a:pt x="611630" y="310587"/>
                    <a:pt x="611571" y="313035"/>
                  </a:cubicBezTo>
                  <a:lnTo>
                    <a:pt x="546654" y="311454"/>
                  </a:lnTo>
                  <a:cubicBezTo>
                    <a:pt x="546702" y="309509"/>
                    <a:pt x="546725" y="307557"/>
                    <a:pt x="546725" y="305599"/>
                  </a:cubicBezTo>
                  <a:cubicBezTo>
                    <a:pt x="546725" y="172683"/>
                    <a:pt x="438872" y="64933"/>
                    <a:pt x="305829" y="64933"/>
                  </a:cubicBezTo>
                  <a:cubicBezTo>
                    <a:pt x="172786" y="64933"/>
                    <a:pt x="64933" y="172683"/>
                    <a:pt x="64933" y="305599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任意多边形 55"/>
          <p:cNvSpPr/>
          <p:nvPr/>
        </p:nvSpPr>
        <p:spPr>
          <a:xfrm rot="7638000">
            <a:off x="4580640" y="2245320"/>
            <a:ext cx="1098360" cy="890640"/>
          </a:xfrm>
          <a:custGeom>
            <a:avLst/>
            <a:gdLst/>
            <a:ahLst/>
            <a:rect l="l" t="t" r="r" b="b"/>
            <a:pathLst>
              <a:path w="1379252" h="1117733">
                <a:moveTo>
                  <a:pt x="96987" y="970690"/>
                </a:moveTo>
                <a:lnTo>
                  <a:pt x="36375" y="891136"/>
                </a:lnTo>
                <a:lnTo>
                  <a:pt x="98472" y="843825"/>
                </a:lnTo>
                <a:lnTo>
                  <a:pt x="79696" y="815830"/>
                </a:lnTo>
                <a:cubicBezTo>
                  <a:pt x="37862" y="742943"/>
                  <a:pt x="11038" y="660810"/>
                  <a:pt x="2736" y="573954"/>
                </a:cubicBezTo>
                <a:cubicBezTo>
                  <a:pt x="-19402" y="342337"/>
                  <a:pt x="94152" y="118754"/>
                  <a:pt x="294237" y="0"/>
                </a:cubicBezTo>
                <a:lnTo>
                  <a:pt x="633266" y="436368"/>
                </a:lnTo>
                <a:lnTo>
                  <a:pt x="988005" y="166095"/>
                </a:lnTo>
                <a:cubicBezTo>
                  <a:pt x="1095022" y="84560"/>
                  <a:pt x="1247872" y="105216"/>
                  <a:pt x="1329407" y="212233"/>
                </a:cubicBezTo>
                <a:cubicBezTo>
                  <a:pt x="1410942" y="319249"/>
                  <a:pt x="1390286" y="472099"/>
                  <a:pt x="1283269" y="553634"/>
                </a:cubicBezTo>
                <a:lnTo>
                  <a:pt x="1213797" y="606565"/>
                </a:lnTo>
                <a:lnTo>
                  <a:pt x="1153185" y="527011"/>
                </a:lnTo>
                <a:lnTo>
                  <a:pt x="1222658" y="474080"/>
                </a:lnTo>
                <a:cubicBezTo>
                  <a:pt x="1285737" y="426020"/>
                  <a:pt x="1297913" y="335924"/>
                  <a:pt x="1249853" y="272844"/>
                </a:cubicBezTo>
                <a:cubicBezTo>
                  <a:pt x="1201793" y="209764"/>
                  <a:pt x="1111697" y="197589"/>
                  <a:pt x="1048617" y="245649"/>
                </a:cubicBezTo>
                <a:lnTo>
                  <a:pt x="694630" y="515349"/>
                </a:lnTo>
                <a:lnTo>
                  <a:pt x="1025880" y="941705"/>
                </a:lnTo>
                <a:cubicBezTo>
                  <a:pt x="861356" y="1106229"/>
                  <a:pt x="616643" y="1160996"/>
                  <a:pt x="397684" y="1082296"/>
                </a:cubicBezTo>
                <a:cubicBezTo>
                  <a:pt x="315575" y="1052783"/>
                  <a:pt x="242621" y="1006490"/>
                  <a:pt x="182335" y="947939"/>
                </a:cubicBezTo>
                <a:lnTo>
                  <a:pt x="159834" y="922807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组合 93"/>
          <p:cNvGrpSpPr/>
          <p:nvPr/>
        </p:nvGrpSpPr>
        <p:grpSpPr>
          <a:xfrm>
            <a:off x="7450200" y="2158920"/>
            <a:ext cx="1096920" cy="1138320"/>
            <a:chOff x="7450200" y="2158920"/>
            <a:chExt cx="1096920" cy="1138320"/>
          </a:xfrm>
        </p:grpSpPr>
        <p:sp>
          <p:nvSpPr>
            <p:cNvPr id="556" name="任意多边形 72"/>
            <p:cNvSpPr/>
            <p:nvPr/>
          </p:nvSpPr>
          <p:spPr>
            <a:xfrm>
              <a:off x="7450200" y="2158920"/>
              <a:ext cx="588600" cy="1138320"/>
            </a:xfrm>
            <a:custGeom>
              <a:avLst/>
              <a:gdLst/>
              <a:ahLst/>
              <a:rect l="l" t="t" r="r" b="b"/>
              <a:pathLst>
                <a:path w="754380" h="1459499">
                  <a:moveTo>
                    <a:pt x="422910" y="510944"/>
                  </a:moveTo>
                  <a:lnTo>
                    <a:pt x="422910" y="643831"/>
                  </a:lnTo>
                  <a:lnTo>
                    <a:pt x="605790" y="643831"/>
                  </a:lnTo>
                  <a:lnTo>
                    <a:pt x="605790" y="510944"/>
                  </a:lnTo>
                  <a:close/>
                  <a:moveTo>
                    <a:pt x="142545" y="510944"/>
                  </a:moveTo>
                  <a:lnTo>
                    <a:pt x="142545" y="643831"/>
                  </a:lnTo>
                  <a:lnTo>
                    <a:pt x="325425" y="643831"/>
                  </a:lnTo>
                  <a:lnTo>
                    <a:pt x="325425" y="510944"/>
                  </a:lnTo>
                  <a:close/>
                  <a:moveTo>
                    <a:pt x="422910" y="311404"/>
                  </a:moveTo>
                  <a:lnTo>
                    <a:pt x="422910" y="444291"/>
                  </a:lnTo>
                  <a:lnTo>
                    <a:pt x="605790" y="444291"/>
                  </a:lnTo>
                  <a:lnTo>
                    <a:pt x="605790" y="311404"/>
                  </a:lnTo>
                  <a:close/>
                  <a:moveTo>
                    <a:pt x="142545" y="311404"/>
                  </a:moveTo>
                  <a:lnTo>
                    <a:pt x="142545" y="444291"/>
                  </a:lnTo>
                  <a:lnTo>
                    <a:pt x="325425" y="444291"/>
                  </a:lnTo>
                  <a:lnTo>
                    <a:pt x="325425" y="311404"/>
                  </a:lnTo>
                  <a:close/>
                  <a:moveTo>
                    <a:pt x="422910" y="114099"/>
                  </a:moveTo>
                  <a:lnTo>
                    <a:pt x="422910" y="246986"/>
                  </a:lnTo>
                  <a:lnTo>
                    <a:pt x="605790" y="246986"/>
                  </a:lnTo>
                  <a:lnTo>
                    <a:pt x="605790" y="114099"/>
                  </a:lnTo>
                  <a:close/>
                  <a:moveTo>
                    <a:pt x="142545" y="114099"/>
                  </a:moveTo>
                  <a:lnTo>
                    <a:pt x="142545" y="246986"/>
                  </a:lnTo>
                  <a:lnTo>
                    <a:pt x="325425" y="246986"/>
                  </a:lnTo>
                  <a:lnTo>
                    <a:pt x="325425" y="114099"/>
                  </a:lnTo>
                  <a:close/>
                  <a:moveTo>
                    <a:pt x="0" y="0"/>
                  </a:moveTo>
                  <a:lnTo>
                    <a:pt x="754380" y="0"/>
                  </a:lnTo>
                  <a:lnTo>
                    <a:pt x="754380" y="708660"/>
                  </a:lnTo>
                  <a:lnTo>
                    <a:pt x="480060" y="708660"/>
                  </a:lnTo>
                  <a:lnTo>
                    <a:pt x="480060" y="1459499"/>
                  </a:lnTo>
                  <a:lnTo>
                    <a:pt x="0" y="1459499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任意多边形 92"/>
            <p:cNvSpPr/>
            <p:nvPr/>
          </p:nvSpPr>
          <p:spPr>
            <a:xfrm>
              <a:off x="7869240" y="2756160"/>
              <a:ext cx="677880" cy="541080"/>
            </a:xfrm>
            <a:custGeom>
              <a:avLst/>
              <a:gdLst/>
              <a:ahLst/>
              <a:rect l="l" t="t" r="r" b="b"/>
              <a:pathLst>
                <a:path w="868680" h="693689">
                  <a:moveTo>
                    <a:pt x="348285" y="324429"/>
                  </a:moveTo>
                  <a:lnTo>
                    <a:pt x="348285" y="457316"/>
                  </a:lnTo>
                  <a:lnTo>
                    <a:pt x="531165" y="457316"/>
                  </a:lnTo>
                  <a:lnTo>
                    <a:pt x="531165" y="324429"/>
                  </a:lnTo>
                  <a:close/>
                  <a:moveTo>
                    <a:pt x="67920" y="324429"/>
                  </a:moveTo>
                  <a:lnTo>
                    <a:pt x="67920" y="457316"/>
                  </a:lnTo>
                  <a:lnTo>
                    <a:pt x="250800" y="457316"/>
                  </a:lnTo>
                  <a:lnTo>
                    <a:pt x="250800" y="324429"/>
                  </a:lnTo>
                  <a:close/>
                  <a:moveTo>
                    <a:pt x="628650" y="324428"/>
                  </a:moveTo>
                  <a:lnTo>
                    <a:pt x="628650" y="457315"/>
                  </a:lnTo>
                  <a:lnTo>
                    <a:pt x="811530" y="457315"/>
                  </a:lnTo>
                  <a:lnTo>
                    <a:pt x="811530" y="324428"/>
                  </a:lnTo>
                  <a:close/>
                  <a:moveTo>
                    <a:pt x="628650" y="127124"/>
                  </a:moveTo>
                  <a:lnTo>
                    <a:pt x="628650" y="260011"/>
                  </a:lnTo>
                  <a:lnTo>
                    <a:pt x="811530" y="260011"/>
                  </a:lnTo>
                  <a:lnTo>
                    <a:pt x="811530" y="127124"/>
                  </a:lnTo>
                  <a:close/>
                  <a:moveTo>
                    <a:pt x="348285" y="127124"/>
                  </a:moveTo>
                  <a:lnTo>
                    <a:pt x="348285" y="260011"/>
                  </a:lnTo>
                  <a:lnTo>
                    <a:pt x="531165" y="260011"/>
                  </a:lnTo>
                  <a:lnTo>
                    <a:pt x="531165" y="127124"/>
                  </a:lnTo>
                  <a:close/>
                  <a:moveTo>
                    <a:pt x="67920" y="127124"/>
                  </a:moveTo>
                  <a:lnTo>
                    <a:pt x="67920" y="260011"/>
                  </a:lnTo>
                  <a:lnTo>
                    <a:pt x="250800" y="260011"/>
                  </a:lnTo>
                  <a:lnTo>
                    <a:pt x="250800" y="127124"/>
                  </a:lnTo>
                  <a:close/>
                  <a:moveTo>
                    <a:pt x="0" y="0"/>
                  </a:moveTo>
                  <a:lnTo>
                    <a:pt x="868680" y="0"/>
                  </a:lnTo>
                  <a:lnTo>
                    <a:pt x="868680" y="693689"/>
                  </a:lnTo>
                  <a:lnTo>
                    <a:pt x="0" y="693689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8" name="矩形 94"/>
          <p:cNvSpPr/>
          <p:nvPr/>
        </p:nvSpPr>
        <p:spPr>
          <a:xfrm>
            <a:off x="1209600" y="3780000"/>
            <a:ext cx="20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五年投入就业专项资金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73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实现高校毕业生就业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80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城镇就业困难人员就业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83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95"/>
          <p:cNvSpPr/>
          <p:nvPr/>
        </p:nvSpPr>
        <p:spPr>
          <a:xfrm>
            <a:off x="1962000" y="327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就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96"/>
          <p:cNvSpPr/>
          <p:nvPr/>
        </p:nvSpPr>
        <p:spPr>
          <a:xfrm>
            <a:off x="4909680" y="327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保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97"/>
          <p:cNvSpPr/>
          <p:nvPr/>
        </p:nvSpPr>
        <p:spPr>
          <a:xfrm>
            <a:off x="7543080" y="3279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6cad"/>
                </a:solidFill>
                <a:latin typeface="微软雅黑"/>
                <a:ea typeface="微软雅黑"/>
              </a:rPr>
              <a:t>保障住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98"/>
          <p:cNvSpPr/>
          <p:nvPr/>
        </p:nvSpPr>
        <p:spPr>
          <a:xfrm>
            <a:off x="4103640" y="3780000"/>
            <a:ext cx="20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养老保险参保达到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7.9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退休养老金提高到每月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721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元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医疗保险参保超过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3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99"/>
          <p:cNvSpPr/>
          <p:nvPr/>
        </p:nvSpPr>
        <p:spPr>
          <a:xfrm>
            <a:off x="6999120" y="3780000"/>
            <a:ext cx="20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建立健全城镇保障性住房制度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年底保障性住房覆盖面扩大到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2.5%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文本框 3"/>
          <p:cNvSpPr/>
          <p:nvPr/>
        </p:nvSpPr>
        <p:spPr>
          <a:xfrm>
            <a:off x="1213200" y="1103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提升开放型经济水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4"/>
          <p:cNvSpPr/>
          <p:nvPr/>
        </p:nvSpPr>
        <p:spPr>
          <a:xfrm>
            <a:off x="295200" y="1781280"/>
            <a:ext cx="977580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椭圆 5"/>
          <p:cNvSpPr/>
          <p:nvPr/>
        </p:nvSpPr>
        <p:spPr>
          <a:xfrm rot="10800000">
            <a:off x="10856880" y="5347800"/>
            <a:ext cx="969840" cy="97020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椭圆 6"/>
          <p:cNvSpPr/>
          <p:nvPr/>
        </p:nvSpPr>
        <p:spPr>
          <a:xfrm rot="10800000">
            <a:off x="11161440" y="1893960"/>
            <a:ext cx="360360" cy="3585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椭圆 7"/>
          <p:cNvSpPr/>
          <p:nvPr/>
        </p:nvSpPr>
        <p:spPr>
          <a:xfrm rot="10800000">
            <a:off x="11161440" y="120132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椭圆 8"/>
          <p:cNvSpPr/>
          <p:nvPr/>
        </p:nvSpPr>
        <p:spPr>
          <a:xfrm>
            <a:off x="11161800" y="258444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椭圆 9"/>
          <p:cNvSpPr/>
          <p:nvPr/>
        </p:nvSpPr>
        <p:spPr>
          <a:xfrm>
            <a:off x="11161800" y="327492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椭圆 10"/>
          <p:cNvSpPr/>
          <p:nvPr/>
        </p:nvSpPr>
        <p:spPr>
          <a:xfrm>
            <a:off x="11161800" y="3965400"/>
            <a:ext cx="360360" cy="36036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椭圆 12"/>
          <p:cNvSpPr/>
          <p:nvPr/>
        </p:nvSpPr>
        <p:spPr>
          <a:xfrm>
            <a:off x="11161800" y="4657680"/>
            <a:ext cx="360360" cy="358920"/>
          </a:xfrm>
          <a:prstGeom prst="ellipse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3" name="组合 22"/>
          <p:cNvGrpSpPr/>
          <p:nvPr/>
        </p:nvGrpSpPr>
        <p:grpSpPr>
          <a:xfrm>
            <a:off x="10996560" y="5487840"/>
            <a:ext cx="690480" cy="690840"/>
            <a:chOff x="10996560" y="5487840"/>
            <a:chExt cx="690480" cy="690840"/>
          </a:xfrm>
        </p:grpSpPr>
        <p:sp>
          <p:nvSpPr>
            <p:cNvPr id="574" name="椭圆 13"/>
            <p:cNvSpPr/>
            <p:nvPr/>
          </p:nvSpPr>
          <p:spPr>
            <a:xfrm>
              <a:off x="10996560" y="5487840"/>
              <a:ext cx="690480" cy="690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椭圆 14"/>
            <p:cNvSpPr/>
            <p:nvPr/>
          </p:nvSpPr>
          <p:spPr>
            <a:xfrm>
              <a:off x="11247120" y="5487840"/>
              <a:ext cx="189360" cy="690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椭圆 15"/>
            <p:cNvSpPr/>
            <p:nvPr/>
          </p:nvSpPr>
          <p:spPr>
            <a:xfrm>
              <a:off x="11079360" y="5487840"/>
              <a:ext cx="524880" cy="690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接连接符 19"/>
            <p:cNvSpPr/>
            <p:nvPr/>
          </p:nvSpPr>
          <p:spPr>
            <a:xfrm>
              <a:off x="11037600" y="5666760"/>
              <a:ext cx="612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直接连接符 20"/>
            <p:cNvSpPr/>
            <p:nvPr/>
          </p:nvSpPr>
          <p:spPr>
            <a:xfrm>
              <a:off x="10996560" y="5832000"/>
              <a:ext cx="690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直接连接符 21"/>
            <p:cNvSpPr/>
            <p:nvPr/>
          </p:nvSpPr>
          <p:spPr>
            <a:xfrm>
              <a:off x="11037600" y="6010560"/>
              <a:ext cx="612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组合 32"/>
          <p:cNvGrpSpPr/>
          <p:nvPr/>
        </p:nvGrpSpPr>
        <p:grpSpPr>
          <a:xfrm>
            <a:off x="2603160" y="2374920"/>
            <a:ext cx="1663920" cy="982440"/>
            <a:chOff x="2603160" y="2374920"/>
            <a:chExt cx="1663920" cy="982440"/>
          </a:xfrm>
        </p:grpSpPr>
        <p:sp>
          <p:nvSpPr>
            <p:cNvPr id="581" name="右箭头 28"/>
            <p:cNvSpPr/>
            <p:nvPr/>
          </p:nvSpPr>
          <p:spPr>
            <a:xfrm>
              <a:off x="3032280" y="2374920"/>
              <a:ext cx="1234800" cy="691200"/>
            </a:xfrm>
            <a:prstGeom prst="rightArrow">
              <a:avLst>
                <a:gd name="adj1" fmla="val 50000"/>
                <a:gd name="adj2" fmla="val 49988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右箭头 29"/>
            <p:cNvSpPr/>
            <p:nvPr/>
          </p:nvSpPr>
          <p:spPr>
            <a:xfrm rot="10800000">
              <a:off x="2603160" y="2851560"/>
              <a:ext cx="903240" cy="505800"/>
            </a:xfrm>
            <a:prstGeom prst="rightArrow">
              <a:avLst>
                <a:gd name="adj1" fmla="val 50000"/>
                <a:gd name="adj2" fmla="val 49968"/>
              </a:avLst>
            </a:pr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30"/>
          <p:cNvSpPr/>
          <p:nvPr/>
        </p:nvSpPr>
        <p:spPr>
          <a:xfrm>
            <a:off x="2947320" y="3470400"/>
            <a:ext cx="98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微软雅黑"/>
                <a:ea typeface="微软雅黑"/>
              </a:rPr>
              <a:t>进出口总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1"/>
          <p:cNvSpPr/>
          <p:nvPr/>
        </p:nvSpPr>
        <p:spPr>
          <a:xfrm>
            <a:off x="1650960" y="3948120"/>
            <a:ext cx="35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年均增长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</a:rPr>
              <a:t>12.2%</a:t>
            </a: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，居世界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第二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3"/>
          <p:cNvSpPr/>
          <p:nvPr/>
        </p:nvSpPr>
        <p:spPr>
          <a:xfrm>
            <a:off x="3369240" y="2568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口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34"/>
          <p:cNvSpPr/>
          <p:nvPr/>
        </p:nvSpPr>
        <p:spPr>
          <a:xfrm>
            <a:off x="2966040" y="29606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口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直接连接符 36"/>
          <p:cNvSpPr/>
          <p:nvPr/>
        </p:nvSpPr>
        <p:spPr>
          <a:xfrm>
            <a:off x="4468680" y="2720880"/>
            <a:ext cx="130356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37"/>
          <p:cNvSpPr/>
          <p:nvPr/>
        </p:nvSpPr>
        <p:spPr>
          <a:xfrm>
            <a:off x="6438240" y="25351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出口额跃居世界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一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38"/>
          <p:cNvSpPr/>
          <p:nvPr/>
        </p:nvSpPr>
        <p:spPr>
          <a:xfrm>
            <a:off x="5830920" y="3065400"/>
            <a:ext cx="25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占国际市场份额比</a:t>
            </a:r>
            <a:r>
              <a:rPr b="1" lang="en-US" sz="1800" spc="-1" strike="noStrike">
                <a:solidFill>
                  <a:srgbClr val="2b6cad"/>
                </a:solidFill>
                <a:latin typeface="微软雅黑"/>
              </a:rPr>
              <a:t>2007</a:t>
            </a: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年提高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个多</a:t>
            </a: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百分点，进出口结构优化，贸易大国地位进一步巩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42"/>
          <p:cNvSpPr/>
          <p:nvPr/>
        </p:nvSpPr>
        <p:spPr>
          <a:xfrm>
            <a:off x="3246480" y="4581360"/>
            <a:ext cx="1020600" cy="606600"/>
          </a:xfrm>
          <a:custGeom>
            <a:avLst/>
            <a:gdLst/>
            <a:ahLst/>
            <a:rect l="l" t="t" r="r" b="b"/>
            <a:pathLst>
              <a:path w="1020856" h="607002">
                <a:moveTo>
                  <a:pt x="0" y="0"/>
                </a:moveTo>
                <a:lnTo>
                  <a:pt x="1020856" y="0"/>
                </a:lnTo>
                <a:lnTo>
                  <a:pt x="1020856" y="607002"/>
                </a:lnTo>
                <a:lnTo>
                  <a:pt x="0" y="607002"/>
                </a:lnTo>
                <a:lnTo>
                  <a:pt x="177773" y="303501"/>
                </a:lnTo>
                <a:close/>
              </a:path>
            </a:pathLst>
          </a:cu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五边形 43"/>
          <p:cNvSpPr/>
          <p:nvPr/>
        </p:nvSpPr>
        <p:spPr>
          <a:xfrm>
            <a:off x="2671920" y="4581360"/>
            <a:ext cx="688680" cy="606600"/>
          </a:xfrm>
          <a:custGeom>
            <a:avLst/>
            <a:gdLst>
              <a:gd name="textAreaLeft" fmla="*/ 0 w 688680"/>
              <a:gd name="textAreaRight" fmla="*/ 689040 w 68868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2" y="0"/>
                </a:lnTo>
                <a:lnTo>
                  <a:pt x="21600" y="10800"/>
                </a:lnTo>
                <a:lnTo>
                  <a:pt x="160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40"/>
          <p:cNvSpPr/>
          <p:nvPr/>
        </p:nvSpPr>
        <p:spPr>
          <a:xfrm rot="20410800">
            <a:off x="2797200" y="4638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44"/>
          <p:cNvSpPr/>
          <p:nvPr/>
        </p:nvSpPr>
        <p:spPr>
          <a:xfrm>
            <a:off x="2890440" y="5229360"/>
            <a:ext cx="1140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b6cad"/>
                </a:solidFill>
                <a:latin typeface="微软雅黑"/>
                <a:ea typeface="微软雅黑"/>
              </a:rPr>
              <a:t>实际利用外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45"/>
          <p:cNvSpPr/>
          <p:nvPr/>
        </p:nvSpPr>
        <p:spPr>
          <a:xfrm>
            <a:off x="2255760" y="5661000"/>
            <a:ext cx="23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五年累计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</a:rPr>
              <a:t>5528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亿</a:t>
            </a: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美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任意多边形 49"/>
          <p:cNvSpPr/>
          <p:nvPr/>
        </p:nvSpPr>
        <p:spPr>
          <a:xfrm>
            <a:off x="7458120" y="4581360"/>
            <a:ext cx="398520" cy="606600"/>
          </a:xfrm>
          <a:custGeom>
            <a:avLst/>
            <a:gdLst/>
            <a:ahLst/>
            <a:rect l="l" t="t" r="r" b="b"/>
            <a:pathLst>
              <a:path w="397833" h="607002">
                <a:moveTo>
                  <a:pt x="0" y="0"/>
                </a:moveTo>
                <a:lnTo>
                  <a:pt x="397833" y="0"/>
                </a:lnTo>
                <a:lnTo>
                  <a:pt x="397833" y="607002"/>
                </a:lnTo>
                <a:lnTo>
                  <a:pt x="0" y="607002"/>
                </a:lnTo>
                <a:lnTo>
                  <a:pt x="177773" y="303501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五边形 47"/>
          <p:cNvSpPr/>
          <p:nvPr/>
        </p:nvSpPr>
        <p:spPr>
          <a:xfrm>
            <a:off x="6264360" y="4581360"/>
            <a:ext cx="1307880" cy="6066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68" y="0"/>
                </a:lnTo>
                <a:lnTo>
                  <a:pt x="21600" y="10800"/>
                </a:lnTo>
                <a:lnTo>
                  <a:pt x="186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50"/>
          <p:cNvSpPr/>
          <p:nvPr/>
        </p:nvSpPr>
        <p:spPr>
          <a:xfrm rot="20410800">
            <a:off x="6672240" y="4638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51"/>
          <p:cNvSpPr/>
          <p:nvPr/>
        </p:nvSpPr>
        <p:spPr>
          <a:xfrm>
            <a:off x="5938200" y="5229360"/>
            <a:ext cx="2614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b6cad"/>
                </a:solidFill>
                <a:latin typeface="微软雅黑"/>
                <a:ea typeface="微软雅黑"/>
              </a:rPr>
              <a:t>2012</a:t>
            </a:r>
            <a:r>
              <a:rPr b="1" lang="zh-CN" sz="2100" spc="-1" strike="noStrike">
                <a:solidFill>
                  <a:srgbClr val="2b6cad"/>
                </a:solidFill>
                <a:latin typeface="微软雅黑"/>
                <a:ea typeface="微软雅黑"/>
              </a:rPr>
              <a:t>年非金融类对外直接投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52"/>
          <p:cNvSpPr/>
          <p:nvPr/>
        </p:nvSpPr>
        <p:spPr>
          <a:xfrm>
            <a:off x="5467320" y="5661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</a:rPr>
              <a:t>772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亿</a:t>
            </a:r>
            <a:r>
              <a:rPr b="1" lang="zh-CN" sz="1800" spc="-1" strike="noStrike">
                <a:solidFill>
                  <a:srgbClr val="2b6cad"/>
                </a:solidFill>
                <a:latin typeface="Calibri"/>
                <a:ea typeface="微软雅黑"/>
              </a:rPr>
              <a:t>美元，年均增长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</a:rPr>
              <a:t>25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5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文本框 3"/>
          <p:cNvSpPr/>
          <p:nvPr/>
        </p:nvSpPr>
        <p:spPr>
          <a:xfrm>
            <a:off x="434520" y="187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dd7ee"/>
                </a:solidFill>
                <a:latin typeface="微软雅黑"/>
                <a:ea typeface="微软雅黑"/>
              </a:rPr>
              <a:t>目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4"/>
          <p:cNvSpPr/>
          <p:nvPr/>
        </p:nvSpPr>
        <p:spPr>
          <a:xfrm>
            <a:off x="434520" y="4286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eebf7"/>
                </a:solidFill>
                <a:latin typeface="微软雅黑"/>
                <a:ea typeface="微软雅黑"/>
              </a:rPr>
              <a:t>措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8"/>
          <p:cNvGrpSpPr/>
          <p:nvPr/>
        </p:nvGrpSpPr>
        <p:grpSpPr>
          <a:xfrm>
            <a:off x="5538600" y="2400120"/>
            <a:ext cx="2880000" cy="2880000"/>
            <a:chOff x="5538600" y="2400120"/>
            <a:chExt cx="2880000" cy="2880000"/>
          </a:xfrm>
        </p:grpSpPr>
        <p:sp>
          <p:nvSpPr>
            <p:cNvPr id="603" name="椭圆 5"/>
            <p:cNvSpPr/>
            <p:nvPr/>
          </p:nvSpPr>
          <p:spPr>
            <a:xfrm>
              <a:off x="5538960" y="2400480"/>
              <a:ext cx="2879640" cy="28796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饼形 6"/>
            <p:cNvSpPr/>
            <p:nvPr/>
          </p:nvSpPr>
          <p:spPr>
            <a:xfrm>
              <a:off x="5538960" y="2400480"/>
              <a:ext cx="2879640" cy="2879640"/>
            </a:xfrm>
            <a:custGeom>
              <a:avLst/>
              <a:gdLst/>
              <a:ahLst/>
              <a:rect l="l" t="t" r="r" b="b"/>
              <a:pathLst>
                <a:path w="2880000" h="2880000">
                  <a:moveTo>
                    <a:pt x="2880000" y="1440000"/>
                  </a:moveTo>
                  <a:cubicBezTo>
                    <a:pt x="2880000" y="2235290"/>
                    <a:pt x="2235290" y="2880000"/>
                    <a:pt x="1440000" y="2880000"/>
                  </a:cubicBezTo>
                  <a:lnTo>
                    <a:pt x="1440000" y="1440000"/>
                  </a:lnTo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饼形 7"/>
            <p:cNvSpPr/>
            <p:nvPr/>
          </p:nvSpPr>
          <p:spPr>
            <a:xfrm flipH="1" rot="5400000">
              <a:off x="5538240" y="2399760"/>
              <a:ext cx="2879640" cy="2879640"/>
            </a:xfrm>
            <a:custGeom>
              <a:avLst/>
              <a:gdLst/>
              <a:ahLst/>
              <a:rect l="l" t="t" r="r" b="b"/>
              <a:pathLst>
                <a:path w="2880000" h="2880000">
                  <a:moveTo>
                    <a:pt x="2880000" y="1440000"/>
                  </a:moveTo>
                  <a:cubicBezTo>
                    <a:pt x="2880000" y="2235290"/>
                    <a:pt x="2235290" y="2880000"/>
                    <a:pt x="1440000" y="2880000"/>
                  </a:cubicBezTo>
                  <a:lnTo>
                    <a:pt x="1440000" y="1440000"/>
                  </a:lnTo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文本框 9"/>
          <p:cNvSpPr/>
          <p:nvPr/>
        </p:nvSpPr>
        <p:spPr>
          <a:xfrm>
            <a:off x="3260520" y="1103400"/>
            <a:ext cx="46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经济社会发展的主要预期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10"/>
          <p:cNvSpPr/>
          <p:nvPr/>
        </p:nvSpPr>
        <p:spPr>
          <a:xfrm>
            <a:off x="2101680" y="1781280"/>
            <a:ext cx="9776160" cy="0"/>
          </a:xfrm>
          <a:prstGeom prst="line">
            <a:avLst/>
          </a:prstGeom>
          <a:ln w="2844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1"/>
          <p:cNvSpPr/>
          <p:nvPr/>
        </p:nvSpPr>
        <p:spPr>
          <a:xfrm>
            <a:off x="6122880" y="28576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经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增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接连接符 11"/>
          <p:cNvSpPr/>
          <p:nvPr/>
        </p:nvSpPr>
        <p:spPr>
          <a:xfrm>
            <a:off x="2944800" y="3144960"/>
            <a:ext cx="218772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12"/>
          <p:cNvSpPr/>
          <p:nvPr/>
        </p:nvSpPr>
        <p:spPr>
          <a:xfrm>
            <a:off x="3114720" y="2584440"/>
            <a:ext cx="230040" cy="560520"/>
          </a:xfrm>
          <a:prstGeom prst="rect">
            <a:avLst/>
          </a:pr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13"/>
          <p:cNvSpPr/>
          <p:nvPr/>
        </p:nvSpPr>
        <p:spPr>
          <a:xfrm>
            <a:off x="3560760" y="2470320"/>
            <a:ext cx="228600" cy="6746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4"/>
          <p:cNvSpPr/>
          <p:nvPr/>
        </p:nvSpPr>
        <p:spPr>
          <a:xfrm>
            <a:off x="4004280" y="2433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GDP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7.5%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3" name="肘形连接符 25"/>
          <p:cNvCxnSpPr/>
          <p:nvPr/>
        </p:nvCxnSpPr>
        <p:spPr>
          <a:xfrm flipV="1">
            <a:off x="2943360" y="2545560"/>
            <a:ext cx="977040" cy="369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14" name="文本框 30"/>
          <p:cNvSpPr/>
          <p:nvPr/>
        </p:nvSpPr>
        <p:spPr>
          <a:xfrm>
            <a:off x="7330680" y="28576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物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水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5" name="组合 40"/>
          <p:cNvGrpSpPr/>
          <p:nvPr/>
        </p:nvGrpSpPr>
        <p:grpSpPr>
          <a:xfrm>
            <a:off x="10525320" y="2171160"/>
            <a:ext cx="934200" cy="1054800"/>
            <a:chOff x="10525320" y="2171160"/>
            <a:chExt cx="934200" cy="1054800"/>
          </a:xfrm>
        </p:grpSpPr>
        <p:sp>
          <p:nvSpPr>
            <p:cNvPr id="616" name="任意多边形 33"/>
            <p:cNvSpPr/>
            <p:nvPr/>
          </p:nvSpPr>
          <p:spPr>
            <a:xfrm rot="7711200">
              <a:off x="10630440" y="2424240"/>
              <a:ext cx="834480" cy="387720"/>
            </a:xfrm>
            <a:custGeom>
              <a:avLst/>
              <a:gdLst/>
              <a:ahLst/>
              <a:rect l="l" t="t" r="r" b="b"/>
              <a:pathLst>
                <a:path w="834390" h="387056">
                  <a:moveTo>
                    <a:pt x="620791" y="102088"/>
                  </a:moveTo>
                  <a:cubicBezTo>
                    <a:pt x="570290" y="102088"/>
                    <a:pt x="529351" y="143027"/>
                    <a:pt x="529351" y="193528"/>
                  </a:cubicBezTo>
                  <a:cubicBezTo>
                    <a:pt x="529351" y="244029"/>
                    <a:pt x="570290" y="284968"/>
                    <a:pt x="620791" y="284968"/>
                  </a:cubicBezTo>
                  <a:cubicBezTo>
                    <a:pt x="671292" y="284968"/>
                    <a:pt x="712231" y="244029"/>
                    <a:pt x="712231" y="193528"/>
                  </a:cubicBezTo>
                  <a:cubicBezTo>
                    <a:pt x="712231" y="143027"/>
                    <a:pt x="671292" y="102088"/>
                    <a:pt x="620791" y="102088"/>
                  </a:cubicBezTo>
                  <a:close/>
                  <a:moveTo>
                    <a:pt x="0" y="0"/>
                  </a:moveTo>
                  <a:lnTo>
                    <a:pt x="640862" y="0"/>
                  </a:lnTo>
                  <a:lnTo>
                    <a:pt x="834390" y="193528"/>
                  </a:lnTo>
                  <a:lnTo>
                    <a:pt x="640862" y="387056"/>
                  </a:lnTo>
                  <a:lnTo>
                    <a:pt x="0" y="387056"/>
                  </a:ln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文本框 34"/>
            <p:cNvSpPr/>
            <p:nvPr/>
          </p:nvSpPr>
          <p:spPr>
            <a:xfrm rot="18540000">
              <a:off x="10837080" y="2350440"/>
              <a:ext cx="60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椭圆 38"/>
            <p:cNvSpPr/>
            <p:nvPr/>
          </p:nvSpPr>
          <p:spPr>
            <a:xfrm rot="2094000">
              <a:off x="10635840" y="2767320"/>
              <a:ext cx="185400" cy="445680"/>
            </a:xfrm>
            <a:prstGeom prst="ellipse">
              <a:avLst/>
            </a:prstGeom>
            <a:noFill/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矩形 39"/>
            <p:cNvSpPr/>
            <p:nvPr/>
          </p:nvSpPr>
          <p:spPr>
            <a:xfrm rot="21180000">
              <a:off x="10779840" y="2755080"/>
              <a:ext cx="46800" cy="120240"/>
            </a:xfrm>
            <a:prstGeom prst="rect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直接连接符 41"/>
          <p:cNvSpPr/>
          <p:nvPr/>
        </p:nvSpPr>
        <p:spPr>
          <a:xfrm>
            <a:off x="8739360" y="3144960"/>
            <a:ext cx="251460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42"/>
          <p:cNvSpPr/>
          <p:nvPr/>
        </p:nvSpPr>
        <p:spPr>
          <a:xfrm>
            <a:off x="9042480" y="243360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把居民消费价格涨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控制在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5%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46"/>
          <p:cNvSpPr/>
          <p:nvPr/>
        </p:nvSpPr>
        <p:spPr>
          <a:xfrm>
            <a:off x="6122880" y="406872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城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就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接连接符 47"/>
          <p:cNvSpPr/>
          <p:nvPr/>
        </p:nvSpPr>
        <p:spPr>
          <a:xfrm>
            <a:off x="2795760" y="5684760"/>
            <a:ext cx="308592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任意多边形 52"/>
          <p:cNvSpPr/>
          <p:nvPr/>
        </p:nvSpPr>
        <p:spPr>
          <a:xfrm rot="20928600">
            <a:off x="2835360" y="4669920"/>
            <a:ext cx="785880" cy="860400"/>
          </a:xfrm>
          <a:custGeom>
            <a:avLst/>
            <a:gdLst/>
            <a:ahLst/>
            <a:rect l="l" t="t" r="r" b="b"/>
            <a:pathLst>
              <a:path w="784966" h="859583">
                <a:moveTo>
                  <a:pt x="562035" y="0"/>
                </a:moveTo>
                <a:cubicBezTo>
                  <a:pt x="608206" y="0"/>
                  <a:pt x="651098" y="14036"/>
                  <a:pt x="686678" y="38073"/>
                </a:cubicBezTo>
                <a:lnTo>
                  <a:pt x="710099" y="57398"/>
                </a:lnTo>
                <a:lnTo>
                  <a:pt x="564076" y="139297"/>
                </a:lnTo>
                <a:lnTo>
                  <a:pt x="529764" y="261257"/>
                </a:lnTo>
                <a:lnTo>
                  <a:pt x="651724" y="295570"/>
                </a:lnTo>
                <a:lnTo>
                  <a:pt x="784766" y="220951"/>
                </a:lnTo>
                <a:lnTo>
                  <a:pt x="784966" y="222931"/>
                </a:lnTo>
                <a:cubicBezTo>
                  <a:pt x="784966" y="346052"/>
                  <a:pt x="685156" y="445862"/>
                  <a:pt x="562035" y="445862"/>
                </a:cubicBezTo>
                <a:cubicBezTo>
                  <a:pt x="531255" y="445862"/>
                  <a:pt x="501932" y="439624"/>
                  <a:pt x="475260" y="428343"/>
                </a:cubicBezTo>
                <a:lnTo>
                  <a:pt x="473324" y="427038"/>
                </a:lnTo>
                <a:lnTo>
                  <a:pt x="157688" y="837443"/>
                </a:lnTo>
                <a:cubicBezTo>
                  <a:pt x="138593" y="862270"/>
                  <a:pt x="102987" y="866918"/>
                  <a:pt x="78160" y="847823"/>
                </a:cubicBezTo>
                <a:lnTo>
                  <a:pt x="22141" y="804740"/>
                </a:lnTo>
                <a:cubicBezTo>
                  <a:pt x="-2687" y="785646"/>
                  <a:pt x="-7334" y="750040"/>
                  <a:pt x="11760" y="725212"/>
                </a:cubicBezTo>
                <a:lnTo>
                  <a:pt x="346766" y="289622"/>
                </a:lnTo>
                <a:lnTo>
                  <a:pt x="349618" y="287140"/>
                </a:lnTo>
                <a:lnTo>
                  <a:pt x="343633" y="267860"/>
                </a:lnTo>
                <a:cubicBezTo>
                  <a:pt x="340664" y="253347"/>
                  <a:pt x="339104" y="238321"/>
                  <a:pt x="339104" y="222931"/>
                </a:cubicBezTo>
                <a:cubicBezTo>
                  <a:pt x="339104" y="99810"/>
                  <a:pt x="438914" y="0"/>
                  <a:pt x="562035" y="0"/>
                </a:cubicBezTo>
                <a:close/>
              </a:path>
            </a:pathLst>
          </a:cu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3"/>
          <p:cNvSpPr/>
          <p:nvPr/>
        </p:nvSpPr>
        <p:spPr>
          <a:xfrm>
            <a:off x="3815280" y="4975200"/>
            <a:ext cx="19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新增就业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以上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登记失业率低于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6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直接连接符 56"/>
          <p:cNvSpPr/>
          <p:nvPr/>
        </p:nvSpPr>
        <p:spPr>
          <a:xfrm>
            <a:off x="7950240" y="5684760"/>
            <a:ext cx="330372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57"/>
          <p:cNvSpPr/>
          <p:nvPr/>
        </p:nvSpPr>
        <p:spPr>
          <a:xfrm>
            <a:off x="7330680" y="406872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收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增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组合 58"/>
          <p:cNvGrpSpPr/>
          <p:nvPr/>
        </p:nvGrpSpPr>
        <p:grpSpPr>
          <a:xfrm>
            <a:off x="10646640" y="4638240"/>
            <a:ext cx="659160" cy="959760"/>
            <a:chOff x="10646640" y="4638240"/>
            <a:chExt cx="659160" cy="959760"/>
          </a:xfrm>
        </p:grpSpPr>
        <p:grpSp>
          <p:nvGrpSpPr>
            <p:cNvPr id="629" name="组合 59"/>
            <p:cNvGrpSpPr/>
            <p:nvPr/>
          </p:nvGrpSpPr>
          <p:grpSpPr>
            <a:xfrm>
              <a:off x="10667520" y="4783320"/>
              <a:ext cx="638280" cy="814680"/>
              <a:chOff x="10667520" y="4783320"/>
              <a:chExt cx="638280" cy="814680"/>
            </a:xfrm>
          </p:grpSpPr>
          <p:sp>
            <p:nvSpPr>
              <p:cNvPr id="630" name="矩形 65"/>
              <p:cNvSpPr/>
              <p:nvPr/>
            </p:nvSpPr>
            <p:spPr>
              <a:xfrm flipH="1" rot="2433600">
                <a:off x="10711440" y="5177880"/>
                <a:ext cx="577800" cy="26352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矩形 66"/>
              <p:cNvSpPr/>
              <p:nvPr/>
            </p:nvSpPr>
            <p:spPr>
              <a:xfrm flipH="1" rot="2433600">
                <a:off x="10706400" y="5131440"/>
                <a:ext cx="577800" cy="26352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矩形 67"/>
              <p:cNvSpPr/>
              <p:nvPr/>
            </p:nvSpPr>
            <p:spPr>
              <a:xfrm flipH="1" rot="2433600">
                <a:off x="10700280" y="5082840"/>
                <a:ext cx="577800" cy="26352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矩形 68"/>
              <p:cNvSpPr/>
              <p:nvPr/>
            </p:nvSpPr>
            <p:spPr>
              <a:xfrm flipH="1" rot="2433600">
                <a:off x="10695960" y="5036040"/>
                <a:ext cx="577800" cy="26352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矩形 69"/>
              <p:cNvSpPr/>
              <p:nvPr/>
            </p:nvSpPr>
            <p:spPr>
              <a:xfrm flipH="1" rot="2433600">
                <a:off x="10688760" y="4987440"/>
                <a:ext cx="577800" cy="26352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矩形 70"/>
              <p:cNvSpPr/>
              <p:nvPr/>
            </p:nvSpPr>
            <p:spPr>
              <a:xfrm flipH="1" rot="2433600">
                <a:off x="10683360" y="4939200"/>
                <a:ext cx="577800" cy="26352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6" name="组合 60"/>
            <p:cNvGrpSpPr/>
            <p:nvPr/>
          </p:nvGrpSpPr>
          <p:grpSpPr>
            <a:xfrm>
              <a:off x="10646640" y="4638240"/>
              <a:ext cx="620280" cy="678240"/>
              <a:chOff x="10646640" y="4638240"/>
              <a:chExt cx="620280" cy="678240"/>
            </a:xfrm>
          </p:grpSpPr>
          <p:sp>
            <p:nvSpPr>
              <p:cNvPr id="637" name="矩形 61"/>
              <p:cNvSpPr/>
              <p:nvPr/>
            </p:nvSpPr>
            <p:spPr>
              <a:xfrm flipH="1" rot="2433600">
                <a:off x="10672560" y="4896360"/>
                <a:ext cx="577800" cy="26352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矩形 62"/>
              <p:cNvSpPr/>
              <p:nvPr/>
            </p:nvSpPr>
            <p:spPr>
              <a:xfrm flipH="1" rot="2433600">
                <a:off x="10669680" y="4842360"/>
                <a:ext cx="577800" cy="263520"/>
              </a:xfrm>
              <a:prstGeom prst="rect">
                <a:avLst/>
              </a:prstGeom>
              <a:solidFill>
                <a:srgbClr val="deebf7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矩形 63"/>
              <p:cNvSpPr/>
              <p:nvPr/>
            </p:nvSpPr>
            <p:spPr>
              <a:xfrm flipH="1" rot="2433600">
                <a:off x="10662480" y="4794120"/>
                <a:ext cx="577800" cy="263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b6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文本框 64"/>
              <p:cNvSpPr/>
              <p:nvPr/>
            </p:nvSpPr>
            <p:spPr>
              <a:xfrm flipH="1" rot="2425800">
                <a:off x="10789920" y="47538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6cad"/>
                    </a:solidFill>
                    <a:latin typeface="微软雅黑"/>
                    <a:ea typeface="微软雅黑"/>
                  </a:rPr>
                  <a:t>￥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1" name="矩形 71"/>
          <p:cNvSpPr/>
          <p:nvPr/>
        </p:nvSpPr>
        <p:spPr>
          <a:xfrm>
            <a:off x="8514000" y="4944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人均收入与经济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同步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6cad"/>
                </a:solidFill>
                <a:latin typeface="微软雅黑"/>
                <a:ea typeface="微软雅黑"/>
              </a:rPr>
              <a:t>劳动报酬和生产率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同步提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3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2:36Z</dcterms:modified>
  <cp:revision>159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