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3003213" cy="888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43EE-2280-4C11-98B0-6F8DA77C2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489-A26F-4EE7-9AB8-BB41A48B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8B1-AAAD-4B4D-8066-491B0002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DE4-0843-4023-8810-D5A0C192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F773-825B-478D-831D-B7DBF68F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9DC4-065A-49DB-9876-2881311C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3805-5634-4A32-9E0E-040B2071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5499-3DB6-4E3A-994E-EABA5605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AE77-E8BF-4651-B3EB-2B887573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9A75-9632-4A84-B010-901EA412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C1B0-D6FD-4456-B290-250D4863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F14-9AD2-4949-918A-41FD41EA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23DC-9021-4912-9800-B04837A0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C592-6022-4CA9-AFD1-2CCC583D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389A-BB18-452F-AFEC-046636A9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1146-D351-4FF2-BFA3-E6172EE8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FCEB-866B-4E29-8C1C-DF44B1B0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9AB2-100F-43EC-9F78-0592A525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0EDD3-7612-4DD0-B429-93D7D9A8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2F478-CEAE-44A9-9450-DAA87521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2F9F3-5B24-4052-867E-FB937D2E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14BEB-4F4E-4209-9D2F-D9BE4785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565-1B4C-4A5C-8256-19DF552E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74A8E-0BDC-46D3-9629-82548BF8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7CD1B-2E7C-452D-A665-8AF331F4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7642D-7057-494A-9490-83539CA9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0B62C-A785-40B5-8005-2F7C0D9B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ED31-8F11-4844-8370-F01C030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9B52F-8203-4B33-9F23-E925C41C3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0692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564040" y="20797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5016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460692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8564040" y="4772520"/>
            <a:ext cx="37681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BF854-F366-4F24-8C20-073F65A7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645-AB0A-4636-BF70-343ACE0A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908-603E-42EB-84E9-CE968027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50160" y="354600"/>
            <a:ext cx="11702520" cy="68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76"/>
              </a:spcBef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618-B1E2-4FA5-B504-7A414CE7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6C7-FE43-44BB-803F-7440D5A9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46680" y="47725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ABD-2826-409C-9CB7-B0DF630E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016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46680" y="2079720"/>
            <a:ext cx="571068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0160" y="4772520"/>
            <a:ext cx="11702520" cy="24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76"/>
              </a:spcBef>
              <a:buNone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21B-86C0-4E24-9E30-6E4DAB02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A891-A2A9-4FC0-A06E-9327AF842AAD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80BE-1D6F-4534-AA2D-480B17FD78F3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9185-B187-4BBE-8DCB-DAA8F0FE7CF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82F4-9C6E-4DE1-AA32-1F1EDB5374D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dt" idx="7"/>
          </p:nvPr>
        </p:nvSpPr>
        <p:spPr>
          <a:xfrm>
            <a:off x="65052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626A-319A-465D-9D37-E7959FCB5B94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8"/>
          </p:nvPr>
        </p:nvSpPr>
        <p:spPr>
          <a:xfrm>
            <a:off x="4443120" y="8238600"/>
            <a:ext cx="411804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9"/>
          </p:nvPr>
        </p:nvSpPr>
        <p:spPr>
          <a:xfrm>
            <a:off x="9319680" y="8238600"/>
            <a:ext cx="3033720" cy="474840"/>
          </a:xfrm>
          <a:prstGeom prst="rect">
            <a:avLst/>
          </a:prstGeom>
          <a:noFill/>
          <a:ln w="0">
            <a:noFill/>
          </a:ln>
        </p:spPr>
        <p:txBody>
          <a:bodyPr lIns="134640" rIns="134640" tIns="67320" bIns="6732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BDC7-D337-47D6-B236-31A306180C4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650160" y="354600"/>
            <a:ext cx="11702520" cy="148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650160" y="2079720"/>
            <a:ext cx="1170252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6520" indent="-506520">
              <a:spcBef>
                <a:spcPts val="1176"/>
              </a:spcBef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lvl="1" marL="673200" indent="67464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1347840"/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347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2022480" indent="-67464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2695680"/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695680" indent="-1347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43520"/>
                <a:tab algn="l" pos="5391000"/>
                <a:tab algn="l" pos="6738840"/>
                <a:tab algn="l" pos="8086680"/>
                <a:tab algn="l" pos="943452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695680" indent="-1347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695680" indent="-134784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880" y="355680"/>
            <a:ext cx="11702880" cy="149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marL="13478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123" name="矩形 12"/>
          <p:cNvSpPr/>
          <p:nvPr/>
        </p:nvSpPr>
        <p:spPr>
          <a:xfrm>
            <a:off x="3144960" y="1301760"/>
            <a:ext cx="6715080" cy="6072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6" descr="dian.png"/>
          <p:cNvPicPr/>
          <p:nvPr/>
        </p:nvPicPr>
        <p:blipFill>
          <a:blip r:embed="rId3"/>
          <a:stretch/>
        </p:blipFill>
        <p:spPr>
          <a:xfrm>
            <a:off x="2001960" y="1727280"/>
            <a:ext cx="6143400" cy="57182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2" descr="蜻蜓1.png"/>
          <p:cNvPicPr/>
          <p:nvPr/>
        </p:nvPicPr>
        <p:blipFill>
          <a:blip r:embed="rId4">
            <a:grayscl/>
          </a:blip>
          <a:stretch/>
        </p:blipFill>
        <p:spPr>
          <a:xfrm>
            <a:off x="2502000" y="3087720"/>
            <a:ext cx="593640" cy="57132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3" descr="蜻蜓2.png"/>
          <p:cNvPicPr/>
          <p:nvPr/>
        </p:nvPicPr>
        <p:blipFill>
          <a:blip r:embed="rId5"/>
          <a:stretch/>
        </p:blipFill>
        <p:spPr>
          <a:xfrm>
            <a:off x="7288200" y="4745160"/>
            <a:ext cx="928800" cy="8427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34"/>
          <p:cNvSpPr/>
          <p:nvPr/>
        </p:nvSpPr>
        <p:spPr>
          <a:xfrm>
            <a:off x="7931160" y="5873760"/>
            <a:ext cx="292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f3f3f"/>
                </a:solidFill>
                <a:latin typeface="华文行楷"/>
                <a:ea typeface="华文行楷"/>
              </a:rPr>
              <a:t>拉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13" descr="zuo.png"/>
          <p:cNvPicPr/>
          <p:nvPr/>
        </p:nvPicPr>
        <p:blipFill>
          <a:blip r:embed="rId6">
            <a:grayscl/>
          </a:blip>
          <a:stretch/>
        </p:blipFill>
        <p:spPr>
          <a:xfrm>
            <a:off x="9531360" y="0"/>
            <a:ext cx="3471840" cy="471492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4" descr="you.png"/>
          <p:cNvPicPr/>
          <p:nvPr/>
        </p:nvPicPr>
        <p:blipFill>
          <a:blip r:embed="rId7">
            <a:grayscl/>
          </a:blip>
          <a:stretch/>
        </p:blipFill>
        <p:spPr>
          <a:xfrm>
            <a:off x="-68400" y="4633920"/>
            <a:ext cx="3213360" cy="416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乌"/>
          <p:cNvPicPr/>
          <p:nvPr/>
        </p:nvPicPr>
        <p:blipFill>
          <a:blip r:embed="rId8"/>
          <a:stretch/>
        </p:blipFill>
        <p:spPr>
          <a:xfrm>
            <a:off x="5002200" y="2587680"/>
            <a:ext cx="2249640" cy="3116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C:\Documents and Settings\Administrator\桌面\图片1.png"/>
          <p:cNvPicPr/>
          <p:nvPr/>
        </p:nvPicPr>
        <p:blipFill>
          <a:blip r:embed="rId9">
            <a:grayscl/>
          </a:blip>
          <a:stretch/>
        </p:blipFill>
        <p:spPr>
          <a:xfrm>
            <a:off x="11003040" y="4505400"/>
            <a:ext cx="969840" cy="351144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6155"/>
          <p:cNvSpPr/>
          <p:nvPr/>
        </p:nvSpPr>
        <p:spPr>
          <a:xfrm>
            <a:off x="1281240" y="84405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1353960" y="484200"/>
            <a:ext cx="971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黄金研究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76" name="矩形 6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7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600520" y="2063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微观观点解析黄金不保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10"/>
          <p:cNvSpPr/>
          <p:nvPr/>
        </p:nvSpPr>
        <p:spPr>
          <a:xfrm>
            <a:off x="5536800" y="2079720"/>
            <a:ext cx="2367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da2627"/>
                </a:solidFill>
                <a:latin typeface="微软雅黑"/>
                <a:ea typeface="微软雅黑"/>
              </a:rPr>
              <a:t>微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2"/>
          <a:stretch/>
        </p:blipFill>
        <p:spPr>
          <a:xfrm>
            <a:off x="11539440" y="5302080"/>
            <a:ext cx="1465200" cy="31179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82" name="矩形 3"/>
          <p:cNvSpPr/>
          <p:nvPr/>
        </p:nvSpPr>
        <p:spPr>
          <a:xfrm>
            <a:off x="1930320" y="6099120"/>
            <a:ext cx="1007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值最重要的特点就是稀缺性，也就是不可再生性，让我们看看黄金是否有稀缺性，我们知道黄金是不能消耗的，也就是说在世界上黄金不可能消失，而黄金的开采确是越来越多，每天都有新的黄金被人类开采出来，所以黄金在世界上的保有量是不断增加的，而这种不断增加的保有量注定了黄金没有稀缺性，从而也就不能真正的保值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1"/>
          <p:cNvSpPr/>
          <p:nvPr/>
        </p:nvSpPr>
        <p:spPr>
          <a:xfrm>
            <a:off x="4215600" y="548172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断增加的保有量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能保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6"/>
          <p:cNvSpPr/>
          <p:nvPr/>
        </p:nvSpPr>
        <p:spPr>
          <a:xfrm>
            <a:off x="2187360" y="56246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17"/>
          <p:cNvSpPr/>
          <p:nvPr/>
        </p:nvSpPr>
        <p:spPr>
          <a:xfrm>
            <a:off x="2297520" y="52308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2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3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6" descr="中国元素－皮影图片"/>
          <p:cNvPicPr/>
          <p:nvPr/>
        </p:nvPicPr>
        <p:blipFill>
          <a:blip r:embed="rId2"/>
          <a:srcRect l="0" t="8079" r="0" b="0"/>
          <a:stretch/>
        </p:blipFill>
        <p:spPr>
          <a:xfrm>
            <a:off x="3359160" y="1730520"/>
            <a:ext cx="5715000" cy="3501720"/>
          </a:xfrm>
          <a:prstGeom prst="rect">
            <a:avLst/>
          </a:prstGeom>
          <a:ln w="0">
            <a:noFill/>
          </a:ln>
        </p:spPr>
      </p:pic>
      <p:grpSp>
        <p:nvGrpSpPr>
          <p:cNvPr id="289" name="Group 10"/>
          <p:cNvGrpSpPr/>
          <p:nvPr/>
        </p:nvGrpSpPr>
        <p:grpSpPr>
          <a:xfrm>
            <a:off x="1787040" y="5659560"/>
            <a:ext cx="9930240" cy="1714320"/>
            <a:chOff x="1787040" y="5659560"/>
            <a:chExt cx="9930240" cy="1714320"/>
          </a:xfrm>
        </p:grpSpPr>
        <p:grpSp>
          <p:nvGrpSpPr>
            <p:cNvPr id="290" name=""/>
            <p:cNvGrpSpPr/>
            <p:nvPr/>
          </p:nvGrpSpPr>
          <p:grpSpPr>
            <a:xfrm>
              <a:off x="1787040" y="5659560"/>
              <a:ext cx="360" cy="1714320"/>
              <a:chOff x="1787040" y="5659560"/>
              <a:chExt cx="360" cy="1714320"/>
            </a:xfrm>
          </p:grpSpPr>
          <p:sp>
            <p:nvSpPr>
              <p:cNvPr id="291" name="直接连接符 22"/>
              <p:cNvSpPr/>
              <p:nvPr/>
            </p:nvSpPr>
            <p:spPr>
              <a:xfrm>
                <a:off x="1787400" y="5659560"/>
                <a:ext cx="0" cy="171432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 rot="5400000">
                <a:off x="929880" y="651636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1716920" y="5659560"/>
              <a:ext cx="360" cy="1714320"/>
              <a:chOff x="11716920" y="5659560"/>
              <a:chExt cx="360" cy="1714320"/>
            </a:xfrm>
          </p:grpSpPr>
          <p:sp>
            <p:nvSpPr>
              <p:cNvPr id="294" name="直接连接符 23"/>
              <p:cNvSpPr/>
              <p:nvPr/>
            </p:nvSpPr>
            <p:spPr>
              <a:xfrm>
                <a:off x="11717280" y="5659560"/>
                <a:ext cx="0" cy="171432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5400000">
                <a:off x="10859760" y="651636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97" name="矩形 3"/>
          <p:cNvSpPr/>
          <p:nvPr/>
        </p:nvSpPr>
        <p:spPr>
          <a:xfrm>
            <a:off x="2001960" y="6172200"/>
            <a:ext cx="971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没有任何使用价值，也就是说黄金不能应用在任何领域，黄金唯一的用处是装饰作用，如做成戒指或项链，而装饰作用并不能真正的消耗黄金，即使黄金从一个人的脖子上没有了，那也只能是跑到另一个人的脖子上，而黄金的存在总量却在世界上永远增加的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中国元素－皮影图片"/>
          <p:cNvPicPr/>
          <p:nvPr/>
        </p:nvPicPr>
        <p:blipFill>
          <a:blip r:embed="rId2"/>
          <a:srcRect l="0" t="9959" r="0" b="20042"/>
          <a:stretch/>
        </p:blipFill>
        <p:spPr>
          <a:xfrm>
            <a:off x="3930480" y="1801800"/>
            <a:ext cx="5715000" cy="2666880"/>
          </a:xfrm>
          <a:prstGeom prst="rect">
            <a:avLst/>
          </a:prstGeom>
          <a:ln w="0">
            <a:noFill/>
          </a:ln>
        </p:spPr>
      </p:pic>
      <p:sp>
        <p:nvSpPr>
          <p:cNvPr id="299" name="矩形 1"/>
          <p:cNvSpPr/>
          <p:nvPr/>
        </p:nvSpPr>
        <p:spPr>
          <a:xfrm>
            <a:off x="3955320" y="5481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黄金没有使用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6"/>
          <p:cNvSpPr/>
          <p:nvPr/>
        </p:nvSpPr>
        <p:spPr>
          <a:xfrm>
            <a:off x="2187360" y="56246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8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9"/>
          <p:cNvGrpSpPr/>
          <p:nvPr/>
        </p:nvGrpSpPr>
        <p:grpSpPr>
          <a:xfrm>
            <a:off x="1787040" y="5659560"/>
            <a:ext cx="9930240" cy="1714320"/>
            <a:chOff x="1787040" y="5659560"/>
            <a:chExt cx="9930240" cy="1714320"/>
          </a:xfrm>
        </p:grpSpPr>
        <p:grpSp>
          <p:nvGrpSpPr>
            <p:cNvPr id="304" name=""/>
            <p:cNvGrpSpPr/>
            <p:nvPr/>
          </p:nvGrpSpPr>
          <p:grpSpPr>
            <a:xfrm>
              <a:off x="1787040" y="5659560"/>
              <a:ext cx="360" cy="1714320"/>
              <a:chOff x="1787040" y="5659560"/>
              <a:chExt cx="360" cy="1714320"/>
            </a:xfrm>
          </p:grpSpPr>
          <p:sp>
            <p:nvSpPr>
              <p:cNvPr id="305" name="直接连接符 22"/>
              <p:cNvSpPr/>
              <p:nvPr/>
            </p:nvSpPr>
            <p:spPr>
              <a:xfrm>
                <a:off x="1787400" y="5659560"/>
                <a:ext cx="0" cy="171432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 txBox="1"/>
              <p:nvPr/>
            </p:nvSpPr>
            <p:spPr>
              <a:xfrm rot="5400000">
                <a:off x="929880" y="651636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1716920" y="5659560"/>
              <a:ext cx="360" cy="1714320"/>
              <a:chOff x="11716920" y="5659560"/>
              <a:chExt cx="360" cy="1714320"/>
            </a:xfrm>
          </p:grpSpPr>
          <p:sp>
            <p:nvSpPr>
              <p:cNvPr id="308" name="直接连接符 23"/>
              <p:cNvSpPr/>
              <p:nvPr/>
            </p:nvSpPr>
            <p:spPr>
              <a:xfrm>
                <a:off x="11717280" y="5659560"/>
                <a:ext cx="0" cy="171432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 txBox="1"/>
              <p:nvPr/>
            </p:nvSpPr>
            <p:spPr>
              <a:xfrm rot="5400000">
                <a:off x="10859760" y="6516360"/>
                <a:ext cx="1714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矩形 12"/>
          <p:cNvSpPr/>
          <p:nvPr/>
        </p:nvSpPr>
        <p:spPr>
          <a:xfrm>
            <a:off x="2297520" y="52308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312" name="矩形 1"/>
          <p:cNvSpPr/>
          <p:nvPr/>
        </p:nvSpPr>
        <p:spPr>
          <a:xfrm>
            <a:off x="3955320" y="54817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黄金没有回报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6"/>
          <p:cNvSpPr/>
          <p:nvPr/>
        </p:nvSpPr>
        <p:spPr>
          <a:xfrm>
            <a:off x="2187360" y="56246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7"/>
          <p:cNvGrpSpPr/>
          <p:nvPr/>
        </p:nvGrpSpPr>
        <p:grpSpPr>
          <a:xfrm>
            <a:off x="1787040" y="5886360"/>
            <a:ext cx="9930240" cy="1781280"/>
            <a:chOff x="1787040" y="5886360"/>
            <a:chExt cx="9930240" cy="1781280"/>
          </a:xfrm>
        </p:grpSpPr>
        <p:grpSp>
          <p:nvGrpSpPr>
            <p:cNvPr id="317" name=""/>
            <p:cNvGrpSpPr/>
            <p:nvPr/>
          </p:nvGrpSpPr>
          <p:grpSpPr>
            <a:xfrm>
              <a:off x="1787040" y="5886360"/>
              <a:ext cx="360" cy="1781280"/>
              <a:chOff x="1787040" y="5886360"/>
              <a:chExt cx="360" cy="1781280"/>
            </a:xfrm>
          </p:grpSpPr>
          <p:sp>
            <p:nvSpPr>
              <p:cNvPr id="318" name="直接连接符 22"/>
              <p:cNvSpPr/>
              <p:nvPr/>
            </p:nvSpPr>
            <p:spPr>
              <a:xfrm>
                <a:off x="1787400" y="5886360"/>
                <a:ext cx="0" cy="178128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 txBox="1"/>
              <p:nvPr/>
            </p:nvSpPr>
            <p:spPr>
              <a:xfrm rot="5400000">
                <a:off x="896400" y="6776640"/>
                <a:ext cx="178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11716920" y="5886360"/>
              <a:ext cx="360" cy="1781280"/>
              <a:chOff x="11716920" y="5886360"/>
              <a:chExt cx="360" cy="1781280"/>
            </a:xfrm>
          </p:grpSpPr>
          <p:sp>
            <p:nvSpPr>
              <p:cNvPr id="321" name="直接连接符 23"/>
              <p:cNvSpPr/>
              <p:nvPr/>
            </p:nvSpPr>
            <p:spPr>
              <a:xfrm>
                <a:off x="11717280" y="5886360"/>
                <a:ext cx="0" cy="178128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 txBox="1"/>
              <p:nvPr/>
            </p:nvSpPr>
            <p:spPr>
              <a:xfrm rot="5400000">
                <a:off x="10826280" y="6776640"/>
                <a:ext cx="178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矩形 12"/>
          <p:cNvSpPr/>
          <p:nvPr/>
        </p:nvSpPr>
        <p:spPr>
          <a:xfrm>
            <a:off x="2297520" y="52308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3"/>
          <p:cNvSpPr/>
          <p:nvPr/>
        </p:nvSpPr>
        <p:spPr>
          <a:xfrm>
            <a:off x="2001960" y="6087960"/>
            <a:ext cx="95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没有回报作用，黄金不能通过出租获取回报，反而因为要妥善保存而必须取出保管的代价。黄金唯一获利的方法就是战争的爆发，因为战争会让其他的投资品暂时失去投资的价值，而让大众购买黄金达到保值的作用。可是我们知道现在社会发生战争的可能性已经越来越小。尤其世界大战的可能几乎没有了，因为核武器的不断研制已经让战争没有了胜利者。 所以黄金的避险功能更多的体现在金融风暴中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2" descr="中国元素－皮影图片"/>
          <p:cNvPicPr/>
          <p:nvPr/>
        </p:nvPicPr>
        <p:blipFill>
          <a:blip r:embed="rId2"/>
          <a:srcRect l="0" t="9081" r="0" b="0"/>
          <a:stretch/>
        </p:blipFill>
        <p:spPr>
          <a:xfrm>
            <a:off x="3859200" y="1695600"/>
            <a:ext cx="5715000" cy="3463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327" name="矩形 1"/>
          <p:cNvSpPr/>
          <p:nvPr/>
        </p:nvSpPr>
        <p:spPr>
          <a:xfrm>
            <a:off x="4039200" y="54817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黄金的价值越来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6"/>
          <p:cNvSpPr/>
          <p:nvPr/>
        </p:nvSpPr>
        <p:spPr>
          <a:xfrm>
            <a:off x="2187360" y="56246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7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8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7"/>
          <p:cNvGrpSpPr/>
          <p:nvPr/>
        </p:nvGrpSpPr>
        <p:grpSpPr>
          <a:xfrm>
            <a:off x="1787040" y="5886360"/>
            <a:ext cx="9930240" cy="2171880"/>
            <a:chOff x="1787040" y="5886360"/>
            <a:chExt cx="9930240" cy="2171880"/>
          </a:xfrm>
        </p:grpSpPr>
        <p:grpSp>
          <p:nvGrpSpPr>
            <p:cNvPr id="332" name=""/>
            <p:cNvGrpSpPr/>
            <p:nvPr/>
          </p:nvGrpSpPr>
          <p:grpSpPr>
            <a:xfrm>
              <a:off x="1787040" y="5886360"/>
              <a:ext cx="360" cy="2171880"/>
              <a:chOff x="1787040" y="5886360"/>
              <a:chExt cx="360" cy="2171880"/>
            </a:xfrm>
          </p:grpSpPr>
          <p:sp>
            <p:nvSpPr>
              <p:cNvPr id="333" name="直接连接符 22"/>
              <p:cNvSpPr/>
              <p:nvPr/>
            </p:nvSpPr>
            <p:spPr>
              <a:xfrm>
                <a:off x="1787400" y="5886360"/>
                <a:ext cx="0" cy="217188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 rot="5400000">
                <a:off x="700920" y="6972120"/>
                <a:ext cx="217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716920" y="5886360"/>
              <a:ext cx="360" cy="2171880"/>
              <a:chOff x="11716920" y="5886360"/>
              <a:chExt cx="360" cy="2171880"/>
            </a:xfrm>
          </p:grpSpPr>
          <p:sp>
            <p:nvSpPr>
              <p:cNvPr id="336" name="直接连接符 23"/>
              <p:cNvSpPr/>
              <p:nvPr/>
            </p:nvSpPr>
            <p:spPr>
              <a:xfrm>
                <a:off x="11717280" y="5886360"/>
                <a:ext cx="0" cy="2171880"/>
              </a:xfrm>
              <a:prstGeom prst="line">
                <a:avLst/>
              </a:prstGeom>
              <a:ln w="76320">
                <a:solidFill>
                  <a:srgbClr val="a5a5a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 rot="5400000">
                <a:off x="10631160" y="6972120"/>
                <a:ext cx="2171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矩形 12"/>
          <p:cNvSpPr/>
          <p:nvPr/>
        </p:nvSpPr>
        <p:spPr>
          <a:xfrm>
            <a:off x="2297520" y="523080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4"/>
          <p:cNvSpPr/>
          <p:nvPr/>
        </p:nvSpPr>
        <p:spPr>
          <a:xfrm>
            <a:off x="2001960" y="6087960"/>
            <a:ext cx="964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投资品的多元化已经让黄金的投资价值越来越小。历史上黄金曾经是很好的投资品，但现在社会的投资品已经越来越多，获取持续的汇报成为现在投资者价值投资的最重要标准。比如股票的投资价值越来越得到投资者的认可，能得到分红的股票将会越来越得到投资着的青睐。还有现在投资房产的人越来越多，因为房产不仅能够自住，还能得到出租回报，还由于优质地段的房产都是有限的，不可能增加供应量，所以优质地段的房产将会越来越达到全体投资者的认可，成为发展中国家最具潜力的投资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" descr="中国元素--皮影图片"/>
          <p:cNvPicPr/>
          <p:nvPr/>
        </p:nvPicPr>
        <p:blipFill>
          <a:blip r:embed="rId2"/>
          <a:srcRect l="0" t="48757" r="2532" b="0"/>
          <a:stretch/>
        </p:blipFill>
        <p:spPr>
          <a:xfrm>
            <a:off x="2787480" y="1730520"/>
            <a:ext cx="7753680" cy="2717640"/>
          </a:xfrm>
          <a:prstGeom prst="rect">
            <a:avLst/>
          </a:prstGeom>
          <a:ln w="0">
            <a:noFill/>
          </a:ln>
        </p:spPr>
      </p:pic>
      <p:sp>
        <p:nvSpPr>
          <p:cNvPr id="341" name="文本框 8194"/>
          <p:cNvSpPr/>
          <p:nvPr/>
        </p:nvSpPr>
        <p:spPr>
          <a:xfrm>
            <a:off x="2470320" y="41925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343" name="矩形 3"/>
          <p:cNvSpPr/>
          <p:nvPr/>
        </p:nvSpPr>
        <p:spPr>
          <a:xfrm>
            <a:off x="1930320" y="6024600"/>
            <a:ext cx="66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所以现在黄金的上涨顶多是一种补涨行为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4"/>
          <p:cNvSpPr/>
          <p:nvPr/>
        </p:nvSpPr>
        <p:spPr>
          <a:xfrm>
            <a:off x="3106800" y="1881360"/>
            <a:ext cx="4182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可能很多人说现在黄金的价格不是上涨了吗</a:t>
            </a:r>
            <a:r>
              <a:rPr b="1" lang="en-US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1823400" y="3173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017440" y="3610080"/>
            <a:ext cx="269640" cy="269640"/>
            <a:chOff x="2017440" y="3610080"/>
            <a:chExt cx="269640" cy="269640"/>
          </a:xfrm>
        </p:grpSpPr>
        <p:sp>
          <p:nvSpPr>
            <p:cNvPr id="347" name="直接连接符 6"/>
            <p:cNvSpPr/>
            <p:nvPr/>
          </p:nvSpPr>
          <p:spPr>
            <a:xfrm flipH="1">
              <a:off x="2017440" y="3610080"/>
              <a:ext cx="26964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 txBox="1"/>
            <p:nvPr/>
          </p:nvSpPr>
          <p:spPr>
            <a:xfrm rot="5400000">
              <a:off x="2017440" y="3610080"/>
              <a:ext cx="269640" cy="26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7"/>
          <p:cNvSpPr/>
          <p:nvPr/>
        </p:nvSpPr>
        <p:spPr>
          <a:xfrm>
            <a:off x="2854440" y="2766960"/>
            <a:ext cx="32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其实现在黄金上涨的原因主要有两点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8"/>
          <p:cNvSpPr/>
          <p:nvPr/>
        </p:nvSpPr>
        <p:spPr>
          <a:xfrm>
            <a:off x="2287440" y="3298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际金融危机给了黄金一次很好的机会，当股市楼市暂时下跌时，这些从获利中涌出的资金都投资了黄金，但当国际经济逐步稳定，股市楼市重新焕发活力时，那些出逃的资金还会重新流回股市和楼市的，因为在股市楼市中才能得到持续的现金回报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5"/>
          <p:cNvSpPr/>
          <p:nvPr/>
        </p:nvSpPr>
        <p:spPr>
          <a:xfrm>
            <a:off x="1790280" y="460224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984320" y="5038560"/>
            <a:ext cx="270000" cy="270000"/>
            <a:chOff x="1984320" y="5038560"/>
            <a:chExt cx="270000" cy="270000"/>
          </a:xfrm>
        </p:grpSpPr>
        <p:sp>
          <p:nvSpPr>
            <p:cNvPr id="353" name="直接连接符 10"/>
            <p:cNvSpPr/>
            <p:nvPr/>
          </p:nvSpPr>
          <p:spPr>
            <a:xfrm flipH="1">
              <a:off x="1984320" y="5038560"/>
              <a:ext cx="270000" cy="27000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 rot="5400000">
              <a:off x="1984320" y="5038560"/>
              <a:ext cx="27000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矩形 11"/>
          <p:cNvSpPr/>
          <p:nvPr/>
        </p:nvSpPr>
        <p:spPr>
          <a:xfrm>
            <a:off x="2287440" y="4906800"/>
            <a:ext cx="907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近二十年来的涨幅太小了，远远跑输通货膨胀率，甚至比不上石油，金属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828800" y="2666880"/>
            <a:ext cx="9772560" cy="360"/>
            <a:chOff x="1828800" y="2666880"/>
            <a:chExt cx="9772560" cy="360"/>
          </a:xfrm>
        </p:grpSpPr>
        <p:sp>
          <p:nvSpPr>
            <p:cNvPr id="357" name="直接连接符 13"/>
            <p:cNvSpPr/>
            <p:nvPr/>
          </p:nvSpPr>
          <p:spPr>
            <a:xfrm>
              <a:off x="1828800" y="2666880"/>
              <a:ext cx="977256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1828800" y="2666880"/>
              <a:ext cx="977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716120" y="5810400"/>
            <a:ext cx="9772560" cy="360"/>
            <a:chOff x="1716120" y="5810400"/>
            <a:chExt cx="9772560" cy="360"/>
          </a:xfrm>
        </p:grpSpPr>
        <p:sp>
          <p:nvSpPr>
            <p:cNvPr id="360" name="直接连接符 14"/>
            <p:cNvSpPr/>
            <p:nvPr/>
          </p:nvSpPr>
          <p:spPr>
            <a:xfrm>
              <a:off x="1716120" y="5810400"/>
              <a:ext cx="9772560" cy="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1716120" y="5810400"/>
              <a:ext cx="9772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DFCF-E511-4C7E-A9D3-E81308E630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grpSp>
        <p:nvGrpSpPr>
          <p:cNvPr id="367" name=""/>
          <p:cNvGrpSpPr/>
          <p:nvPr/>
        </p:nvGrpSpPr>
        <p:grpSpPr>
          <a:xfrm>
            <a:off x="3603600" y="3097080"/>
            <a:ext cx="6113520" cy="1800"/>
            <a:chOff x="3603600" y="3097080"/>
            <a:chExt cx="6113520" cy="1800"/>
          </a:xfrm>
        </p:grpSpPr>
        <p:sp>
          <p:nvSpPr>
            <p:cNvPr id="368" name="Line 6"/>
            <p:cNvSpPr/>
            <p:nvPr/>
          </p:nvSpPr>
          <p:spPr>
            <a:xfrm>
              <a:off x="3603600" y="3097080"/>
              <a:ext cx="6113520" cy="1800"/>
            </a:xfrm>
            <a:prstGeom prst="line">
              <a:avLst/>
            </a:prstGeom>
            <a:ln w="38160">
              <a:solidFill>
                <a:srgbClr val="da26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3603600" y="3097080"/>
              <a:ext cx="611352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矩形 1"/>
          <p:cNvSpPr/>
          <p:nvPr/>
        </p:nvSpPr>
        <p:spPr>
          <a:xfrm>
            <a:off x="4755240" y="3063960"/>
            <a:ext cx="394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da2627"/>
                </a:solidFill>
                <a:latin typeface="微软雅黑"/>
                <a:ea typeface="微软雅黑"/>
              </a:rPr>
              <a:t>中国老百姓理财篇</a:t>
            </a:r>
            <a:r>
              <a:rPr b="1" lang="en-US" sz="2700" spc="-1" strike="noStrike">
                <a:solidFill>
                  <a:srgbClr val="da2627"/>
                </a:solidFill>
                <a:latin typeface="微软雅黑"/>
                <a:ea typeface="微软雅黑"/>
              </a:rPr>
              <a:t>2-</a:t>
            </a:r>
            <a:r>
              <a:rPr b="1" lang="zh-CN" sz="2700" spc="-1" strike="noStrike">
                <a:solidFill>
                  <a:srgbClr val="da2627"/>
                </a:solidFill>
                <a:latin typeface="微软雅黑"/>
                <a:ea typeface="微软雅黑"/>
              </a:rPr>
              <a:t>黄金为什么不保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8"/>
          <p:cNvSpPr/>
          <p:nvPr/>
        </p:nvSpPr>
        <p:spPr>
          <a:xfrm>
            <a:off x="3573360" y="2301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a2627"/>
                </a:solidFill>
                <a:latin typeface="Times New Roman"/>
                <a:ea typeface="Nuggim"/>
              </a:rPr>
              <a:t>Gold Investment Valu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6"/>
          <p:cNvGrpSpPr/>
          <p:nvPr/>
        </p:nvGrpSpPr>
        <p:grpSpPr>
          <a:xfrm>
            <a:off x="4580640" y="3481200"/>
            <a:ext cx="3812760" cy="3814200"/>
            <a:chOff x="4580640" y="3481200"/>
            <a:chExt cx="3812760" cy="3814200"/>
          </a:xfrm>
        </p:grpSpPr>
        <p:pic>
          <p:nvPicPr>
            <p:cNvPr id="373" name="Picture 3" descr=""/>
            <p:cNvPicPr/>
            <p:nvPr/>
          </p:nvPicPr>
          <p:blipFill>
            <a:blip r:embed="rId2"/>
            <a:stretch/>
          </p:blipFill>
          <p:spPr>
            <a:xfrm rot="1800000">
              <a:off x="5156640" y="4037040"/>
              <a:ext cx="2702520" cy="270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" descr=""/>
            <p:cNvPicPr/>
            <p:nvPr/>
          </p:nvPicPr>
          <p:blipFill>
            <a:blip r:embed="rId3"/>
            <a:stretch/>
          </p:blipFill>
          <p:spPr>
            <a:xfrm rot="4500000">
              <a:off x="4929480" y="3831840"/>
              <a:ext cx="3114720" cy="3112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G:\图片\psds13814.jpg"/>
          <p:cNvPicPr/>
          <p:nvPr/>
        </p:nvPicPr>
        <p:blipFill>
          <a:blip r:embed="rId2"/>
          <a:stretch/>
        </p:blipFill>
        <p:spPr>
          <a:xfrm>
            <a:off x="1440" y="2036880"/>
            <a:ext cx="13003200" cy="4551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Documents and Settings\Administrator\桌面\参赛\参赛图片\a2_146.jpg"/>
          <p:cNvPicPr/>
          <p:nvPr/>
        </p:nvPicPr>
        <p:blipFill>
          <a:blip r:embed="rId3"/>
          <a:stretch/>
        </p:blipFill>
        <p:spPr>
          <a:xfrm>
            <a:off x="4761000" y="2614680"/>
            <a:ext cx="3313080" cy="3112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乌"/>
          <p:cNvPicPr/>
          <p:nvPr/>
        </p:nvPicPr>
        <p:blipFill>
          <a:blip r:embed="rId4"/>
          <a:stretch/>
        </p:blipFill>
        <p:spPr>
          <a:xfrm>
            <a:off x="6002280" y="3257640"/>
            <a:ext cx="1000080" cy="138564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9080" y="2016000"/>
            <a:ext cx="13030200" cy="360"/>
            <a:chOff x="19080" y="2016000"/>
            <a:chExt cx="13030200" cy="360"/>
          </a:xfrm>
        </p:grpSpPr>
        <p:sp>
          <p:nvSpPr>
            <p:cNvPr id="139" name="直接连接符 8"/>
            <p:cNvSpPr/>
            <p:nvPr/>
          </p:nvSpPr>
          <p:spPr>
            <a:xfrm>
              <a:off x="19080" y="2016000"/>
              <a:ext cx="13030200" cy="0"/>
            </a:xfrm>
            <a:prstGeom prst="line">
              <a:avLst/>
            </a:prstGeom>
            <a:ln w="57240">
              <a:solidFill>
                <a:srgbClr val="e801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19080" y="2016000"/>
              <a:ext cx="1303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0" y="6588000"/>
            <a:ext cx="13030200" cy="360"/>
            <a:chOff x="0" y="6588000"/>
            <a:chExt cx="13030200" cy="360"/>
          </a:xfrm>
        </p:grpSpPr>
        <p:sp>
          <p:nvSpPr>
            <p:cNvPr id="142" name="直接连接符 9"/>
            <p:cNvSpPr/>
            <p:nvPr/>
          </p:nvSpPr>
          <p:spPr>
            <a:xfrm>
              <a:off x="0" y="6588000"/>
              <a:ext cx="13030200" cy="0"/>
            </a:xfrm>
            <a:prstGeom prst="line">
              <a:avLst/>
            </a:prstGeom>
            <a:ln w="57240">
              <a:solidFill>
                <a:srgbClr val="e8011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0" y="6588000"/>
              <a:ext cx="13030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8"/>
          <p:cNvSpPr/>
          <p:nvPr/>
        </p:nvSpPr>
        <p:spPr>
          <a:xfrm>
            <a:off x="5193000" y="3022560"/>
            <a:ext cx="303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中国老百姓理财篇</a:t>
            </a:r>
            <a:r>
              <a:rPr b="0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/>
          <p:cNvSpPr/>
          <p:nvPr/>
        </p:nvSpPr>
        <p:spPr>
          <a:xfrm>
            <a:off x="4502160" y="3730680"/>
            <a:ext cx="4357800" cy="642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8"/>
          <p:cNvSpPr/>
          <p:nvPr/>
        </p:nvSpPr>
        <p:spPr>
          <a:xfrm>
            <a:off x="5299560" y="3730680"/>
            <a:ext cx="28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黄 金 为 什 么 不 保 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4430880" y="445140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黄金是最珍贵的金属之一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,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古至今都被视为保值品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.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为什么说黄金不保值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8"/>
          <p:cNvSpPr/>
          <p:nvPr/>
        </p:nvSpPr>
        <p:spPr>
          <a:xfrm>
            <a:off x="5672160" y="20638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宏观观点解析黄金不保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0"/>
          <p:cNvSpPr/>
          <p:nvPr/>
        </p:nvSpPr>
        <p:spPr>
          <a:xfrm>
            <a:off x="5536800" y="2079720"/>
            <a:ext cx="2367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da2627"/>
                </a:solidFill>
                <a:latin typeface="微软雅黑"/>
                <a:ea typeface="微软雅黑"/>
              </a:rPr>
              <a:t>宏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2"/>
          <a:stretch/>
        </p:blipFill>
        <p:spPr>
          <a:xfrm>
            <a:off x="11539440" y="5302080"/>
            <a:ext cx="1465200" cy="3117960"/>
          </a:xfrm>
          <a:prstGeom prst="rect">
            <a:avLst/>
          </a:prstGeom>
          <a:ln w="0">
            <a:noFill/>
          </a:ln>
        </p:spPr>
      </p:pic>
      <p:sp>
        <p:nvSpPr>
          <p:cNvPr id="155" name="矩形 22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3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158" name="圆角矩形 3"/>
          <p:cNvSpPr/>
          <p:nvPr/>
        </p:nvSpPr>
        <p:spPr>
          <a:xfrm>
            <a:off x="8791560" y="2011320"/>
            <a:ext cx="3282840" cy="5505480"/>
          </a:xfrm>
          <a:custGeom>
            <a:avLst/>
            <a:gdLst>
              <a:gd name="textAreaLeft" fmla="*/ 64080 w 3282840"/>
              <a:gd name="textAreaRight" fmla="*/ 3218760 w 3282840"/>
              <a:gd name="textAreaTop" fmla="*/ 64080 h 5505480"/>
              <a:gd name="textAreaBottom" fmla="*/ 5441400 h 5505480"/>
            </a:gdLst>
            <a:ahLst/>
            <a:rect l="textAreaLeft" t="textAreaTop" r="textAreaRight" b="textAreaBottom"/>
            <a:pathLst>
              <a:path w="21600" h="36223">
                <a:moveTo>
                  <a:pt x="1440" y="0"/>
                </a:moveTo>
                <a:arcTo wR="1440" hR="1440" stAng="16200000" swAng="-5400000"/>
                <a:lnTo>
                  <a:pt x="0" y="34783"/>
                </a:lnTo>
                <a:arcTo wR="1440" hR="1440" stAng="10800000" swAng="-5400000"/>
                <a:lnTo>
                  <a:pt x="20160" y="36223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蒸汽机车图片"/>
          <p:cNvPicPr/>
          <p:nvPr/>
        </p:nvPicPr>
        <p:blipFill>
          <a:blip r:embed="rId2"/>
          <a:srcRect l="0" t="7920" r="0" b="0"/>
          <a:stretch/>
        </p:blipFill>
        <p:spPr>
          <a:xfrm>
            <a:off x="8931240" y="2230560"/>
            <a:ext cx="298440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圆角矩形 6"/>
          <p:cNvSpPr/>
          <p:nvPr/>
        </p:nvSpPr>
        <p:spPr>
          <a:xfrm>
            <a:off x="8859960" y="4595760"/>
            <a:ext cx="3157560" cy="2852640"/>
          </a:xfrm>
          <a:prstGeom prst="roundRect">
            <a:avLst>
              <a:gd name="adj" fmla="val 514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8885160" y="4654440"/>
            <a:ext cx="31892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黄金“货币之王”的美誉，也必定如同历史上各种曾经的货币一样，当其完成了时代赋予的使命后，渐渐其时代的局限性就会展露，最终被更新一代的货币取替。这是事物发展的客观规律，货币发展的规律也一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"/>
          <p:cNvSpPr/>
          <p:nvPr/>
        </p:nvSpPr>
        <p:spPr>
          <a:xfrm>
            <a:off x="3204000" y="2146320"/>
            <a:ext cx="31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货币的历史演变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发展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9"/>
          <p:cNvSpPr/>
          <p:nvPr/>
        </p:nvSpPr>
        <p:spPr>
          <a:xfrm>
            <a:off x="1954440" y="3979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耐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0"/>
          <p:cNvSpPr/>
          <p:nvPr/>
        </p:nvSpPr>
        <p:spPr>
          <a:xfrm>
            <a:off x="2827800" y="397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分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1"/>
          <p:cNvSpPr/>
          <p:nvPr/>
        </p:nvSpPr>
        <p:spPr>
          <a:xfrm>
            <a:off x="4024800" y="397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易携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2"/>
          <p:cNvSpPr/>
          <p:nvPr/>
        </p:nvSpPr>
        <p:spPr>
          <a:xfrm>
            <a:off x="5221800" y="39798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伪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3"/>
          <p:cNvSpPr/>
          <p:nvPr/>
        </p:nvSpPr>
        <p:spPr>
          <a:xfrm>
            <a:off x="6548760" y="397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变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14"/>
          <p:cNvSpPr/>
          <p:nvPr/>
        </p:nvSpPr>
        <p:spPr>
          <a:xfrm>
            <a:off x="2084760" y="3230640"/>
            <a:ext cx="23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成为货币之王的优点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433160" y="3730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60320" y="4103640"/>
            <a:ext cx="269640" cy="270000"/>
            <a:chOff x="1660320" y="4103640"/>
            <a:chExt cx="269640" cy="270000"/>
          </a:xfrm>
        </p:grpSpPr>
        <p:sp>
          <p:nvSpPr>
            <p:cNvPr id="171" name="直接连接符 16"/>
            <p:cNvSpPr/>
            <p:nvPr/>
          </p:nvSpPr>
          <p:spPr>
            <a:xfrm flipH="1">
              <a:off x="1660320" y="4103640"/>
              <a:ext cx="269640" cy="27000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5400000">
              <a:off x="1659960" y="410364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5"/>
          <p:cNvSpPr/>
          <p:nvPr/>
        </p:nvSpPr>
        <p:spPr>
          <a:xfrm>
            <a:off x="2361600" y="3730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603520" y="4086360"/>
            <a:ext cx="270000" cy="269640"/>
            <a:chOff x="2603520" y="4086360"/>
            <a:chExt cx="270000" cy="269640"/>
          </a:xfrm>
        </p:grpSpPr>
        <p:sp>
          <p:nvSpPr>
            <p:cNvPr id="175" name="直接连接符 18"/>
            <p:cNvSpPr/>
            <p:nvPr/>
          </p:nvSpPr>
          <p:spPr>
            <a:xfrm flipH="1">
              <a:off x="2603520" y="4086360"/>
              <a:ext cx="27000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5400000">
              <a:off x="2603520" y="4086000"/>
              <a:ext cx="26964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15"/>
          <p:cNvSpPr/>
          <p:nvPr/>
        </p:nvSpPr>
        <p:spPr>
          <a:xfrm>
            <a:off x="3504600" y="3730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760560" y="3970440"/>
            <a:ext cx="269640" cy="269640"/>
            <a:chOff x="3760560" y="3970440"/>
            <a:chExt cx="269640" cy="269640"/>
          </a:xfrm>
        </p:grpSpPr>
        <p:sp>
          <p:nvSpPr>
            <p:cNvPr id="179" name="直接连接符 20"/>
            <p:cNvSpPr/>
            <p:nvPr/>
          </p:nvSpPr>
          <p:spPr>
            <a:xfrm flipH="1">
              <a:off x="3760560" y="3970440"/>
              <a:ext cx="26964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 rot="5400000">
              <a:off x="3760560" y="3970440"/>
              <a:ext cx="269640" cy="26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15"/>
          <p:cNvSpPr/>
          <p:nvPr/>
        </p:nvSpPr>
        <p:spPr>
          <a:xfrm>
            <a:off x="4711320" y="3730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964040" y="3970440"/>
            <a:ext cx="270000" cy="269640"/>
            <a:chOff x="4964040" y="3970440"/>
            <a:chExt cx="270000" cy="269640"/>
          </a:xfrm>
        </p:grpSpPr>
        <p:sp>
          <p:nvSpPr>
            <p:cNvPr id="183" name="直接连接符 22"/>
            <p:cNvSpPr/>
            <p:nvPr/>
          </p:nvSpPr>
          <p:spPr>
            <a:xfrm flipH="1">
              <a:off x="4964040" y="3970440"/>
              <a:ext cx="27000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5400000">
              <a:off x="4964040" y="3970080"/>
              <a:ext cx="26964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Text Box 15"/>
          <p:cNvSpPr/>
          <p:nvPr/>
        </p:nvSpPr>
        <p:spPr>
          <a:xfrm>
            <a:off x="6005160" y="37306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6232320" y="4032360"/>
            <a:ext cx="269640" cy="269640"/>
            <a:chOff x="6232320" y="4032360"/>
            <a:chExt cx="269640" cy="269640"/>
          </a:xfrm>
        </p:grpSpPr>
        <p:sp>
          <p:nvSpPr>
            <p:cNvPr id="187" name="直接连接符 24"/>
            <p:cNvSpPr/>
            <p:nvPr/>
          </p:nvSpPr>
          <p:spPr>
            <a:xfrm flipH="1">
              <a:off x="6232320" y="4032360"/>
              <a:ext cx="26964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 rot="5400000">
              <a:off x="6232320" y="4032360"/>
              <a:ext cx="269640" cy="26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矩形 25"/>
          <p:cNvSpPr/>
          <p:nvPr/>
        </p:nvSpPr>
        <p:spPr>
          <a:xfrm>
            <a:off x="1359000" y="4659480"/>
            <a:ext cx="650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但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商品贸易的发展，科技水平的提升，黄金的优点逐渐失去优势。</a:t>
            </a: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耐用？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始终会有点磨损……</a:t>
            </a: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割？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算分割得再细，也不可能拿黄金去买东西购物</a:t>
            </a:r>
            <a:r>
              <a:rPr b="0" i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携带？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可能携带贵重物品去逛街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…</a:t>
            </a:r>
            <a:r>
              <a:rPr b="1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难伪造？</a:t>
            </a: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看最信任的</a:t>
            </a:r>
            <a:r>
              <a:rPr b="0" i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CBC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6"/>
          <p:cNvSpPr/>
          <p:nvPr/>
        </p:nvSpPr>
        <p:spPr>
          <a:xfrm>
            <a:off x="4689720" y="68025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相反，纸币与电子货币，几乎很好地解决了上面全部的难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28"/>
          <p:cNvSpPr/>
          <p:nvPr/>
        </p:nvSpPr>
        <p:spPr>
          <a:xfrm>
            <a:off x="1044720" y="1736640"/>
            <a:ext cx="1314360" cy="127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9"/>
          <p:cNvSpPr/>
          <p:nvPr/>
        </p:nvSpPr>
        <p:spPr>
          <a:xfrm>
            <a:off x="1258560" y="22305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0"/>
          <p:cNvSpPr/>
          <p:nvPr/>
        </p:nvSpPr>
        <p:spPr>
          <a:xfrm>
            <a:off x="1402200" y="18367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7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31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194"/>
          <p:cNvSpPr/>
          <p:nvPr/>
        </p:nvSpPr>
        <p:spPr>
          <a:xfrm>
            <a:off x="2577960" y="1781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198" name="矩形 1"/>
          <p:cNvSpPr/>
          <p:nvPr/>
        </p:nvSpPr>
        <p:spPr>
          <a:xfrm>
            <a:off x="3215160" y="214632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黄金保值的逻辑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金本位与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4"/>
          <p:cNvSpPr/>
          <p:nvPr/>
        </p:nvSpPr>
        <p:spPr>
          <a:xfrm>
            <a:off x="8791560" y="2011320"/>
            <a:ext cx="3282840" cy="5505480"/>
          </a:xfrm>
          <a:custGeom>
            <a:avLst/>
            <a:gdLst>
              <a:gd name="textAreaLeft" fmla="*/ 64080 w 3282840"/>
              <a:gd name="textAreaRight" fmla="*/ 3218760 w 3282840"/>
              <a:gd name="textAreaTop" fmla="*/ 64080 h 5505480"/>
              <a:gd name="textAreaBottom" fmla="*/ 5441400 h 5505480"/>
            </a:gdLst>
            <a:ahLst/>
            <a:rect l="textAreaLeft" t="textAreaTop" r="textAreaRight" b="textAreaBottom"/>
            <a:pathLst>
              <a:path w="21600" h="36223">
                <a:moveTo>
                  <a:pt x="1440" y="0"/>
                </a:moveTo>
                <a:arcTo wR="1440" hR="1440" stAng="16200000" swAng="-5400000"/>
                <a:lnTo>
                  <a:pt x="0" y="34783"/>
                </a:lnTo>
                <a:arcTo wR="1440" hR="1440" stAng="10800000" swAng="-5400000"/>
                <a:lnTo>
                  <a:pt x="20160" y="36223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6"/>
          <p:cNvSpPr/>
          <p:nvPr/>
        </p:nvSpPr>
        <p:spPr>
          <a:xfrm>
            <a:off x="8859960" y="4629240"/>
            <a:ext cx="3157560" cy="2838240"/>
          </a:xfrm>
          <a:prstGeom prst="roundRect">
            <a:avLst>
              <a:gd name="adj" fmla="val 514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4"/>
          <p:cNvSpPr/>
          <p:nvPr/>
        </p:nvSpPr>
        <p:spPr>
          <a:xfrm>
            <a:off x="1359000" y="3184560"/>
            <a:ext cx="74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黄金保值的最具代表性的货币战争的作者宋鸿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黄金之所以能保值的逻辑如下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椭圆 27"/>
          <p:cNvSpPr/>
          <p:nvPr/>
        </p:nvSpPr>
        <p:spPr>
          <a:xfrm>
            <a:off x="1044720" y="1736640"/>
            <a:ext cx="1314360" cy="127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8"/>
          <p:cNvSpPr/>
          <p:nvPr/>
        </p:nvSpPr>
        <p:spPr>
          <a:xfrm>
            <a:off x="1258560" y="22305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9"/>
          <p:cNvSpPr/>
          <p:nvPr/>
        </p:nvSpPr>
        <p:spPr>
          <a:xfrm>
            <a:off x="1368720" y="18367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://epaper.tianjinwe.com/xjrgcb/images/1/542/2011-03/21/58/res01_attpic_brief.jpg"/>
          <p:cNvPicPr/>
          <p:nvPr/>
        </p:nvPicPr>
        <p:blipFill>
          <a:blip r:embed="rId2"/>
          <a:stretch/>
        </p:blipFill>
        <p:spPr>
          <a:xfrm>
            <a:off x="8931240" y="2087640"/>
            <a:ext cx="3000240" cy="2500200"/>
          </a:xfrm>
          <a:prstGeom prst="rect">
            <a:avLst/>
          </a:prstGeom>
          <a:ln w="0">
            <a:noFill/>
          </a:ln>
        </p:spPr>
      </p:pic>
      <p:sp>
        <p:nvSpPr>
          <p:cNvPr id="206" name="矩形 32"/>
          <p:cNvSpPr/>
          <p:nvPr/>
        </p:nvSpPr>
        <p:spPr>
          <a:xfrm>
            <a:off x="1359000" y="415908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505"/>
                </a:solidFill>
                <a:latin typeface="微软雅黑"/>
                <a:ea typeface="微软雅黑"/>
              </a:rPr>
              <a:t>纸币会因滥发而长期贬值，黄金因不能滥发而将长期保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33"/>
          <p:cNvSpPr/>
          <p:nvPr/>
        </p:nvSpPr>
        <p:spPr>
          <a:xfrm>
            <a:off x="3527280" y="4659480"/>
            <a:ext cx="2943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似很正确，实质是谬误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个逻辑成立的一个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的前提是</a:t>
            </a:r>
            <a:r>
              <a:rPr b="1" lang="zh-CN" sz="2600" spc="-1" strike="noStrike">
                <a:solidFill>
                  <a:srgbClr val="ff0000"/>
                </a:solidFill>
                <a:latin typeface="微软雅黑"/>
                <a:ea typeface="微软雅黑"/>
              </a:rPr>
              <a:t>“黄金是货币”</a:t>
            </a:r>
            <a:r>
              <a:rPr b="1" lang="en-US" sz="2600" spc="-1" strike="noStrike">
                <a:solidFill>
                  <a:srgbClr val="000000"/>
                </a:solidFill>
                <a:latin typeface="微软雅黑"/>
                <a:ea typeface="微软雅黑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34"/>
          <p:cNvSpPr/>
          <p:nvPr/>
        </p:nvSpPr>
        <p:spPr>
          <a:xfrm>
            <a:off x="1359000" y="569124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71</a:t>
            </a: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，“金本位”的废除，黄金早就不是货币了。先不论这是人为阴谋，还是历史规律，你首先要明确，这是一个客观事实。至于黄金在流通中的残余作用——比如我用黄金去购买商品，比如我用金币去缴税——这是因为黄金纵然不是货币了，但其作为商品，依然具备价值。请你不要以为，黄金这依然残留的价值，是“货币属性”赋予的，这只是“商品属性”赋予的。是任何商品都有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35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6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8859960" y="4603680"/>
            <a:ext cx="328608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谓“保值”就是“保住购买力”，它的大环境是纸币的不断贬值。“保值”绝对不是黄金特有的，在纸币不断贬值的环境下，任何商品对纸币都是不断升值的——都是保值的。说黄金保值，只不过是说，黄金比较其他商品更“保”，因为。黄金的物理与化学性质更稳定</a:t>
            </a:r>
            <a:r>
              <a:rPr b="0" lang="en-US" sz="1900" spc="-1" strike="noStrike">
                <a:solidFill>
                  <a:srgbClr val="595959"/>
                </a:solidFill>
                <a:latin typeface="微软雅黑"/>
                <a:ea typeface="微软雅黑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1859040" y="3404160"/>
            <a:ext cx="105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为铜币的废除，已经很久远的历史，大概晚清倒台，铜币就已经绝迹于中国的经济生活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13"/>
          <p:cNvSpPr/>
          <p:nvPr/>
        </p:nvSpPr>
        <p:spPr>
          <a:xfrm>
            <a:off x="1216080" y="2111400"/>
            <a:ext cx="10858320" cy="56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9"/>
          <p:cNvSpPr/>
          <p:nvPr/>
        </p:nvSpPr>
        <p:spPr>
          <a:xfrm>
            <a:off x="1368360" y="1839960"/>
            <a:ext cx="7777080" cy="431640"/>
          </a:xfrm>
          <a:prstGeom prst="rect">
            <a:avLst/>
          </a:prstGeom>
          <a:solidFill>
            <a:srgbClr val="a5a5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E:\仝德志文件，勿删！\03-参考文档\！PPT图片及版面资源\06-PPT精选插图\12-标签\橙色把手-阴影.png"/>
          <p:cNvPicPr/>
          <p:nvPr/>
        </p:nvPicPr>
        <p:blipFill>
          <a:blip r:embed="rId2"/>
          <a:stretch/>
        </p:blipFill>
        <p:spPr>
          <a:xfrm>
            <a:off x="2216160" y="1690560"/>
            <a:ext cx="1062000" cy="827280"/>
          </a:xfrm>
          <a:prstGeom prst="rect">
            <a:avLst/>
          </a:prstGeom>
          <a:ln w="0">
            <a:noFill/>
          </a:ln>
        </p:spPr>
      </p:pic>
      <p:sp>
        <p:nvSpPr>
          <p:cNvPr id="218" name="椭圆 12"/>
          <p:cNvSpPr/>
          <p:nvPr/>
        </p:nvSpPr>
        <p:spPr>
          <a:xfrm>
            <a:off x="1360440" y="187632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"/>
          <p:cNvSpPr/>
          <p:nvPr/>
        </p:nvSpPr>
        <p:spPr>
          <a:xfrm>
            <a:off x="3948480" y="18414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黄金保值的逻辑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金本位与否附加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5"/>
          <p:cNvSpPr/>
          <p:nvPr/>
        </p:nvSpPr>
        <p:spPr>
          <a:xfrm>
            <a:off x="1073160" y="1309680"/>
            <a:ext cx="1314360" cy="127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6"/>
          <p:cNvSpPr/>
          <p:nvPr/>
        </p:nvSpPr>
        <p:spPr>
          <a:xfrm>
            <a:off x="1288800" y="18032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7"/>
          <p:cNvSpPr/>
          <p:nvPr/>
        </p:nvSpPr>
        <p:spPr>
          <a:xfrm>
            <a:off x="1398240" y="140976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24"/>
          <p:cNvSpPr/>
          <p:nvPr/>
        </p:nvSpPr>
        <p:spPr>
          <a:xfrm>
            <a:off x="1787400" y="5049720"/>
            <a:ext cx="104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面对金本位废除后，通货膨胀、经济危机、纸币滥发、黄金保值等现象，也进一步促使黄金作为货币的观念，难以磨灭。但历史辩证地看，恢复金本位，跟辛亥革命之后帝制复辟，没什么两样。只不过后者，民主共和深入民心，帝制复辟只能昙花一现；而前者，黄金保值的思想深入民心，金本位复辟仿佛众望所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25"/>
          <p:cNvSpPr/>
          <p:nvPr/>
        </p:nvSpPr>
        <p:spPr>
          <a:xfrm>
            <a:off x="1216080" y="2730600"/>
            <a:ext cx="111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铜也是曾经的货币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现在也一样有价值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甚至还有融通手段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为什么没人说铜是货币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5"/>
          <p:cNvSpPr/>
          <p:nvPr/>
        </p:nvSpPr>
        <p:spPr>
          <a:xfrm>
            <a:off x="1395000" y="3133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589040" y="3505320"/>
            <a:ext cx="270000" cy="269640"/>
            <a:chOff x="1589040" y="3505320"/>
            <a:chExt cx="270000" cy="269640"/>
          </a:xfrm>
        </p:grpSpPr>
        <p:sp>
          <p:nvSpPr>
            <p:cNvPr id="227" name="直接连接符 27"/>
            <p:cNvSpPr/>
            <p:nvPr/>
          </p:nvSpPr>
          <p:spPr>
            <a:xfrm flipH="1">
              <a:off x="1589040" y="3505320"/>
              <a:ext cx="27000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 rot="5400000">
              <a:off x="1589040" y="3504960"/>
              <a:ext cx="26964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矩形 28"/>
          <p:cNvSpPr/>
          <p:nvPr/>
        </p:nvSpPr>
        <p:spPr>
          <a:xfrm>
            <a:off x="1859040" y="3759120"/>
            <a:ext cx="1042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已经过去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100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多年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—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换来了深入民心。为什么有宋鸿兵等人呼唤金本位的恢复？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1971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金本位的废除，不过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。黄金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2000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来货币之王的地位，不是</a:t>
            </a:r>
            <a:r>
              <a:rPr b="0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40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年的时间就能平息。人们从思维习惯上，接受黄金是货币比接受黄金不是货币要容易得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1433160" y="4672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27200" y="5045040"/>
            <a:ext cx="270000" cy="270000"/>
            <a:chOff x="1627200" y="5045040"/>
            <a:chExt cx="270000" cy="270000"/>
          </a:xfrm>
        </p:grpSpPr>
        <p:sp>
          <p:nvSpPr>
            <p:cNvPr id="232" name="直接连接符 30"/>
            <p:cNvSpPr/>
            <p:nvPr/>
          </p:nvSpPr>
          <p:spPr>
            <a:xfrm flipH="1">
              <a:off x="1627200" y="5045040"/>
              <a:ext cx="270000" cy="27000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 rot="5400000">
              <a:off x="1627200" y="5045040"/>
              <a:ext cx="27000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矩形 31"/>
          <p:cNvSpPr/>
          <p:nvPr/>
        </p:nvSpPr>
        <p:spPr>
          <a:xfrm>
            <a:off x="1287360" y="6643800"/>
            <a:ext cx="1085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现在的“保值”与一定的货币融通效果，是一般商品都具备的“商品属性”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黄金因其稳定的物理性质，使其在“保值”方面比其他商品略有优势。至于货币融通效果，在现代抵押贷款的金融制度下，任何有价值的商品，都能通过抵押，获得贷款，体现融通效果，并非黄金独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36" name="矩形 1"/>
          <p:cNvSpPr/>
          <p:nvPr/>
        </p:nvSpPr>
        <p:spPr>
          <a:xfrm>
            <a:off x="3465360" y="2146320"/>
            <a:ext cx="41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金本位不能恢复</a:t>
            </a:r>
            <a:r>
              <a:rPr b="1" lang="en-US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能实现货币属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圆角矩形 4"/>
          <p:cNvSpPr/>
          <p:nvPr/>
        </p:nvSpPr>
        <p:spPr>
          <a:xfrm>
            <a:off x="8791560" y="2297160"/>
            <a:ext cx="3282840" cy="5505480"/>
          </a:xfrm>
          <a:custGeom>
            <a:avLst/>
            <a:gdLst>
              <a:gd name="textAreaLeft" fmla="*/ 64080 w 3282840"/>
              <a:gd name="textAreaRight" fmla="*/ 3218760 w 3282840"/>
              <a:gd name="textAreaTop" fmla="*/ 64080 h 5505480"/>
              <a:gd name="textAreaBottom" fmla="*/ 5441400 h 5505480"/>
            </a:gdLst>
            <a:ahLst/>
            <a:rect l="textAreaLeft" t="textAreaTop" r="textAreaRight" b="textAreaBottom"/>
            <a:pathLst>
              <a:path w="21600" h="36223">
                <a:moveTo>
                  <a:pt x="1440" y="0"/>
                </a:moveTo>
                <a:arcTo wR="1440" hR="1440" stAng="16200000" swAng="-5400000"/>
                <a:lnTo>
                  <a:pt x="0" y="34783"/>
                </a:lnTo>
                <a:arcTo wR="1440" hR="1440" stAng="10800000" swAng="-5400000"/>
                <a:lnTo>
                  <a:pt x="20160" y="36223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solidFill>
            <a:srgbClr val="d8d8d8"/>
          </a:solidFill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圆角矩形 6"/>
          <p:cNvSpPr/>
          <p:nvPr/>
        </p:nvSpPr>
        <p:spPr>
          <a:xfrm>
            <a:off x="8859960" y="4915080"/>
            <a:ext cx="3157560" cy="2838240"/>
          </a:xfrm>
          <a:prstGeom prst="roundRect">
            <a:avLst>
              <a:gd name="adj" fmla="val 5148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27"/>
          <p:cNvSpPr/>
          <p:nvPr/>
        </p:nvSpPr>
        <p:spPr>
          <a:xfrm>
            <a:off x="1044720" y="1736640"/>
            <a:ext cx="1314360" cy="127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28"/>
          <p:cNvSpPr/>
          <p:nvPr/>
        </p:nvSpPr>
        <p:spPr>
          <a:xfrm>
            <a:off x="1258560" y="223056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29"/>
          <p:cNvSpPr/>
          <p:nvPr/>
        </p:nvSpPr>
        <p:spPr>
          <a:xfrm>
            <a:off x="1368720" y="183672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5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6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5"/>
          <p:cNvSpPr/>
          <p:nvPr/>
        </p:nvSpPr>
        <p:spPr>
          <a:xfrm>
            <a:off x="1359000" y="3087720"/>
            <a:ext cx="735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货币是社会财富（商品与劳务）的“凭据”，用于个体之间的贸易（商品与劳务的交换）。在这里，是不讨论货币的形式，假定货币的量是恒定不变的，这会产生什么问题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6"/>
          <p:cNvSpPr/>
          <p:nvPr/>
        </p:nvSpPr>
        <p:spPr>
          <a:xfrm>
            <a:off x="1287360" y="4087800"/>
            <a:ext cx="73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随着生产力的发展，财富增加，而货币量不变的话，必然使到每单位货币的购买力上升—因为货币对应的财富量增加了。而单位货币购买力的上升，展现在物价上，就是物价的下降—因为钱更值钱。这样首先导致一个问题，小额交易无法进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苹果图片"/>
          <p:cNvPicPr/>
          <p:nvPr/>
        </p:nvPicPr>
        <p:blipFill>
          <a:blip r:embed="rId2"/>
          <a:srcRect l="0" t="8029" r="0" b="0"/>
          <a:stretch/>
        </p:blipFill>
        <p:spPr>
          <a:xfrm>
            <a:off x="8879040" y="2425680"/>
            <a:ext cx="3071520" cy="2428920"/>
          </a:xfrm>
          <a:prstGeom prst="rect">
            <a:avLst/>
          </a:prstGeom>
          <a:ln w="0">
            <a:noFill/>
          </a:ln>
        </p:spPr>
      </p:pic>
      <p:sp>
        <p:nvSpPr>
          <p:cNvPr id="247" name="矩形 19"/>
          <p:cNvSpPr/>
          <p:nvPr/>
        </p:nvSpPr>
        <p:spPr>
          <a:xfrm>
            <a:off x="1287360" y="5445000"/>
            <a:ext cx="7500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这样的货币，不但非常保值，而且随着社会财富的增加，会不断升值。这会出现一个问题—制约生产力！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因为你完全不用劳动啦！你只要拿着货币，拿着黄金就好了！你等人家生产，等社会财富增加，到时你手上的货币购买力自然随之升值，你自自然然就分享到社会进步、财富累积的好处！这样一来，就跟我们建国初期的“共产主义”“农民合作社”没什么两样——吃大锅饭。大家都倾向于持有货币，都等他人生产，自己坐享其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1"/>
          <p:cNvSpPr/>
          <p:nvPr/>
        </p:nvSpPr>
        <p:spPr>
          <a:xfrm>
            <a:off x="8858160" y="4923000"/>
            <a:ext cx="321624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所以存量固定的货币，是不能适应生产力不断发展、财富不断累积的社会，这会造成“通货紧缩”——物价下降，货币购买力上升——导致生产商品的人无利润可言，而不生产只管持有货币的人却瓜分社会财富——这是一种制约生产力，把经济推向萧条的货币制度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Users\x201i\Desktop\未标题-1.jpg"/>
          <p:cNvPicPr/>
          <p:nvPr/>
        </p:nvPicPr>
        <p:blipFill>
          <a:blip r:embed="rId1"/>
          <a:stretch/>
        </p:blipFill>
        <p:spPr>
          <a:xfrm>
            <a:off x="0" y="0"/>
            <a:ext cx="13004640" cy="8889840"/>
          </a:xfrm>
          <a:prstGeom prst="rect">
            <a:avLst/>
          </a:prstGeom>
          <a:ln w="0">
            <a:noFill/>
          </a:ln>
        </p:spPr>
      </p:pic>
      <p:sp>
        <p:nvSpPr>
          <p:cNvPr id="250" name="矩形 13"/>
          <p:cNvSpPr/>
          <p:nvPr/>
        </p:nvSpPr>
        <p:spPr>
          <a:xfrm>
            <a:off x="1216080" y="2111400"/>
            <a:ext cx="10858320" cy="56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4"/>
          <p:cNvSpPr/>
          <p:nvPr/>
        </p:nvSpPr>
        <p:spPr>
          <a:xfrm>
            <a:off x="1368360" y="1839960"/>
            <a:ext cx="7777080" cy="431640"/>
          </a:xfrm>
          <a:prstGeom prst="rect">
            <a:avLst/>
          </a:prstGeom>
          <a:solidFill>
            <a:srgbClr val="a5a5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E:\仝德志文件，勿删！\03-参考文档\！PPT图片及版面资源\06-PPT精选插图\12-标签\橙色把手-阴影.png"/>
          <p:cNvPicPr/>
          <p:nvPr/>
        </p:nvPicPr>
        <p:blipFill>
          <a:blip r:embed="rId2"/>
          <a:stretch/>
        </p:blipFill>
        <p:spPr>
          <a:xfrm>
            <a:off x="2216160" y="1690560"/>
            <a:ext cx="1062000" cy="827280"/>
          </a:xfrm>
          <a:prstGeom prst="rect">
            <a:avLst/>
          </a:prstGeom>
          <a:ln w="0">
            <a:noFill/>
          </a:ln>
        </p:spPr>
      </p:pic>
      <p:sp>
        <p:nvSpPr>
          <p:cNvPr id="253" name="椭圆 16"/>
          <p:cNvSpPr/>
          <p:nvPr/>
        </p:nvSpPr>
        <p:spPr>
          <a:xfrm>
            <a:off x="1360440" y="187632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18"/>
          <p:cNvSpPr/>
          <p:nvPr/>
        </p:nvSpPr>
        <p:spPr>
          <a:xfrm>
            <a:off x="1073160" y="1309680"/>
            <a:ext cx="1314360" cy="12794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9"/>
          <p:cNvSpPr/>
          <p:nvPr/>
        </p:nvSpPr>
        <p:spPr>
          <a:xfrm>
            <a:off x="1288800" y="180324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观      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0"/>
          <p:cNvSpPr/>
          <p:nvPr/>
        </p:nvSpPr>
        <p:spPr>
          <a:xfrm>
            <a:off x="1398240" y="1409760"/>
            <a:ext cx="660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2"/>
          <p:cNvSpPr/>
          <p:nvPr/>
        </p:nvSpPr>
        <p:spPr>
          <a:xfrm>
            <a:off x="1359000" y="28735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金本位的弊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"/>
          <p:cNvSpPr/>
          <p:nvPr/>
        </p:nvSpPr>
        <p:spPr>
          <a:xfrm>
            <a:off x="3885840" y="183996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金本位不能恢复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能实现货币属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31"/>
          <p:cNvSpPr/>
          <p:nvPr/>
        </p:nvSpPr>
        <p:spPr>
          <a:xfrm>
            <a:off x="1359000" y="3599280"/>
            <a:ext cx="108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黄金是一种自然矿物，从地球诞生的那一天开始，黄金存量基本就固定了，但人类的社会财富在数千年来，是不断生产与累积的。固定的货币量，与不断增长的财富，形成两难问题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95000" y="415908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89040" y="4597560"/>
            <a:ext cx="270000" cy="269640"/>
            <a:chOff x="1589040" y="4597560"/>
            <a:chExt cx="270000" cy="269640"/>
          </a:xfrm>
        </p:grpSpPr>
        <p:sp>
          <p:nvSpPr>
            <p:cNvPr id="262" name="直接连接符 34"/>
            <p:cNvSpPr/>
            <p:nvPr/>
          </p:nvSpPr>
          <p:spPr>
            <a:xfrm flipH="1">
              <a:off x="1589040" y="4597560"/>
              <a:ext cx="27000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 rot="5400000">
              <a:off x="1589040" y="4597200"/>
              <a:ext cx="26964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5"/>
          <p:cNvSpPr/>
          <p:nvPr/>
        </p:nvSpPr>
        <p:spPr>
          <a:xfrm>
            <a:off x="1433160" y="494496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f7f7f"/>
                </a:solidFill>
                <a:latin typeface="Times New Roman"/>
                <a:ea typeface="造字工房悦黑体验版细长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27200" y="5318280"/>
            <a:ext cx="270000" cy="269640"/>
            <a:chOff x="1627200" y="5318280"/>
            <a:chExt cx="270000" cy="269640"/>
          </a:xfrm>
        </p:grpSpPr>
        <p:sp>
          <p:nvSpPr>
            <p:cNvPr id="266" name="直接连接符 36"/>
            <p:cNvSpPr/>
            <p:nvPr/>
          </p:nvSpPr>
          <p:spPr>
            <a:xfrm flipH="1">
              <a:off x="1627200" y="5318280"/>
              <a:ext cx="270000" cy="269640"/>
            </a:xfrm>
            <a:prstGeom prst="line">
              <a:avLst/>
            </a:prstGeom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 rot="5400000">
              <a:off x="1627200" y="5317920"/>
              <a:ext cx="269640" cy="27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37"/>
          <p:cNvSpPr/>
          <p:nvPr/>
        </p:nvSpPr>
        <p:spPr>
          <a:xfrm>
            <a:off x="1859040" y="4373640"/>
            <a:ext cx="103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你要稳定币值，那么其购买力必定随财富增长而增长，届时将无人愿意生产劳动，只管持有货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8"/>
          <p:cNvSpPr/>
          <p:nvPr/>
        </p:nvSpPr>
        <p:spPr>
          <a:xfrm>
            <a:off x="1859040" y="5159520"/>
            <a:ext cx="103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你要稳定物价，那么就必然要降低单位货币的购买力，届时将无人愿意持有货币，货币无法流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9"/>
          <p:cNvSpPr/>
          <p:nvPr/>
        </p:nvSpPr>
        <p:spPr>
          <a:xfrm>
            <a:off x="1428840" y="6137280"/>
            <a:ext cx="1064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确的货币制度，必然是货币的增量与社会财富的增量，相适应地，并驾齐驱。这样才能既保持币值，也稳定物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40"/>
          <p:cNvSpPr/>
          <p:nvPr/>
        </p:nvSpPr>
        <p:spPr>
          <a:xfrm>
            <a:off x="1430280" y="7054920"/>
            <a:ext cx="1064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而金本位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恰恰以存量固定的黄金为“本”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黄金为本的货币体系自然会崩溃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41"/>
          <p:cNvSpPr/>
          <p:nvPr/>
        </p:nvSpPr>
        <p:spPr>
          <a:xfrm>
            <a:off x="10061640" y="0"/>
            <a:ext cx="24415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Gold Investme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42"/>
          <p:cNvSpPr/>
          <p:nvPr/>
        </p:nvSpPr>
        <p:spPr>
          <a:xfrm>
            <a:off x="12146040" y="-4752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T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8194"/>
          <p:cNvSpPr/>
          <p:nvPr/>
        </p:nvSpPr>
        <p:spPr>
          <a:xfrm>
            <a:off x="3549600" y="2897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0T18:1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07Z</dcterms:modified>
  <cp:revision>2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