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5687-E446-4F3A-A033-175D4E81F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8454-77D9-45EF-977E-E62486CEC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D7A9-D2C4-43DE-ABEA-80770C3B0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D933-EEF0-4A1F-AA72-704C434FA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91AF-F1CA-4C17-80DD-18E80B2ED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0080C-C27C-4286-B615-EFE91D5F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1BDCD-401B-443E-AAD2-52EE18C2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69343-46F7-4396-8D9C-77F7552E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20489-B963-40AE-9550-0E61E5A1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68660-3D8B-45D9-B794-E0B6B3C4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8EA8-C74C-495A-869C-3437DB06EF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E10B1-B198-4E27-B873-933310D5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48298-5323-4ABC-B643-9BFECDF8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A41DE-D735-477C-8708-6CEB7263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F11B0-460A-48C0-84CD-F578FE8A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F2EE8-C000-404A-AF5B-AE86748A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E55F5-3425-499E-A14E-9C66F594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1241B-7BEA-4A3E-BD96-2765F16F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C556-7E32-46C7-9C38-65FC55D6B3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A053-E068-47FB-8FCA-8FBFD5A32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8B0D-17FA-4CE5-B2F2-87605BEC6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71AD-7D0B-49CF-B13F-D30DF8687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9820-84AC-4415-A91B-7A3D31566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C88F-4047-4476-993C-55095805F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90113" descr="2008-4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文本框 90114"/>
          <p:cNvSpPr/>
          <p:nvPr/>
        </p:nvSpPr>
        <p:spPr>
          <a:xfrm>
            <a:off x="7524720" y="333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90116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90118"/>
          <p:cNvSpPr/>
          <p:nvPr/>
        </p:nvSpPr>
        <p:spPr>
          <a:xfrm>
            <a:off x="1547640" y="627696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文本框 90119"/>
          <p:cNvSpPr/>
          <p:nvPr/>
        </p:nvSpPr>
        <p:spPr>
          <a:xfrm>
            <a:off x="611280" y="6132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0" y="6565680"/>
            <a:ext cx="9144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080C-09A7-4515-9AAE-1E4633AF652F}" type="slidenum"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>
            <a:hlinkClick r:id="rId5"/>
          </p:cNvPr>
          <p:cNvSpPr/>
          <p:nvPr/>
        </p:nvSpPr>
        <p:spPr>
          <a:xfrm>
            <a:off x="2368800" y="385992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3317" descr="png-0056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318" descr="png-0002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13319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51" name="图片 13320" descr="soft7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3321" descr="soft7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矩形 13322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323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324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3326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3330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  <a:ea typeface="华文细黑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13331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63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3348720" y="1125360"/>
              <a:ext cx="360" cy="576360"/>
              <a:chOff x="3348720" y="1125360"/>
              <a:chExt cx="360" cy="576360"/>
            </a:xfrm>
          </p:grpSpPr>
          <p:sp>
            <p:nvSpPr>
              <p:cNvPr id="66" name="直接连接符 13334"/>
              <p:cNvSpPr/>
              <p:nvPr/>
            </p:nvSpPr>
            <p:spPr>
              <a:xfrm>
                <a:off x="3348720" y="1125360"/>
                <a:ext cx="0" cy="57636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>
                <a:off x="3348720" y="1125360"/>
                <a:ext cx="36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7BA5-DA5B-4858-B20A-850B683611E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153F-8318-40B9-8049-5D863316D7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91137" descr="2008-4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91138" descr="2"/>
          <p:cNvPicPr/>
          <p:nvPr/>
        </p:nvPicPr>
        <p:blipFill>
          <a:blip r:embed="rId4"/>
          <a:stretch/>
        </p:blipFill>
        <p:spPr>
          <a:xfrm>
            <a:off x="745164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91139"/>
          <p:cNvSpPr/>
          <p:nvPr/>
        </p:nvSpPr>
        <p:spPr>
          <a:xfrm>
            <a:off x="7380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2064"/>
          <p:cNvSpPr txBox="1"/>
          <p:nvPr/>
        </p:nvSpPr>
        <p:spPr>
          <a:xfrm>
            <a:off x="755640" y="4724280"/>
            <a:ext cx="352728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i="1" lang="en-US" sz="1800" spc="-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87" name="矩形 2065"/>
          <p:cNvSpPr txBox="1"/>
          <p:nvPr/>
        </p:nvSpPr>
        <p:spPr>
          <a:xfrm>
            <a:off x="-2771640" y="486828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5f5f5f">
                        <a:alpha val="20000"/>
                      </a:srgbClr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i="1" lang="en-US" sz="1800" spc="-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5f5f5f">
                      <a:alpha val="20000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702648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紫色背景工作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592A-E494-4E14-B858-7F389D4DC1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0263" descr="2008-4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10264" descr="2008-4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6" name="矩形 10260"/>
          <p:cNvSpPr txBox="1"/>
          <p:nvPr/>
        </p:nvSpPr>
        <p:spPr>
          <a:xfrm>
            <a:off x="1258920" y="2781360"/>
            <a:ext cx="215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-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97" name="矩形 10261"/>
          <p:cNvSpPr txBox="1"/>
          <p:nvPr/>
        </p:nvSpPr>
        <p:spPr>
          <a:xfrm>
            <a:off x="-89892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ddddd">
                        <a:alpha val="0"/>
                      </a:srgbClr>
                    </a:gs>
                    <a:gs pos="100000">
                      <a:srgbClr val="808080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-1" strike="noStrike">
              <a:ln w="0">
                <a:noFill/>
              </a:ln>
              <a:gradFill rotWithShape="0">
                <a:gsLst>
                  <a:gs pos="0">
                    <a:srgbClr val="dddddd">
                      <a:alpha val="0"/>
                    </a:srgbClr>
                  </a:gs>
                  <a:gs pos="100000">
                    <a:srgbClr val="808080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9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42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