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8C88-D453-499C-99AF-06926C03A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B39F-DD21-4950-A573-133E1BDA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79B5-382D-4C46-872C-2EC4F5FE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FB8D-5052-4216-9271-7309419A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12D4-7D80-48DF-8BD0-EE55E451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5F25-A63D-41F1-A733-995A6C05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8081-831A-4ACF-86A8-4423D28F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5CA7-5693-4EC2-AF73-4D652AC7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B404-D3A5-40A5-B077-05184BD2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29FF-22FC-4B05-BBDD-14BF47A8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DDEF-80CC-4BB7-9073-1920BABD6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0E50-DEF8-4326-A219-0A19F8FF8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038"/>
          <p:cNvSpPr/>
          <p:nvPr/>
        </p:nvSpPr>
        <p:spPr>
          <a:xfrm>
            <a:off x="6156360" y="54936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文本框 1039"/>
          <p:cNvSpPr/>
          <p:nvPr/>
        </p:nvSpPr>
        <p:spPr>
          <a:xfrm>
            <a:off x="7859880" y="4366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图片 1043" descr="ND-1"/>
          <p:cNvPicPr/>
          <p:nvPr/>
        </p:nvPicPr>
        <p:blipFill>
          <a:blip r:embed="rId3"/>
          <a:stretch/>
        </p:blipFill>
        <p:spPr>
          <a:xfrm>
            <a:off x="7586640" y="5445000"/>
            <a:ext cx="1017720" cy="1017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7C63-4CA5-4AFF-8B1E-52C72D7E96E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6330-0326-47B7-98B2-767AD1EAEDD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1773360"/>
            <a:ext cx="8677080" cy="13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正式的报告总结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C2EF-0699-4685-BAAD-F765AFCF9C2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6148"/>
          <p:cNvSpPr/>
          <p:nvPr/>
        </p:nvSpPr>
        <p:spPr>
          <a:xfrm>
            <a:off x="2416320" y="1628640"/>
            <a:ext cx="457344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8194"/>
          <p:cNvSpPr/>
          <p:nvPr/>
        </p:nvSpPr>
        <p:spPr>
          <a:xfrm>
            <a:off x="2195640" y="31417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80808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4:39Z</dcterms:modified>
  <cp:revision>3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