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436-DFF6-4736-9CD1-49BDFD49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FFC-98CB-45A9-971E-464F1B59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A8E-5749-48BF-8591-6510A077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968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968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15F-A6AA-4665-A00D-9ECBDC58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76CE-8245-45FE-A536-3896DA3A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4E97-C543-47AD-B4CA-71014243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CE29-5F7C-4296-B2A1-7EC56E21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1CE0-42CD-4D6A-95F9-416050AF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7DD9-439D-4913-95A4-A7336FD9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99D7-4DBD-40F9-943C-E1B36964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8906-53BF-457B-8086-F2C4D0B6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856-152D-4312-BCDD-3F3143EC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F187-6A5C-4C5A-8E5E-9DFF2F8F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E89E-79FA-4039-B1B3-E0BBEB6F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5A9F-371D-4EC8-A7F0-D896768F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1C6B-F39D-4CDA-80DB-241C2D16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1968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584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1968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584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6240-0F0E-4543-B37C-C77549C3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516AD-819F-42CA-86AD-777111B1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8FB5F-A75D-4C0C-B951-92F29369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63BC2-F964-4600-9579-54E63E28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5814-E7D9-4822-A023-EF2B5D40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0CC0-B99E-414D-9931-5B6B2DCE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52C-A49E-400B-879D-6947030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DE29-817A-4E93-90BE-7BBB2557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883F-C749-4133-953C-93DFBC77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AF267-1E92-4B3F-8834-7689898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A28F5-48C8-4464-BF85-B1F9CB6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0529-2A2A-4DF4-B992-B1A3256E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542F6-8654-4024-A880-FC1B85EA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1968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1584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52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1968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1584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09F1-5F48-4DBA-9846-7CCFDC42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8B9-B69C-44D1-B970-5AF47795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B45-EB32-4668-A6AC-8105738C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CD3-6924-4008-9A82-2338B6AA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C5A-4136-46F7-88ED-FB23FB4B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F72-E0A0-4676-99CA-9C6ED764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369-3A92-43B7-BBC7-A880EC7F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40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7406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740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7406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7406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CF0F-5E6D-45C0-9F6F-841CDE4B5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96F5-E599-4DEB-B4A4-A51AB756DAC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51B9-A95C-41E7-A70D-EE168492CF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40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7406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740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7406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7406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B68-E111-488F-941F-7F7013707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85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OBAL BACKY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4647960"/>
            <a:ext cx="7925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062b"/>
                </a:solidFill>
                <a:latin typeface="Arial"/>
              </a:rPr>
              <a:t>YOUR SUBTITLE GOES HERE</a:t>
            </a:r>
            <a:endParaRPr b="0" lang="en-US" sz="20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697040" y="380880"/>
            <a:ext cx="566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紫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Arial"/>
              </a:rPr>
              <a:t>色国外经典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打包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Arial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40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pic>
        <p:nvPicPr>
          <p:cNvPr id="129" name="图片 9219" descr="safari_man_with_a_map_hg_clr"/>
          <p:cNvPicPr/>
          <p:nvPr/>
        </p:nvPicPr>
        <p:blipFill>
          <a:blip r:embed="rId1"/>
          <a:stretch/>
        </p:blipFill>
        <p:spPr>
          <a:xfrm>
            <a:off x="6934320" y="3733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32" name="文本框 8199"/>
          <p:cNvSpPr/>
          <p:nvPr/>
        </p:nvSpPr>
        <p:spPr>
          <a:xfrm>
            <a:off x="2133720" y="2895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A1F4-34C5-4892-85FF-EF3C5424C5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062b"/>
                </a:solidFill>
                <a:latin typeface="Arial"/>
              </a:rPr>
              <a:t>TRANSITIONAL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图片 10245" descr="road_trip_hg_clr"/>
          <p:cNvPicPr/>
          <p:nvPr/>
        </p:nvPicPr>
        <p:blipFill>
          <a:blip r:embed="rId2"/>
          <a:stretch/>
        </p:blipFill>
        <p:spPr>
          <a:xfrm>
            <a:off x="5867280" y="2362320"/>
            <a:ext cx="3200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22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4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