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A56-E4B2-4100-90A4-9EC81B0F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0ED-6146-4755-93D8-4B6EC5A8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E0C-CB70-4523-9DE1-C80FC375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A2B-072E-4EB7-A153-5C8E7709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EAC6-3C22-447A-8049-133A0B4A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EC73-9CC4-4D42-8729-866E48A4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806C-C6E4-4CA4-9E53-B033A2F7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5809-AE57-434F-9199-2CF67918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E581-108D-4AF7-A01B-72BFA892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A926-B284-4918-A18B-18F96830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8F63-30F7-43FC-9C37-F7E63D73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F8C-F479-405E-BAC3-A5E61532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5D19-C464-4E59-BFA6-0F5CCAD2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FDD6-836B-47AA-9022-F280A6F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0590-1581-42A5-B0F9-89FFAAD2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53B2-E5F5-482E-8457-7F3058B1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C2B6-1F91-4099-927B-376132C7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3F9-0C2D-4456-A4F4-72E238FD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56A-0166-4B15-A67C-E6093A21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5E5-AB14-4ECA-9109-2C4B33E8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1E4-C268-4044-A4E4-ED2A5157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406-78A1-4EE3-86E6-2BADB476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2F7-4D9D-47A4-B597-8B8E0257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94C-3358-4C77-8591-E0B4550E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A957-26B3-4758-ACAA-1C374E75A76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1B40-261B-4477-9FD3-38380A93003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4971-B508-4629-A27A-22230CB03C4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FC8F-3734-4428-A362-7382EA3279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928880" y="38448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4140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592668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4"/>
          <p:cNvSpPr/>
          <p:nvPr/>
        </p:nvSpPr>
        <p:spPr>
          <a:xfrm>
            <a:off x="1258920" y="981000"/>
            <a:ext cx="68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喵星人卡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3"/>
          <p:cNvSpPr/>
          <p:nvPr/>
        </p:nvSpPr>
        <p:spPr>
          <a:xfrm>
            <a:off x="3429000" y="4929120"/>
            <a:ext cx="16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4926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6"/>
          <p:cNvSpPr/>
          <p:nvPr/>
        </p:nvSpPr>
        <p:spPr>
          <a:xfrm>
            <a:off x="5355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2997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2283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A9A7-EB21-4BEF-8C89-299AE4568D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3"/>
          <p:cNvSpPr/>
          <p:nvPr/>
        </p:nvSpPr>
        <p:spPr>
          <a:xfrm>
            <a:off x="3859200" y="3214800"/>
            <a:ext cx="20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19976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6:25:0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6:33Z</dcterms:modified>
  <cp:revision>20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