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2BEA-55C8-47D1-A6A6-4F69B978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4BDD-154C-4029-B264-7A8B486C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821E-60DC-4DB1-8110-9CDF42C6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9729-904D-4C72-AB96-A78A4DA8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BF94-DF2A-4B2F-BECF-A228E06F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05A3-4417-46FE-A13E-A4C02938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257C-1166-45E7-9504-03999BE9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5AE5-141D-4410-8615-48FB8448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BE7E-6D13-4BEB-A7B1-456BCD80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8D81-4D04-433F-841B-8E9F7F06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695F-FBA2-4E75-A5E9-DEB111CF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78E9-2440-476D-AAC1-ED2CBAEB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2258-2001-4FD5-9785-9351943A9A6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4D07-F55B-447F-B4BC-ED2E29DA34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4879080" y="309096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d83e2c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D:\001PPT\100作品\03燕京公益\pic\MP900438521.JPG"/>
          <p:cNvPicPr/>
          <p:nvPr/>
        </p:nvPicPr>
        <p:blipFill>
          <a:blip r:embed="rId2"/>
          <a:stretch/>
        </p:blipFill>
        <p:spPr>
          <a:xfrm>
            <a:off x="2743200" y="3790800"/>
            <a:ext cx="6400800" cy="3067200"/>
          </a:xfrm>
          <a:prstGeom prst="rect">
            <a:avLst/>
          </a:prstGeom>
          <a:ln w="0">
            <a:noFill/>
          </a:ln>
        </p:spPr>
      </p:pic>
      <p:sp>
        <p:nvSpPr>
          <p:cNvPr id="43" name="矩形 2"/>
          <p:cNvSpPr/>
          <p:nvPr/>
        </p:nvSpPr>
        <p:spPr>
          <a:xfrm>
            <a:off x="0" y="2133720"/>
            <a:ext cx="9144000" cy="1657080"/>
          </a:xfrm>
          <a:prstGeom prst="rect">
            <a:avLst/>
          </a:prstGeom>
          <a:solidFill>
            <a:srgbClr val="aa2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8040" y="2319120"/>
            <a:ext cx="5440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ed8a6"/>
                </a:solidFill>
                <a:latin typeface="造字工房悦黑演示版常规体"/>
                <a:ea typeface="造字工房悦黑演示版常规体"/>
              </a:rPr>
              <a:t>心</a:t>
            </a:r>
            <a:r>
              <a:rPr b="0" lang="en-US" sz="4400" spc="-1" strike="noStrike">
                <a:solidFill>
                  <a:srgbClr val="fed8a6"/>
                </a:solidFill>
                <a:latin typeface="造字工房悦黑演示版常规体"/>
                <a:ea typeface="造字工房悦黑演示版常规体"/>
              </a:rPr>
              <a:t>  </a:t>
            </a:r>
            <a:r>
              <a:rPr b="0" lang="zh-CN" sz="4400" spc="-1" strike="noStrike">
                <a:solidFill>
                  <a:srgbClr val="fed8a6"/>
                </a:solidFill>
                <a:latin typeface="Kozuka Gothic Pro H"/>
                <a:ea typeface="Kozuka Gothic Pro H"/>
              </a:rPr>
              <a:t>你 </a:t>
            </a:r>
            <a:r>
              <a:rPr b="0" lang="en-US" sz="4400" spc="-1" strike="noStrike">
                <a:solidFill>
                  <a:srgbClr val="fed8a6"/>
                </a:solidFill>
                <a:latin typeface="Kozuka Gothic Pro H"/>
                <a:ea typeface="Kozuka Gothic Pro H"/>
              </a:rPr>
              <a:t>+ </a:t>
            </a:r>
            <a:r>
              <a:rPr b="0" lang="zh-CN" sz="4400" spc="-1" strike="noStrike">
                <a:solidFill>
                  <a:srgbClr val="fed8a6"/>
                </a:solidFill>
                <a:latin typeface="Kozuka Gothic Pro H"/>
                <a:ea typeface="Kozuka Gothic Pro H"/>
              </a:rPr>
              <a:t>我</a:t>
            </a:r>
            <a:r>
              <a:rPr b="0" lang="en-US" sz="4400" spc="-1" strike="noStrike">
                <a:solidFill>
                  <a:srgbClr val="fed8a6"/>
                </a:solidFill>
                <a:latin typeface="Kozuka Gothic Pro H"/>
                <a:ea typeface="Kozuka Gothic Pro H"/>
              </a:rPr>
              <a:t>+ </a:t>
            </a:r>
            <a:r>
              <a:rPr b="0" lang="zh-CN" sz="4400" spc="-1" strike="noStrike">
                <a:solidFill>
                  <a:srgbClr val="fed8a6"/>
                </a:solidFill>
                <a:latin typeface="Kozuka Gothic Pro H"/>
                <a:ea typeface="Kozuka Gothic Pro H"/>
              </a:rPr>
              <a:t>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2266920" y="34210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1175760" y="21337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方正舒体"/>
                <a:ea typeface="方正舒体"/>
              </a:rPr>
              <a:t>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1520" y="64324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29920" y="2160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爱心公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D:\001PPT\103燕京公益\pic\MP900439423.JPG"/>
          <p:cNvPicPr/>
          <p:nvPr/>
        </p:nvPicPr>
        <p:blipFill>
          <a:blip r:embed="rId1"/>
          <a:srcRect l="10697" t="10726" r="8825" b="7705"/>
          <a:stretch/>
        </p:blipFill>
        <p:spPr>
          <a:xfrm>
            <a:off x="2406600" y="914400"/>
            <a:ext cx="5153040" cy="52228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187280" y="5384880"/>
            <a:ext cx="28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造字工房悦黑演示版常规体"/>
                <a:ea typeface="造字工房悦黑演示版常规体"/>
              </a:rPr>
              <a:t>公益事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-41400" y="6021360"/>
            <a:ext cx="3748680" cy="71640"/>
            <a:chOff x="-41400" y="6021360"/>
            <a:chExt cx="3748680" cy="71640"/>
          </a:xfrm>
        </p:grpSpPr>
        <p:sp>
          <p:nvSpPr>
            <p:cNvPr id="52" name="直接连接符 7"/>
            <p:cNvSpPr/>
            <p:nvPr/>
          </p:nvSpPr>
          <p:spPr>
            <a:xfrm>
              <a:off x="-41400" y="6021360"/>
              <a:ext cx="3741840" cy="0"/>
            </a:xfrm>
            <a:prstGeom prst="line">
              <a:avLst/>
            </a:prstGeom>
            <a:ln w="9360">
              <a:solidFill>
                <a:srgbClr val="7f20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直接连接符 8"/>
            <p:cNvSpPr/>
            <p:nvPr/>
          </p:nvSpPr>
          <p:spPr>
            <a:xfrm>
              <a:off x="-34560" y="6093000"/>
              <a:ext cx="3741840" cy="0"/>
            </a:xfrm>
            <a:prstGeom prst="line">
              <a:avLst/>
            </a:prstGeom>
            <a:ln w="25560">
              <a:solidFill>
                <a:srgbClr val="7f20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5"/>
          <p:cNvSpPr/>
          <p:nvPr/>
        </p:nvSpPr>
        <p:spPr>
          <a:xfrm rot="20866200">
            <a:off x="3977640" y="2363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爱心公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83e2c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2"/>
          <p:cNvSpPr/>
          <p:nvPr/>
        </p:nvSpPr>
        <p:spPr>
          <a:xfrm>
            <a:off x="4879080" y="309096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d83e2c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刘慧玲\Pictures\Flickr Images\4504112515_128060f355 渴望的眼�_M.jpg"/>
          <p:cNvPicPr/>
          <p:nvPr/>
        </p:nvPicPr>
        <p:blipFill>
          <a:blip r:embed="rId2"/>
          <a:stretch/>
        </p:blipFill>
        <p:spPr>
          <a:xfrm>
            <a:off x="4557600" y="0"/>
            <a:ext cx="4586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3"/>
          <p:cNvGrpSpPr/>
          <p:nvPr/>
        </p:nvGrpSpPr>
        <p:grpSpPr>
          <a:xfrm>
            <a:off x="-41400" y="6021360"/>
            <a:ext cx="3748680" cy="71640"/>
            <a:chOff x="-41400" y="6021360"/>
            <a:chExt cx="3748680" cy="71640"/>
          </a:xfrm>
        </p:grpSpPr>
        <p:sp>
          <p:nvSpPr>
            <p:cNvPr id="59" name="直接连接符 5"/>
            <p:cNvSpPr/>
            <p:nvPr/>
          </p:nvSpPr>
          <p:spPr>
            <a:xfrm>
              <a:off x="-41400" y="6021360"/>
              <a:ext cx="3741840" cy="0"/>
            </a:xfrm>
            <a:prstGeom prst="line">
              <a:avLst/>
            </a:prstGeom>
            <a:ln w="9360">
              <a:solidFill>
                <a:srgbClr val="7f20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直接连接符 6"/>
            <p:cNvSpPr/>
            <p:nvPr/>
          </p:nvSpPr>
          <p:spPr>
            <a:xfrm>
              <a:off x="-34560" y="6093000"/>
              <a:ext cx="3741840" cy="0"/>
            </a:xfrm>
            <a:prstGeom prst="line">
              <a:avLst/>
            </a:prstGeom>
            <a:ln w="25560">
              <a:solidFill>
                <a:srgbClr val="7f20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Box 3"/>
          <p:cNvSpPr/>
          <p:nvPr/>
        </p:nvSpPr>
        <p:spPr>
          <a:xfrm>
            <a:off x="877320" y="5570640"/>
            <a:ext cx="17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造字工房悦黑演示版常规体"/>
                <a:ea typeface="造字工房悦黑演示版常规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造字工房悦黑演示版常规体"/>
                <a:ea typeface="造字工房悦黑演示版常规体"/>
              </a:rPr>
              <a:t>儿童……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2"/>
          <p:cNvSpPr/>
          <p:nvPr/>
        </p:nvSpPr>
        <p:spPr>
          <a:xfrm>
            <a:off x="-41400" y="0"/>
            <a:ext cx="9185400" cy="685800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2359800" y="2612880"/>
            <a:ext cx="48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7f2016"/>
                </a:solidFill>
                <a:latin typeface="Kozuka Gothic Pr6N H"/>
                <a:ea typeface="Kozuka Gothic Pr6N H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A22F-BE00-495B-BD01-9958E8EA45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7:45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7:08:32Z</dcterms:modified>
  <cp:revision>8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