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C9B-335D-458B-B40D-220E2A4F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34F-DA44-429E-89E8-808F377B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2B3-D621-461E-90AE-82F69128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6E3-F9B9-4E42-867F-704EBD08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3B5-BAEC-48A5-9629-694A233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AAB-07B8-4743-8CDE-2CAA4D1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225-A08B-4F2F-AFB8-98CB2DD5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CBD-F531-4FCC-91D9-F90EC4A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05A-95E2-481B-95D0-0137A3E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03640" y="189000"/>
            <a:ext cx="45943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B45-5BD9-48AD-B6BA-8BEAE3FD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7CD9-3EA3-416A-A4CB-C190095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7E2-D643-473F-A934-14E97AB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A984-B816-472D-8CCF-8B27E12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8827-9952-4D6B-A047-F0DF649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C28-7165-4EA4-9811-F89725C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723A-2C32-46BD-974C-F3AC169F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82A-CAE9-419F-A4FD-8FEEBA9A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E11-ABB1-4597-B399-FA45B6A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C10-9B28-4794-B705-E7FB21A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893-3D9A-496E-8DAA-5D4F063B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03640" y="189000"/>
            <a:ext cx="45943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C28-64F2-4915-8FB0-B337C87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09E-03A5-45B6-AD9C-DF5101E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B93-1D83-4D8F-9E32-7CA6F8A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32C-2020-4FAE-8E3D-D3158C0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DD60-AA37-4AC2-83A3-F4090F9DB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3840" y="260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公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及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275"/>
          <a:stretch/>
        </p:blipFill>
        <p:spPr>
          <a:xfrm>
            <a:off x="0" y="836640"/>
            <a:ext cx="9144000" cy="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3A6C-F5ED-4A7E-A6D4-DDDAF8E61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336640"/>
            <a:ext cx="64008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8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部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916280"/>
            <a:ext cx="194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添加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03280" y="2492280"/>
            <a:ext cx="6337440" cy="73080"/>
            <a:chOff x="1403280" y="2492280"/>
            <a:chExt cx="6337440" cy="73080"/>
          </a:xfrm>
        </p:grpSpPr>
        <p:sp>
          <p:nvSpPr>
            <p:cNvPr id="92" name=""/>
            <p:cNvSpPr/>
            <p:nvPr/>
          </p:nvSpPr>
          <p:spPr>
            <a:xfrm>
              <a:off x="1403280" y="2492280"/>
              <a:ext cx="63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3280" y="2565360"/>
              <a:ext cx="633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题标题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79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700360" y="3860640"/>
            <a:ext cx="38196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谢谢大家</a:t>
            </a:r>
            <a:r>
              <a:rPr b="1" lang="en-US" sz="6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!</a:t>
            </a:r>
            <a:endParaRPr b="1" lang="en-US" sz="66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394-B8A1-4CB2-BA8F-E1C7466827A5}" type="slidenum">
              <a:t>5</a:t>
            </a:fld>
          </a:p>
        </p:txBody>
      </p:sp>
    </p:spTree>
  </p:cSld>
  <p:transition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5:4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9:14:0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