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B6A-7CAA-4E97-9CB8-3A5C3987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F8E-6F38-419E-896F-727054D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553-DF91-4495-83A0-4E578CDF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CAB-49E6-48C8-AE47-7E7A452E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F20-0A1C-4265-9E88-5BC3E1CB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FD4-9D1B-4AF2-9CD0-DCCF6479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F1F-3AA5-40AA-BAAD-FA9F5911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38D-5C10-4D15-9FEE-56E7A858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839-F877-4B8C-9E63-67FB47B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83F-FA98-40DF-B4EE-1E78542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77E-E51B-42E7-ACFA-1F3D507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921-081E-4766-962E-62BC2D7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38E-A46D-4649-BDE5-AD79B461C9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40000">
            <a:off x="6540840" y="263988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485120" y="-23760"/>
            <a:ext cx="4727520" cy="2579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36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912400" y="9414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办公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方叠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8180000">
            <a:off x="2136960" y="4797360"/>
            <a:ext cx="34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777777"/>
                </a:solidFill>
                <a:latin typeface="Arial Black"/>
                <a:ea typeface="Dotum"/>
              </a:rPr>
              <a:t>WPS Offic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300000">
            <a:off x="3337200" y="5021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400520" y="2230560"/>
            <a:ext cx="1824120" cy="873360"/>
            <a:chOff x="7400520" y="2230560"/>
            <a:chExt cx="1824120" cy="873360"/>
          </a:xfrm>
        </p:grpSpPr>
        <p:sp>
          <p:nvSpPr>
            <p:cNvPr id="49" name=""/>
            <p:cNvSpPr/>
            <p:nvPr/>
          </p:nvSpPr>
          <p:spPr>
            <a:xfrm>
              <a:off x="7400520" y="2400120"/>
              <a:ext cx="182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Writer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86920" y="2230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902720" y="3251160"/>
            <a:ext cx="2989080" cy="899640"/>
            <a:chOff x="7902720" y="3251160"/>
            <a:chExt cx="2989080" cy="899640"/>
          </a:xfrm>
        </p:grpSpPr>
        <p:sp>
          <p:nvSpPr>
            <p:cNvPr id="52" name=""/>
            <p:cNvSpPr/>
            <p:nvPr/>
          </p:nvSpPr>
          <p:spPr>
            <a:xfrm>
              <a:off x="7915320" y="3431880"/>
              <a:ext cx="29764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777777"/>
                  </a:solidFill>
                  <a:latin typeface="Arial Black"/>
                </a:rPr>
                <a:t>Presentation</a:t>
              </a: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720" y="3251160"/>
              <a:ext cx="99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展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255160" y="4410000"/>
            <a:ext cx="3035160" cy="885960"/>
            <a:chOff x="8255160" y="4410000"/>
            <a:chExt cx="3035160" cy="885960"/>
          </a:xfrm>
        </p:grpSpPr>
        <p:sp>
          <p:nvSpPr>
            <p:cNvPr id="55" name=""/>
            <p:cNvSpPr/>
            <p:nvPr/>
          </p:nvSpPr>
          <p:spPr>
            <a:xfrm>
              <a:off x="8314920" y="4577040"/>
              <a:ext cx="2975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777777"/>
                  </a:solidFill>
                  <a:latin typeface="Arial Black"/>
                </a:rPr>
                <a:t>Spreadsheets</a:t>
              </a: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55160" y="4410000"/>
              <a:ext cx="56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 </a:t>
              </a: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表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054560" y="1236600"/>
            <a:ext cx="2671920" cy="599760"/>
            <a:chOff x="7054560" y="1236600"/>
            <a:chExt cx="2671920" cy="599760"/>
          </a:xfrm>
        </p:grpSpPr>
        <p:sp>
          <p:nvSpPr>
            <p:cNvPr id="58" name=""/>
            <p:cNvSpPr/>
            <p:nvPr/>
          </p:nvSpPr>
          <p:spPr>
            <a:xfrm>
              <a:off x="7054560" y="1437480"/>
              <a:ext cx="26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WPS Office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36280" y="123660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介绍</a:t>
              </a:r>
              <a:r>
                <a:rPr b="0" lang="zh-CN" sz="1800" spc="-1" strike="noStrike">
                  <a:solidFill>
                    <a:srgbClr val="777777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18180000">
            <a:off x="4413240" y="30726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轻松办公    </a:t>
            </a:r>
            <a:r>
              <a:rPr b="1" lang="zh-CN" sz="20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迷你简大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3240" y="54000"/>
            <a:ext cx="5004000" cy="680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54800" y="1347840"/>
            <a:ext cx="466560" cy="46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826320" y="2290680"/>
            <a:ext cx="4158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277040" y="3370320"/>
            <a:ext cx="466920" cy="46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696080" y="4518000"/>
            <a:ext cx="416160" cy="468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826160" y="2585880"/>
            <a:ext cx="1812600" cy="1135080"/>
            <a:chOff x="4826160" y="2585880"/>
            <a:chExt cx="1812600" cy="1135080"/>
          </a:xfrm>
        </p:grpSpPr>
        <p:sp>
          <p:nvSpPr>
            <p:cNvPr id="67" name=""/>
            <p:cNvSpPr/>
            <p:nvPr/>
          </p:nvSpPr>
          <p:spPr>
            <a:xfrm>
              <a:off x="5551920" y="2586240"/>
              <a:ext cx="1086840" cy="36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826160" y="2585880"/>
              <a:ext cx="725040" cy="113508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600080" y="1571760"/>
            <a:ext cx="1673280" cy="900000"/>
            <a:chOff x="4600080" y="1571760"/>
            <a:chExt cx="1673280" cy="900000"/>
          </a:xfrm>
        </p:grpSpPr>
        <p:sp>
          <p:nvSpPr>
            <p:cNvPr id="70" name=""/>
            <p:cNvSpPr/>
            <p:nvPr/>
          </p:nvSpPr>
          <p:spPr>
            <a:xfrm>
              <a:off x="5186880" y="1571760"/>
              <a:ext cx="1086480" cy="36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600080" y="1575360"/>
              <a:ext cx="577080" cy="896400"/>
            </a:xfrm>
            <a:prstGeom prst="line">
              <a:avLst/>
            </a:prstGeom>
            <a:ln w="936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74760" y="3625920"/>
            <a:ext cx="3154680" cy="3230640"/>
            <a:chOff x="3974760" y="3625920"/>
            <a:chExt cx="3154680" cy="3230640"/>
          </a:xfrm>
        </p:grpSpPr>
        <p:sp>
          <p:nvSpPr>
            <p:cNvPr id="73" name=""/>
            <p:cNvSpPr/>
            <p:nvPr/>
          </p:nvSpPr>
          <p:spPr>
            <a:xfrm>
              <a:off x="6041880" y="3626280"/>
              <a:ext cx="1087560" cy="3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974760" y="3625920"/>
              <a:ext cx="2065320" cy="323064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36840" y="4767120"/>
            <a:ext cx="2368440" cy="2068560"/>
            <a:chOff x="5136840" y="4767120"/>
            <a:chExt cx="2368440" cy="2068560"/>
          </a:xfrm>
        </p:grpSpPr>
        <p:sp>
          <p:nvSpPr>
            <p:cNvPr id="76" name=""/>
            <p:cNvSpPr/>
            <p:nvPr/>
          </p:nvSpPr>
          <p:spPr>
            <a:xfrm>
              <a:off x="6418080" y="4779000"/>
              <a:ext cx="1087200" cy="3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136840" y="4767120"/>
              <a:ext cx="1278360" cy="2068560"/>
            </a:xfrm>
            <a:prstGeom prst="line">
              <a:avLst/>
            </a:prstGeom>
            <a:ln w="12600">
              <a:solidFill>
                <a:srgbClr val="5b9bd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7343640" y="1134000"/>
            <a:ext cx="2442600" cy="1702440"/>
            <a:chOff x="7343640" y="1134000"/>
            <a:chExt cx="2442600" cy="1702440"/>
          </a:xfrm>
        </p:grpSpPr>
        <p:sp>
          <p:nvSpPr>
            <p:cNvPr id="79" name=""/>
            <p:cNvSpPr/>
            <p:nvPr/>
          </p:nvSpPr>
          <p:spPr>
            <a:xfrm rot="20880000">
              <a:off x="7423200" y="1601640"/>
              <a:ext cx="228276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242550" dir="21237056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77777"/>
                  </a:solidFill>
                  <a:latin typeface="Arial Black"/>
                </a:rPr>
                <a:t>Writer 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77777"/>
                  </a:solidFill>
                  <a:latin typeface="Arial Black"/>
                </a:rPr>
                <a:t>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Black"/>
                  <a:ea typeface="迷你简方叠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760000">
              <a:off x="8383320" y="1206000"/>
              <a:ext cx="6685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6971" dir="2034126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文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05760" y="3035160"/>
            <a:ext cx="3921120" cy="1226520"/>
            <a:chOff x="2705760" y="3035160"/>
            <a:chExt cx="3921120" cy="1226520"/>
          </a:xfrm>
        </p:grpSpPr>
        <p:sp>
          <p:nvSpPr>
            <p:cNvPr id="82" name=""/>
            <p:cNvSpPr/>
            <p:nvPr/>
          </p:nvSpPr>
          <p:spPr>
            <a:xfrm rot="300000">
              <a:off x="2723760" y="3203280"/>
              <a:ext cx="38851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37587" dir="8778595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</a:t>
              </a:r>
              <a:r>
                <a:rPr b="0" lang="zh-CN" sz="30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Office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00000">
              <a:off x="3723840" y="3130560"/>
              <a:ext cx="37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 rot="300000">
              <a:off x="2766240" y="3695760"/>
              <a:ext cx="3848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36842" dir="949359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轻</a:t>
              </a:r>
              <a:r>
                <a:rPr b="1" lang="zh-CN" sz="19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松办</a:t>
              </a:r>
              <a:r>
                <a:rPr b="1" lang="zh-CN" sz="17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公    </a:t>
              </a:r>
              <a:r>
                <a:rPr b="1" lang="zh-CN" sz="17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17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19480" y="716040"/>
            <a:ext cx="7610400" cy="405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40" y="5553000"/>
            <a:ext cx="751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385 0.482685 L -0.030573 -0.001667 E">
                                      <p:cBhvr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063 -0.529907 L 0.015469 -0.02287 E">
                                      <p:cBhvr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44840" y="1657440"/>
            <a:ext cx="1800" cy="315756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37120" y="2235240"/>
            <a:ext cx="5773320" cy="2128320"/>
            <a:chOff x="5037120" y="2235240"/>
            <a:chExt cx="5773320" cy="2128320"/>
          </a:xfrm>
        </p:grpSpPr>
        <p:sp>
          <p:nvSpPr>
            <p:cNvPr id="89" name=""/>
            <p:cNvSpPr/>
            <p:nvPr/>
          </p:nvSpPr>
          <p:spPr>
            <a:xfrm>
              <a:off x="5913360" y="2564640"/>
              <a:ext cx="48970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1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任务栏实时查看文档字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2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连续输入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3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个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=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-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~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，按回车，直接产生相应分隔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3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新增快捷键：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Shift+F5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定位到上次关闭文档时的光标所在位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4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优化表格对象上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4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个浮动控件图标样式及调整行列时分隔线颜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5) WPS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文字 页面颜色支持跟随系统颜色设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6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改进了状态栏中的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修订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改写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、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拼写检查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选项，在各个选项旁添加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指示灯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7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取消章节导航窗格自动显示功能（切换至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章节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选项卡时不自动显示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章节导航</a:t>
              </a: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"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窗格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8) </a:t>
              </a:r>
              <a:r>
                <a:rPr b="0" lang="zh-CN" sz="1400" spc="-1" strike="noStrike">
                  <a:solidFill>
                    <a:srgbClr val="777777"/>
                  </a:solidFill>
                  <a:latin typeface="黑体"/>
                  <a:ea typeface="黑体"/>
                </a:rPr>
                <a:t>优化段落布局功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7120" y="2235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77777"/>
                  </a:solidFill>
                  <a:latin typeface="Calibri"/>
                  <a:ea typeface="迷你简大黑"/>
                </a:rPr>
                <a:t>改进用户反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984240" y="2222640"/>
            <a:ext cx="3483720" cy="1351080"/>
            <a:chOff x="984240" y="2222640"/>
            <a:chExt cx="3483720" cy="1351080"/>
          </a:xfrm>
        </p:grpSpPr>
        <p:sp>
          <p:nvSpPr>
            <p:cNvPr id="92" name=""/>
            <p:cNvSpPr/>
            <p:nvPr/>
          </p:nvSpPr>
          <p:spPr>
            <a:xfrm>
              <a:off x="984240" y="3205440"/>
              <a:ext cx="30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迷你简大黑"/>
                  <a:ea typeface="迷你简大黑"/>
                </a:rPr>
                <a:t>   </a:t>
              </a:r>
              <a:r>
                <a:rPr b="0" lang="zh-CN" sz="1600" spc="-1" strike="noStrike">
                  <a:solidFill>
                    <a:srgbClr val="5f5f5f"/>
                  </a:solidFill>
                  <a:latin typeface="迷你简大黑"/>
                  <a:ea typeface="迷你简大黑"/>
                </a:rPr>
                <a:t>最适合中文创作的先进文字工具，强大图文排版，丰富的在线资源库，让您的文档制作既专业又轻松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617920" y="2222640"/>
              <a:ext cx="1850040" cy="1107720"/>
              <a:chOff x="2617920" y="2222640"/>
              <a:chExt cx="1850040" cy="1107720"/>
            </a:xfrm>
          </p:grpSpPr>
          <p:sp>
            <p:nvSpPr>
              <p:cNvPr id="94" name=""/>
              <p:cNvSpPr/>
              <p:nvPr/>
            </p:nvSpPr>
            <p:spPr>
              <a:xfrm>
                <a:off x="2617920" y="2504880"/>
                <a:ext cx="1823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777777"/>
                    </a:solidFill>
                    <a:latin typeface="Arial Black"/>
                  </a:rPr>
                  <a:t>Writer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77777"/>
                    </a:solidFill>
                    <a:latin typeface="Arial Black"/>
                  </a:rPr>
                  <a:t>             </a:t>
                </a:r>
                <a:r>
                  <a:rPr b="0" lang="zh-CN" sz="2000" spc="-1" strike="noStrike">
                    <a:solidFill>
                      <a:srgbClr val="777777"/>
                    </a:solidFill>
                    <a:latin typeface="Arial Black"/>
                    <a:ea typeface="迷你简方叠体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14000" y="2222640"/>
                <a:ext cx="13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f5f5f"/>
                    </a:solidFill>
                    <a:latin typeface="Calibri"/>
                    <a:ea typeface="迷你简大黑"/>
                  </a:rPr>
                  <a:t>文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1040" y="1758960"/>
            <a:ext cx="186660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960000">
            <a:off x="9496080" y="1695240"/>
            <a:ext cx="38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轻松办公    </a:t>
            </a:r>
            <a:r>
              <a:rPr b="1" lang="zh-CN" sz="1400" spc="-1" strike="noStrike">
                <a:solidFill>
                  <a:srgbClr val="777777"/>
                </a:solidFill>
                <a:latin typeface="Arial Black"/>
                <a:ea typeface="迷你简大黑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迷你简大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179920" y="473040"/>
            <a:ext cx="7596360" cy="2583720"/>
            <a:chOff x="8179920" y="473040"/>
            <a:chExt cx="7596360" cy="2583720"/>
          </a:xfrm>
        </p:grpSpPr>
        <p:sp>
          <p:nvSpPr>
            <p:cNvPr id="99" name=""/>
            <p:cNvSpPr/>
            <p:nvPr/>
          </p:nvSpPr>
          <p:spPr>
            <a:xfrm rot="960000">
              <a:off x="8092440" y="1535040"/>
              <a:ext cx="77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Offi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">
              <a:off x="8997120" y="676440"/>
              <a:ext cx="32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729480" y="-14400"/>
            <a:ext cx="5487840" cy="24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3251160" y="1747800"/>
            <a:ext cx="9637920" cy="2615040"/>
            <a:chOff x="3251160" y="1747800"/>
            <a:chExt cx="9637920" cy="2615040"/>
          </a:xfrm>
        </p:grpSpPr>
        <p:sp>
          <p:nvSpPr>
            <p:cNvPr id="103" name=""/>
            <p:cNvSpPr/>
            <p:nvPr/>
          </p:nvSpPr>
          <p:spPr>
            <a:xfrm rot="21300000">
              <a:off x="3343320" y="1910880"/>
              <a:ext cx="3847320" cy="2288520"/>
            </a:xfrm>
            <a:prstGeom prst="rect">
              <a:avLst/>
            </a:prstGeom>
            <a:noFill/>
            <a:ln w="0">
              <a:noFill/>
            </a:ln>
            <a:effectLst>
              <a:outerShdw dist="120672" dir="1106096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谢谢观赏    </a:t>
              </a:r>
              <a:r>
                <a:rPr b="1" lang="zh-CN" sz="72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72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300000">
              <a:off x="5114520" y="3052440"/>
              <a:ext cx="77691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562478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77777"/>
                  </a:solidFill>
                  <a:latin typeface="Arial Black"/>
                  <a:ea typeface="Dotum"/>
                </a:rPr>
                <a:t>WPS Offi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1240000">
              <a:off x="5861520" y="3275640"/>
              <a:ext cx="2448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562478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77777"/>
                  </a:solidFill>
                  <a:latin typeface="Calibri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1300000">
              <a:off x="5495760" y="2757240"/>
              <a:ext cx="3660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2017659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轻松办公    </a:t>
              </a:r>
              <a:r>
                <a:rPr b="1" lang="zh-CN" sz="2800" spc="-1" strike="noStrike">
                  <a:solidFill>
                    <a:srgbClr val="777777"/>
                  </a:solidFill>
                  <a:latin typeface="Arial Black"/>
                  <a:ea typeface="迷你简大黑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 Black"/>
                  <a:ea typeface="迷你简大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27480" y="2070000"/>
            <a:ext cx="8888400" cy="481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042-C8DD-4EB9-B046-F08ACB76AEB1}" type="slidenum">
              <a:t>6</a:t>
            </a:fld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48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404000000000001024140</vt:lpwstr>
  </property>
</Properties>
</file>