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9.gif" ContentType="image/gif"/>
  <Override PartName="/ppt/media/image1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574-A072-49DD-AA96-7EC87437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DFB-B726-4CD1-81AE-64D288B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E05-6A2E-49C5-8514-74FF5F96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07B-24FB-4652-813A-A7B76EEB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CEAF-F6E8-47E6-8C0B-E763FFD8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CB51-C4B2-4704-892C-7ACEF7F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A95D-7C7C-42F4-8FAF-2DF200CB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D18D-A64B-4570-A406-B85256D2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264-3876-47A6-8D48-E8B1DD70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85D5-CAE7-4E89-8021-60FBF10A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E0B-00BB-4929-A03D-E532DDA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280-A220-4031-8693-84796AA5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F555-B1EC-450F-92B9-5223AAA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1993-836B-470B-80ED-7B6AD59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CFA-EB9F-44B1-BF07-C2C65E1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8931-1BC4-4CE9-831D-26F190E7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7E5F-7770-45A1-A4FE-EE71868F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D3D-5A95-4077-A75A-574631E2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B93-3F25-4643-80D0-6AC9D62B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3D0-4BC6-4213-9F65-B53E1B2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09B-33BA-40E3-B306-734929C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2BF-8C67-42A6-9AF1-F845BF8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D75-5B87-4A41-8F61-EEB1EB0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1D3-592D-426F-BF95-83EA57E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A577-D8D6-43DC-AD38-B2D2E08EB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38DD-691C-4C50-B9B5-27E8EB541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44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半截蜡烛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7"/>
          <p:cNvSpPr/>
          <p:nvPr/>
        </p:nvSpPr>
        <p:spPr>
          <a:xfrm>
            <a:off x="0" y="2205000"/>
            <a:ext cx="914400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第二次世界大战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）是迄今为止，人类社会所进行的规模最大，伤亡最惨重，造成破坏最大的全球性战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后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国家和地区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以上的人口被卷入战争，军民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万人（军队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万人，居民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万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4"/>
          <p:cNvPicPr/>
          <p:nvPr/>
        </p:nvPicPr>
        <p:blipFill>
          <a:blip r:embed="rId2"/>
          <a:stretch/>
        </p:blipFill>
        <p:spPr>
          <a:xfrm>
            <a:off x="3132000" y="0"/>
            <a:ext cx="2957760" cy="2276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5"/>
          <p:cNvPicPr/>
          <p:nvPr/>
        </p:nvPicPr>
        <p:blipFill>
          <a:blip r:embed="rId3"/>
          <a:stretch/>
        </p:blipFill>
        <p:spPr>
          <a:xfrm>
            <a:off x="6372360" y="0"/>
            <a:ext cx="2555640" cy="2309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6"/>
          <p:cNvPicPr/>
          <p:nvPr/>
        </p:nvPicPr>
        <p:blipFill>
          <a:blip r:embed="rId4"/>
          <a:stretch/>
        </p:blipFill>
        <p:spPr>
          <a:xfrm>
            <a:off x="0" y="4437000"/>
            <a:ext cx="3059280" cy="2208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7"/>
          <p:cNvPicPr/>
          <p:nvPr/>
        </p:nvPicPr>
        <p:blipFill>
          <a:blip r:embed="rId5"/>
          <a:stretch/>
        </p:blipFill>
        <p:spPr>
          <a:xfrm>
            <a:off x="3203640" y="4437000"/>
            <a:ext cx="2946240" cy="2160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8"/>
          <p:cNvPicPr/>
          <p:nvPr/>
        </p:nvPicPr>
        <p:blipFill>
          <a:blip r:embed="rId6"/>
          <a:stretch/>
        </p:blipFill>
        <p:spPr>
          <a:xfrm>
            <a:off x="6443640" y="4292640"/>
            <a:ext cx="270036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18129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2"/>
          <p:cNvPicPr/>
          <p:nvPr/>
        </p:nvPicPr>
        <p:blipFill>
          <a:blip r:embed="rId1"/>
          <a:stretch/>
        </p:blipFill>
        <p:spPr>
          <a:xfrm>
            <a:off x="611280" y="333360"/>
            <a:ext cx="8088120" cy="60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0" y="18129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9"/>
          <p:cNvPicPr/>
          <p:nvPr/>
        </p:nvPicPr>
        <p:blipFill>
          <a:blip r:embed="rId1"/>
          <a:stretch/>
        </p:blipFill>
        <p:spPr>
          <a:xfrm>
            <a:off x="2484360" y="404640"/>
            <a:ext cx="41338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18129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3"/>
          <p:cNvPicPr/>
          <p:nvPr/>
        </p:nvPicPr>
        <p:blipFill>
          <a:blip r:embed="rId1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3505320" y="-146160"/>
            <a:ext cx="6476760" cy="78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满怀浓浓的爱国情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托了对和平的强烈愿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无怨无悔地浴血奋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承着坚强不屈的民族精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默默无闻的生死付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拯救了全人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挽救了世界文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血筑英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命塑丰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名英雄将永留青史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" descr="ban la"/>
          <p:cNvPicPr/>
          <p:nvPr/>
        </p:nvPicPr>
        <p:blipFill>
          <a:blip r:embed="rId1"/>
          <a:stretch/>
        </p:blipFill>
        <p:spPr>
          <a:xfrm>
            <a:off x="0" y="1700280"/>
            <a:ext cx="34527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835280" y="1052280"/>
            <a:ext cx="568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40000"/>
                </a:solidFill>
                <a:latin typeface="Arial"/>
                <a:ea typeface="华文新魏"/>
              </a:rPr>
              <a:t>奖章应该给谁呢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49040" y="2271600"/>
            <a:ext cx="399564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诺德夫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杰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杰奎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lp1"/>
          <p:cNvPicPr/>
          <p:nvPr/>
        </p:nvPicPr>
        <p:blipFill>
          <a:blip r:embed="rId1"/>
          <a:stretch/>
        </p:blipFill>
        <p:spPr>
          <a:xfrm>
            <a:off x="5403960" y="2349360"/>
            <a:ext cx="2560680" cy="3500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star5"/>
          <p:cNvPicPr/>
          <p:nvPr/>
        </p:nvPicPr>
        <p:blipFill>
          <a:blip r:embed="rId2"/>
          <a:stretch/>
        </p:blipFill>
        <p:spPr>
          <a:xfrm>
            <a:off x="755640" y="112536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900000" y="549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3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42920" y="1341360"/>
            <a:ext cx="90010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1" lang="zh-CN" sz="41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个小女孩，用可爱和智慧保住了半截蜡烛，挽救了许多人的生命。她年纪虽小，但懂事、机智、聪明，她用孩童的天真可爱为国家立了大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95280" y="34290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只是个孩子，当秘密马上就要暴露时，他急中生智端走蜡烛，虽然失败，但搬柴照旧，显得那么从容，为后面杰奎琳端走蜡烛上楼做好掩护，那颗爱国之心令人饱含敬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97164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2994480" y="471600"/>
            <a:ext cx="24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颁　奖　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图片1常常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784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114336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00"/>
                </a:solidFill>
                <a:latin typeface="Arial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新魏"/>
              </a:rPr>
              <a:t>作业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今天，我们通过合作、探究的方式抓住人物的动作、语言、及心理活动，感受到了当时紧张的气氛、人物的机智、勇敢和镇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在二战期间，还有许多年幼的孩子立下了大功，比如放牛郎王二小，你还知道哪些少年英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请同学们把本课编成课本剧演一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exclam"/>
          <p:cNvPicPr/>
          <p:nvPr/>
        </p:nvPicPr>
        <p:blipFill>
          <a:blip r:embed="rId2"/>
          <a:stretch/>
        </p:blipFill>
        <p:spPr>
          <a:xfrm>
            <a:off x="611280" y="1052640"/>
            <a:ext cx="685800" cy="674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260-216E-4539-B593-62C9A169781C}" type="slidenum">
              <a:t>18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685800" y="3519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子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066680" y="2438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伯诺德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685800" y="2971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杰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828800" y="29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杰奎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685800" y="1725480"/>
            <a:ext cx="8497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二次世界大战期间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法国有一位家庭妇女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895480" y="24526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身边只有两个幼小的儿女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1447920" y="29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　　　  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-301680" y="2971800"/>
            <a:ext cx="9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了把德国强盗赶出自己的祖国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2133720" y="35193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都参加了秘密情报的传递工作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1"/>
          <p:cNvGrpSpPr/>
          <p:nvPr/>
        </p:nvGrpSpPr>
        <p:grpSpPr>
          <a:xfrm>
            <a:off x="4537080" y="4038480"/>
            <a:ext cx="457200" cy="76320"/>
            <a:chOff x="4537080" y="4038480"/>
            <a:chExt cx="457200" cy="76320"/>
          </a:xfrm>
        </p:grpSpPr>
        <p:sp>
          <p:nvSpPr>
            <p:cNvPr id="518" name="Oval 12"/>
            <p:cNvSpPr/>
            <p:nvPr/>
          </p:nvSpPr>
          <p:spPr>
            <a:xfrm>
              <a:off x="4537080" y="40384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>
              <a:off x="4917960" y="40384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14"/>
          <p:cNvSpPr/>
          <p:nvPr/>
        </p:nvSpPr>
        <p:spPr>
          <a:xfrm>
            <a:off x="2484360" y="76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截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75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图片1"/>
          <p:cNvPicPr/>
          <p:nvPr/>
        </p:nvPicPr>
        <p:blipFill>
          <a:blip r:embed="rId1"/>
          <a:stretch/>
        </p:blipFill>
        <p:spPr>
          <a:xfrm>
            <a:off x="-225360" y="0"/>
            <a:ext cx="2228760" cy="7010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08000" y="404640"/>
            <a:ext cx="723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装有情报的小金属管藏在半截蜡烛中，然后把它插在一个烛台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2050920" y="2133720"/>
            <a:ext cx="7093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蜡烛摆在显眼的桌子上，反而骗过了前来搜查的德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979640" y="3789360"/>
            <a:ext cx="691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一蜡烛燃烧到金属管处就会自动熄灭，秘密就会暴露，情报站就会遭到破坏，也意味着他们一家三口生命的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7308720" y="4292640"/>
            <a:ext cx="1297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2268360" y="4724280"/>
            <a:ext cx="288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5651640" y="4724280"/>
            <a:ext cx="2881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2268360" y="5157720"/>
            <a:ext cx="626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2050920" y="5589720"/>
            <a:ext cx="936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　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划出描写伯诺德夫人一家人的动作、神情、语言及心理活动的有关词句。（小组同学合作，试着将故事编成课本剧演一演。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伯诺德夫人一家在危急关头是怎样与敌人周旋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谁的表现最出色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dddddd"/>
                </a:solidFill>
                <a:latin typeface="Arial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一天晚上，屋里闯进了三个德国军官。他们坐下后，一个中尉顺手拿过藏有情报的蜡烛点燃，放到少校军官面前。伯诺德夫人知道，万一蜡烛燃烧到金属管处就会自动熄灭，秘密就会暴露，情报站就会遭到破坏，同时也意味着他们一家三口生命的结束。她看着两个脸色苍白的孩子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急忙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从厨房里取出一盏油灯放在桌上。</a:t>
            </a:r>
            <a:r>
              <a:rPr b="0" lang="en-US" sz="3200" spc="-1" strike="noStrike">
                <a:solidFill>
                  <a:srgbClr val="070d09"/>
                </a:solidFill>
                <a:latin typeface="Garamond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瞧，先生们，这盏灯亮些。</a:t>
            </a:r>
            <a:r>
              <a:rPr b="0" lang="en-US" sz="3200" spc="-1" strike="noStrike">
                <a:solidFill>
                  <a:srgbClr val="070d09"/>
                </a:solidFill>
                <a:latin typeface="Garamond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说着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轻轻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把蜡烛吹熄。一场危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似乎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过去了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时间一分一秒地过去。这时候，大儿子杰克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慢慢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站起来，“天真冷。我到柴房去搬些柴生个火吧。”说着，伸手端起烛台朝门口走去，屋子顿时暗了许多。中尉快步赶上前，一把夺回烛台，厉声喝道：“你不用蜡烛就不行吗？”孩子是懂事的，他知道，厄运即将到来了。在斗争的最后时刻，他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从容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地搬回一捆木柴，生了火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默默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坐着。</a:t>
            </a:r>
            <a:r>
              <a:rPr b="0" i="1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烛焰摇曳，发出微弱的光，此时此刻，它仿佛成了屋子里最可怕的东西。伯诺德夫人的心提到了嗓子眼上，她</a:t>
            </a:r>
            <a:r>
              <a:rPr b="0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似乎</a:t>
            </a:r>
            <a:r>
              <a:rPr b="0" i="1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感到德国军官那几双恶狼般的眼睛正盯在越来越短的蜡烛上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{49EAF8C8-2AE1-4C2C-9595-B527A9A9186B}"/>
          <p:cNvPicPr/>
          <p:nvPr/>
        </p:nvPicPr>
        <p:blipFill>
          <a:blip r:embed="rId1"/>
          <a:srcRect l="1562" t="0" r="0" b="0"/>
          <a:stretch/>
        </p:blipFill>
        <p:spPr>
          <a:xfrm>
            <a:off x="0" y="333360"/>
            <a:ext cx="8785080" cy="5975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gif0012"/>
          <p:cNvPicPr/>
          <p:nvPr/>
        </p:nvPicPr>
        <p:blipFill>
          <a:blip r:embed="rId2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1979640" y="1700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</a:t>
            </a:r>
            <a:r>
              <a:rPr b="0" lang="zh-CN" sz="4000" spc="-1" strike="noStrike">
                <a:solidFill>
                  <a:srgbClr val="070d09"/>
                </a:solidFill>
                <a:latin typeface="Times New Roman"/>
                <a:ea typeface="楷体_GB2312"/>
              </a:rPr>
              <a:t>烛焰摇曳，发出微弱的光，此时此刻，它仿佛成了屋子里最可怕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gif001"/>
          <p:cNvPicPr/>
          <p:nvPr/>
        </p:nvPicPr>
        <p:blipFill>
          <a:blip r:embed="rId3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2700360" y="3573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命悬于一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烛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91920" y="1771560"/>
            <a:ext cx="8070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突然，小女儿杰奎琳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娇声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对德国人说道：“司令官先生，天晚了，楼上黑，我可以拿一盏灯上楼睡觉吗？”少校瞧了瞧这位可爱的小姑娘，说：“当然可以。我家也有一个像你这么大的小女儿。”杰奎琳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镇定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把烛台端起来，向几位军官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道过晚安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，上楼去了。</a:t>
            </a:r>
            <a:r>
              <a:rPr b="0" lang="en-US" sz="3200" spc="-1" strike="noStrike">
                <a:solidFill>
                  <a:srgbClr val="070d0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3:35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0:21Z</dcterms:modified>
  <cp:revision>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