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3A7-13F6-447D-AD0D-ECEEE2BC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0FA-0CA3-487F-A347-08EF354E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26B-33E3-4F48-9930-0C6C3C36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24D-3B59-4DFB-8AA0-450AD20C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CC86-1C0B-4C86-85AC-9C557440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24FD-0B1B-4E67-B86A-1FF65E9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7F3B-0C57-41B9-93E1-8DD5284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2FFA-6B35-4F09-818D-D3435634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1B57-63E3-4F37-BD26-66EF3F3C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FFAC-0B81-4752-9E6D-6A7AB4B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CFF2-14A4-4F44-952D-D52E47A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9F7-6E7F-48BE-BA57-D052E83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E3E6-9FFE-415E-B40A-9B17D7F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4534-A72E-482C-A350-DFB3C72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17C1-BD70-457B-A1D0-824E262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9221-839E-4A1D-A147-A3CA92DD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C5D3-A45F-481C-B7BA-706B85AA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6C07-2C03-44D0-8896-018674A5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80E6-B485-4894-9A21-E905A1C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513E-0A64-4C83-A447-0D7E556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43C6-CC69-4259-8290-1CD9A362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46B6-30EC-4616-B076-1E5ECD42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C58-99CC-4A81-8B7F-93FB042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1281-6B30-4CFD-AC5F-84682F6B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23E4-6C83-4DDF-A1B0-D9BAC96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BDFD-3288-4EC7-9460-0A33EFD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C422-66E3-4E82-AF84-EA1E342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A5EE-2A8E-4D33-94EA-F8397F40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0E2C-7A6F-4170-BDED-2B0ACA22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00EB-777B-4E2F-83E8-624BC298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90B3-D99D-4DD2-8BEE-61680829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C8F8-60C7-4335-BCEF-51066657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374C-A0EF-4221-9761-E0C100C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538-DA0C-4150-9E46-B6BDBAAB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B991-DF99-41C0-837E-CC7EC73A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55CE-655F-4F2A-AE42-BADD41F6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8D40-224A-4B4E-9FD2-5561C69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7A0E-A854-4183-BAB3-10C8A60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90DE-F14A-4E35-A1D2-49DD474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CEA2-5E28-4DE3-B223-5EB253A4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C396-DE8C-4741-9C57-5CAA381A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6DDD-1092-4F19-BC7B-C08A8F13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A2DF-BDA8-45ED-A630-30A3097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665C1-C98C-400E-9835-73FFF62C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1BD-34A8-4D51-8B54-603A9A3E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205D-E9F4-4A08-812F-E634426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FFEA-62B1-4D7F-9DC3-8445CB1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DB8DB-8483-495C-A033-14EBDBF0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8AD4-EF8D-45FB-B399-BC2A58A3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C6B6-F643-4844-9645-0C50E69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BC3F-2635-4B78-8BE1-16E17093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D39F-8121-46CE-9BC6-B3F64D6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48FC4-77A1-435D-8F75-9DB908E7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CEBA-0312-462B-AFDA-24AE4B88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26B6-985D-4451-BCB6-4B7D91E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12A-478E-45B5-A259-A592412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0B0C-B1B1-4130-9F81-64A082E3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7F97B-82D1-44FC-A18F-61E32E37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3A200-2600-4BCD-A6A4-0F229936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BB5F-0D5D-481B-9C57-96D736A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984C-291C-436D-A0AE-7A067AA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500B-C8E4-4A6E-9370-C3D05928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B6A42-F8F2-409C-B82F-54CC8DB9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252A6-3069-48A1-9F82-91FCA15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6F38-D202-4026-93F4-5B7CB1D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1B7B-AB19-4ABF-82AD-393E4C6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DD1-C5BA-4705-927C-FB117DA8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C8A0-017E-44DB-957A-0505D533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0FD8-4EEE-41E6-AB7F-F0CA7E5B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31C85-74CB-4AED-B4FE-55EAD393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848B-28A6-49F5-8C72-EBEACF14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DE2DE-5C7B-4334-A153-E0CB2DD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46DE-9B28-442E-9C0D-300E487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4250A-4F83-41A9-81F4-B11D74FB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F2C17-40C7-46AC-9013-303B4B2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DC923-C62A-438D-A769-B96531A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0E11-EAED-465D-A2FB-E6D3631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9E1-C6F7-402A-A3AB-E5CFB6B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4362-231A-4911-99A9-2BF47FE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A004-0589-47E6-A03B-6B2BF824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CFCF4-F697-4E33-9F95-52F0C344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6431-2492-43A3-9C55-A5873EF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96EE1-DFE5-4DCB-9E35-47A56856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194-7541-424B-BB8B-C3F0C058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6B29-971D-474F-8EF6-D2016A91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6941-A3AC-4605-B831-766BB20D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AFB-CF87-4FC6-BA64-C71D31A2C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2C6-A9F6-449C-B113-013B29AB0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917-6E87-47FB-A1AF-86054438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2A7-0249-4018-A9CA-9B356F8E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394A-B08B-48EF-A2E3-640E81182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starcoo.com/AI/Aridi13_Certificates_Awards_Frames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256,5,&#24187;&#28783;&#29255; 5" TargetMode="External"/><Relationship Id="rId4" Type="http://schemas.openxmlformats.org/officeDocument/2006/relationships/hyperlink" Target="275,8,&#24187;&#28783;&#29255; 8" TargetMode="External"/><Relationship Id="rId5" Type="http://schemas.openxmlformats.org/officeDocument/2006/relationships/hyperlink" Target="269,10,&#24187;&#28783;&#29255; 10" TargetMode="External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7" descr="1097893787"/>
          <p:cNvPicPr/>
          <p:nvPr/>
        </p:nvPicPr>
        <p:blipFill>
          <a:blip r:embed="rId2"/>
          <a:stretch/>
        </p:blipFill>
        <p:spPr>
          <a:xfrm>
            <a:off x="-108000" y="-17136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4760" y="234936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半截蜡烛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68360" y="1413000"/>
            <a:ext cx="7162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急忙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从厨房取出一盏油灯放在桌上。“瞧，先生们，这盏灯亮些。”说着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轻轻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9e9ff"/>
                </a:solidFill>
                <a:uFillTx/>
                <a:latin typeface="Times New Roman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慢慢地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从容地搬回一捆木柴，生了火，默默地坐待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慢慢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从容地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搬回一捆木柴，生了火，默默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坐待着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990720" y="64771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娇声地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镇定地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娇声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镇定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114300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Picture 4" descr="Borders_080BOR-C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66560"/>
            <a:ext cx="5410440" cy="40291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54040" y="847800"/>
            <a:ext cx="3048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</a:t>
            </a:r>
            <a:r>
              <a:rPr b="0" lang="zh-CN" sz="4400" spc="-1" strike="noStrike">
                <a:solidFill>
                  <a:srgbClr val="650bb7"/>
                </a:solidFill>
                <a:latin typeface="Arial"/>
                <a:ea typeface="隶书"/>
              </a:rPr>
              <a:t>荣誉奖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50bb7"/>
                </a:solidFill>
                <a:latin typeface="Arial"/>
                <a:ea typeface="隶书"/>
              </a:rPr>
              <a:t>    </a:t>
            </a: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鉴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特授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9e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9A08-2A77-4BF4-A2C9-0913A21EA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字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烛  诺  熄  遭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厄  盯  琳  梯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0bb7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" y="2276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蜡烛   强盗   秘密   厄运   点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绝妙   微弱   绝密   镇定   熄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3360" y="22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烛（   ） 熄（   ） 镇（   ） 梯（   ） 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浊（   ） 息（   ） 慎（   ） 递（   ）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盯（   ） 钉（   ） 琳（   ） 淋（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情报         一（  ）油灯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主意         一（  ）危机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心情         一（  ）烛台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姑娘         一（  ）晚上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东西         一（  ）木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50bb7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0bb7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650bb7"/>
                </a:solidFill>
                <a:latin typeface="Arial"/>
              </a:rPr>
              <a:t>说说伯诺德夫人一家在危急关头是怎样与德军周旋的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默读课文，圈出描写伯诺德夫人全家人的动作、神情、语言及心理活动的有关词句先读一读，再和小组同学合作将故事编成课本剧演一演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676520" y="12193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80880" y="762120"/>
            <a:ext cx="853452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伯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3"/>
              </a:rPr>
              <a:t>诺德夫人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4"/>
              </a:rPr>
              <a:t>杰克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5"/>
              </a:rPr>
              <a:t>杰奎琳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</a:t>
            </a:r>
            <a:r>
              <a:rPr b="0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990720" y="83808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急忙从厨房取出一盏油灯放在桌上。“瞧，先生们，这盏灯亮些。”说着，轻轻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12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6:3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