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56FF-E5BC-4484-8D60-B37E13A2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6589-A68F-4E50-981F-1225BFFE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45C8-97D5-4F00-87F6-0E538FBE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7FA5-3602-40EA-A49E-264DD64F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A27A-109F-4C39-802C-7AC67383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F912-7AC3-4FEE-962D-7A523ED6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F011-E2F9-4FDE-AF6B-A87C387F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39B3-5AA3-41D3-B2C1-EF9209D8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8A44-00A9-4A76-91D4-EDDA8870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A2C0-6D25-4813-8CD0-7310D1CA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1A6A-FE7C-4208-903B-55FFDFCD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31FB-07EC-4B32-A85F-DE75E472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4664-49A9-45EA-AB54-B3D1D93F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D7A5-6C2D-4A55-8995-F9DF1647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D634-923C-4CDA-A8A3-9C85333A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95F8-FB1B-4A0A-BD9C-D3077283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43B8-D00B-450E-9892-1D906E91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9455-4CCF-4E30-B2C5-C79C3E1A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4F21-03A2-4FA2-8128-FBCFBA85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2666-B54F-486E-96F2-BE312558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720E-5BCF-4A99-AD08-63D80E6E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7240-0C01-4C3C-A757-8DE79519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3AD-4253-4EF8-8580-5BB57FE4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312E-63D1-4A10-A25B-FD9B7708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7B521C4F-6348-438F-A6DC-69FCF88522C9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素彩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ttp://www.sc115.com-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模板免费下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EE65-3F15-4018-BF30-392F7962916D}" type="slidenum">
              <a:rPr b="0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4C99AB42-F6F6-4579-85E5-58CFF288CCAF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6F01-404D-44CD-8CA7-D2B3789B602E}" type="slidenum">
              <a:rPr b="0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Grafik 3" descr="Abstract1.jpg"/>
          <p:cNvPicPr/>
          <p:nvPr/>
        </p:nvPicPr>
        <p:blipFill>
          <a:blip r:embed="rId1"/>
          <a:stretch/>
        </p:blipFill>
        <p:spPr>
          <a:xfrm>
            <a:off x="27000" y="-66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14360" y="62514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03320" y="112392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标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\\Diskstation\PresentationLoad\PRESENTATIONLOAD\4_PRODUKTION\0_BILDERBIBLIOTHEK\_Texturen -Hintergründe\Abstract1_grey.jpg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29520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  <a:ea typeface="宋体"/>
              </a:rPr>
              <a:t>Abstract Backgro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9520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  <a:ea typeface="宋体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Grafik 5" descr="Abstract1_gre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Grafik 2" descr="Abstrac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29520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  <a:ea typeface="宋体"/>
              </a:rPr>
              <a:t>Abstract Backgro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9520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  <a:ea typeface="宋体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2240" y="615780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20760" y="33480"/>
            <a:ext cx="8520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  <a:ea typeface="宋体"/>
              </a:rPr>
              <a:t>Head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760" y="10126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  <a:ea typeface="宋体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Grafik 220" descr="Hintergrund button.png"/>
          <p:cNvPicPr/>
          <p:nvPr/>
        </p:nvPicPr>
        <p:blipFill>
          <a:blip r:embed="rId1"/>
          <a:stretch/>
        </p:blipFill>
        <p:spPr>
          <a:xfrm>
            <a:off x="6566040" y="3619440"/>
            <a:ext cx="1974600" cy="1960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6000"/>
              </a:srgbClr>
            </a:outerShdw>
          </a:effectLst>
        </p:spPr>
      </p:pic>
      <p:pic>
        <p:nvPicPr>
          <p:cNvPr id="98" name="Grafik 8" descr="Abstrac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0008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262626"/>
            </a:outerShdw>
          </a:effectLst>
        </p:spPr>
      </p:pic>
      <p:grpSp>
        <p:nvGrpSpPr>
          <p:cNvPr id="99" name="Gruppieren 224"/>
          <p:cNvGrpSpPr/>
          <p:nvPr/>
        </p:nvGrpSpPr>
        <p:grpSpPr>
          <a:xfrm>
            <a:off x="4645080" y="3495960"/>
            <a:ext cx="2111400" cy="2136960"/>
            <a:chOff x="4645080" y="3495960"/>
            <a:chExt cx="2111400" cy="2136960"/>
          </a:xfrm>
        </p:grpSpPr>
        <p:pic>
          <p:nvPicPr>
            <p:cNvPr id="100" name="Grafik 223" descr="Hintergrund button.png"/>
            <p:cNvPicPr/>
            <p:nvPr/>
          </p:nvPicPr>
          <p:blipFill>
            <a:blip r:embed="rId3"/>
            <a:stretch/>
          </p:blipFill>
          <p:spPr>
            <a:xfrm>
              <a:off x="4718160" y="3629160"/>
              <a:ext cx="1974600" cy="1960560"/>
            </a:xfrm>
            <a:prstGeom prst="rect">
              <a:avLst/>
            </a:prstGeom>
            <a:ln w="0">
              <a:noFill/>
            </a:ln>
            <a:effectLst>
              <a:outerShdw dist="0" dir="0" blurRad="0" rotWithShape="0">
                <a:srgbClr val="000000">
                  <a:alpha val="66000"/>
                </a:srgbClr>
              </a:outerShdw>
            </a:effectLst>
          </p:spPr>
        </p:pic>
        <p:sp>
          <p:nvSpPr>
            <p:cNvPr id="101" name="Freeform 165"/>
            <p:cNvSpPr/>
            <p:nvPr/>
          </p:nvSpPr>
          <p:spPr>
            <a:xfrm rot="20704200">
              <a:off x="4982760" y="4762440"/>
              <a:ext cx="1717560" cy="660240"/>
            </a:xfrm>
            <a:prstGeom prst="pie">
              <a:avLst/>
            </a:prstGeom>
            <a:solidFill>
              <a:srgbClr val="558ed5"/>
            </a:solidFill>
            <a:ln w="0">
              <a:noFill/>
            </a:ln>
            <a:effectLst>
              <a:outerShdw dist="50760" dir="5400000" blurRad="0" rotWithShape="0">
                <a:srgbClr val="26262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66"/>
            <p:cNvSpPr/>
            <p:nvPr/>
          </p:nvSpPr>
          <p:spPr>
            <a:xfrm rot="20704200">
              <a:off x="4702320" y="3706560"/>
              <a:ext cx="1724040" cy="671400"/>
            </a:xfrm>
            <a:prstGeom prst="pie">
              <a:avLst/>
            </a:prstGeom>
            <a:solidFill>
              <a:srgbClr val="17375e"/>
            </a:solidFill>
            <a:ln w="38160">
              <a:solidFill>
                <a:srgbClr val="558ed5">
                  <a:alpha val="18000"/>
                </a:srgbClr>
              </a:solidFill>
              <a:miter/>
            </a:ln>
            <a:effectLst>
              <a:outerShdw dist="50760" dir="54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feld 207"/>
          <p:cNvSpPr/>
          <p:nvPr/>
        </p:nvSpPr>
        <p:spPr>
          <a:xfrm rot="20700000">
            <a:off x="4914720" y="435240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uppieren 31"/>
          <p:cNvGrpSpPr/>
          <p:nvPr/>
        </p:nvGrpSpPr>
        <p:grpSpPr>
          <a:xfrm>
            <a:off x="2444760" y="3476880"/>
            <a:ext cx="2111760" cy="2137320"/>
            <a:chOff x="2444760" y="3476880"/>
            <a:chExt cx="2111760" cy="2137320"/>
          </a:xfrm>
        </p:grpSpPr>
        <p:pic>
          <p:nvPicPr>
            <p:cNvPr id="105" name="Grafik 212" descr="Hintergrund button.png"/>
            <p:cNvPicPr/>
            <p:nvPr/>
          </p:nvPicPr>
          <p:blipFill>
            <a:blip r:embed="rId4"/>
            <a:stretch/>
          </p:blipFill>
          <p:spPr>
            <a:xfrm>
              <a:off x="2517840" y="3610080"/>
              <a:ext cx="1974960" cy="1960560"/>
            </a:xfrm>
            <a:prstGeom prst="rect">
              <a:avLst/>
            </a:prstGeom>
            <a:ln w="0">
              <a:noFill/>
            </a:ln>
            <a:effectLst>
              <a:outerShdw dist="0" dir="0" blurRad="0" rotWithShape="0">
                <a:srgbClr val="000000">
                  <a:alpha val="66000"/>
                </a:srgbClr>
              </a:outerShdw>
            </a:effectLst>
          </p:spPr>
        </p:pic>
        <p:sp>
          <p:nvSpPr>
            <p:cNvPr id="106" name="Freeform 165"/>
            <p:cNvSpPr/>
            <p:nvPr/>
          </p:nvSpPr>
          <p:spPr>
            <a:xfrm rot="20704200">
              <a:off x="2782440" y="4743720"/>
              <a:ext cx="1717920" cy="660240"/>
            </a:xfrm>
            <a:prstGeom prst="pie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6294000"/>
            </a:gradFill>
            <a:ln w="0">
              <a:noFill/>
            </a:ln>
            <a:effectLst>
              <a:outerShdw dist="50760" dir="5400000" blurRad="0" rotWithShape="0">
                <a:srgbClr val="26262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66"/>
            <p:cNvSpPr/>
            <p:nvPr/>
          </p:nvSpPr>
          <p:spPr>
            <a:xfrm rot="20704200">
              <a:off x="2502000" y="3687480"/>
              <a:ext cx="1724040" cy="671400"/>
            </a:xfrm>
            <a:prstGeom prst="pie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6294000"/>
            </a:gradFill>
            <a:ln w="38160">
              <a:solidFill>
                <a:srgbClr val="558ed5">
                  <a:alpha val="18000"/>
                </a:srgbClr>
              </a:solidFill>
              <a:miter/>
            </a:ln>
            <a:effectLst>
              <a:outerShdw dist="50760" dir="54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feld 215"/>
          <p:cNvSpPr/>
          <p:nvPr/>
        </p:nvSpPr>
        <p:spPr>
          <a:xfrm rot="20700000">
            <a:off x="2743200" y="43621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Gruppieren 227" descr=""/>
          <p:cNvPicPr/>
          <p:nvPr/>
        </p:nvPicPr>
        <p:blipFill>
          <a:blip r:embed="rId5"/>
          <a:stretch/>
        </p:blipFill>
        <p:spPr>
          <a:xfrm>
            <a:off x="6497640" y="3376440"/>
            <a:ext cx="2732040" cy="2408400"/>
          </a:xfrm>
          <a:prstGeom prst="rect">
            <a:avLst/>
          </a:prstGeom>
          <a:ln w="0">
            <a:noFill/>
          </a:ln>
        </p:spPr>
      </p:pic>
      <p:sp>
        <p:nvSpPr>
          <p:cNvPr id="110" name="Textfeld 222"/>
          <p:cNvSpPr/>
          <p:nvPr/>
        </p:nvSpPr>
        <p:spPr>
          <a:xfrm rot="20700000">
            <a:off x="7058160" y="42764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29520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  <a:ea typeface="宋体"/>
              </a:rPr>
              <a:t>Button - 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9520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uppieren 30"/>
          <p:cNvGrpSpPr/>
          <p:nvPr/>
        </p:nvGrpSpPr>
        <p:grpSpPr>
          <a:xfrm>
            <a:off x="412920" y="3056040"/>
            <a:ext cx="1911240" cy="1847880"/>
            <a:chOff x="412920" y="3056040"/>
            <a:chExt cx="1911240" cy="1847880"/>
          </a:xfrm>
        </p:grpSpPr>
        <p:pic>
          <p:nvPicPr>
            <p:cNvPr id="114" name="Grafik 23" descr="Hintergrund button.png"/>
            <p:cNvPicPr/>
            <p:nvPr/>
          </p:nvPicPr>
          <p:blipFill>
            <a:blip r:embed="rId6"/>
            <a:stretch/>
          </p:blipFill>
          <p:spPr>
            <a:xfrm>
              <a:off x="412920" y="3056040"/>
              <a:ext cx="191124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Freeform 165"/>
            <p:cNvSpPr/>
            <p:nvPr/>
          </p:nvSpPr>
          <p:spPr>
            <a:xfrm rot="20704200">
              <a:off x="763560" y="4113360"/>
              <a:ext cx="1453680" cy="542880"/>
            </a:xfrm>
            <a:prstGeom prst="pie">
              <a:avLst/>
            </a:prstGeom>
            <a:gradFill rotWithShape="0">
              <a:gsLst>
                <a:gs pos="0">
                  <a:srgbClr val="a20000"/>
                </a:gs>
                <a:gs pos="100000">
                  <a:srgbClr val="d2201c"/>
                </a:gs>
              </a:gsLst>
              <a:lin ang="6294000"/>
            </a:gradFill>
            <a:ln w="0">
              <a:noFill/>
            </a:ln>
            <a:effectLst>
              <a:outerShdw dist="50760" dir="5400000" blurRad="0" rotWithShape="0">
                <a:srgbClr val="26262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66"/>
            <p:cNvSpPr/>
            <p:nvPr/>
          </p:nvSpPr>
          <p:spPr>
            <a:xfrm rot="20704200">
              <a:off x="519120" y="3256560"/>
              <a:ext cx="1459440" cy="554040"/>
            </a:xfrm>
            <a:prstGeom prst="pie">
              <a:avLst/>
            </a:prstGeom>
            <a:gradFill rotWithShape="0">
              <a:gsLst>
                <a:gs pos="0">
                  <a:srgbClr val="a20000"/>
                </a:gs>
                <a:gs pos="100000">
                  <a:srgbClr val="d2201c"/>
                </a:gs>
              </a:gsLst>
              <a:lin ang="6294000"/>
            </a:gradFill>
            <a:ln w="0">
              <a:noFill/>
            </a:ln>
            <a:effectLst>
              <a:outerShdw dist="50760" dir="5400000" blurRad="0" rotWithShape="0">
                <a:srgbClr val="26262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feld 28"/>
          <p:cNvSpPr/>
          <p:nvPr/>
        </p:nvSpPr>
        <p:spPr>
          <a:xfrm rot="20700000">
            <a:off x="590040" y="376704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\\Diskstation\PresentationLoad\PRESENTATIONLOAD\4_PRODUKTION\0_BILDERBIBLIOTHEK\_Texturen -Hintergründe\Abstract1_grey.jpg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29520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ticky notes - 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9520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  <a:ea typeface="宋体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Grafik 7" descr="Post-it.png"/>
          <p:cNvPicPr/>
          <p:nvPr/>
        </p:nvPicPr>
        <p:blipFill>
          <a:blip r:embed="rId2"/>
          <a:stretch/>
        </p:blipFill>
        <p:spPr>
          <a:xfrm>
            <a:off x="3602160" y="1103400"/>
            <a:ext cx="2616120" cy="2670120"/>
          </a:xfrm>
          <a:prstGeom prst="rect">
            <a:avLst/>
          </a:prstGeom>
          <a:ln w="0">
            <a:noFill/>
          </a:ln>
        </p:spPr>
      </p:pic>
      <p:pic>
        <p:nvPicPr>
          <p:cNvPr id="122" name="Grafik 8" descr="Post-it.png"/>
          <p:cNvPicPr/>
          <p:nvPr/>
        </p:nvPicPr>
        <p:blipFill>
          <a:blip r:embed="rId3"/>
          <a:stretch/>
        </p:blipFill>
        <p:spPr>
          <a:xfrm>
            <a:off x="6083280" y="785880"/>
            <a:ext cx="2822760" cy="3414600"/>
          </a:xfrm>
          <a:prstGeom prst="rect">
            <a:avLst/>
          </a:prstGeom>
          <a:ln w="0">
            <a:noFill/>
          </a:ln>
        </p:spPr>
      </p:pic>
      <p:pic>
        <p:nvPicPr>
          <p:cNvPr id="123" name="Grafik 9" descr="Pagepeel.png"/>
          <p:cNvPicPr/>
          <p:nvPr/>
        </p:nvPicPr>
        <p:blipFill>
          <a:blip r:embed="rId4"/>
          <a:stretch/>
        </p:blipFill>
        <p:spPr>
          <a:xfrm rot="21253800">
            <a:off x="4196880" y="3661920"/>
            <a:ext cx="2243160" cy="2144880"/>
          </a:xfrm>
          <a:prstGeom prst="rect">
            <a:avLst/>
          </a:prstGeom>
          <a:ln w="0">
            <a:noFill/>
          </a:ln>
        </p:spPr>
      </p:pic>
      <p:pic>
        <p:nvPicPr>
          <p:cNvPr id="124" name="Grafik 11" descr="Post-it.png"/>
          <p:cNvPicPr/>
          <p:nvPr/>
        </p:nvPicPr>
        <p:blipFill>
          <a:blip r:embed="rId5"/>
          <a:stretch/>
        </p:blipFill>
        <p:spPr>
          <a:xfrm>
            <a:off x="60480" y="1182600"/>
            <a:ext cx="3682800" cy="2760840"/>
          </a:xfrm>
          <a:prstGeom prst="rect">
            <a:avLst/>
          </a:prstGeom>
          <a:ln w="0">
            <a:noFill/>
          </a:ln>
        </p:spPr>
      </p:pic>
      <p:pic>
        <p:nvPicPr>
          <p:cNvPr id="125" name="Grafik 19" descr="Pagepeel_hochkant.png"/>
          <p:cNvPicPr/>
          <p:nvPr/>
        </p:nvPicPr>
        <p:blipFill>
          <a:blip r:embed="rId6"/>
          <a:stretch/>
        </p:blipFill>
        <p:spPr>
          <a:xfrm>
            <a:off x="1366920" y="3562200"/>
            <a:ext cx="2181240" cy="2857680"/>
          </a:xfrm>
          <a:prstGeom prst="rect">
            <a:avLst/>
          </a:prstGeom>
          <a:ln w="0">
            <a:noFill/>
          </a:ln>
        </p:spPr>
      </p:pic>
      <p:sp>
        <p:nvSpPr>
          <p:cNvPr id="126" name="Textfeld 20"/>
          <p:cNvSpPr/>
          <p:nvPr/>
        </p:nvSpPr>
        <p:spPr>
          <a:xfrm rot="21268200">
            <a:off x="590040" y="2009880"/>
            <a:ext cx="24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Placeholder for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feld 21"/>
          <p:cNvSpPr/>
          <p:nvPr/>
        </p:nvSpPr>
        <p:spPr>
          <a:xfrm rot="21268200">
            <a:off x="6696720" y="1406160"/>
            <a:ext cx="151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This is a placeholder text. This text can be replaced with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feld 22"/>
          <p:cNvSpPr/>
          <p:nvPr/>
        </p:nvSpPr>
        <p:spPr>
          <a:xfrm rot="21268200">
            <a:off x="4172760" y="2255400"/>
            <a:ext cx="151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This is a placeholder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feld 23"/>
          <p:cNvSpPr/>
          <p:nvPr/>
        </p:nvSpPr>
        <p:spPr>
          <a:xfrm rot="21268200">
            <a:off x="4553640" y="3922560"/>
            <a:ext cx="1517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All phrases can be replaced with y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feld 24"/>
          <p:cNvSpPr/>
          <p:nvPr/>
        </p:nvSpPr>
        <p:spPr>
          <a:xfrm rot="21268200">
            <a:off x="1708920" y="4361040"/>
            <a:ext cx="14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Placeholder for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页脚占位符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Grafik 8" descr="Abstract3.jpg"/>
          <p:cNvPicPr/>
          <p:nvPr/>
        </p:nvPicPr>
        <p:blipFill>
          <a:blip r:embed="rId1">
            <a:grayscl/>
            <a:lum bright="20000"/>
          </a:blip>
          <a:stretch/>
        </p:blipFill>
        <p:spPr>
          <a:xfrm>
            <a:off x="0" y="0"/>
            <a:ext cx="9144000" cy="6000840"/>
          </a:xfrm>
          <a:prstGeom prst="rect">
            <a:avLst/>
          </a:prstGeom>
          <a:ln w="0">
            <a:noFill/>
          </a:ln>
        </p:spPr>
      </p:pic>
      <p:pic>
        <p:nvPicPr>
          <p:cNvPr id="133" name="Grafik 10" descr="Head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34" name="Rechteck 12"/>
          <p:cNvSpPr/>
          <p:nvPr/>
        </p:nvSpPr>
        <p:spPr>
          <a:xfrm>
            <a:off x="1095480" y="1590840"/>
            <a:ext cx="2962080" cy="3514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uppieren 23"/>
          <p:cNvGrpSpPr/>
          <p:nvPr/>
        </p:nvGrpSpPr>
        <p:grpSpPr>
          <a:xfrm>
            <a:off x="2109960" y="990720"/>
            <a:ext cx="699480" cy="976320"/>
            <a:chOff x="2109960" y="990720"/>
            <a:chExt cx="699480" cy="976320"/>
          </a:xfrm>
        </p:grpSpPr>
        <p:pic>
          <p:nvPicPr>
            <p:cNvPr id="136" name="Picture 3" descr="\\Diskstation\PresentationLoad\PRESENTATIONLOAD\4_PRODUKTION\3_CHARTS &amp; DIAGRAMME\Sortieren\paper scraps\pin\pin_rot.png"/>
            <p:cNvPicPr/>
            <p:nvPr/>
          </p:nvPicPr>
          <p:blipFill>
            <a:blip r:embed="rId3"/>
            <a:srcRect l="22310" t="0" r="46844" b="37976"/>
            <a:stretch/>
          </p:blipFill>
          <p:spPr>
            <a:xfrm flipH="1">
              <a:off x="2196360" y="990720"/>
              <a:ext cx="613080" cy="92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Ellipse 15"/>
            <p:cNvGrpSpPr/>
            <p:nvPr/>
          </p:nvGrpSpPr>
          <p:grpSpPr>
            <a:xfrm>
              <a:off x="2109960" y="1634760"/>
              <a:ext cx="501120" cy="332280"/>
              <a:chOff x="2109960" y="1634760"/>
              <a:chExt cx="501120" cy="332280"/>
            </a:xfrm>
          </p:grpSpPr>
          <p:pic>
            <p:nvPicPr>
              <p:cNvPr id="138" name="Ellips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109960" y="1634760"/>
                <a:ext cx="501120" cy="33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2188440" y="1688760"/>
                <a:ext cx="34704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0" name="Picture 4" descr="\\Diskstation\PresentationLoad\PRESENTATIONLOAD\4_PRODUKTION\3_CHARTS &amp; DIAGRAMME\Sortieren\paper scraps\scraps\scraps-13.emf"/>
          <p:cNvPicPr/>
          <p:nvPr/>
        </p:nvPicPr>
        <p:blipFill>
          <a:blip r:embed="rId5"/>
          <a:stretch/>
        </p:blipFill>
        <p:spPr>
          <a:xfrm>
            <a:off x="5587920" y="1743120"/>
            <a:ext cx="2351160" cy="2813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7f7f7f"/>
            </a:outerShdw>
          </a:effectLst>
        </p:spPr>
      </p:pic>
      <p:grpSp>
        <p:nvGrpSpPr>
          <p:cNvPr id="141" name="Gruppieren 24"/>
          <p:cNvGrpSpPr/>
          <p:nvPr/>
        </p:nvGrpSpPr>
        <p:grpSpPr>
          <a:xfrm>
            <a:off x="6681960" y="1440000"/>
            <a:ext cx="671400" cy="947520"/>
            <a:chOff x="6681960" y="1440000"/>
            <a:chExt cx="671400" cy="947520"/>
          </a:xfrm>
        </p:grpSpPr>
        <p:pic>
          <p:nvPicPr>
            <p:cNvPr id="142" name="Picture 3" descr="\\Diskstation\PresentationLoad\PRESENTATIONLOAD\4_PRODUKTION\3_CHARTS &amp; DIAGRAMME\Sortieren\paper scraps\pin\pin_rot.png"/>
            <p:cNvPicPr/>
            <p:nvPr/>
          </p:nvPicPr>
          <p:blipFill>
            <a:blip r:embed="rId6"/>
            <a:srcRect l="22310" t="0" r="46844" b="37976"/>
            <a:stretch/>
          </p:blipFill>
          <p:spPr>
            <a:xfrm flipH="1">
              <a:off x="6739920" y="1440000"/>
              <a:ext cx="613440" cy="92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3" name="Ellipse 18"/>
            <p:cNvGrpSpPr/>
            <p:nvPr/>
          </p:nvGrpSpPr>
          <p:grpSpPr>
            <a:xfrm>
              <a:off x="6681960" y="2055240"/>
              <a:ext cx="501120" cy="332280"/>
              <a:chOff x="6681960" y="2055240"/>
              <a:chExt cx="501120" cy="332280"/>
            </a:xfrm>
          </p:grpSpPr>
          <p:pic>
            <p:nvPicPr>
              <p:cNvPr id="144" name="Ellipse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6681960" y="2055240"/>
                <a:ext cx="501120" cy="33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6760440" y="2109240"/>
                <a:ext cx="34704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Rectangle 7"/>
          <p:cNvSpPr/>
          <p:nvPr/>
        </p:nvSpPr>
        <p:spPr>
          <a:xfrm>
            <a:off x="29520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  <a:ea typeface="宋体"/>
              </a:rPr>
              <a:t>Notes - 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95200" y="541980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  <a:ea typeface="宋体"/>
              </a:rPr>
              <a:t>Placeholder for your own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Grafik 22" descr="schatten.png"/>
          <p:cNvPicPr/>
          <p:nvPr/>
        </p:nvPicPr>
        <p:blipFill>
          <a:blip r:embed="rId8"/>
          <a:stretch/>
        </p:blipFill>
        <p:spPr>
          <a:xfrm>
            <a:off x="0" y="878040"/>
            <a:ext cx="9144000" cy="1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de-DE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de-DE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de-DE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de-DE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de-DE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de-DE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de-DE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de-DE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de-DE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de-DE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de-DE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de-DE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de-DE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de-DE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de-DE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de-DE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de-DE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de-DE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de-DE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de-DE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97C6-4ED8-4A27-8990-DDA3E55689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2:04:5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1:29:44Z</dcterms:modified>
  <cp:revision>10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