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AF70-8254-43EB-87BD-C64521E1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8D6D-5A94-4E0E-8E3C-AA4E55B8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4FC2-8E0A-434A-A01F-282CB018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8C14-B9C5-4DB6-A491-61F222FC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10CA-D675-46A6-B955-9B9BF147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206E-3BA4-4BAA-808E-5CC116FC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875A-6772-4822-985E-C26B0C0C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CBB-7F1B-4B7E-B6A7-939D83B0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E45C-795A-4768-BE6A-9403166D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1A27-0C3B-4DF0-9236-FC49E03F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D46D-C1B8-45A5-BB26-25CE0152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B734-27CB-4E92-AAEC-1C52A0D4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44DC-E213-42E1-A45C-3D1507E1E9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8"/>
          <p:cNvSpPr/>
          <p:nvPr/>
        </p:nvSpPr>
        <p:spPr>
          <a:xfrm>
            <a:off x="274680" y="44604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43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矩形 66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106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107" name="矩形 69" descr=""/>
              <p:cNvPicPr/>
              <p:nvPr/>
            </p:nvPicPr>
            <p:blipFill>
              <a:blip r:embed="rId16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Box 89"/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90"/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91"/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92"/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93"/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71280" y="455292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2322360" y="1131840"/>
            <a:ext cx="621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标签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116"/>
          <p:cNvGrpSpPr/>
          <p:nvPr/>
        </p:nvGrpSpPr>
        <p:grpSpPr>
          <a:xfrm>
            <a:off x="85680" y="1230480"/>
            <a:ext cx="8987040" cy="3632040"/>
            <a:chOff x="85680" y="1230480"/>
            <a:chExt cx="8987040" cy="3632040"/>
          </a:xfrm>
        </p:grpSpPr>
        <p:sp>
          <p:nvSpPr>
            <p:cNvPr id="120" name="矩形 117"/>
            <p:cNvSpPr/>
            <p:nvPr/>
          </p:nvSpPr>
          <p:spPr>
            <a:xfrm>
              <a:off x="85680" y="1230480"/>
              <a:ext cx="8987040" cy="36320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矩形 121"/>
            <p:cNvSpPr/>
            <p:nvPr/>
          </p:nvSpPr>
          <p:spPr>
            <a:xfrm>
              <a:off x="816480" y="1400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4b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Box 122"/>
            <p:cNvSpPr/>
            <p:nvPr/>
          </p:nvSpPr>
          <p:spPr>
            <a:xfrm>
              <a:off x="1125360" y="2030400"/>
              <a:ext cx="7160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    </a:t>
              </a: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矩形 134"/>
          <p:cNvSpPr/>
          <p:nvPr/>
        </p:nvSpPr>
        <p:spPr>
          <a:xfrm>
            <a:off x="0" y="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35"/>
          <p:cNvSpPr/>
          <p:nvPr/>
        </p:nvSpPr>
        <p:spPr>
          <a:xfrm>
            <a:off x="0" y="52704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36"/>
          <p:cNvSpPr/>
          <p:nvPr/>
        </p:nvSpPr>
        <p:spPr>
          <a:xfrm>
            <a:off x="0" y="1054080"/>
            <a:ext cx="9144000" cy="9525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37"/>
          <p:cNvSpPr/>
          <p:nvPr/>
        </p:nvSpPr>
        <p:spPr>
          <a:xfrm>
            <a:off x="0" y="1581120"/>
            <a:ext cx="9144000" cy="9525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138"/>
          <p:cNvSpPr/>
          <p:nvPr/>
        </p:nvSpPr>
        <p:spPr>
          <a:xfrm>
            <a:off x="0" y="2108160"/>
            <a:ext cx="9144000" cy="9525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139"/>
          <p:cNvSpPr/>
          <p:nvPr/>
        </p:nvSpPr>
        <p:spPr>
          <a:xfrm>
            <a:off x="0" y="263700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140"/>
          <p:cNvSpPr/>
          <p:nvPr/>
        </p:nvSpPr>
        <p:spPr>
          <a:xfrm>
            <a:off x="0" y="369108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141"/>
          <p:cNvSpPr/>
          <p:nvPr/>
        </p:nvSpPr>
        <p:spPr>
          <a:xfrm>
            <a:off x="0" y="316404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42"/>
          <p:cNvSpPr/>
          <p:nvPr/>
        </p:nvSpPr>
        <p:spPr>
          <a:xfrm>
            <a:off x="0" y="421812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133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矩形 66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196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197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TextBox 127"/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128"/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29"/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33"/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48"/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49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5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2" presetSubtype="4">
                                  <p:stCondLst>
                                    <p:cond delay="2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2" presetSubtype="1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5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5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2" presetSubtype="4">
                                  <p:stCondLst>
                                    <p:cond delay="3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5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2" presetSubtype="4">
                                  <p:stCondLst>
                                    <p:cond delay="3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5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9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2" presetSubtype="4">
                                  <p:stCondLst>
                                    <p:cond delay="4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5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6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2" presetSubtype="4">
                                  <p:stCondLst>
                                    <p:cond delay="4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5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3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2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1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5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0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2" presetSubtype="4">
                                  <p:stCondLst>
                                    <p:cond delay="6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5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7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2" presetSubtype="4">
                                  <p:stCondLst>
                                    <p:cond delay="5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5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4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2" presetSubtype="4">
                                  <p:stCondLst>
                                    <p:cond delay="6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6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3.88889E-006 -0.78765 L 3.88889E-006 -8.64198E-007 E">
                                      <p:cBhvr>
                                        <p:cTn id="72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208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矩形 66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271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272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4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组合 1"/>
          <p:cNvGrpSpPr/>
          <p:nvPr/>
        </p:nvGrpSpPr>
        <p:grpSpPr>
          <a:xfrm>
            <a:off x="252360" y="1131840"/>
            <a:ext cx="8987040" cy="3630600"/>
            <a:chOff x="252360" y="1131840"/>
            <a:chExt cx="8987040" cy="3630600"/>
          </a:xfrm>
        </p:grpSpPr>
        <p:sp>
          <p:nvSpPr>
            <p:cNvPr id="277" name="矩形 79"/>
            <p:cNvSpPr/>
            <p:nvPr/>
          </p:nvSpPr>
          <p:spPr>
            <a:xfrm>
              <a:off x="252360" y="1131840"/>
              <a:ext cx="8987040" cy="363060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矩形 2"/>
            <p:cNvSpPr/>
            <p:nvPr/>
          </p:nvSpPr>
          <p:spPr>
            <a:xfrm>
              <a:off x="983160" y="13017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4b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TextBox 125"/>
            <p:cNvSpPr/>
            <p:nvPr/>
          </p:nvSpPr>
          <p:spPr>
            <a:xfrm>
              <a:off x="1292040" y="1931760"/>
              <a:ext cx="7160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    </a:t>
              </a: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" name="TextBox 126"/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127"/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128"/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129"/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133"/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134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/>
          <p:nvPr/>
        </p:nvSpPr>
        <p:spPr>
          <a:xfrm>
            <a:off x="1332000" y="419256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288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9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350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351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3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矩形 117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组合 1"/>
          <p:cNvGrpSpPr/>
          <p:nvPr/>
        </p:nvGrpSpPr>
        <p:grpSpPr>
          <a:xfrm>
            <a:off x="87480" y="1231920"/>
            <a:ext cx="8986680" cy="3630600"/>
            <a:chOff x="87480" y="1231920"/>
            <a:chExt cx="8986680" cy="3630600"/>
          </a:xfrm>
        </p:grpSpPr>
        <p:sp>
          <p:nvSpPr>
            <p:cNvPr id="357" name="矩形 79"/>
            <p:cNvSpPr/>
            <p:nvPr/>
          </p:nvSpPr>
          <p:spPr>
            <a:xfrm>
              <a:off x="87480" y="1231920"/>
              <a:ext cx="8986680" cy="363060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矩形 107"/>
            <p:cNvSpPr/>
            <p:nvPr/>
          </p:nvSpPr>
          <p:spPr>
            <a:xfrm>
              <a:off x="831240" y="14018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4b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9" name="组合 90"/>
            <p:cNvGrpSpPr/>
            <p:nvPr/>
          </p:nvGrpSpPr>
          <p:grpSpPr>
            <a:xfrm>
              <a:off x="613800" y="2256120"/>
              <a:ext cx="7914240" cy="1925280"/>
              <a:chOff x="613800" y="2256120"/>
              <a:chExt cx="7914240" cy="1925280"/>
            </a:xfrm>
          </p:grpSpPr>
          <p:pic>
            <p:nvPicPr>
              <p:cNvPr id="360" name="图片 91" descr=""/>
              <p:cNvPicPr/>
              <p:nvPr/>
            </p:nvPicPr>
            <p:blipFill>
              <a:blip r:embed="rId2"/>
              <a:stretch/>
            </p:blipFill>
            <p:spPr>
              <a:xfrm>
                <a:off x="613800" y="2300400"/>
                <a:ext cx="2024280" cy="188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TextBox 92"/>
              <p:cNvSpPr/>
              <p:nvPr/>
            </p:nvSpPr>
            <p:spPr>
              <a:xfrm>
                <a:off x="2638080" y="2256120"/>
                <a:ext cx="58899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生与死的距离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我站在你面前你不知道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我站在你面前你不知道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爱到痴迷却不能说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我不能说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想你痛彻心脾却只能深埋心底 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@</a:t>
                </a:r>
                <a:r>
                  <a:rPr b="0" lang="zh-CN" sz="1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点击更换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62" name="TextBox 94"/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95"/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96"/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97"/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98"/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99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组合 124"/>
          <p:cNvGrpSpPr/>
          <p:nvPr/>
        </p:nvGrpSpPr>
        <p:grpSpPr>
          <a:xfrm>
            <a:off x="85680" y="1239840"/>
            <a:ext cx="8987040" cy="3632040"/>
            <a:chOff x="85680" y="1239840"/>
            <a:chExt cx="8987040" cy="3632040"/>
          </a:xfrm>
        </p:grpSpPr>
        <p:sp>
          <p:nvSpPr>
            <p:cNvPr id="369" name="矩形 138"/>
            <p:cNvSpPr/>
            <p:nvPr/>
          </p:nvSpPr>
          <p:spPr>
            <a:xfrm>
              <a:off x="85680" y="1239840"/>
              <a:ext cx="8987040" cy="36320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矩形 139"/>
            <p:cNvSpPr/>
            <p:nvPr/>
          </p:nvSpPr>
          <p:spPr>
            <a:xfrm>
              <a:off x="829440" y="14097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4b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1" name="组合 140"/>
            <p:cNvGrpSpPr/>
            <p:nvPr/>
          </p:nvGrpSpPr>
          <p:grpSpPr>
            <a:xfrm>
              <a:off x="612000" y="2264400"/>
              <a:ext cx="7914600" cy="1926000"/>
              <a:chOff x="612000" y="2264400"/>
              <a:chExt cx="7914600" cy="1926000"/>
            </a:xfrm>
          </p:grpSpPr>
          <p:pic>
            <p:nvPicPr>
              <p:cNvPr id="372" name="图片 141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000" y="2309040"/>
                <a:ext cx="2024280" cy="188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TextBox 180"/>
              <p:cNvSpPr/>
              <p:nvPr/>
            </p:nvSpPr>
            <p:spPr>
              <a:xfrm>
                <a:off x="2636640" y="2264400"/>
                <a:ext cx="58899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生与死的距离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我站在你面前你不知道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我站在你面前你不知道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爱到痴迷却不能说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我不能说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想你痛彻心脾却只能深埋心底 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@</a:t>
                </a:r>
                <a:r>
                  <a:rPr b="0" lang="zh-CN" sz="1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点击更换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74" name="组合 205"/>
          <p:cNvGrpSpPr/>
          <p:nvPr/>
        </p:nvGrpSpPr>
        <p:grpSpPr>
          <a:xfrm>
            <a:off x="-263520" y="1239840"/>
            <a:ext cx="9354960" cy="3632040"/>
            <a:chOff x="-263520" y="1239840"/>
            <a:chExt cx="9354960" cy="3632040"/>
          </a:xfrm>
        </p:grpSpPr>
        <p:sp>
          <p:nvSpPr>
            <p:cNvPr id="375" name="矩形 206"/>
            <p:cNvSpPr/>
            <p:nvPr/>
          </p:nvSpPr>
          <p:spPr>
            <a:xfrm>
              <a:off x="104760" y="1239840"/>
              <a:ext cx="8986680" cy="36320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6" name="组合 207"/>
            <p:cNvGrpSpPr/>
            <p:nvPr/>
          </p:nvGrpSpPr>
          <p:grpSpPr>
            <a:xfrm>
              <a:off x="-263520" y="1306080"/>
              <a:ext cx="9144360" cy="3542760"/>
              <a:chOff x="-263520" y="1306080"/>
              <a:chExt cx="9144360" cy="3542760"/>
            </a:xfrm>
          </p:grpSpPr>
          <p:grpSp>
            <p:nvGrpSpPr>
              <p:cNvPr id="377" name="组合 208"/>
              <p:cNvGrpSpPr/>
              <p:nvPr/>
            </p:nvGrpSpPr>
            <p:grpSpPr>
              <a:xfrm>
                <a:off x="719640" y="1306080"/>
                <a:ext cx="7474320" cy="3142080"/>
                <a:chOff x="719640" y="1306080"/>
                <a:chExt cx="7474320" cy="3142080"/>
              </a:xfrm>
            </p:grpSpPr>
            <p:sp>
              <p:nvSpPr>
                <p:cNvPr id="378" name="直接连接符 210"/>
                <p:cNvSpPr/>
                <p:nvPr/>
              </p:nvSpPr>
              <p:spPr>
                <a:xfrm>
                  <a:off x="1578240" y="1838160"/>
                  <a:ext cx="6121800" cy="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9" name="直接连接符 211"/>
                <p:cNvSpPr/>
                <p:nvPr/>
              </p:nvSpPr>
              <p:spPr>
                <a:xfrm>
                  <a:off x="1518120" y="3125160"/>
                  <a:ext cx="6121800" cy="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0" name="矩形 212"/>
                <p:cNvSpPr/>
                <p:nvPr/>
              </p:nvSpPr>
              <p:spPr>
                <a:xfrm flipH="1">
                  <a:off x="2790720" y="2707920"/>
                  <a:ext cx="376200" cy="140292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1" name="矩形 213"/>
                <p:cNvSpPr/>
                <p:nvPr/>
              </p:nvSpPr>
              <p:spPr>
                <a:xfrm flipH="1">
                  <a:off x="3525840" y="2477520"/>
                  <a:ext cx="377640" cy="163296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2" name="矩形 214"/>
                <p:cNvSpPr/>
                <p:nvPr/>
              </p:nvSpPr>
              <p:spPr>
                <a:xfrm flipH="1">
                  <a:off x="4262400" y="3125160"/>
                  <a:ext cx="376200" cy="98568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3" name="矩形 215"/>
                <p:cNvSpPr/>
                <p:nvPr/>
              </p:nvSpPr>
              <p:spPr>
                <a:xfrm flipH="1">
                  <a:off x="4997520" y="2477520"/>
                  <a:ext cx="376200" cy="163296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4" name="矩形 216"/>
                <p:cNvSpPr/>
                <p:nvPr/>
              </p:nvSpPr>
              <p:spPr>
                <a:xfrm flipH="1">
                  <a:off x="5732640" y="1846080"/>
                  <a:ext cx="377640" cy="226476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5" name="矩形 217"/>
                <p:cNvSpPr/>
                <p:nvPr/>
              </p:nvSpPr>
              <p:spPr>
                <a:xfrm flipH="1">
                  <a:off x="6469200" y="2707920"/>
                  <a:ext cx="376200" cy="140292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6" name="矩形 218"/>
                <p:cNvSpPr/>
                <p:nvPr/>
              </p:nvSpPr>
              <p:spPr>
                <a:xfrm flipH="1">
                  <a:off x="2055600" y="2141280"/>
                  <a:ext cx="376200" cy="196956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387" name="直接箭头连接符 219"/>
                <p:cNvCxnSpPr/>
                <p:nvPr/>
              </p:nvCxnSpPr>
              <p:spPr>
                <a:xfrm>
                  <a:off x="1518120" y="4110480"/>
                  <a:ext cx="6482880" cy="108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88" name="直接箭头连接符 220"/>
                <p:cNvCxnSpPr/>
                <p:nvPr/>
              </p:nvCxnSpPr>
              <p:spPr>
                <a:xfrm flipV="1">
                  <a:off x="1517760" y="1306080"/>
                  <a:ext cx="1080" cy="280512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miter/>
                  <a:tailEnd len="med" type="arrow" w="med"/>
                </a:ln>
              </p:spPr>
            </p:cxnSp>
            <p:sp>
              <p:nvSpPr>
                <p:cNvPr id="389" name="TextBox 221"/>
                <p:cNvSpPr/>
                <p:nvPr/>
              </p:nvSpPr>
              <p:spPr>
                <a:xfrm>
                  <a:off x="1876680" y="41108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0" name="TextBox 222"/>
                <p:cNvSpPr/>
                <p:nvPr/>
              </p:nvSpPr>
              <p:spPr>
                <a:xfrm>
                  <a:off x="2611800" y="411084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1" name="TextBox 223"/>
                <p:cNvSpPr/>
                <p:nvPr/>
              </p:nvSpPr>
              <p:spPr>
                <a:xfrm>
                  <a:off x="3350160" y="411084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2" name="TextBox 224"/>
                <p:cNvSpPr/>
                <p:nvPr/>
              </p:nvSpPr>
              <p:spPr>
                <a:xfrm>
                  <a:off x="4083840" y="40982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3" name="TextBox 225"/>
                <p:cNvSpPr/>
                <p:nvPr/>
              </p:nvSpPr>
              <p:spPr>
                <a:xfrm>
                  <a:off x="4818960" y="40982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4" name="TextBox 226"/>
                <p:cNvSpPr/>
                <p:nvPr/>
              </p:nvSpPr>
              <p:spPr>
                <a:xfrm>
                  <a:off x="5555520" y="409824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5" name="TextBox 227"/>
                <p:cNvSpPr/>
                <p:nvPr/>
              </p:nvSpPr>
              <p:spPr>
                <a:xfrm>
                  <a:off x="719640" y="178092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04040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6" name="TextBox 228"/>
                <p:cNvSpPr/>
                <p:nvPr/>
              </p:nvSpPr>
              <p:spPr>
                <a:xfrm>
                  <a:off x="1578240" y="13064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7" name="TextBox 229"/>
                <p:cNvSpPr/>
                <p:nvPr/>
              </p:nvSpPr>
              <p:spPr>
                <a:xfrm>
                  <a:off x="763920" y="298080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8" name="TextBox 230"/>
                <p:cNvSpPr/>
                <p:nvPr/>
              </p:nvSpPr>
              <p:spPr>
                <a:xfrm>
                  <a:off x="7459200" y="376020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99" name="TextBox 209"/>
              <p:cNvSpPr/>
              <p:nvPr/>
            </p:nvSpPr>
            <p:spPr>
              <a:xfrm>
                <a:off x="-263520" y="4389120"/>
                <a:ext cx="914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7f7f7f"/>
                    </a:solidFill>
                    <a:latin typeface="黑体"/>
                    <a:ea typeface="黑体"/>
                  </a:rPr>
                  <a:t>Your text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0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401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2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463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464" name="矩形 69" descr=""/>
              <p:cNvPicPr/>
              <p:nvPr/>
            </p:nvPicPr>
            <p:blipFill>
              <a:blip r:embed="rId2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6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8" name="矩形 117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236"/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Box 237"/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Box 238"/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Box 239"/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Box 240"/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Box 241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25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5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85" dur="1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476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7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538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539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1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3" name="矩形 117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4" name="组合 1"/>
          <p:cNvGrpSpPr/>
          <p:nvPr/>
        </p:nvGrpSpPr>
        <p:grpSpPr>
          <a:xfrm>
            <a:off x="87480" y="1231920"/>
            <a:ext cx="8986680" cy="3630600"/>
            <a:chOff x="87480" y="1231920"/>
            <a:chExt cx="8986680" cy="3630600"/>
          </a:xfrm>
        </p:grpSpPr>
        <p:sp>
          <p:nvSpPr>
            <p:cNvPr id="545" name="矩形 79"/>
            <p:cNvSpPr/>
            <p:nvPr/>
          </p:nvSpPr>
          <p:spPr>
            <a:xfrm>
              <a:off x="87480" y="1231920"/>
              <a:ext cx="8986680" cy="363060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6" name="组合 85"/>
            <p:cNvGrpSpPr/>
            <p:nvPr/>
          </p:nvGrpSpPr>
          <p:grpSpPr>
            <a:xfrm>
              <a:off x="1106280" y="1544040"/>
              <a:ext cx="6931800" cy="2909160"/>
              <a:chOff x="1106280" y="1544040"/>
              <a:chExt cx="6931800" cy="2909160"/>
            </a:xfrm>
          </p:grpSpPr>
          <p:sp>
            <p:nvSpPr>
              <p:cNvPr id="547" name="圆角矩形 86"/>
              <p:cNvSpPr/>
              <p:nvPr/>
            </p:nvSpPr>
            <p:spPr>
              <a:xfrm>
                <a:off x="1106280" y="1719000"/>
                <a:ext cx="6931800" cy="273420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圆角矩形 87"/>
              <p:cNvSpPr/>
              <p:nvPr/>
            </p:nvSpPr>
            <p:spPr>
              <a:xfrm>
                <a:off x="1375920" y="2251080"/>
                <a:ext cx="1981440" cy="1973520"/>
              </a:xfrm>
              <a:prstGeom prst="roundRect">
                <a:avLst>
                  <a:gd name="adj" fmla="val 1666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圆角矩形 88"/>
              <p:cNvSpPr/>
              <p:nvPr/>
            </p:nvSpPr>
            <p:spPr>
              <a:xfrm>
                <a:off x="3581280" y="2251080"/>
                <a:ext cx="1981440" cy="1973520"/>
              </a:xfrm>
              <a:prstGeom prst="roundRect">
                <a:avLst>
                  <a:gd name="adj" fmla="val 1666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圆角矩形 89"/>
              <p:cNvSpPr/>
              <p:nvPr/>
            </p:nvSpPr>
            <p:spPr>
              <a:xfrm>
                <a:off x="5786640" y="2251080"/>
                <a:ext cx="1981440" cy="1973520"/>
              </a:xfrm>
              <a:prstGeom prst="roundRect">
                <a:avLst>
                  <a:gd name="adj" fmla="val 1666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圆角矩形 90"/>
              <p:cNvSpPr/>
              <p:nvPr/>
            </p:nvSpPr>
            <p:spPr>
              <a:xfrm>
                <a:off x="2592360" y="1566720"/>
                <a:ext cx="3959640" cy="37944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圆角矩形 91"/>
              <p:cNvSpPr/>
              <p:nvPr/>
            </p:nvSpPr>
            <p:spPr>
              <a:xfrm>
                <a:off x="1666440" y="2125440"/>
                <a:ext cx="1400400" cy="31428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圆角矩形 97"/>
              <p:cNvSpPr/>
              <p:nvPr/>
            </p:nvSpPr>
            <p:spPr>
              <a:xfrm>
                <a:off x="3871800" y="2125440"/>
                <a:ext cx="1400400" cy="31428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圆角矩形 98"/>
              <p:cNvSpPr/>
              <p:nvPr/>
            </p:nvSpPr>
            <p:spPr>
              <a:xfrm>
                <a:off x="6077520" y="2125440"/>
                <a:ext cx="1400400" cy="31428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TextBox 99"/>
              <p:cNvSpPr/>
              <p:nvPr/>
            </p:nvSpPr>
            <p:spPr>
              <a:xfrm>
                <a:off x="1375920" y="2630160"/>
                <a:ext cx="19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6" name="TextBox 100"/>
              <p:cNvSpPr/>
              <p:nvPr/>
            </p:nvSpPr>
            <p:spPr>
              <a:xfrm>
                <a:off x="3582000" y="2644560"/>
                <a:ext cx="19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TextBox 101"/>
              <p:cNvSpPr/>
              <p:nvPr/>
            </p:nvSpPr>
            <p:spPr>
              <a:xfrm>
                <a:off x="5788080" y="2647080"/>
                <a:ext cx="19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TextBox 102"/>
              <p:cNvSpPr/>
              <p:nvPr/>
            </p:nvSpPr>
            <p:spPr>
              <a:xfrm>
                <a:off x="2906640" y="1544040"/>
                <a:ext cx="342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TextBox 103"/>
              <p:cNvSpPr/>
              <p:nvPr/>
            </p:nvSpPr>
            <p:spPr>
              <a:xfrm>
                <a:off x="1827000" y="2085840"/>
                <a:ext cx="1079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62626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TextBox 104"/>
              <p:cNvSpPr/>
              <p:nvPr/>
            </p:nvSpPr>
            <p:spPr>
              <a:xfrm>
                <a:off x="4032360" y="2081160"/>
                <a:ext cx="1079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62626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1" name="TextBox 105"/>
              <p:cNvSpPr/>
              <p:nvPr/>
            </p:nvSpPr>
            <p:spPr>
              <a:xfrm>
                <a:off x="6237720" y="2081160"/>
                <a:ext cx="1079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62626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62" name="TextBox 106"/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08"/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109"/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110"/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111"/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112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4AFD-3ABF-44C8-BA70-3DE2A602D6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8T11:24:4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8:24:55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