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894-1F9D-46EB-B5B5-886A7E9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1C2-82B7-4A0B-8D5E-DB32AA00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561-0FB3-4C49-A282-682E471A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974-3F0B-41DA-8580-1578C079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F87-6F57-4C10-A1EB-C01250CD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06D-1FB3-4051-AF21-19EF1A1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E01-6917-4A80-98AA-D600D9D6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7D3-84E6-4A0F-956F-57AF955B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154-A2D0-4558-AEBE-1A4A79D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50B-8ACC-45EF-861F-9239958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21D-B9BA-4617-908C-FC288E4B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582-27C0-4400-8B3E-EA70DD7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30A-C3A4-450E-9720-A8390739657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65A-29DB-4DC1-A9E4-9D2AAB0DAC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867280" y="367668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 flipH="1">
            <a:off x="4932360" y="860400"/>
            <a:ext cx="2789280" cy="278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627280" y="3505320"/>
            <a:ext cx="3148200" cy="3149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 flipH="1">
            <a:off x="380880" y="907920"/>
            <a:ext cx="3114720" cy="311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0240" y="26028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白色小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0960" y="32907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916360" y="83016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5430960" y="3068640"/>
            <a:ext cx="25765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4000" y="679320"/>
            <a:ext cx="33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5219640" y="2143080"/>
            <a:ext cx="3517920" cy="351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539640" y="390204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4668840" cy="466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 flipH="1">
            <a:off x="5435640" y="1917720"/>
            <a:ext cx="3225600" cy="322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2384280" y="76500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6021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141120" y="639720"/>
            <a:ext cx="885672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00000" y="2114640"/>
            <a:ext cx="3184560" cy="318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rcRect l="3704" t="0" r="0" b="0"/>
          <a:stretch/>
        </p:blipFill>
        <p:spPr>
          <a:xfrm>
            <a:off x="4427640" y="1413000"/>
            <a:ext cx="4419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861-1458-40F8-B0EC-7622420CE3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17:52Z</dcterms:modified>
  <cp:revision>1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