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842-7E31-4F79-B20F-A99DFDD5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A3C-C5F0-457A-A24E-F51D94A8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0D0-0381-4E63-A6AC-A6B8C454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353-F9DF-4003-8466-10283A1F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FA6-5C35-40D8-AF63-0617BA35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FB2-8A7B-439D-A5B7-FFF93CD0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494-6970-4738-B84C-05F407FB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639-46A2-4ABD-B045-0B1C66DF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847-D97D-47E7-9015-BCEDEF85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BBC-A23A-4A05-BE8E-5603B503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E6A-07DD-4476-BF0E-594888BD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DAA-F649-4691-8EAB-DE9AAB6B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7492-E08A-4D3A-B361-6CF8CD5701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矩形 30"/>
          <p:cNvGrpSpPr/>
          <p:nvPr/>
        </p:nvGrpSpPr>
        <p:grpSpPr>
          <a:xfrm>
            <a:off x="-6480" y="1481040"/>
            <a:ext cx="9156600" cy="5383080"/>
            <a:chOff x="-6480" y="1481040"/>
            <a:chExt cx="9156600" cy="5383080"/>
          </a:xfrm>
        </p:grpSpPr>
        <p:pic>
          <p:nvPicPr>
            <p:cNvPr id="42" name="矩形 30" descr=""/>
            <p:cNvPicPr/>
            <p:nvPr/>
          </p:nvPicPr>
          <p:blipFill>
            <a:blip r:embed="rId1"/>
            <a:stretch/>
          </p:blipFill>
          <p:spPr>
            <a:xfrm>
              <a:off x="-6480" y="1481040"/>
              <a:ext cx="91566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1484280"/>
              <a:ext cx="9144000" cy="53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圆角矩形 51"/>
          <p:cNvSpPr/>
          <p:nvPr/>
        </p:nvSpPr>
        <p:spPr>
          <a:xfrm>
            <a:off x="9972720" y="2852640"/>
            <a:ext cx="10764720" cy="863640"/>
          </a:xfrm>
          <a:prstGeom prst="roundRect">
            <a:avLst>
              <a:gd name="adj" fmla="val 33963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8"/>
          <p:cNvSpPr/>
          <p:nvPr/>
        </p:nvSpPr>
        <p:spPr>
          <a:xfrm>
            <a:off x="-757080" y="-387360"/>
            <a:ext cx="10787040" cy="18669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9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75"/>
          <p:cNvGrpSpPr/>
          <p:nvPr/>
        </p:nvGrpSpPr>
        <p:grpSpPr>
          <a:xfrm>
            <a:off x="826920" y="1773360"/>
            <a:ext cx="2186280" cy="825120"/>
            <a:chOff x="826920" y="1773360"/>
            <a:chExt cx="2186280" cy="825120"/>
          </a:xfrm>
        </p:grpSpPr>
        <p:sp>
          <p:nvSpPr>
            <p:cNvPr id="48" name="矩形 50"/>
            <p:cNvSpPr/>
            <p:nvPr/>
          </p:nvSpPr>
          <p:spPr>
            <a:xfrm>
              <a:off x="1918080" y="19594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需要的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61"/>
            <p:cNvSpPr/>
            <p:nvPr/>
          </p:nvSpPr>
          <p:spPr>
            <a:xfrm>
              <a:off x="826920" y="177336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76"/>
          <p:cNvGrpSpPr/>
          <p:nvPr/>
        </p:nvGrpSpPr>
        <p:grpSpPr>
          <a:xfrm>
            <a:off x="826920" y="2435400"/>
            <a:ext cx="2186280" cy="825120"/>
            <a:chOff x="826920" y="2435400"/>
            <a:chExt cx="2186280" cy="825120"/>
          </a:xfrm>
        </p:grpSpPr>
        <p:sp>
          <p:nvSpPr>
            <p:cNvPr id="51" name="矩形 45"/>
            <p:cNvSpPr/>
            <p:nvPr/>
          </p:nvSpPr>
          <p:spPr>
            <a:xfrm>
              <a:off x="1918080" y="2621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购买力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62"/>
            <p:cNvSpPr/>
            <p:nvPr/>
          </p:nvSpPr>
          <p:spPr>
            <a:xfrm>
              <a:off x="826920" y="243540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77"/>
          <p:cNvGrpSpPr/>
          <p:nvPr/>
        </p:nvGrpSpPr>
        <p:grpSpPr>
          <a:xfrm>
            <a:off x="826920" y="3097080"/>
            <a:ext cx="2186280" cy="825120"/>
            <a:chOff x="826920" y="3097080"/>
            <a:chExt cx="2186280" cy="825120"/>
          </a:xfrm>
        </p:grpSpPr>
        <p:sp>
          <p:nvSpPr>
            <p:cNvPr id="54" name="矩形 49"/>
            <p:cNvSpPr/>
            <p:nvPr/>
          </p:nvSpPr>
          <p:spPr>
            <a:xfrm>
              <a:off x="1918080" y="3283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购买权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63"/>
            <p:cNvSpPr/>
            <p:nvPr/>
          </p:nvSpPr>
          <p:spPr>
            <a:xfrm>
              <a:off x="826920" y="309708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78"/>
          <p:cNvGrpSpPr/>
          <p:nvPr/>
        </p:nvGrpSpPr>
        <p:grpSpPr>
          <a:xfrm>
            <a:off x="826920" y="3760920"/>
            <a:ext cx="2431440" cy="825120"/>
            <a:chOff x="826920" y="3760920"/>
            <a:chExt cx="2431440" cy="825120"/>
          </a:xfrm>
        </p:grpSpPr>
        <p:sp>
          <p:nvSpPr>
            <p:cNvPr id="57" name="矩形 46"/>
            <p:cNvSpPr/>
            <p:nvPr/>
          </p:nvSpPr>
          <p:spPr>
            <a:xfrm>
              <a:off x="1980360" y="3947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购买时间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64"/>
            <p:cNvSpPr/>
            <p:nvPr/>
          </p:nvSpPr>
          <p:spPr>
            <a:xfrm>
              <a:off x="826920" y="376092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79"/>
          <p:cNvGrpSpPr/>
          <p:nvPr/>
        </p:nvGrpSpPr>
        <p:grpSpPr>
          <a:xfrm>
            <a:off x="826920" y="4422600"/>
            <a:ext cx="2431440" cy="825120"/>
            <a:chOff x="826920" y="4422600"/>
            <a:chExt cx="2431440" cy="825120"/>
          </a:xfrm>
        </p:grpSpPr>
        <p:sp>
          <p:nvSpPr>
            <p:cNvPr id="60" name="矩形 47"/>
            <p:cNvSpPr/>
            <p:nvPr/>
          </p:nvSpPr>
          <p:spPr>
            <a:xfrm>
              <a:off x="1980360" y="4608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认识偏见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65"/>
            <p:cNvSpPr/>
            <p:nvPr/>
          </p:nvSpPr>
          <p:spPr>
            <a:xfrm>
              <a:off x="826920" y="442260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80"/>
          <p:cNvGrpSpPr/>
          <p:nvPr/>
        </p:nvGrpSpPr>
        <p:grpSpPr>
          <a:xfrm>
            <a:off x="826920" y="5084640"/>
            <a:ext cx="2431440" cy="825120"/>
            <a:chOff x="826920" y="5084640"/>
            <a:chExt cx="2431440" cy="825120"/>
          </a:xfrm>
        </p:grpSpPr>
        <p:sp>
          <p:nvSpPr>
            <p:cNvPr id="63" name="矩形 48"/>
            <p:cNvSpPr/>
            <p:nvPr/>
          </p:nvSpPr>
          <p:spPr>
            <a:xfrm>
              <a:off x="1980360" y="5271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推销信任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66"/>
            <p:cNvSpPr/>
            <p:nvPr/>
          </p:nvSpPr>
          <p:spPr>
            <a:xfrm>
              <a:off x="826920" y="508464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93"/>
          <p:cNvGrpSpPr/>
          <p:nvPr/>
        </p:nvGrpSpPr>
        <p:grpSpPr>
          <a:xfrm>
            <a:off x="4140360" y="1484280"/>
            <a:ext cx="1726920" cy="3238200"/>
            <a:chOff x="4140360" y="1484280"/>
            <a:chExt cx="1726920" cy="3238200"/>
          </a:xfrm>
        </p:grpSpPr>
        <p:sp>
          <p:nvSpPr>
            <p:cNvPr id="66" name="矩形 86"/>
            <p:cNvSpPr/>
            <p:nvPr/>
          </p:nvSpPr>
          <p:spPr>
            <a:xfrm>
              <a:off x="4689000" y="426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男主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组合 90"/>
            <p:cNvGrpSpPr/>
            <p:nvPr/>
          </p:nvGrpSpPr>
          <p:grpSpPr>
            <a:xfrm>
              <a:off x="4140360" y="1484280"/>
              <a:ext cx="1726920" cy="2872800"/>
              <a:chOff x="4140360" y="1484280"/>
              <a:chExt cx="1726920" cy="2872800"/>
            </a:xfrm>
          </p:grpSpPr>
          <p:pic>
            <p:nvPicPr>
              <p:cNvPr id="68" name="图片 83" descr="DressIt_015.png"/>
              <p:cNvPicPr/>
              <p:nvPr/>
            </p:nvPicPr>
            <p:blipFill>
              <a:blip r:embed="rId2"/>
              <a:stretch/>
            </p:blipFill>
            <p:spPr>
              <a:xfrm>
                <a:off x="4140360" y="2492280"/>
                <a:ext cx="1726920" cy="18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梯形 87"/>
              <p:cNvSpPr/>
              <p:nvPr/>
            </p:nvSpPr>
            <p:spPr>
              <a:xfrm>
                <a:off x="4211640" y="1484280"/>
                <a:ext cx="1655640" cy="2448000"/>
              </a:xfrm>
              <a:prstGeom prst="pi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ffebf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组合 94"/>
          <p:cNvGrpSpPr/>
          <p:nvPr/>
        </p:nvGrpSpPr>
        <p:grpSpPr>
          <a:xfrm>
            <a:off x="5614920" y="1484280"/>
            <a:ext cx="1836720" cy="3238200"/>
            <a:chOff x="5614920" y="1484280"/>
            <a:chExt cx="1836720" cy="3238200"/>
          </a:xfrm>
        </p:grpSpPr>
        <p:sp>
          <p:nvSpPr>
            <p:cNvPr id="71" name="矩形 85"/>
            <p:cNvSpPr/>
            <p:nvPr/>
          </p:nvSpPr>
          <p:spPr>
            <a:xfrm>
              <a:off x="6200640" y="426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女主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组合 91"/>
            <p:cNvGrpSpPr/>
            <p:nvPr/>
          </p:nvGrpSpPr>
          <p:grpSpPr>
            <a:xfrm>
              <a:off x="5614920" y="1484280"/>
              <a:ext cx="1836720" cy="2886480"/>
              <a:chOff x="5614920" y="1484280"/>
              <a:chExt cx="1836720" cy="2886480"/>
            </a:xfrm>
          </p:grpSpPr>
          <p:pic>
            <p:nvPicPr>
              <p:cNvPr id="73" name="图片 82" descr="DressIt_015.png"/>
              <p:cNvPicPr/>
              <p:nvPr/>
            </p:nvPicPr>
            <p:blipFill>
              <a:blip r:embed="rId3"/>
              <a:stretch/>
            </p:blipFill>
            <p:spPr>
              <a:xfrm>
                <a:off x="5614920" y="2420280"/>
                <a:ext cx="1836720" cy="195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梯形 88"/>
              <p:cNvSpPr/>
              <p:nvPr/>
            </p:nvSpPr>
            <p:spPr>
              <a:xfrm>
                <a:off x="5722560" y="1484280"/>
                <a:ext cx="1657440" cy="2519640"/>
              </a:xfrm>
              <a:prstGeom prst="pi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ffebf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组合 95"/>
          <p:cNvGrpSpPr/>
          <p:nvPr/>
        </p:nvGrpSpPr>
        <p:grpSpPr>
          <a:xfrm>
            <a:off x="7337520" y="1484280"/>
            <a:ext cx="1698480" cy="3238200"/>
            <a:chOff x="7337520" y="1484280"/>
            <a:chExt cx="1698480" cy="3238200"/>
          </a:xfrm>
        </p:grpSpPr>
        <p:sp>
          <p:nvSpPr>
            <p:cNvPr id="76" name="矩形 84"/>
            <p:cNvSpPr/>
            <p:nvPr/>
          </p:nvSpPr>
          <p:spPr>
            <a:xfrm>
              <a:off x="7857000" y="426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保险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组合 92"/>
            <p:cNvGrpSpPr/>
            <p:nvPr/>
          </p:nvGrpSpPr>
          <p:grpSpPr>
            <a:xfrm>
              <a:off x="7337520" y="1484280"/>
              <a:ext cx="1698480" cy="2850840"/>
              <a:chOff x="7337520" y="1484280"/>
              <a:chExt cx="1698480" cy="2850840"/>
            </a:xfrm>
          </p:grpSpPr>
          <p:pic>
            <p:nvPicPr>
              <p:cNvPr id="78" name="图片 81" descr="DressIt_015.png"/>
              <p:cNvPicPr/>
              <p:nvPr/>
            </p:nvPicPr>
            <p:blipFill>
              <a:blip r:embed="rId4"/>
              <a:stretch/>
            </p:blipFill>
            <p:spPr>
              <a:xfrm>
                <a:off x="7337520" y="2636280"/>
                <a:ext cx="1698480" cy="169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梯形 89"/>
              <p:cNvSpPr/>
              <p:nvPr/>
            </p:nvSpPr>
            <p:spPr>
              <a:xfrm>
                <a:off x="7380360" y="1484280"/>
                <a:ext cx="1584360" cy="2664000"/>
              </a:xfrm>
              <a:prstGeom prst="pi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ffebf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468360" y="6021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3120" y="260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保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15"/>
          <p:cNvSpPr/>
          <p:nvPr/>
        </p:nvSpPr>
        <p:spPr>
          <a:xfrm>
            <a:off x="-785880" y="-3340080"/>
            <a:ext cx="10787040" cy="3911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1"/>
          <p:cNvSpPr/>
          <p:nvPr/>
        </p:nvSpPr>
        <p:spPr>
          <a:xfrm>
            <a:off x="6227640" y="115920"/>
            <a:ext cx="3097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完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40"/>
          <p:cNvSpPr/>
          <p:nvPr/>
        </p:nvSpPr>
        <p:spPr>
          <a:xfrm>
            <a:off x="0" y="54936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标注 24"/>
          <p:cNvSpPr/>
          <p:nvPr/>
        </p:nvSpPr>
        <p:spPr>
          <a:xfrm>
            <a:off x="9756720" y="620640"/>
            <a:ext cx="2448000" cy="482436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对推销员及保后服务的疑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①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前你们说得好，投保后就不见人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②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推销员变动太快，我们以后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③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的理赔是否公正而及时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④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后能否中途退保或换人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⑤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万一发生战争或政局变化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⑥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若有理赔官司，听说对顾客不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⑦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保险公司破产或解散了，我们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6"/>
          <p:cNvSpPr/>
          <p:nvPr/>
        </p:nvSpPr>
        <p:spPr>
          <a:xfrm>
            <a:off x="-785880" y="6500880"/>
            <a:ext cx="10787040" cy="4200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337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矩形 25" hidden="1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7"/>
          <p:cNvSpPr/>
          <p:nvPr/>
        </p:nvSpPr>
        <p:spPr>
          <a:xfrm>
            <a:off x="324000" y="13413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推销信任障碍，是指顾客对保险推销员及代表的公司、推销的产品缺乏信任感或因无信心而设置的推销障碍。方法是多交谈，多沟通，多宣传，多关心顾客，使其相信您是优秀推销员，您所代表的公司和推销的产品都是一流的，是值得信赖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29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31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345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346" name="矩形 43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50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51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350" name="椭圆 35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椭圆 3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组合 54"/>
          <p:cNvGrpSpPr/>
          <p:nvPr/>
        </p:nvGrpSpPr>
        <p:grpSpPr>
          <a:xfrm>
            <a:off x="6516720" y="692280"/>
            <a:ext cx="3095640" cy="2449440"/>
            <a:chOff x="6516720" y="692280"/>
            <a:chExt cx="3095640" cy="2449440"/>
          </a:xfrm>
        </p:grpSpPr>
        <p:sp>
          <p:nvSpPr>
            <p:cNvPr id="353" name="矩形 28"/>
            <p:cNvSpPr/>
            <p:nvPr/>
          </p:nvSpPr>
          <p:spPr>
            <a:xfrm>
              <a:off x="6516720" y="763560"/>
              <a:ext cx="309564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900" spc="-1" strike="noStrike">
                  <a:solidFill>
                    <a:srgbClr val="eeece1"/>
                  </a:solidFill>
                  <a:latin typeface="Arial Unicode MS"/>
                  <a:ea typeface="Arial Unicode MS"/>
                </a:rPr>
                <a:t>6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33"/>
            <p:cNvSpPr/>
            <p:nvPr/>
          </p:nvSpPr>
          <p:spPr>
            <a:xfrm>
              <a:off x="7020360" y="692280"/>
              <a:ext cx="10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ce1"/>
                  </a:solidFill>
                  <a:latin typeface="黑体"/>
                  <a:ea typeface="黑体"/>
                </a:rPr>
                <a:t>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34"/>
            <p:cNvSpPr/>
            <p:nvPr/>
          </p:nvSpPr>
          <p:spPr>
            <a:xfrm>
              <a:off x="8604360" y="692280"/>
              <a:ext cx="10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ce1"/>
                  </a:solidFill>
                  <a:latin typeface="黑体"/>
                  <a:ea typeface="黑体"/>
                </a:rPr>
                <a:t>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56"/>
          <p:cNvGrpSpPr/>
          <p:nvPr/>
        </p:nvGrpSpPr>
        <p:grpSpPr>
          <a:xfrm>
            <a:off x="7308720" y="3710160"/>
            <a:ext cx="1949760" cy="1950840"/>
            <a:chOff x="7308720" y="3710160"/>
            <a:chExt cx="1949760" cy="1950840"/>
          </a:xfrm>
        </p:grpSpPr>
        <p:pic>
          <p:nvPicPr>
            <p:cNvPr id="357" name="图片 12" descr="DressIt_015.png"/>
            <p:cNvPicPr/>
            <p:nvPr/>
          </p:nvPicPr>
          <p:blipFill>
            <a:blip r:embed="rId1"/>
            <a:stretch/>
          </p:blipFill>
          <p:spPr>
            <a:xfrm>
              <a:off x="7308720" y="3710160"/>
              <a:ext cx="1949760" cy="19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图片 52" descr="55.png"/>
            <p:cNvPicPr/>
            <p:nvPr/>
          </p:nvPicPr>
          <p:blipFill>
            <a:blip r:embed="rId2"/>
            <a:stretch/>
          </p:blipFill>
          <p:spPr>
            <a:xfrm>
              <a:off x="7826040" y="4340520"/>
              <a:ext cx="787320" cy="5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梯形 58"/>
          <p:cNvSpPr/>
          <p:nvPr/>
        </p:nvSpPr>
        <p:spPr>
          <a:xfrm>
            <a:off x="4211640" y="-1035000"/>
            <a:ext cx="2521080" cy="5184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标注 57"/>
          <p:cNvSpPr/>
          <p:nvPr/>
        </p:nvSpPr>
        <p:spPr>
          <a:xfrm>
            <a:off x="2627280" y="2924280"/>
            <a:ext cx="1368360" cy="1179360"/>
          </a:xfrm>
          <a:prstGeom prst="wedgeRoundRectCallout">
            <a:avLst>
              <a:gd name="adj1" fmla="val 75986"/>
              <a:gd name="adj2" fmla="val -22138"/>
              <a:gd name="adj3" fmla="val 16667"/>
            </a:avLst>
          </a:prstGeom>
          <a:gradFill rotWithShape="0">
            <a:gsLst>
              <a:gs pos="0">
                <a:srgbClr val="212121"/>
              </a:gs>
              <a:gs pos="100000">
                <a:srgbClr val="40404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61"/>
          <p:cNvSpPr/>
          <p:nvPr/>
        </p:nvSpPr>
        <p:spPr>
          <a:xfrm>
            <a:off x="4211640" y="3429000"/>
            <a:ext cx="2448000" cy="863640"/>
          </a:xfrm>
          <a:prstGeom prst="ellipse">
            <a:avLst/>
          </a:prstGeom>
          <a:gradFill rotWithShape="0">
            <a:gsLst>
              <a:gs pos="0">
                <a:srgbClr val="000000">
                  <a:alpha val="46274"/>
                </a:srgbClr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组合 5"/>
          <p:cNvGrpSpPr/>
          <p:nvPr/>
        </p:nvGrpSpPr>
        <p:grpSpPr>
          <a:xfrm>
            <a:off x="-360" y="2846520"/>
            <a:ext cx="5940720" cy="3606840"/>
            <a:chOff x="-360" y="2846520"/>
            <a:chExt cx="5940720" cy="3606840"/>
          </a:xfrm>
        </p:grpSpPr>
        <p:pic>
          <p:nvPicPr>
            <p:cNvPr id="363" name="图片 36" descr="DressIt_015.png"/>
            <p:cNvPicPr/>
            <p:nvPr/>
          </p:nvPicPr>
          <p:blipFill>
            <a:blip r:embed="rId3"/>
            <a:stretch/>
          </p:blipFill>
          <p:spPr>
            <a:xfrm flipH="1">
              <a:off x="-360" y="2846520"/>
              <a:ext cx="1763640" cy="19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图片 42" descr=""/>
            <p:cNvPicPr/>
            <p:nvPr/>
          </p:nvPicPr>
          <p:blipFill>
            <a:blip r:embed="rId4"/>
            <a:stretch/>
          </p:blipFill>
          <p:spPr>
            <a:xfrm>
              <a:off x="1308600" y="3301920"/>
              <a:ext cx="4096440" cy="10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图片 44" descr=""/>
            <p:cNvPicPr/>
            <p:nvPr/>
          </p:nvPicPr>
          <p:blipFill>
            <a:blip r:embed="rId5"/>
            <a:stretch/>
          </p:blipFill>
          <p:spPr>
            <a:xfrm>
              <a:off x="1326960" y="3399840"/>
              <a:ext cx="4248720" cy="10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组合 4"/>
            <p:cNvGrpSpPr/>
            <p:nvPr/>
          </p:nvGrpSpPr>
          <p:grpSpPr>
            <a:xfrm>
              <a:off x="42480" y="4502160"/>
              <a:ext cx="5897880" cy="1951200"/>
              <a:chOff x="42480" y="4502160"/>
              <a:chExt cx="5897880" cy="1951200"/>
            </a:xfrm>
          </p:grpSpPr>
          <p:pic>
            <p:nvPicPr>
              <p:cNvPr id="367" name="图片 37" descr="DressIt_015.png"/>
              <p:cNvPicPr/>
              <p:nvPr/>
            </p:nvPicPr>
            <p:blipFill>
              <a:blip r:embed="rId6"/>
              <a:stretch/>
            </p:blipFill>
            <p:spPr>
              <a:xfrm flipH="1">
                <a:off x="42480" y="4502160"/>
                <a:ext cx="1865160" cy="19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图片 45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3640" y="5085360"/>
                <a:ext cx="424872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图片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1440" y="5208120"/>
                <a:ext cx="4498920" cy="11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70" name="图片 53" descr=""/>
          <p:cNvPicPr/>
          <p:nvPr/>
        </p:nvPicPr>
        <p:blipFill>
          <a:blip r:embed="rId9"/>
          <a:stretch/>
        </p:blipFill>
        <p:spPr>
          <a:xfrm>
            <a:off x="5921280" y="4260960"/>
            <a:ext cx="17305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8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8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8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8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800"/>
                            </p:stCondLst>
                            <p:childTnLst>
                              <p:par>
                                <p:cTn id="5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19523E-006 L -0.31146 -0.21444 E">
                                      <p:cBhvr>
                                        <p:cTn id="540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3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5.55556E-007 3.33333E-006 L 5.55556E-007 -0.19769 E">
                                      <p:cBhvr>
                                        <p:cTn id="551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5.55556E-007 1.85185E-006 L 5.55556E-007 0.20185 E">
                                      <p:cBhvr>
                                        <p:cTn id="553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ABE-6C88-4B4B-86E5-3522915A89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4bacc6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324000" y="674640"/>
            <a:ext cx="55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需要的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324000" y="126828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需要障碍，是指顾客认为自己不需要推销的保险商品而设置的障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它常因顾客的认识水平、心理成见或推销员不了解顾客情况等造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19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6" descr="DressIt_015.png"/>
          <p:cNvPicPr/>
          <p:nvPr/>
        </p:nvPicPr>
        <p:blipFill>
          <a:blip r:embed="rId2"/>
          <a:stretch/>
        </p:blipFill>
        <p:spPr>
          <a:xfrm>
            <a:off x="0" y="2708280"/>
            <a:ext cx="1763640" cy="19512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7" descr="DressIt_015.png"/>
          <p:cNvPicPr/>
          <p:nvPr/>
        </p:nvPicPr>
        <p:blipFill>
          <a:blip r:embed="rId3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94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98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99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03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TextBox 61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2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108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6" descr=""/>
          <p:cNvPicPr/>
          <p:nvPr/>
        </p:nvPicPr>
        <p:blipFill>
          <a:blip r:embed="rId4"/>
          <a:stretch/>
        </p:blipFill>
        <p:spPr>
          <a:xfrm>
            <a:off x="3965400" y="4043520"/>
            <a:ext cx="3724560" cy="10666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4" descr=""/>
          <p:cNvPicPr/>
          <p:nvPr/>
        </p:nvPicPr>
        <p:blipFill>
          <a:blip r:embed="rId5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" fill="hold"/>
                                        <p:tgtEl>
                                          <p:spTgt spid="8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" fill="hold"/>
                                        <p:tgtEl>
                                          <p:spTgt spid="9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" fill="hold"/>
                                        <p:tgtEl>
                                          <p:spTgt spid="9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100" fill="hold"/>
                                        <p:tgtEl>
                                          <p:spTgt spid="11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2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3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114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36" descr="DressIt_015.png"/>
          <p:cNvPicPr/>
          <p:nvPr/>
        </p:nvPicPr>
        <p:blipFill>
          <a:blip r:embed="rId2"/>
          <a:stretch/>
        </p:blipFill>
        <p:spPr>
          <a:xfrm>
            <a:off x="-181080" y="2708280"/>
            <a:ext cx="1763640" cy="19512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37" descr="DressIt_015.png"/>
          <p:cNvPicPr/>
          <p:nvPr/>
        </p:nvPicPr>
        <p:blipFill>
          <a:blip r:embed="rId3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119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123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124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28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131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图片 14" descr=""/>
          <p:cNvPicPr/>
          <p:nvPr/>
        </p:nvPicPr>
        <p:blipFill>
          <a:blip r:embed="rId4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sp>
        <p:nvSpPr>
          <p:cNvPr id="135" name="矩形 39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0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1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f79646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324000" y="674640"/>
            <a:ext cx="55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购买力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4"/>
          <p:cNvSpPr/>
          <p:nvPr/>
        </p:nvSpPr>
        <p:spPr>
          <a:xfrm>
            <a:off x="324000" y="126828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购买力障碍，指顾客认为无钱购买保险而设置的种种障碍。顾客借口购买力不足，并非真的无力承担保险费，只是不想购买而已。应设法让顾客明白，购买保险并不昂贵，能够负担的起。保险既能提供经济保障，也能稳定资产和经营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5"/>
          <p:cNvSpPr/>
          <p:nvPr/>
        </p:nvSpPr>
        <p:spPr>
          <a:xfrm>
            <a:off x="6516720" y="808200"/>
            <a:ext cx="3095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2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2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3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" fill="hold"/>
                                        <p:tgtEl>
                                          <p:spTgt spid="11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" fill="hold"/>
                                        <p:tgtEl>
                                          <p:spTgt spid="11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" fill="hold"/>
                                        <p:tgtEl>
                                          <p:spTgt spid="11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2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145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36" descr="DressIt_015.png"/>
          <p:cNvPicPr/>
          <p:nvPr/>
        </p:nvPicPr>
        <p:blipFill>
          <a:blip r:embed="rId2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7" descr="DressIt_015.png"/>
          <p:cNvPicPr/>
          <p:nvPr/>
        </p:nvPicPr>
        <p:blipFill>
          <a:blip r:embed="rId3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150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154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155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59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162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图片 7" descr=""/>
          <p:cNvPicPr/>
          <p:nvPr/>
        </p:nvPicPr>
        <p:blipFill>
          <a:blip r:embed="rId4"/>
          <a:stretch/>
        </p:blipFill>
        <p:spPr>
          <a:xfrm>
            <a:off x="1116000" y="3186000"/>
            <a:ext cx="4095720" cy="981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14" descr=""/>
          <p:cNvPicPr/>
          <p:nvPr/>
        </p:nvPicPr>
        <p:blipFill>
          <a:blip r:embed="rId5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7" descr=""/>
          <p:cNvPicPr/>
          <p:nvPr/>
        </p:nvPicPr>
        <p:blipFill>
          <a:blip r:embed="rId6"/>
          <a:stretch/>
        </p:blipFill>
        <p:spPr>
          <a:xfrm>
            <a:off x="1155600" y="3321000"/>
            <a:ext cx="4370400" cy="974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5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9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0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8064a2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购买权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2"/>
          <p:cNvSpPr/>
          <p:nvPr/>
        </p:nvSpPr>
        <p:spPr>
          <a:xfrm>
            <a:off x="324000" y="165096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购买权障碍，是指顾客以无购买决策权为借口而打发推销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3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3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64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"/>
                            </p:stCondLst>
                            <p:childTnLst>
                              <p:par>
                                <p:cTn id="1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" fill="hold"/>
                                        <p:tgtEl>
                                          <p:spTgt spid="14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"/>
                            </p:stCondLst>
                            <p:childTnLst>
                              <p:par>
                                <p:cTn id="1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" fill="hold"/>
                                        <p:tgtEl>
                                          <p:spTgt spid="14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200" fill="hold"/>
                                        <p:tgtEl>
                                          <p:spTgt spid="14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1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100" fill="hold"/>
                                        <p:tgtEl>
                                          <p:spTgt spid="16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1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16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178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6" descr="DressIt_015.png"/>
          <p:cNvPicPr/>
          <p:nvPr/>
        </p:nvPicPr>
        <p:blipFill>
          <a:blip r:embed="rId2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37" descr="DressIt_015.png"/>
          <p:cNvPicPr/>
          <p:nvPr/>
        </p:nvPicPr>
        <p:blipFill>
          <a:blip r:embed="rId3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183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187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188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92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195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图片 6" descr=""/>
          <p:cNvPicPr/>
          <p:nvPr/>
        </p:nvPicPr>
        <p:blipFill>
          <a:blip r:embed="rId4"/>
          <a:stretch/>
        </p:blipFill>
        <p:spPr>
          <a:xfrm>
            <a:off x="4044960" y="4125960"/>
            <a:ext cx="3767040" cy="10303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5"/>
          <a:stretch/>
        </p:blipFill>
        <p:spPr>
          <a:xfrm>
            <a:off x="1116000" y="3186000"/>
            <a:ext cx="4095720" cy="9813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4" descr=""/>
          <p:cNvPicPr/>
          <p:nvPr/>
        </p:nvPicPr>
        <p:blipFill>
          <a:blip r:embed="rId6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sp>
        <p:nvSpPr>
          <p:cNvPr id="201" name="矩形 39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0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1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购买时间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4"/>
          <p:cNvSpPr/>
          <p:nvPr/>
        </p:nvSpPr>
        <p:spPr>
          <a:xfrm>
            <a:off x="324000" y="126828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购买时间障碍，是指顾客在推销中有意拖延时间，希望延缓作出决定的一种做法。应向顾客指出拖延可能带来的危险后果，强调马上投保的重要性，并举例予以说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5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4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"/>
                            </p:stCondLst>
                            <p:childTnLst>
                              <p:par>
                                <p:cTn id="2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200" fill="hold"/>
                                        <p:tgtEl>
                                          <p:spTgt spid="17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"/>
                            </p:stCondLst>
                            <p:childTnLst>
                              <p:par>
                                <p:cTn id="2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200" fill="hold"/>
                                        <p:tgtEl>
                                          <p:spTgt spid="18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" fill="hold"/>
                                        <p:tgtEl>
                                          <p:spTgt spid="18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1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"/>
                            </p:stCondLst>
                            <p:childTnLst>
                              <p:par>
                                <p:cTn id="2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100" fill="hold"/>
                                        <p:tgtEl>
                                          <p:spTgt spid="19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1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"/>
                            </p:stCondLst>
                            <p:childTnLst>
                              <p:par>
                                <p:cTn id="2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100" fill="hold"/>
                                        <p:tgtEl>
                                          <p:spTgt spid="19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211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36" descr="DressIt_015.png"/>
          <p:cNvPicPr/>
          <p:nvPr/>
        </p:nvPicPr>
        <p:blipFill>
          <a:blip r:embed="rId2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37" descr="DressIt_015.png"/>
          <p:cNvPicPr/>
          <p:nvPr/>
        </p:nvPicPr>
        <p:blipFill>
          <a:blip r:embed="rId3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15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216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220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221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225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228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6" descr=""/>
          <p:cNvPicPr/>
          <p:nvPr/>
        </p:nvPicPr>
        <p:blipFill>
          <a:blip r:embed="rId4"/>
          <a:stretch/>
        </p:blipFill>
        <p:spPr>
          <a:xfrm>
            <a:off x="3924360" y="4114800"/>
            <a:ext cx="3936960" cy="96984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4" descr=""/>
          <p:cNvPicPr/>
          <p:nvPr/>
        </p:nvPicPr>
        <p:blipFill>
          <a:blip r:embed="rId5"/>
          <a:stretch/>
        </p:blipFill>
        <p:spPr>
          <a:xfrm>
            <a:off x="5915160" y="4132440"/>
            <a:ext cx="1743120" cy="10666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59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60"/>
          <p:cNvSpPr/>
          <p:nvPr/>
        </p:nvSpPr>
        <p:spPr>
          <a:xfrm>
            <a:off x="0" y="571680"/>
            <a:ext cx="9144000" cy="2136600"/>
          </a:xfrm>
          <a:prstGeom prst="rect">
            <a:avLst/>
          </a:prstGeom>
          <a:gradFill rotWithShape="0">
            <a:gsLst>
              <a:gs pos="0">
                <a:srgbClr val="376092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识偏见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2"/>
          <p:cNvSpPr/>
          <p:nvPr/>
        </p:nvSpPr>
        <p:spPr>
          <a:xfrm>
            <a:off x="324000" y="170028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认识偏见障碍，是指顾客因迷信，他人误导或认识上的其它偏见而设置的推销障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63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5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64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2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"/>
                            </p:stCondLst>
                            <p:childTnLst>
                              <p:par>
                                <p:cTn id="2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" fill="hold"/>
                                        <p:tgtEl>
                                          <p:spTgt spid="21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" fill="hold"/>
                                        <p:tgtEl>
                                          <p:spTgt spid="21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" fill="hold"/>
                                        <p:tgtEl>
                                          <p:spTgt spid="21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1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"/>
                            </p:stCondLst>
                            <p:childTnLst>
                              <p:par>
                                <p:cTn id="3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100" fill="hold"/>
                                        <p:tgtEl>
                                          <p:spTgt spid="23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" dur="2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3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243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36" descr="DressIt_015.png"/>
          <p:cNvPicPr/>
          <p:nvPr/>
        </p:nvPicPr>
        <p:blipFill>
          <a:blip r:embed="rId2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37" descr="DressIt_015.png"/>
          <p:cNvPicPr/>
          <p:nvPr/>
        </p:nvPicPr>
        <p:blipFill>
          <a:blip r:embed="rId3"/>
          <a:stretch/>
        </p:blipFill>
        <p:spPr>
          <a:xfrm>
            <a:off x="-181080" y="4437000"/>
            <a:ext cx="186552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248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249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253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256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图片 6" descr=""/>
          <p:cNvPicPr/>
          <p:nvPr/>
        </p:nvPicPr>
        <p:blipFill>
          <a:blip r:embed="rId4"/>
          <a:stretch/>
        </p:blipFill>
        <p:spPr>
          <a:xfrm>
            <a:off x="4021200" y="4114800"/>
            <a:ext cx="3743280" cy="9698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9"/>
          <p:cNvSpPr/>
          <p:nvPr/>
        </p:nvSpPr>
        <p:spPr>
          <a:xfrm>
            <a:off x="2627280" y="393372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保险公司的疑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0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42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45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"/>
                            </p:stCondLst>
                            <p:childTnLst>
                              <p:par>
                                <p:cTn id="3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200" fill="hold"/>
                                        <p:tgtEl>
                                          <p:spTgt spid="24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2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"/>
                            </p:stCondLst>
                            <p:childTnLst>
                              <p:par>
                                <p:cTn id="3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" fill="hold"/>
                                        <p:tgtEl>
                                          <p:spTgt spid="24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" fill="hold"/>
                                        <p:tgtEl>
                                          <p:spTgt spid="2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200" fill="hold"/>
                                        <p:tgtEl>
                                          <p:spTgt spid="24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10138 0 -0.20277 0 -0.11967 C 0 -0.03657 0 0.23102 0 0.49885 E">
                                      <p:cBhvr>
                                        <p:cTn id="388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1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"/>
                            </p:stCondLst>
                            <p:childTnLst>
                              <p:par>
                                <p:cTn id="3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8" dur="100" fill="hold"/>
                                        <p:tgtEl>
                                          <p:spTgt spid="25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3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270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36" descr="DressIt_015.png"/>
          <p:cNvPicPr/>
          <p:nvPr/>
        </p:nvPicPr>
        <p:blipFill>
          <a:blip r:embed="rId2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37" descr="DressIt_015.png"/>
          <p:cNvPicPr/>
          <p:nvPr/>
        </p:nvPicPr>
        <p:blipFill>
          <a:blip r:embed="rId3"/>
          <a:stretch/>
        </p:blipFill>
        <p:spPr>
          <a:xfrm>
            <a:off x="-181080" y="4437000"/>
            <a:ext cx="186552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74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275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276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280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组合 35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283" name="矩形 38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4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50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图片 6" descr=""/>
          <p:cNvPicPr/>
          <p:nvPr/>
        </p:nvPicPr>
        <p:blipFill>
          <a:blip r:embed="rId4"/>
          <a:stretch/>
        </p:blipFill>
        <p:spPr>
          <a:xfrm>
            <a:off x="4067280" y="4149720"/>
            <a:ext cx="3743280" cy="103500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7" descr=""/>
          <p:cNvPicPr/>
          <p:nvPr/>
        </p:nvPicPr>
        <p:blipFill>
          <a:blip r:embed="rId5"/>
          <a:stretch/>
        </p:blipFill>
        <p:spPr>
          <a:xfrm>
            <a:off x="1187280" y="3284640"/>
            <a:ext cx="4621320" cy="14572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39"/>
          <p:cNvSpPr/>
          <p:nvPr/>
        </p:nvSpPr>
        <p:spPr>
          <a:xfrm>
            <a:off x="2627280" y="39337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保险商品的疑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0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45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10138 0 -0.20277 0 -0.11967 C 0 -0.03657 0 0.23102 0 0.49885 E">
                                      <p:cBhvr>
                                        <p:cTn id="421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"/>
                            </p:stCondLst>
                            <p:childTnLst>
                              <p:par>
                                <p:cTn id="4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100" fill="hold"/>
                                        <p:tgtEl>
                                          <p:spTgt spid="28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2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3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7" dur="1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"/>
                            </p:stCondLst>
                            <p:childTnLst>
                              <p:par>
                                <p:cTn id="4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100" fill="hold"/>
                                        <p:tgtEl>
                                          <p:spTgt spid="28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1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301" name="圆角矩形标注 24"/>
          <p:cNvSpPr/>
          <p:nvPr/>
        </p:nvSpPr>
        <p:spPr>
          <a:xfrm>
            <a:off x="9756720" y="620640"/>
            <a:ext cx="2448000" cy="482436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对推销员及保后服务的疑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①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前你们说得好，投保后就不见人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②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推销员变动太快，我们以后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③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的理赔是否公正而及时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④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后能否中途退保或换人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⑤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万一发生战争或政局变化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⑥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若有理赔官司，听说对顾客不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⑦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保险公司破产或解散了，我们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304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矩形 25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8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9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31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312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313" name="矩形 43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椭圆 50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椭圆 51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317" name="椭圆 35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椭圆 3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5"/>
          <p:cNvSpPr/>
          <p:nvPr/>
        </p:nvSpPr>
        <p:spPr>
          <a:xfrm>
            <a:off x="324000" y="13413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推销信任障碍，是指顾客对保险推销员及代表的公司、推销的产品缺乏信任感或因无信心而设置的推销障碍。方法是多交谈，多沟通，多宣传，多关心顾客，使其相信您是优秀推销员，您所代表的公司和推销的产品都是一流的，是值得信赖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36"/>
          <p:cNvGrpSpPr/>
          <p:nvPr/>
        </p:nvGrpSpPr>
        <p:grpSpPr>
          <a:xfrm>
            <a:off x="7334280" y="3717360"/>
            <a:ext cx="549000" cy="466920"/>
            <a:chOff x="7334280" y="3717360"/>
            <a:chExt cx="549000" cy="466920"/>
          </a:xfrm>
        </p:grpSpPr>
        <p:sp>
          <p:nvSpPr>
            <p:cNvPr id="323" name="矩形 37"/>
            <p:cNvSpPr/>
            <p:nvPr/>
          </p:nvSpPr>
          <p:spPr>
            <a:xfrm rot="17638800">
              <a:off x="7387200" y="404208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53"/>
            <p:cNvSpPr/>
            <p:nvPr/>
          </p:nvSpPr>
          <p:spPr>
            <a:xfrm rot="18583800">
              <a:off x="7541280" y="384624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54"/>
            <p:cNvSpPr/>
            <p:nvPr/>
          </p:nvSpPr>
          <p:spPr>
            <a:xfrm rot="20626800">
              <a:off x="7796520" y="3723120"/>
              <a:ext cx="65880" cy="1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图片 7" descr=""/>
          <p:cNvPicPr/>
          <p:nvPr/>
        </p:nvPicPr>
        <p:blipFill>
          <a:blip r:embed="rId2"/>
          <a:stretch/>
        </p:blipFill>
        <p:spPr>
          <a:xfrm>
            <a:off x="4027320" y="4170240"/>
            <a:ext cx="3743640" cy="103680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8" descr=""/>
          <p:cNvPicPr/>
          <p:nvPr/>
        </p:nvPicPr>
        <p:blipFill>
          <a:blip r:embed="rId3"/>
          <a:stretch/>
        </p:blipFill>
        <p:spPr>
          <a:xfrm>
            <a:off x="5921280" y="4260960"/>
            <a:ext cx="1730520" cy="10731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4"/>
          <p:cNvSpPr/>
          <p:nvPr/>
        </p:nvSpPr>
        <p:spPr>
          <a:xfrm>
            <a:off x="1908000" y="3886200"/>
            <a:ext cx="53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推销员及保后服务的疑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39" descr="DressIt_015.png"/>
          <p:cNvPicPr/>
          <p:nvPr/>
        </p:nvPicPr>
        <p:blipFill>
          <a:blip r:embed="rId4"/>
          <a:stretch/>
        </p:blipFill>
        <p:spPr>
          <a:xfrm>
            <a:off x="-181080" y="4437000"/>
            <a:ext cx="1865520" cy="19512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40" descr="DressIt_015.png"/>
          <p:cNvPicPr/>
          <p:nvPr/>
        </p:nvPicPr>
        <p:blipFill>
          <a:blip r:embed="rId5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10138 0 -0.20277 0 -0.11967 C 0 -0.03657 0 0.23102 0 0.49885 E">
                                      <p:cBhvr>
                                        <p:cTn id="46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1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"/>
                            </p:stCondLst>
                            <p:childTnLst>
                              <p:par>
                                <p:cTn id="4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100" fill="hold"/>
                                        <p:tgtEl>
                                          <p:spTgt spid="32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0" dur="2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3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2:35:1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57:58Z</dcterms:modified>
  <cp:revision>1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361f000000000001024140</vt:lpwstr>
  </property>
</Properties>
</file>