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0252-7FE5-42F6-B6D2-E76D750F78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FC3C-6B55-47A3-82C8-F160C73D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98AC-415D-4F19-AC0A-2C862AB1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3957-B707-446F-8D6C-341B878ACC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19ACF-92E1-4273-95DE-832EDD86F5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94463-B910-4913-9427-52A7D9C4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D136D-0F07-460A-A50B-E1D4007C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97FD4-DE70-469D-B682-5E2277E5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07499-06F7-4A88-A1C9-4F4AE02C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60271-1C9F-4AC3-95CE-288502F1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41605-6E07-4064-A300-83AE182B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9E60-16CA-4A67-B2E3-114D38D2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7388F-AD52-41F5-84D8-1B14E6A8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01A99-05A6-4918-99AF-E899318B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0E5B6-93E9-44FD-864C-0EF05771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02F37-D598-42D0-A0F1-C7B00D6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658BF-DB35-4F58-81A5-C5F8B29188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D2FB-35A3-4292-ADD6-D5CD862D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35D09-825C-49A5-8685-D1F7BA52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1072-7F0D-4D56-B5AA-981FF04C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A979-DFD1-4118-B622-B4A5C1BE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5B30-39E3-4756-9E12-64B58C97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B1B0-0650-4C7E-8B49-322D81B6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B9D0-889A-4202-946D-47794956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BradleyHand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BradleyHand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BradleyHand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44AB-CA20-4DCD-92D7-E2405E8816A0}" type="datetime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A906-171B-475D-84C6-9117F294C87E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91CE-40D9-4CDF-96DF-8F287D420674}" type="datetime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0A44-9918-4612-A16E-DA35204FF37D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radleyHandIT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radleyHandIT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radleyHand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radleyHand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 Black"/>
              </a:rPr>
              <a:t>对等计算：应用与技术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Oak"/>
              </a:rPr>
              <a:t>Peer-to-Peer Computing: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Oak"/>
              </a:rPr>
              <a:t>Applications &amp; Technology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radleyHand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的历史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5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局限性 </a:t>
            </a: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– </a:t>
            </a: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性能上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集中索引的方式没有可伸缩性（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scalability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分散处理方式往往找不到需要的内容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带宽消耗太大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如果不控制，校园网上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的带宽消耗在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2P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文件传输上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8E12-FD0A-495C-9B09-F160CF2655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2ADE8-903D-43BF-AE67-0A32E61A39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潜在的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P2P </a:t>
            </a: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应用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金融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电信与网络提供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移动通信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科学计算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6C39-9A7E-46E9-B2C1-F6ED537C877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F68FD-53E1-4089-9DE3-C24ACB861A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P2P </a:t>
            </a: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系统的特点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资源共享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已有系统和网络的利用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自底向上，而不是自上而下的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大规模分散处理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不稳定的节点或者网络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31DD0-EB90-4C7C-B630-ED8CE70CCB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B95CC-090E-465B-A97D-3003EEF567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体系结构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1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6697440" cy="37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68D0-C4FC-4C17-BA07-E0467CAE01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51617-6125-4881-ADE2-B15905986D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体系结构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2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集中式系统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371760" y="1647720"/>
          <a:ext cx="51609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1760" y="1647720"/>
                    <a:ext cx="51609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flipV="1">
            <a:off x="4167360" y="2362320"/>
            <a:ext cx="1029960" cy="23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323960" y="2679840"/>
            <a:ext cx="1111320" cy="2539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9040" y="5695920"/>
            <a:ext cx="3889440" cy="397080"/>
          </a:xfrm>
          <a:custGeom>
            <a:avLst/>
            <a:gdLst/>
            <a:ahLst/>
            <a:rect l="l" t="t" r="r" b="b"/>
            <a:pathLst>
              <a:path w="1497" h="408">
                <a:moveTo>
                  <a:pt x="0" y="0"/>
                </a:moveTo>
                <a:cubicBezTo>
                  <a:pt x="397" y="204"/>
                  <a:pt x="794" y="408"/>
                  <a:pt x="1043" y="408"/>
                </a:cubicBezTo>
                <a:cubicBezTo>
                  <a:pt x="1292" y="408"/>
                  <a:pt x="1369" y="68"/>
                  <a:pt x="1497" y="0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2EF7-9D2F-449C-A594-DCAB13B87A2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32A5F-4AFE-4C21-A822-AA7AC07CA4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体系结构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3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分散式系统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770280" y="2249640"/>
          <a:ext cx="4842000" cy="41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0280" y="2249640"/>
                    <a:ext cx="484200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104240" y="2751120"/>
            <a:ext cx="396720" cy="1347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0360" y="2671920"/>
            <a:ext cx="134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548040" y="4816440"/>
            <a:ext cx="873000" cy="554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43280" y="2963880"/>
            <a:ext cx="1904400" cy="2617200"/>
            <a:chOff x="4643280" y="2963880"/>
            <a:chExt cx="1904400" cy="2617200"/>
          </a:xfrm>
        </p:grpSpPr>
        <p:sp>
          <p:nvSpPr>
            <p:cNvPr id="196" name=""/>
            <p:cNvSpPr/>
            <p:nvPr/>
          </p:nvSpPr>
          <p:spPr>
            <a:xfrm flipH="1" flipV="1">
              <a:off x="5277960" y="2963880"/>
              <a:ext cx="1269720" cy="2221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4643280" y="5185800"/>
              <a:ext cx="1586880" cy="3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960800" y="1773360"/>
            <a:ext cx="1428840" cy="660240"/>
          </a:xfrm>
          <a:custGeom>
            <a:avLst/>
            <a:gdLst/>
            <a:ahLst/>
            <a:rect l="l" t="t" r="r" b="b"/>
            <a:pathLst>
              <a:path w="816" h="378">
                <a:moveTo>
                  <a:pt x="816" y="378"/>
                </a:moveTo>
                <a:cubicBezTo>
                  <a:pt x="680" y="204"/>
                  <a:pt x="544" y="30"/>
                  <a:pt x="408" y="15"/>
                </a:cubicBezTo>
                <a:cubicBezTo>
                  <a:pt x="272" y="0"/>
                  <a:pt x="60" y="242"/>
                  <a:pt x="0" y="287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CDCE-8D3D-4E0C-B881-3724A489E79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5A3CE-7A4A-4794-805B-8300F3476F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体系结构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4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混合式系统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55720" y="1916280"/>
          <a:ext cx="7064280" cy="46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916280"/>
                    <a:ext cx="7064280" cy="46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flipV="1">
            <a:off x="2390760" y="3503160"/>
            <a:ext cx="396720" cy="1825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549520" y="4376880"/>
            <a:ext cx="4603680" cy="1587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581280" y="2630520"/>
            <a:ext cx="2064960" cy="1666080"/>
            <a:chOff x="3581280" y="2630520"/>
            <a:chExt cx="2064960" cy="1666080"/>
          </a:xfrm>
        </p:grpSpPr>
        <p:sp>
          <p:nvSpPr>
            <p:cNvPr id="206" name=""/>
            <p:cNvSpPr/>
            <p:nvPr/>
          </p:nvSpPr>
          <p:spPr>
            <a:xfrm flipV="1">
              <a:off x="3740400" y="2630520"/>
              <a:ext cx="1905840" cy="23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1280" y="3422520"/>
              <a:ext cx="873000" cy="87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232000" y="6202440"/>
            <a:ext cx="5794560" cy="555480"/>
          </a:xfrm>
          <a:custGeom>
            <a:avLst/>
            <a:gdLst/>
            <a:ahLst/>
            <a:rect l="l" t="t" r="r" b="b"/>
            <a:pathLst>
              <a:path w="1497" h="408">
                <a:moveTo>
                  <a:pt x="0" y="0"/>
                </a:moveTo>
                <a:cubicBezTo>
                  <a:pt x="397" y="204"/>
                  <a:pt x="794" y="408"/>
                  <a:pt x="1043" y="408"/>
                </a:cubicBezTo>
                <a:cubicBezTo>
                  <a:pt x="1292" y="408"/>
                  <a:pt x="1369" y="68"/>
                  <a:pt x="1497" y="0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248440" y="2550960"/>
            <a:ext cx="2620440" cy="1824840"/>
            <a:chOff x="5248440" y="2550960"/>
            <a:chExt cx="2620440" cy="1824840"/>
          </a:xfrm>
        </p:grpSpPr>
        <p:sp>
          <p:nvSpPr>
            <p:cNvPr id="210" name=""/>
            <p:cNvSpPr/>
            <p:nvPr/>
          </p:nvSpPr>
          <p:spPr>
            <a:xfrm flipV="1">
              <a:off x="5327280" y="3978720"/>
              <a:ext cx="1508760" cy="39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74360" y="2550960"/>
              <a:ext cx="794520" cy="95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248440" y="2947680"/>
              <a:ext cx="1190160" cy="111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A966-655D-4AA4-930D-3E8E4215DA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A3F4F-DAD7-4677-A9BE-0D3520802F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体系结构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5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结构化系统系统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89280" y="2852640"/>
            <a:ext cx="6786360" cy="3173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478320" y="4438800"/>
            <a:ext cx="635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763720" y="3408480"/>
            <a:ext cx="5238000" cy="952200"/>
            <a:chOff x="2763720" y="3408480"/>
            <a:chExt cx="5238000" cy="952200"/>
          </a:xfrm>
        </p:grpSpPr>
        <p:sp>
          <p:nvSpPr>
            <p:cNvPr id="218" name=""/>
            <p:cNvSpPr/>
            <p:nvPr/>
          </p:nvSpPr>
          <p:spPr>
            <a:xfrm>
              <a:off x="2763720" y="3408480"/>
              <a:ext cx="635400" cy="3974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6160" y="3884400"/>
              <a:ext cx="475560" cy="47628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51320" y="4995720"/>
            <a:ext cx="476280" cy="39708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573960" y="4519080"/>
            <a:ext cx="63504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859360" y="3328920"/>
            <a:ext cx="2142720" cy="2063520"/>
            <a:chOff x="5859360" y="3328920"/>
            <a:chExt cx="2142720" cy="2063520"/>
          </a:xfrm>
        </p:grpSpPr>
        <p:sp>
          <p:nvSpPr>
            <p:cNvPr id="223" name=""/>
            <p:cNvSpPr/>
            <p:nvPr/>
          </p:nvSpPr>
          <p:spPr>
            <a:xfrm>
              <a:off x="7526160" y="3328920"/>
              <a:ext cx="475920" cy="396720"/>
            </a:xfrm>
            <a:prstGeom prst="rect">
              <a:avLst/>
            </a:prstGeom>
            <a:solidFill>
              <a:srgbClr val="0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59360" y="4995720"/>
              <a:ext cx="475920" cy="396720"/>
            </a:xfrm>
            <a:prstGeom prst="ellipse">
              <a:avLst/>
            </a:prstGeom>
            <a:solidFill>
              <a:srgbClr val="0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732720" y="3487680"/>
            <a:ext cx="714240" cy="476280"/>
          </a:xfrm>
          <a:custGeom>
            <a:avLst/>
            <a:gdLst/>
            <a:ahLst/>
            <a:rect l="l" t="t" r="r" b="b"/>
            <a:pathLst>
              <a:path w="189" h="272">
                <a:moveTo>
                  <a:pt x="144" y="0"/>
                </a:moveTo>
                <a:cubicBezTo>
                  <a:pt x="72" y="0"/>
                  <a:pt x="0" y="1"/>
                  <a:pt x="7" y="46"/>
                </a:cubicBezTo>
                <a:cubicBezTo>
                  <a:pt x="14" y="91"/>
                  <a:pt x="174" y="219"/>
                  <a:pt x="189" y="272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67400" y="4270320"/>
            <a:ext cx="1349280" cy="804960"/>
          </a:xfrm>
          <a:custGeom>
            <a:avLst/>
            <a:gdLst/>
            <a:ahLst/>
            <a:rect l="l" t="t" r="r" b="b"/>
            <a:pathLst>
              <a:path w="771" h="460">
                <a:moveTo>
                  <a:pt x="771" y="415"/>
                </a:moveTo>
                <a:cubicBezTo>
                  <a:pt x="654" y="207"/>
                  <a:pt x="537" y="0"/>
                  <a:pt x="409" y="7"/>
                </a:cubicBezTo>
                <a:cubicBezTo>
                  <a:pt x="281" y="14"/>
                  <a:pt x="60" y="347"/>
                  <a:pt x="0" y="460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17760" y="3646440"/>
            <a:ext cx="420840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D6D4-05E9-4E13-A416-EDF3F15702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E2810-B933-4E0B-AD47-F8C2DDEE7F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定位和路由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1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宽度优先搜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BradleyHandITC"/>
              </a:rPr>
              <a:t>搜索路径短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radleyHandITC"/>
              </a:rPr>
              <a:t>大量的网络消耗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radleyHandITC"/>
              </a:rPr>
              <a:t>可能会搜索整个网络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08360" y="3166920"/>
            <a:ext cx="4649760" cy="292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6B47-6635-47D2-8E4B-B82FBFE771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D79C0-C87B-42CD-885E-85D76527D3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定位和路由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2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深度优先搜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BradleyHandITC"/>
              </a:rPr>
              <a:t>低网络消耗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radleyHandITC"/>
              </a:rPr>
              <a:t>大量的回溯时间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708360" y="2306520"/>
            <a:ext cx="5111640" cy="400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D1A9-D260-4B78-BDBB-7361FCC00A8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67683-411C-48E6-9B53-39B07E8E6A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提纲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什么是对等计算？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日常生活中的应用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什么是对等计算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历史沿革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将来的应用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基本技术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体系结构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定位和路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查询处理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其它相关技术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相关技术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Web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服务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网格计算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系统与开发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设计与技术选择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JXTA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Jabb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其它问题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C25A-F8A5-4189-9644-66A51B83DB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6E820-7880-4F2F-A481-EE92696DCA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定位和路由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3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启发式搜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路由表和路由索引的使用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基本思想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radleyHand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BradleyHandITC"/>
              </a:rPr>
              <a:t>如果我知道数据在哪里，我就可以有针对性地去搜索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Hand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radleyHandITC"/>
              </a:rPr>
              <a:t>从而节约网络带宽消耗，快速找到答案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系统中，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准确的搜索是不可能的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在每个节点上保留一些信息可能有用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867280" y="2205000"/>
            <a:ext cx="2857680" cy="22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095E-5A93-49FB-9749-F34B820AE9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E1904-9C8C-4569-AFBA-0BE0A28665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定位和路由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4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结构化 </a:t>
            </a: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系统中的定位和路由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4920" y="2762280"/>
            <a:ext cx="3276720" cy="2730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333600" y="2852640"/>
            <a:ext cx="2533680" cy="2808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651640" y="2940120"/>
            <a:ext cx="3024000" cy="27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570F-BEBB-41ED-982D-1CD89DB303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1AF78-B1CE-4882-B9A8-B51319CA91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8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4000" spc="-1" strike="noStrike">
                <a:solidFill>
                  <a:srgbClr val="000066"/>
                </a:solidFill>
                <a:latin typeface="Oak"/>
              </a:rPr>
              <a:t>查询处理 </a:t>
            </a:r>
            <a:r>
              <a:rPr b="0" lang="en-US" sz="4000" spc="-1" strike="noStrike">
                <a:solidFill>
                  <a:srgbClr val="000066"/>
                </a:solidFill>
                <a:latin typeface="Oak"/>
              </a:rPr>
              <a:t>(1)</a:t>
            </a:r>
            <a:endParaRPr b="0" lang="en-US" sz="40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匹配查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现在的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系统已经能够很好地完成这个任务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特别是结构化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系统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1BC6-74CD-44E2-8683-87B0E37560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2B835-B0F0-45C2-A398-62B727F05D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8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4000" spc="-1" strike="noStrike">
                <a:solidFill>
                  <a:srgbClr val="000066"/>
                </a:solidFill>
                <a:latin typeface="Oak"/>
              </a:rPr>
              <a:t>查询处理 </a:t>
            </a:r>
            <a:r>
              <a:rPr b="0" lang="en-US" sz="4000" spc="-1" strike="noStrike">
                <a:solidFill>
                  <a:srgbClr val="000066"/>
                </a:solidFill>
                <a:latin typeface="Oak"/>
              </a:rPr>
              <a:t>(2)</a:t>
            </a:r>
            <a:endParaRPr b="0" lang="en-US" sz="40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关键词查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现在的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系统能够完成简单的关键词查询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标题搜索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radleyHandITC"/>
              </a:rPr>
              <a:t>但是距离搜索引擎那样的搜索还差得很远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E9E7-E1F4-4F2C-B906-D9773D8139D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A9EF6-42C0-4C43-BBD7-4AA5781763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8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4000" spc="-1" strike="noStrike">
                <a:solidFill>
                  <a:srgbClr val="000066"/>
                </a:solidFill>
                <a:latin typeface="Oak"/>
              </a:rPr>
              <a:t>查询处理 </a:t>
            </a:r>
            <a:r>
              <a:rPr b="0" lang="en-US" sz="4000" spc="-1" strike="noStrike">
                <a:solidFill>
                  <a:srgbClr val="000066"/>
                </a:solidFill>
                <a:latin typeface="Oak"/>
              </a:rPr>
              <a:t>(3)</a:t>
            </a:r>
            <a:endParaRPr b="0" lang="en-US" sz="40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结构化查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当前的技术不能处理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节点间模式不同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节点间数据的表示不同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无法用简单的定位确定数据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复杂的技术需要消耗大量的网络资源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语义上存在问题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6AA4-0C41-491F-99CD-867BA14787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CBB6E-04A2-4FC9-91F2-3A4FE34944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8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4000" spc="-1" strike="noStrike">
                <a:solidFill>
                  <a:srgbClr val="000066"/>
                </a:solidFill>
                <a:latin typeface="Oak"/>
              </a:rPr>
              <a:t>查询处理 </a:t>
            </a:r>
            <a:r>
              <a:rPr b="0" lang="en-US" sz="4000" spc="-1" strike="noStrike">
                <a:solidFill>
                  <a:srgbClr val="000066"/>
                </a:solidFill>
                <a:latin typeface="Oak"/>
              </a:rPr>
              <a:t>(4)</a:t>
            </a:r>
            <a:endParaRPr b="0" lang="en-US" sz="40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其它查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近似搜索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区域搜索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片长在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小时以下的电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空间搜索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距离五角场最近的 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辆出租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分析查询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有多少辆出租车距离五角场 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10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分钟距离以内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其中最近的多长时间能够到达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3A47-B5A2-4342-B5C6-49D0E1549D0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976CD-DFFA-4CFF-8CA4-FB5210353D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8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4000" spc="-1" strike="noStrike">
                <a:solidFill>
                  <a:srgbClr val="000066"/>
                </a:solidFill>
                <a:latin typeface="Oak"/>
              </a:rPr>
              <a:t>其他相关技术</a:t>
            </a:r>
            <a:endParaRPr b="0" lang="en-US" sz="40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复本放置与缓存技术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放置策略选择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一致性的保证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安全与隐私问题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节点异构性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你的数据我永远不懂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可靠性保证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一个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scr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文件可能是一个病毒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元数据管理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谁能够使用系统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系统中有什么数据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某某数据的语义是什么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558A-2419-4E42-8BB8-3D8BA04442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2050D-AF18-4342-9D5E-29C62B2887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相关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Web Service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共同点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分布式数据处理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服务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客户点对点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没有集中的服务器，只有类似于索引服务器的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UDDI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服务器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差别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目前，大多数服务只牵涉到少数 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通常是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节点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没有数据定位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路由等问题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5247-0277-4164-8058-1295B9FB77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52E80-7080-4258-84D9-2A01516D2A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相关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网格计算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共同点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网格服务通常是分布进行的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差别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网格在操作系统之下，而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是应用层的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目前，网格用户之间不是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的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D748-4985-4BA7-A2A3-FB8C94D173A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98BAA-6BF5-43A9-86E5-6CC0C279F6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系统与开发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设计与技术选择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遵守开放标准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vs.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开发封闭系统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前者更易于设计、开发，而后者更可靠、安全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使用公开协议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vs.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使用开放源码系统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前者的开发代价较大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使用系统相关工具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vs.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使用系统独立工具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后者更符合 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的本意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3D96-791C-480A-9997-EF9BCBD344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C02F8-B900-4703-A229-529EDCEF61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我们生活中的对等计算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1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即时消息传递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ICQ – I Seek~You!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OICQ/QQ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Yahoo! Pag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MSN Messeng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AOL IM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BradleyHandITC"/>
              </a:rPr>
              <a:t>聊天、文件传递、网上视频</a:t>
            </a:r>
            <a:r>
              <a:rPr b="1" lang="en-US" sz="2800" spc="-1" strike="noStrike">
                <a:solidFill>
                  <a:srgbClr val="000099"/>
                </a:solidFill>
                <a:latin typeface="BradleyHandITC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98C16-C741-47C0-AD7E-66B8A97093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83BAF-50D4-4E14-9454-30EE7F0018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系统与开发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JXTA (1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77080" cy="505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897F-141E-4333-B0B5-0AA8822F870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1655B-D040-4AD9-8923-2469C609DB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系统与开发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JXTA (2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91344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0C8F-D3C7-4511-9E37-CA528FB6AE5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2620C-9131-4F95-917B-A05C7EB833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系统与开发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Jabber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基于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XML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标准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采用集中式索引服务器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48040" y="1484280"/>
            <a:ext cx="3697560" cy="532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5B8B-8EF9-442F-8D94-6AD37CB46F3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993F7-9BDC-41B9-9D36-81B56A4597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其它问题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法律和道德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共享盗版文件是违法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犯罪吗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发布不属于自己的内容合理合法吗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技术问题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如何处理并适应 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IPv6?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移动系统的问题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安全与隐私保护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我不希望别人知道我看了什么电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金融数据是保密的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并不意味着任何节点可以任意访问任何数据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应用问题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企业应用与个人应用的差别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1B5B-C60D-4EE3-982F-B7A60D7E7A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A9741-7120-480A-80A1-9A2FBB7E2B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小结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是一种新的分布式计算模型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它牵涉很多新的技术问题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还牵涉了技术以外的问题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它未必能够改变现有应用的计算模型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但是现有计算模型的一种有力补充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325E-3D93-4B1E-B61E-9E3C821669F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21680-FD55-49B9-A4CB-C37EE16C47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我们生活中的对等计算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2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多媒体文件共享、下载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KaZaA: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最热门的下载软件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E-Donkey: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可能是中国最热门的下载软件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Gnutella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Freenet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以前的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Napst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BradleyHandITC"/>
              </a:rPr>
              <a:t>你共享你的多媒体文件，也从别人那里拿别人的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E4A7-63B7-40D1-8017-3BD43F524A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C08EC-4473-4E2F-9704-2AB5B91C84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是什么？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67820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oint-to-Point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BradleyHandITC"/>
              </a:rPr>
              <a:t>物理上</a:t>
            </a:r>
            <a:r>
              <a:rPr b="1" lang="zh-CN" sz="2000" spc="-1" strike="noStrike">
                <a:solidFill>
                  <a:srgbClr val="000000"/>
                </a:solidFill>
                <a:latin typeface="BradleyHandITC"/>
              </a:rPr>
              <a:t>，点和点之间直接相连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eople-to-People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BradleyHandITC"/>
              </a:rPr>
              <a:t>逻辑上</a:t>
            </a:r>
            <a:r>
              <a:rPr b="1" lang="zh-CN" sz="2000" spc="-1" strike="noStrike">
                <a:solidFill>
                  <a:srgbClr val="000000"/>
                </a:solidFill>
                <a:latin typeface="BradleyHandITC"/>
              </a:rPr>
              <a:t>，用户（应用）和用户直接对话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eer-to-Pe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radleyHandITC"/>
              </a:rPr>
              <a:t>对话的两端是平等的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D3B4-61A1-40C0-AC00-3BCE1EF452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1C432-55FB-415D-B0FD-58BE3E758B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11640" y="3925800"/>
            <a:ext cx="5545080" cy="2851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95640" y="1219320"/>
            <a:ext cx="4248360" cy="2641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的历史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1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曾经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Internet</a:t>
            </a: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就是</a:t>
            </a: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P2P</a:t>
            </a: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ARPANet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1969 – 1995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DNS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Usenet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4D4B-81FB-46FE-9B05-FA6C4E1140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1EF4D-51E8-408C-B69D-18BA5BEE84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的历史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2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后来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客户机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服务器体系结构出现了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垃圾信息处理、拥塞控制使得网络节点之间不再协作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防火墙、动态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、网络地址翻译的出现中止了开放网络时代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客户机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服务器体系结构由于利于开发、使用、管理，成为很多网络应用的首选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FTP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6818E-20B4-46D4-B461-ACBF096C4E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7BBF6-928E-4AF3-9484-10BCBEBA74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的历史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3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年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Napst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ICQ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新的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模型出现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90840" y="1773360"/>
            <a:ext cx="334980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AC3F-1593-40DA-B662-0655E65EE9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7E4A6-9018-49C5-8793-3ABE1D941A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的历史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4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局限性 </a:t>
            </a: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功能上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寻找：“指环王”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象“指环王”这样好看的电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月份刚发布的电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最流行的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部电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和好友聊天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和我有相同爱好的好友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和我有相同好友的好友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音频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视频聊天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音频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视频白板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9AA2-8AE3-41FE-AA1A-F9C4545941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6164F-584A-440B-B252-75EDC1730B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对等计算 应用 技术</cp:keywords>
  <dc:language>en-US</dc:language>
  <cp:lastModifiedBy/>
  <cp:revision>0</cp:revision>
  <dc:subject/>
  <dc:title/>
</cp:coreProperties>
</file>