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77D5-CA9B-45DE-AB15-A2D433514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CC72-65BB-4644-BF38-9CF94DA6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E90A-6FAC-45E2-BE8A-C5B18196B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3FE5-535F-4AFC-AC80-DF8841035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9596-9DB7-4B0C-8208-C4629D57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4CAA-3778-4156-816B-42E11646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4FCA-CEE8-4F2A-B537-52A15147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BF94-B1E8-41EB-BC2E-396AF581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ED74-D3AC-4C9A-8835-A80FE22F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EF45-F26A-4DB7-9FBD-245568C1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1D22-F99D-4BFE-8994-98509B46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8BF2-466C-4712-AB8F-6471B476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59A2-8DE0-40F0-88DB-5C358DC5A1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87560" y="62064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蛋糕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42836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442656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1407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428364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28548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58550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292608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556956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551808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606960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26406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60696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56896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21405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614088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499788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399780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385488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449784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3E15-D6A3-4B62-BB90-D962AF7903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356904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27118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614088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"/>
          <p:cNvSpPr/>
          <p:nvPr/>
        </p:nvSpPr>
        <p:spPr>
          <a:xfrm>
            <a:off x="56408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0:05:54Z</dcterms:modified>
  <cp:revision>8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