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gif" ContentType="image/gif"/>
  <Override PartName="/ppt/media/image3.jpeg" ContentType="image/jpeg"/>
  <Override PartName="/ppt/media/image12.gif" ContentType="image/gif"/>
  <Override PartName="/ppt/media/image8.jpeg" ContentType="image/jpeg"/>
  <Override PartName="/ppt/media/image10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F24B-A530-4EBB-8E6E-CFD4E46A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2A0-D22B-41D5-AAD3-15697C11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05F-83CB-4C04-9A37-A1950895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D88-1EA4-4576-AA36-65CCE151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ECE-2917-410A-A65C-BD3474F4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7E9-E38B-4E17-B762-983D9EEC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472-F20D-446E-95B0-52526E5C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455-B154-4696-B5BE-93B3E209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4CC-D781-4CCB-A838-0CAB83E0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637-3D18-4620-AB50-0FF98B32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A6B-CBCC-4724-B5F4-4A7F39CF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68C-A107-4A85-B6AF-081A1B61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0596-D2D8-429B-BC58-1A6061B9F5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3124080"/>
            <a:ext cx="72388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课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锻炼心理品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强品格修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371600"/>
            <a:ext cx="685800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一、人生的宝贵财富—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                           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</a:rPr>
              <a:t>道德高尚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                            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</a:rPr>
              <a:t>心理健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2590920"/>
            <a:ext cx="1295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239400" y="1371600"/>
            <a:ext cx="12776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对社会有用的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838080"/>
            <a:ext cx="380880" cy="5257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990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学好科学文化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69480" y="3048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培养实践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45800" y="48769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学习如何做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4572000"/>
            <a:ext cx="380880" cy="1295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98480" y="4267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培养高尚道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98480" y="5410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培养健康心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37160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道德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依靠教育的力量、舆论的力量、人们的信念和习惯而发生作用，是规范我们该怎么做和不该怎么做的重要的行为准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0" y="121932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295280"/>
            <a:ext cx="80769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情景中，有良好道德的中学生应该怎样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当期终语文试卷上的一处错字老师没有批出来，成绩由此多了一分，而这一分恰恰关系到我是全班第一还是第二的时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当一个与我发生过冲突的同学遭遇挫折的时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当路口亮起红灯但并无汽车通过，而这时我恰恰有急事要过马路的时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当在拥挤的公共汽车上好不容易等到一个座位，而这时有一位老人站在我身边的时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45720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议一议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077320" y="457200"/>
            <a:ext cx="825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29480" y="2438280"/>
            <a:ext cx="789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健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1295280"/>
            <a:ext cx="380880" cy="3657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1295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躯体上没有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95320" y="2819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心理健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20040" y="4191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社会适应能力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83808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心理健康的表现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57240" y="1905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乐于交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71240" y="28954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情绪健全与情感丰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1960" y="38098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性格良好、有自制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08840" y="4800600"/>
            <a:ext cx="286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智力正常、乐观开朗、意志坚强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有良好的社会适应能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8367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35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85800" y="4876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2819520"/>
            <a:ext cx="2286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心理健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4760" y="2819520"/>
            <a:ext cx="1278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良好道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905120" y="1828800"/>
            <a:ext cx="213336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1828800"/>
            <a:ext cx="167652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14300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密切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426708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47712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45000" y="361008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重要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8600" y="4419720"/>
            <a:ext cx="8208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反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124080" y="5580000"/>
            <a:ext cx="1752840" cy="276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36504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锻炼 心理 品质</cp:keywords>
  <dc:language>en-US</dc:language>
  <cp:lastModifiedBy/>
  <cp:revision>0</cp:revision>
  <dc:subject/>
  <dc:title/>
</cp:coreProperties>
</file>