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103-2ABC-43B5-86AD-89116745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4277-FB2A-43C3-9989-A8E86AF4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A16-D59D-43E1-8DCD-8BD50AA7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00D-7688-4A40-BB60-BD37A7C6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8FDF-1372-4809-B243-F2627C58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3BF2-CE93-4E5A-BE23-6854E32A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BFB4-071A-4DC5-A284-C1656529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772C-E804-4F87-983A-5447CF5C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4659-32B9-4A38-809F-67E5EAA2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E4C8-CA07-451F-B2A6-93C7442A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5385-D99F-405A-9DAB-CD187D5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3D4-E56D-4ADA-B185-D1FB8C57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6035-BAE1-41B4-9B63-F8C8903E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403D-5A38-4997-BEEC-F8270A21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72CB-28F7-4361-B4EB-329779F0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2A90-64F3-40A7-9450-E2A2969F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6B56-A143-4FF4-8C59-4DFC64B9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D43-0368-4A60-82DA-B3BDD247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500-D315-486B-B588-9974D53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1A1-9527-4111-A289-A2F95887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23F-EEA1-4DB6-AD2B-B737D8CD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9AC-F49E-4F4D-AB5A-5AF711F3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B63-3755-43B6-AEF9-51022B64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B45-EB82-4689-82D2-46EE5027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4D2-1E98-400B-AEFB-F74C9EB18AFF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9688-1EF5-4A90-B91A-223616B3C39C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687040" y="91440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地球运动的地理意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160020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79120" y="157320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 Narrow"/>
                <a:ea typeface="华文行楷"/>
              </a:rPr>
              <a:t>自  转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38320" y="31431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 Narrow"/>
              </a:rPr>
              <a:t>地球是一个不发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 Narrow"/>
              </a:rPr>
              <a:t>也不透明的球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845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fcab4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7400" y="3279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</a:rPr>
              <a:t>昼夜现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0200" y="4575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 Narrow"/>
              </a:rPr>
              <a:t>地球自转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3355920"/>
            <a:ext cx="380880" cy="14479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80680" y="297180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</a:rPr>
              <a:t>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</a:rPr>
              <a:t>夜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</a:rPr>
              <a:t>更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Narrow"/>
              </a:rPr>
              <a:t>替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3920" y="494028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782800" y="2162160"/>
          <a:ext cx="32292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2800" y="2162160"/>
                    <a:ext cx="32292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33920" y="2666880"/>
            <a:ext cx="533160" cy="1676520"/>
          </a:xfrm>
          <a:custGeom>
            <a:avLst/>
            <a:gdLst/>
            <a:ahLst/>
            <a:rect l="l" t="t" r="r" b="b"/>
            <a:pathLst>
              <a:path w="400" h="1248">
                <a:moveTo>
                  <a:pt x="400" y="1248"/>
                </a:moveTo>
                <a:cubicBezTo>
                  <a:pt x="264" y="1040"/>
                  <a:pt x="128" y="832"/>
                  <a:pt x="64" y="624"/>
                </a:cubicBezTo>
                <a:cubicBezTo>
                  <a:pt x="0" y="416"/>
                  <a:pt x="24" y="104"/>
                  <a:pt x="1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0160" y="255492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  <a:ea typeface="华文行楷"/>
              </a:rPr>
              <a:t>晨昏线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27680" y="2679840"/>
            <a:ext cx="6678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 Narrow"/>
                <a:ea typeface="黑体"/>
              </a:rPr>
              <a:t>（晨线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580000" y="4013280"/>
          <a:ext cx="230508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013280"/>
                    <a:ext cx="23050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580000" y="4060800"/>
          <a:ext cx="1639800" cy="22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4060800"/>
                    <a:ext cx="163980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661080" y="4005360"/>
          <a:ext cx="590760" cy="23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1080" y="4005360"/>
                    <a:ext cx="59076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300720" y="6195960"/>
          <a:ext cx="1224000" cy="32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6195960"/>
                    <a:ext cx="12240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956720" y="4508640"/>
          <a:ext cx="866520" cy="1363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56720" y="4508640"/>
                    <a:ext cx="8665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313680" y="49878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956720" y="981000"/>
          <a:ext cx="647640" cy="122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56720" y="981000"/>
                    <a:ext cx="6476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885080" y="189000"/>
          <a:ext cx="73080" cy="288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85080" y="189000"/>
                    <a:ext cx="7308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885080" y="1379520"/>
          <a:ext cx="216000" cy="20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85080" y="1379520"/>
                    <a:ext cx="21600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04000" y="692280"/>
          <a:ext cx="73080" cy="2265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04000" y="692280"/>
                    <a:ext cx="7308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742000" y="476280"/>
          <a:ext cx="2214720" cy="2449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42000" y="476280"/>
                    <a:ext cx="221472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724360" y="765000"/>
          <a:ext cx="1152720" cy="2146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24360" y="765000"/>
                    <a:ext cx="11527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31840" y="26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  <a:ea typeface="华文行楷"/>
              </a:rPr>
              <a:t>地方时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79280" y="3268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Narrow"/>
                <a:ea typeface="华文隶书"/>
              </a:rPr>
              <a:t>因经度而不同的时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62200" y="1649520"/>
          <a:ext cx="523872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1649520"/>
                    <a:ext cx="523872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219560" y="1231920"/>
            <a:ext cx="399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r>
              <a:rPr b="0" lang="en-US" sz="24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49480" y="1217520"/>
            <a:ext cx="677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80</a:t>
            </a:r>
            <a:r>
              <a:rPr b="0" lang="en-US" sz="24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83560" y="1217520"/>
            <a:ext cx="677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80</a:t>
            </a:r>
            <a:r>
              <a:rPr b="0" lang="en-US" sz="24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1773360"/>
            <a:ext cx="0" cy="25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1773360"/>
            <a:ext cx="0" cy="25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76320" y="1512720"/>
            <a:ext cx="6224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 Narrow"/>
              </a:rPr>
              <a:t>7.5</a:t>
            </a:r>
            <a:r>
              <a:rPr b="0" lang="en-US" sz="16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r>
              <a:rPr b="0" lang="en-US" sz="1600" spc="-1" strike="noStrike">
                <a:solidFill>
                  <a:srgbClr val="eaeaea"/>
                </a:solidFill>
                <a:latin typeface="Arial Narrow"/>
              </a:rPr>
              <a:t>W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2880" y="1503360"/>
            <a:ext cx="5767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 Narrow"/>
              </a:rPr>
              <a:t>7.5</a:t>
            </a:r>
            <a:r>
              <a:rPr b="0" lang="en-US" sz="16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r>
              <a:rPr b="0" lang="en-US" sz="16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995640" y="4335480"/>
          <a:ext cx="792360" cy="1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335480"/>
                    <a:ext cx="79236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188600" y="402048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ff33"/>
                </a:solidFill>
                <a:latin typeface="Arial Narrow"/>
                <a:ea typeface="华文隶书"/>
              </a:rPr>
              <a:t>中时区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1773360"/>
            <a:ext cx="0" cy="25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94920" y="1341360"/>
            <a:ext cx="49176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33"/>
                </a:solidFill>
                <a:latin typeface="Arial Narrow"/>
              </a:rPr>
              <a:t>15</a:t>
            </a:r>
            <a:r>
              <a:rPr b="1" lang="en-US" sz="1400" spc="-1" strike="noStrike" baseline="50000">
                <a:solidFill>
                  <a:srgbClr val="ccff33"/>
                </a:solidFill>
                <a:latin typeface="Arial Narrow"/>
              </a:rPr>
              <a:t>o</a:t>
            </a:r>
            <a:r>
              <a:rPr b="1" lang="en-US" sz="1400" spc="-1" strike="noStrike">
                <a:solidFill>
                  <a:srgbClr val="ccff33"/>
                </a:solidFill>
                <a:latin typeface="Arial Narrow"/>
              </a:rPr>
              <a:t>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1773360"/>
            <a:ext cx="0" cy="25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39800" y="1484280"/>
            <a:ext cx="61344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22.5</a:t>
            </a:r>
            <a:r>
              <a:rPr b="1" lang="en-US" sz="1400" spc="-1" strike="noStrike" baseline="50000">
                <a:solidFill>
                  <a:srgbClr val="eaeaea"/>
                </a:solidFill>
                <a:latin typeface="Arial Narrow"/>
              </a:rPr>
              <a:t>o</a:t>
            </a:r>
            <a:r>
              <a:rPr b="1" lang="en-US" sz="14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716360" y="4322880"/>
          <a:ext cx="792360" cy="11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4322880"/>
                    <a:ext cx="79236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6320" y="4352400"/>
            <a:ext cx="454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ff33"/>
                </a:solidFill>
                <a:latin typeface="Arial Narrow"/>
                <a:ea typeface="华文隶书"/>
              </a:rPr>
              <a:t>东一区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00720" y="1773360"/>
            <a:ext cx="0" cy="25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4680" y="1324080"/>
            <a:ext cx="57240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33"/>
                </a:solidFill>
                <a:latin typeface="Arial Narrow"/>
              </a:rPr>
              <a:t>120</a:t>
            </a:r>
            <a:r>
              <a:rPr b="1" lang="en-US" sz="1400" spc="-1" strike="noStrike" baseline="50000">
                <a:solidFill>
                  <a:srgbClr val="ccff33"/>
                </a:solidFill>
                <a:latin typeface="Arial Narrow"/>
              </a:rPr>
              <a:t>o</a:t>
            </a:r>
            <a:r>
              <a:rPr b="1" lang="en-US" sz="1400" spc="-1" strike="noStrike">
                <a:solidFill>
                  <a:srgbClr val="ccff33"/>
                </a:solidFill>
                <a:latin typeface="Arial Narrow"/>
              </a:rPr>
              <a:t>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9040" y="402048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ff33"/>
                </a:solidFill>
                <a:latin typeface="Arial Narrow"/>
                <a:ea typeface="华文隶书"/>
              </a:rPr>
              <a:t>东八区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67920" y="5229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 Narrow"/>
                <a:ea typeface="华文行楷"/>
              </a:rPr>
              <a:t>时间东加西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67920" y="5203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55bad"/>
                </a:solidFill>
                <a:latin typeface="Arial Narrow"/>
                <a:ea typeface="华文行楷"/>
              </a:rPr>
              <a:t>时间东加西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39680" y="8888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  <a:ea typeface="华文隶书"/>
              </a:rPr>
              <a:t>水平方向上移动的物体发生偏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93040" y="158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南左北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00400" y="227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 Narrow"/>
                <a:ea typeface="黑体"/>
              </a:rPr>
              <a:t>复习回顾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82440" y="2444400"/>
            <a:ext cx="6069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ab40"/>
                </a:solidFill>
                <a:latin typeface="黑体"/>
                <a:ea typeface="黑体"/>
              </a:rPr>
              <a:t>地球自转的地理意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4292640"/>
            <a:ext cx="865080" cy="28872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fcab4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18120" y="3103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1.</a:t>
            </a: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昼夜更替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28560" y="43275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2.</a:t>
            </a: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地方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01000" y="547992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3.</a:t>
            </a: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沿地表水平移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  </a:t>
            </a:r>
            <a:r>
              <a:rPr b="0" lang="zh-CN" sz="2400" spc="-1" strike="noStrike">
                <a:solidFill>
                  <a:srgbClr val="eaeaea"/>
                </a:solidFill>
                <a:latin typeface="华文行楷"/>
                <a:ea typeface="华文行楷"/>
              </a:rPr>
              <a:t>的物体产生偏向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81000" y="3048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晨昏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51240" y="4122720"/>
            <a:ext cx="174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每隔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15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度划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一时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24360" y="54450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南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华文行楷"/>
              </a:rPr>
              <a:t>北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地球运动 地理意义</cp:keywords>
  <dc:language>en-US</dc:language>
  <cp:lastModifiedBy/>
  <cp:revision>0</cp:revision>
  <dc:subject/>
  <dc:title/>
</cp:coreProperties>
</file>