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799B-39DD-40FE-902B-98665CCCAC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425E-07A8-4019-8EF2-AAF1688B99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8000" y="620640"/>
            <a:ext cx="62643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492360" y="152280"/>
            <a:ext cx="5651640" cy="216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第三章     分析消费者市场与购买行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116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907920"/>
            <a:ext cx="1116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836640"/>
            <a:ext cx="11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68280"/>
            <a:ext cx="11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90792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市场营销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557360"/>
            <a:ext cx="1116000" cy="2872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bbe0e3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 </a:t>
            </a:r>
            <a:r>
              <a:rPr b="1" lang="zh-CN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教学大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989000"/>
            <a:ext cx="1116000" cy="28764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bbe0e3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 </a:t>
            </a:r>
            <a:r>
              <a:rPr b="1" lang="zh-CN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教学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2421000"/>
            <a:ext cx="1116000" cy="2872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bbe0e3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 </a:t>
            </a:r>
            <a:r>
              <a:rPr b="1" lang="zh-CN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教学案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2852640"/>
            <a:ext cx="1116000" cy="2872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bbe0e3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0e3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bbe0e3"/>
                </a:solidFill>
                <a:latin typeface="Arial"/>
                <a:ea typeface="宋体"/>
              </a:rPr>
              <a:t>教学参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075280" y="6599160"/>
            <a:ext cx="3889440" cy="71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258920" y="6599160"/>
            <a:ext cx="3889440" cy="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258920" y="6599160"/>
            <a:ext cx="7705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708440" y="6453360"/>
            <a:ext cx="1087560" cy="287280"/>
          </a:xfrm>
          <a:prstGeom prst="ellipse">
            <a:avLst/>
          </a:prstGeom>
          <a:solidFill>
            <a:srgbClr val="6a6935"/>
          </a:solidFill>
          <a:ln w="9360">
            <a:solidFill>
              <a:srgbClr val="6a69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0" y="3141720"/>
            <a:ext cx="1116000" cy="3429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0" y="741240"/>
            <a:ext cx="11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643280" y="6381720"/>
            <a:ext cx="90972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0360B5DC-A8E4-459C-BBF6-F8E77C359E56}" type="slidenum"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 flipV="1">
            <a:off x="1981080" y="1675440"/>
            <a:ext cx="6264360" cy="36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../../../martin/&#26700;&#38754;/&#23478;&#24237;&#29983;&#21629;&#21608;&#26399;.htm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2133720"/>
            <a:ext cx="7086600" cy="1852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华文彩云"/>
                <a:ea typeface="华文彩云"/>
              </a:rPr>
              <a:t>第</a:t>
            </a:r>
            <a:r>
              <a:rPr b="0" lang="zh-CN" sz="5400" spc="-1" strike="noStrike">
                <a:solidFill>
                  <a:srgbClr val="000099"/>
                </a:solidFill>
                <a:latin typeface="华文彩云"/>
                <a:ea typeface="华文彩云"/>
              </a:rPr>
              <a:t>3</a:t>
            </a:r>
            <a:r>
              <a:rPr b="0" lang="zh-CN" sz="5400" spc="-1" strike="noStrike">
                <a:solidFill>
                  <a:srgbClr val="000099"/>
                </a:solidFill>
                <a:latin typeface="华文彩云"/>
                <a:ea typeface="华文彩云"/>
              </a:rPr>
              <a:t>章 分析消费者市场</a:t>
            </a:r>
            <a:br>
              <a:rPr sz="5400"/>
            </a:br>
            <a:r>
              <a:rPr b="0" lang="zh-CN" sz="5400" spc="-1" strike="noStrike">
                <a:solidFill>
                  <a:srgbClr val="000099"/>
                </a:solidFill>
                <a:latin typeface="华文彩云"/>
                <a:ea typeface="华文彩云"/>
              </a:rPr>
              <a:t>与购买行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35280" y="549360"/>
            <a:ext cx="6851520" cy="868320"/>
          </a:xfrm>
          <a:prstGeom prst="rect">
            <a:avLst/>
          </a:prstGeom>
          <a:gradFill rotWithShape="0">
            <a:gsLst>
              <a:gs pos="0">
                <a:srgbClr val="5e9eff">
                  <a:alpha val="33333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消费者决策中的信息搜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29960" y="2781360"/>
            <a:ext cx="667080" cy="1295280"/>
          </a:xfrm>
          <a:prstGeom prst="rect">
            <a:avLst/>
          </a:prstGeom>
          <a:gradFill rotWithShape="0">
            <a:gsLst>
              <a:gs pos="0">
                <a:srgbClr val="5e9eff">
                  <a:alpha val="40000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认识到需求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2133720"/>
            <a:ext cx="1447920" cy="580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需要什么样的评价标准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11280" y="3860640"/>
            <a:ext cx="1447920" cy="337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存在哪些备选方案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2060640"/>
            <a:ext cx="838080" cy="7077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每一备选方案在每种评价标准上的表现水平如何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2133720"/>
            <a:ext cx="609480" cy="156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能据此做出决策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8360" y="2133720"/>
            <a:ext cx="381240" cy="33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48360" y="3716280"/>
            <a:ext cx="381240" cy="580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12000" y="2060640"/>
            <a:ext cx="1067040" cy="33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停止收集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3716280"/>
            <a:ext cx="1067040" cy="33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继续收集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2349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4365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492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4221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321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16720" y="2349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6720" y="4005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8036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80360" y="4005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4000" y="4508640"/>
            <a:ext cx="2868480" cy="19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7561080" cy="936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消费者收集信息的积极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437240" cy="452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需要十分迫切的消费者，会主动寻找信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需要强度较低的消费者，不一定积极、主动寻找信息，但对有关的信息保持高度警觉、反应灵敏——处于“放大的注意”的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需要强度继续增加到一定程度，这个人就会象需要一开始就很强烈的消费者，进入积极主动寻求信息的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7221600" cy="927000"/>
          </a:xfrm>
          <a:prstGeom prst="rect">
            <a:avLst/>
          </a:prstGeom>
          <a:gradFill rotWithShape="0">
            <a:gsLst>
              <a:gs pos="0">
                <a:srgbClr val="5e9eff">
                  <a:alpha val="45098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决定收集信息程度的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848720" cy="4537080"/>
          </a:xfrm>
          <a:prstGeom prst="rect">
            <a:avLst/>
          </a:prstGeom>
          <a:gradFill rotWithShape="0">
            <a:gsLst>
              <a:gs pos="0">
                <a:srgbClr val="5e9eff">
                  <a:alpha val="33333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消费者收集信息的范围和数量取决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购买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风险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消费者容易感受到的购买风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效用风险——所购产品是否适用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经济风险——花钱是否值得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名誉风险——被品头论足，人们会怎么看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4000" y="620640"/>
            <a:ext cx="6618240" cy="868320"/>
          </a:xfrm>
          <a:prstGeom prst="rect">
            <a:avLst/>
          </a:prstGeom>
          <a:gradFill rotWithShape="0">
            <a:gsLst>
              <a:gs pos="0">
                <a:srgbClr val="5e9eff">
                  <a:alpha val="44313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消费者信息的来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916280"/>
            <a:ext cx="106704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信息来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2781360"/>
            <a:ext cx="914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2924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内部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0720" y="2708280"/>
            <a:ext cx="914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2360" y="28526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外部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4149720"/>
            <a:ext cx="1066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主动获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4191120"/>
            <a:ext cx="99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4191120"/>
            <a:ext cx="1066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64000" y="4149720"/>
            <a:ext cx="1066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被动获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27640" y="4076640"/>
            <a:ext cx="106704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主动获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58920" y="5157720"/>
            <a:ext cx="60948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过去积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5157720"/>
            <a:ext cx="60984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人经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4000" y="5157720"/>
            <a:ext cx="838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低介入学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5157720"/>
            <a:ext cx="60948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独立群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5157720"/>
            <a:ext cx="68580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人接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5157720"/>
            <a:ext cx="106668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营销者提供的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12000" y="5229360"/>
            <a:ext cx="64764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体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2276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03640" y="24922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2492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32720" y="249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364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8606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3860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67280" y="3860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32720" y="364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4508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764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764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95640" y="45813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8360" y="479736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4797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4797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48360" y="4797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72360" y="4797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08000" y="691920"/>
            <a:ext cx="677880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 消费者如何评价选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2362320"/>
            <a:ext cx="1368360" cy="3047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全部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2362320"/>
            <a:ext cx="151128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知晓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2362320"/>
            <a:ext cx="160020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考虑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………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2362320"/>
            <a:ext cx="16002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备选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08880" y="23623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购买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00360" y="468792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知晓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Z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4720" y="3933720"/>
            <a:ext cx="1600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考虑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K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67280" y="3213000"/>
            <a:ext cx="1600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选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372360" y="458136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92000" y="549000"/>
            <a:ext cx="705636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购买评价与选择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2637000"/>
            <a:ext cx="129528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评价标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3789360"/>
            <a:ext cx="144792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标准重要程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4952880"/>
            <a:ext cx="151164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所考虑的备选产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2666880"/>
            <a:ext cx="936360" cy="1448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基于评价标准对每一备选产品进行评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24360" y="3716280"/>
            <a:ext cx="9144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确定决策规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24720" y="3645000"/>
            <a:ext cx="76212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做出选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43280" y="2852640"/>
            <a:ext cx="11430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3933720"/>
            <a:ext cx="9907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32000" y="5157720"/>
            <a:ext cx="8384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48360" y="4005360"/>
            <a:ext cx="4572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2720" y="4005360"/>
            <a:ext cx="6858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443640" y="5013360"/>
            <a:ext cx="1970280" cy="15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63640" y="3573360"/>
            <a:ext cx="10796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3573360"/>
            <a:ext cx="9795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购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意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32360" y="2819520"/>
            <a:ext cx="10875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他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03640" y="4267080"/>
            <a:ext cx="10162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意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3581280"/>
            <a:ext cx="12952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购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决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4" idx="3"/>
            <a:endCxn id="225" idx="1"/>
          </p:cNvCxnSpPr>
          <p:nvPr/>
        </p:nvCxnSpPr>
        <p:spPr>
          <a:xfrm>
            <a:off x="2843280" y="4030200"/>
            <a:ext cx="505440" cy="10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5" idx="3"/>
            <a:endCxn id="226" idx="1"/>
          </p:cNvCxnSpPr>
          <p:nvPr/>
        </p:nvCxnSpPr>
        <p:spPr>
          <a:xfrm flipV="1">
            <a:off x="4327560" y="3276360"/>
            <a:ext cx="605520" cy="754560"/>
          </a:xfrm>
          <a:prstGeom prst="bentConnector3">
            <a:avLst>
              <a:gd name="adj1" fmla="val 49851"/>
            </a:avLst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5" idx="3"/>
            <a:endCxn id="227" idx="1"/>
          </p:cNvCxnSpPr>
          <p:nvPr/>
        </p:nvCxnSpPr>
        <p:spPr>
          <a:xfrm>
            <a:off x="4327560" y="4030200"/>
            <a:ext cx="676800" cy="694440"/>
          </a:xfrm>
          <a:prstGeom prst="bentConnector3">
            <a:avLst>
              <a:gd name="adj1" fmla="val 49973"/>
            </a:avLst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6" idx="3"/>
            <a:endCxn id="228" idx="1"/>
          </p:cNvCxnSpPr>
          <p:nvPr/>
        </p:nvCxnSpPr>
        <p:spPr>
          <a:xfrm>
            <a:off x="6019560" y="3276720"/>
            <a:ext cx="610200" cy="762480"/>
          </a:xfrm>
          <a:prstGeom prst="bentConnector3">
            <a:avLst>
              <a:gd name="adj1" fmla="val 50000"/>
            </a:avLst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7" idx="3"/>
            <a:endCxn id="228" idx="1"/>
          </p:cNvCxnSpPr>
          <p:nvPr/>
        </p:nvCxnSpPr>
        <p:spPr>
          <a:xfrm flipV="1">
            <a:off x="6019560" y="4037760"/>
            <a:ext cx="61020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21044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四、 消费者如何决定购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19280" y="549000"/>
            <a:ext cx="691344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五、 消费者购后行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03280" y="1916280"/>
            <a:ext cx="14479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2060640"/>
            <a:ext cx="14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购买后冲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8920" y="292428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30686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产品处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752480"/>
            <a:ext cx="1219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1828800"/>
            <a:ext cx="121932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购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2590920"/>
            <a:ext cx="121932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使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276720"/>
            <a:ext cx="121932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评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4038480"/>
            <a:ext cx="121932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满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1320" y="2133720"/>
            <a:ext cx="12189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采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3048120"/>
            <a:ext cx="12193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200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抱怨行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58920" y="4941720"/>
            <a:ext cx="10684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忠诚顾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1280" y="4941720"/>
            <a:ext cx="106704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重复购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952880"/>
            <a:ext cx="1066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增加使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4952880"/>
            <a:ext cx="106704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品牌转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27640" y="4941720"/>
            <a:ext cx="21351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再（终止）使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66880" y="19051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1905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43280" y="2349360"/>
            <a:ext cx="287172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71640" y="2421000"/>
            <a:ext cx="733680" cy="322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843280" y="2852640"/>
            <a:ext cx="720720" cy="23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3429000"/>
            <a:ext cx="733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76560" y="342900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911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19280" y="4581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45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11640" y="465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864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236000" y="4581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19280" y="549000"/>
            <a:ext cx="71388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顾客满意的价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69360" y="2708280"/>
            <a:ext cx="454680" cy="1828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购买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使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59280" y="2781360"/>
            <a:ext cx="482400" cy="1225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感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知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价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012560" y="2514600"/>
            <a:ext cx="454680" cy="2362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顾客满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2362320"/>
            <a:ext cx="140184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增加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3124080"/>
            <a:ext cx="140184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复购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3886200"/>
            <a:ext cx="14749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品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忠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4572000"/>
            <a:ext cx="14749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品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7280" y="357336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64000" y="3573360"/>
            <a:ext cx="398520" cy="7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495680" y="2590560"/>
            <a:ext cx="685800" cy="759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3276720"/>
            <a:ext cx="6858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038480"/>
            <a:ext cx="6858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4572000"/>
            <a:ext cx="685800" cy="1522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804000" y="2708280"/>
            <a:ext cx="19447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7067880" cy="1012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四节 消费者的购买组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416720" cy="439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消费一般以家庭或个人为单位，从事购买活动的通常却是家庭中的一个或几个成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在购买决策中，人们可能会扮演下列一种角色或几种角色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发起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影响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决定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购买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使用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651640" y="3213000"/>
            <a:ext cx="2374920" cy="32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77778E-006 C -0.02327 -0.00325 -0.04636 -0.00556 -0.06962 -0.00811 C -0.08021 -0.01297 -0.07552 -0.01112 -0.08334 -0.01413 C -0.08837 -0.01343 -0.09358 -0.0139 -0.09844 -0.01228 C -0.09983 -0.01181 -0.10018 -0.00903 -0.10139 -0.00811 C -0.10469 -0.00579 -0.10625 -0.00603 -0.10903 -0.00603 E">
                                      <p:cBhvr>
                                        <p:cTn id="1211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360" y="762120"/>
            <a:ext cx="6172200" cy="76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本章要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324480" cy="27432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消费者怎样做出购买决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什么影响着消费者的购买决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我们能够做什么，应该怎么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市场分析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5410080"/>
            <a:ext cx="129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6980040" cy="950760"/>
          </a:xfrm>
          <a:prstGeom prst="rect">
            <a:avLst/>
          </a:prstGeom>
          <a:gradFill rotWithShape="0">
            <a:gsLst>
              <a:gs pos="0">
                <a:srgbClr val="5e9eff">
                  <a:alpha val="0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第五节 消费者的购买类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38760" y="2590920"/>
            <a:ext cx="236196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高度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13320" y="2590920"/>
            <a:ext cx="236232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低度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62040" y="3581280"/>
            <a:ext cx="23623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品牌差异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62040" y="4572000"/>
            <a:ext cx="23623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品牌差异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38760" y="3581280"/>
            <a:ext cx="236196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复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购买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13320" y="3581280"/>
            <a:ext cx="23623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寻求多样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购买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38760" y="4572000"/>
            <a:ext cx="236196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减少失调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购买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13320" y="4572000"/>
            <a:ext cx="23623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简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购买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76360" y="1905120"/>
            <a:ext cx="1190520" cy="4114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2286000"/>
            <a:ext cx="1371600" cy="3429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2514600"/>
            <a:ext cx="1371600" cy="3048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2819520"/>
            <a:ext cx="1371600" cy="259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81680" y="3200400"/>
            <a:ext cx="1371600" cy="1905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76360" y="2637000"/>
            <a:ext cx="119052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6688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21178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文化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2498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社会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2666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个人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100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心理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3718080"/>
            <a:ext cx="129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消费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购买行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2743200"/>
            <a:ext cx="13716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亚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社会阶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66880" y="3124080"/>
            <a:ext cx="13716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参考群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家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身份和地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3200400"/>
            <a:ext cx="137160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年龄和家庭生命周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生活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个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自我形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经济条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性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职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3581280"/>
            <a:ext cx="13716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动机和需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知觉的选择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态度和信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87280" y="764640"/>
            <a:ext cx="7777440" cy="863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六节 影响消费者行为的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7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7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7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7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7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7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7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7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139160" cy="115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文化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715160" cy="4383000"/>
          </a:xfrm>
          <a:prstGeom prst="rect">
            <a:avLst/>
          </a:prstGeom>
          <a:gradFill rotWithShape="0">
            <a:gsLst>
              <a:gs pos="0">
                <a:srgbClr val="ffff93"/>
              </a:gs>
              <a:gs pos="100000">
                <a:srgbClr val="75754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文化是决定人类欲望和行为最基本的因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人在社会中成长，受到家庭、环境及社会潜移默化的影响，学到一套基本的价值观、风俗习惯和审美观，形成一定的偏好和行为模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84360" y="4653000"/>
            <a:ext cx="46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00360" y="4292640"/>
            <a:ext cx="4176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268360" y="4005360"/>
            <a:ext cx="5724720" cy="22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5280" y="475920"/>
            <a:ext cx="6789600" cy="115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亚文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7634520" cy="4392720"/>
          </a:xfrm>
          <a:prstGeom prst="rect">
            <a:avLst/>
          </a:prstGeom>
          <a:gradFill rotWithShape="0">
            <a:gsLst>
              <a:gs pos="0">
                <a:srgbClr val="c1ff13"/>
              </a:gs>
              <a:gs pos="100000">
                <a:srgbClr val="587508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种文化会因各种因素影响，使价值观、风俗习惯及审美观等表现出不同特征，形成亚文化。主要表现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9900"/>
                </a:solidFill>
                <a:latin typeface="Arial"/>
              </a:rPr>
              <a:t>民族亚文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9900"/>
                </a:solidFill>
                <a:latin typeface="Arial"/>
              </a:rPr>
              <a:t>宗教亚文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9900"/>
                </a:solidFill>
                <a:latin typeface="Arial"/>
              </a:rPr>
              <a:t>地理亚文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7139160" cy="100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社会阶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705800" cy="42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社会阶层是具有相对的同质性和持久性的群体。按等级排列，每一阶层的成员具有类似的价值观、兴趣爱好和行为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一个人的社会阶层，通常是职业、收入、教育和价值观等多种因素作用的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同一社会阶层的人，要比来自两个社会阶层的人行为更加相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620640"/>
            <a:ext cx="7067520" cy="797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社会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5614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参考群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家庭身份和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年龄和家庭生命周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生活方式与个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自我形象、职业、性别经济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435640" y="4365720"/>
            <a:ext cx="352908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72222E-006 7.53932E-006 C -0.01805 -0.00346 -0.03559 -0.00901 -0.05381 -0.0104 C -0.06406 -0.01133 -0.08473 -0.01225 -0.08473 -0.01225 E">
                                      <p:cBhvr>
                                        <p:cTn id="1491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21044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参考群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76360" y="2331720"/>
            <a:ext cx="7292880" cy="4049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参考群体是能够影响个人态度、意见和价值观的一群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参考群体分为所属群体与相关群体，所属群体又分为主要群体、次要群体和相关群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4581360"/>
            <a:ext cx="4319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247240" y="4869000"/>
            <a:ext cx="428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148360" y="4653000"/>
            <a:ext cx="361944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549000"/>
            <a:ext cx="677844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家庭、身份和地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618920" y="1989000"/>
            <a:ext cx="6985080" cy="4137120"/>
          </a:xfrm>
          <a:prstGeom prst="rect">
            <a:avLst/>
          </a:prstGeom>
          <a:gradFill rotWithShape="0">
            <a:gsLst>
              <a:gs pos="0">
                <a:srgbClr val="a4aafa"/>
              </a:gs>
              <a:gs pos="100000">
                <a:srgbClr val="4345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家庭及其成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身份是周围的人对你的要求，是你在各种场合承担的角色、应起的作用。每一种身份又附有一种地位，反映社会对他的评价和尊重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人们往往结合身份、地位做出购买选择。许多产品、品牌，由此成为一种身份和地位的标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28352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年龄和家庭生命周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7210440" cy="4137120"/>
          </a:xfrm>
          <a:prstGeom prst="rect">
            <a:avLst/>
          </a:prstGeom>
          <a:solidFill>
            <a:srgbClr val="ffff9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消费者的欲望和行为，因年龄不同而发生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家庭生命周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一个以家长为代表的家庭生活的全过程，从青年独立生活开始，到年老后并入子女的家庭或死亡时为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在不同阶段，同一消费者及家庭的购买力、兴趣和对产品的偏好甚至会有较大差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05636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生活方式与个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76360" y="1989000"/>
            <a:ext cx="6983280" cy="4137120"/>
          </a:xfrm>
          <a:prstGeom prst="rect">
            <a:avLst/>
          </a:prstGeom>
          <a:blipFill rotWithShape="0">
            <a:blip r:embed="rId1">
              <a:alphaModFix amt="16000"/>
            </a:blip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生活方式是一个人生活中表现出来的他的活动、兴趣和看法的整个模式。影响对品牌的看法、喜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个性指个人特有的心理特征，导致人对所处环境做出相对一致和持续的反应。通过自信、支配、自主、顺从、交际，保守和适应等性格特征表现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0920" y="685800"/>
            <a:ext cx="4876560" cy="838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分析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6934320" cy="3353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由谁构成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Whom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购买者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Occupant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购买什么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What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  购买对象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Object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为何购买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Why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   购买目的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Objective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由谁购买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Who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  购买组织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Organization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怎样购买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How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   购买方式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Operation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何时购买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When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 购买时间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Occasion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何地购买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Where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购买地点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Outlet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5562720"/>
            <a:ext cx="2590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95880" y="5715000"/>
            <a:ext cx="2438640" cy="8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500960" cy="719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自我形象、职业、性别和经济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7201080" cy="4105080"/>
          </a:xfrm>
          <a:prstGeom prst="rect">
            <a:avLst/>
          </a:prstGeom>
          <a:solidFill>
            <a:srgbClr val="bbe0e3">
              <a:alpha val="27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）自我形象——个人怀有的有关自己的“图案”，驱使其寻求与此一致的产品、品牌，采取与自我形象一致的消费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）职业影响——对不同产品及品牌会表现出不同的看法和购买意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3)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性别——长期以来，性别一直是影响人们购买的重要因素经济条件——消费要“量入为出”，依据条件消费和购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(4)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经济状况包括可供其消费的收入（收入水平，稳定性和时间形态）、储蓄与财产，借债能力和对花钱与储蓄的态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0" dur="indefinite" restart="never" nodeType="tmRoot">
          <p:childTnLst>
            <p:seq>
              <p:cTn id="1621" dur="indefinite" nodeType="mainSeq">
                <p:childTnLst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692280"/>
            <a:ext cx="6769080" cy="79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五、心理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18920" y="2060640"/>
            <a:ext cx="6840360" cy="4093920"/>
          </a:xfrm>
          <a:prstGeom prst="rect">
            <a:avLst/>
          </a:prstGeom>
          <a:blipFill rotWithShape="0">
            <a:blip r:embed="rId1">
              <a:alphaModFix amt="24000"/>
            </a:blip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机和需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态度和信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4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18920" y="764640"/>
            <a:ext cx="676908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动机和需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76360" y="1988640"/>
            <a:ext cx="6912000" cy="4248360"/>
          </a:xfrm>
          <a:prstGeom prst="rect">
            <a:avLst/>
          </a:prstGeom>
          <a:blipFill rotWithShape="0">
            <a:blip r:embed="rId1">
              <a:alphaModFix amt="25000"/>
            </a:blip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动机是推动个人进行各种活动的驱策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动机由需要而生。消费者的购买行为，是消费者解决他的需要问题的行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需要具有广泛性与多样性。每个人的具体情况不同，解决需要问题轻重缓急的顺序自然各异，也就存在一个“需要层次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19280" y="836280"/>
            <a:ext cx="662472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知觉的选择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76360" y="1844280"/>
            <a:ext cx="7199280" cy="4465800"/>
          </a:xfrm>
          <a:prstGeom prst="rect">
            <a:avLst/>
          </a:prstGeom>
          <a:gradFill rotWithShape="0">
            <a:gsLst>
              <a:gs pos="0">
                <a:srgbClr val="ffff93"/>
              </a:gs>
              <a:gs pos="100000">
                <a:srgbClr val="7575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择性注意——人们感觉到的刺激，只有少数引起注意、形成知觉，多数会被有选择地忽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择性曲解——人们对注意到的事物，往往喜欢按自己的经历、偏好、当时的情绪、情境等因素做出解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择性记忆——人们容易忘掉大多数信息，却总是能记住与自己态度、信念一致的东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5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0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5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335640" cy="777960"/>
          </a:xfrm>
          <a:prstGeom prst="rect">
            <a:avLst/>
          </a:prstGeom>
          <a:blipFill rotWithShape="0">
            <a:blip r:embed="rId1">
              <a:alphaModFix amt="44000"/>
            </a:blip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619280" y="2420640"/>
            <a:ext cx="6913440" cy="331308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535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535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53ff"/>
                </a:solidFill>
                <a:latin typeface="Arial"/>
              </a:rPr>
              <a:t>也称“习得”，指人会自觉、不自觉从很多渠道、经过各种方式获得后天经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535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53ff"/>
                </a:solidFill>
                <a:latin typeface="Arial"/>
              </a:rPr>
              <a:t>学习会引起个人行为的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535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53ff"/>
                </a:solidFill>
                <a:latin typeface="Arial"/>
              </a:rPr>
              <a:t>学习是消费者行为的关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6" dur="indefinite" restart="never" nodeType="tmRoot">
          <p:childTnLst>
            <p:seq>
              <p:cTn id="1747" dur="indefinite" nodeType="mainSeq">
                <p:childTnLst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34920" y="691920"/>
            <a:ext cx="6553080" cy="796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是消费者行为的关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76360" y="1916280"/>
            <a:ext cx="12780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文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76360" y="2349360"/>
            <a:ext cx="12780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亚文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76360" y="2781360"/>
            <a:ext cx="128592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社会阶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76360" y="3213000"/>
            <a:ext cx="12240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家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35280" y="3645000"/>
            <a:ext cx="83808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朋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35280" y="4076640"/>
            <a:ext cx="83808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学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4581360"/>
            <a:ext cx="106668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大众媒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08000" y="5157720"/>
            <a:ext cx="76212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广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40360" y="1851120"/>
            <a:ext cx="1944360" cy="4540680"/>
          </a:xfrm>
          <a:prstGeom prst="rect">
            <a:avLst/>
          </a:prstGeom>
          <a:solidFill>
            <a:srgbClr val="a4a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价值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态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趣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偏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技能  感受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产品与品牌特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象征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164360" y="3141720"/>
            <a:ext cx="1600200" cy="1447920"/>
          </a:xfrm>
          <a:prstGeom prst="ellipse">
            <a:avLst/>
          </a:prstGeom>
          <a:solidFill>
            <a:srgbClr val="ffff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236000" y="35002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1cff"/>
                </a:solidFill>
                <a:latin typeface="Arial"/>
              </a:rPr>
              <a:t>购买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1cff"/>
                </a:solidFill>
                <a:latin typeface="Arial"/>
              </a:rPr>
              <a:t>使用行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71640" y="2060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7164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71640" y="2924280"/>
            <a:ext cx="136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71640" y="3357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00360" y="37893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700360" y="42926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4797360"/>
            <a:ext cx="135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00360" y="5373720"/>
            <a:ext cx="145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84720" y="378936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c1ff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76000" y="765000"/>
            <a:ext cx="6769080" cy="797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态度和信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7056360" cy="4464000"/>
          </a:xfrm>
          <a:prstGeom prst="rect">
            <a:avLst/>
          </a:prstGeom>
          <a:blipFill rotWithShape="0">
            <a:blip r:embed="rId1">
              <a:alphaModFix amt="14000"/>
            </a:blip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态度是人对事物所持有的持久的、一致的评价、反应，包括三个互相联系的成分：信念，情感与倾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195640" y="3213000"/>
            <a:ext cx="144756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48360" y="270828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76720" y="4076640"/>
            <a:ext cx="14479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68360" y="328464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认知成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信念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92720" y="2852640"/>
            <a:ext cx="106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情感成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感觉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76720" y="4221000"/>
            <a:ext cx="1447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行为成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反应倾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635280" y="306864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92360" y="3933720"/>
            <a:ext cx="15242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796000" y="36450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419640" y="4508640"/>
            <a:ext cx="12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体态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35280" y="5373720"/>
            <a:ext cx="6049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消费者更易于依据“见解”和“信任”行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6" dur="indefinite" restart="never" nodeType="tmRoot">
          <p:childTnLst>
            <p:seq>
              <p:cTn id="1877" dur="indefinite" nodeType="mainSeq">
                <p:childTnLst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8280" y="762120"/>
            <a:ext cx="5562720" cy="76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宋体"/>
              </a:rPr>
              <a:t>第一节 消费者市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6781680" cy="384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一、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人们为了满足个人或家庭生活的需要，购买产品、服务的市场。是许多企业从事经营活动的主要场所、服务的主要对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二、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人多面广，包括了生活中的每一个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需求复杂，经常变化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零星购买和经常购买，购买次数频繁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产品专用性不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需求弹性较大，受价格影响明显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非专家购买，易受促销影响，产生购买冲动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购买力经常流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6934320" cy="8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三、消费者行为的基本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2819520"/>
            <a:ext cx="2286000" cy="3200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819520"/>
            <a:ext cx="2514600" cy="3200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2819520"/>
            <a:ext cx="1752840" cy="3200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36576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281952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3657600"/>
            <a:ext cx="2438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281952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36576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3657600"/>
            <a:ext cx="380880" cy="1600200"/>
          </a:xfrm>
          <a:custGeom>
            <a:avLst/>
            <a:gdLst>
              <a:gd name="textAreaLeft" fmla="*/ 59400 w 380880"/>
              <a:gd name="textAreaRight" fmla="*/ 333360 w 38088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3657600"/>
            <a:ext cx="380880" cy="1600200"/>
          </a:xfrm>
          <a:custGeom>
            <a:avLst/>
            <a:gdLst>
              <a:gd name="textAreaLeft" fmla="*/ 59400 w 380880"/>
              <a:gd name="textAreaRight" fmla="*/ 333360 w 38088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819520"/>
            <a:ext cx="129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可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2819520"/>
            <a:ext cx="129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不可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886200"/>
            <a:ext cx="1143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价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地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促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3809880"/>
            <a:ext cx="1295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经济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技术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政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文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819520"/>
            <a:ext cx="1447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消费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特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886200"/>
            <a:ext cx="914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社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个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心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2819520"/>
            <a:ext cx="129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消费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3733920"/>
            <a:ext cx="12952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认识需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收集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评价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决定购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购后感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3048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购买决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3733920"/>
            <a:ext cx="16002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产品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品牌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经销商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时机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数量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刺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1337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•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特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5053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68580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华文琥珀"/>
                <a:ea typeface="华文琥珀"/>
              </a:rPr>
              <a:t>第二节 消费者的购买对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2361960"/>
            <a:ext cx="7162920" cy="3733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依据人们购买、消费的习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便利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购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未觅求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、依据产品的有形与否：有形产品（物品），无形产品（服务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、依据产品耐用性：耐用品，非耐用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认识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49528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评价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2096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收集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决定购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购后感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1" idx="0"/>
            <a:endCxn id="103" idx="1"/>
          </p:cNvCxnSpPr>
          <p:nvPr/>
        </p:nvCxnSpPr>
        <p:spPr>
          <a:xfrm flipH="1" flipV="1" rot="5400000">
            <a:off x="1752120" y="2971080"/>
            <a:ext cx="87696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1" idx="2"/>
            <a:endCxn id="102" idx="1"/>
          </p:cNvCxnSpPr>
          <p:nvPr/>
        </p:nvCxnSpPr>
        <p:spPr>
          <a:xfrm flipH="1" rot="16200000">
            <a:off x="1751760" y="4838400"/>
            <a:ext cx="87696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3" idx="3"/>
            <a:endCxn id="104" idx="1"/>
          </p:cNvCxnSpPr>
          <p:nvPr/>
        </p:nvCxnSpPr>
        <p:spPr>
          <a:xfrm>
            <a:off x="4114440" y="2705040"/>
            <a:ext cx="76284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2" idx="3"/>
            <a:endCxn id="104" idx="1"/>
          </p:cNvCxnSpPr>
          <p:nvPr/>
        </p:nvCxnSpPr>
        <p:spPr>
          <a:xfrm flipV="1">
            <a:off x="4114440" y="4076280"/>
            <a:ext cx="76284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4" idx="3"/>
            <a:endCxn id="105" idx="1"/>
          </p:cNvCxnSpPr>
          <p:nvPr/>
        </p:nvCxnSpPr>
        <p:spPr>
          <a:xfrm>
            <a:off x="6629040" y="4076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7848720" cy="792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华文琥珀"/>
                <a:ea typeface="华文琥珀"/>
              </a:rPr>
              <a:t>第三节 消费者购买的决策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086600" cy="838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 消费者如何认识需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22860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现实的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22860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追求的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8098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发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不同程度差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52578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认识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3" idx="2"/>
            <a:endCxn id="115" idx="1"/>
          </p:cNvCxnSpPr>
          <p:nvPr/>
        </p:nvCxnSpPr>
        <p:spPr>
          <a:xfrm flipH="1" rot="16200000">
            <a:off x="2724120" y="3256920"/>
            <a:ext cx="1067400" cy="953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4" idx="2"/>
            <a:endCxn id="115" idx="3"/>
          </p:cNvCxnSpPr>
          <p:nvPr/>
        </p:nvCxnSpPr>
        <p:spPr>
          <a:xfrm rot="5400000">
            <a:off x="5542920" y="3447720"/>
            <a:ext cx="106740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5" idx="2"/>
            <a:endCxn id="116" idx="0"/>
          </p:cNvCxnSpPr>
          <p:nvPr/>
        </p:nvCxnSpPr>
        <p:spPr>
          <a:xfrm>
            <a:off x="4762080" y="4724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692280"/>
            <a:ext cx="6264360" cy="720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66"/>
                </a:solidFill>
                <a:latin typeface="Arial"/>
              </a:rPr>
              <a:t>二、 消费者如何收集信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6360" y="1773360"/>
            <a:ext cx="6840720" cy="576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、收集信息可以避免决策失误，减少购买风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1218960" cy="337320"/>
          </a:xfrm>
          <a:prstGeom prst="rect">
            <a:avLst/>
          </a:prstGeom>
          <a:gradFill rotWithShape="0">
            <a:gsLst>
              <a:gs pos="0">
                <a:srgbClr val="5e9eff">
                  <a:alpha val="37254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认识到需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2895480"/>
            <a:ext cx="1143000" cy="337320"/>
          </a:xfrm>
          <a:prstGeom prst="rect">
            <a:avLst/>
          </a:prstGeom>
          <a:gradFill rotWithShape="0">
            <a:gsLst>
              <a:gs pos="0">
                <a:srgbClr val="5e9eff">
                  <a:alpha val="29019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立即购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495680"/>
            <a:ext cx="1143000" cy="337320"/>
          </a:xfrm>
          <a:prstGeom prst="rect">
            <a:avLst/>
          </a:prstGeom>
          <a:gradFill rotWithShape="0">
            <a:gsLst>
              <a:gs pos="0">
                <a:srgbClr val="5e9eff">
                  <a:alpha val="44313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留存记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581280"/>
            <a:ext cx="1143000" cy="337320"/>
          </a:xfrm>
          <a:prstGeom prst="rect">
            <a:avLst/>
          </a:prstGeom>
          <a:gradFill rotWithShape="0">
            <a:gsLst>
              <a:gs pos="0">
                <a:srgbClr val="5e9eff">
                  <a:alpha val="42352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继续收集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5105520"/>
            <a:ext cx="990360" cy="337320"/>
          </a:xfrm>
          <a:prstGeom prst="rect">
            <a:avLst/>
          </a:prstGeom>
          <a:gradFill rotWithShape="0">
            <a:gsLst>
              <a:gs pos="0">
                <a:srgbClr val="5e9eff">
                  <a:alpha val="51372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收集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3640" y="39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3124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4648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962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58920" y="4653000"/>
            <a:ext cx="2868480" cy="19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分析 购买行为</cp:keywords>
  <dc:language>en-US</dc:language>
  <cp:lastModifiedBy/>
  <cp:revision>0</cp:revision>
  <dc:subject/>
  <dc:title/>
</cp:coreProperties>
</file>