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6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9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REMINDER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15.wmf" ContentType="image/x-wmf"/>
  <Override PartName="/ppt/media/image1.jpeg" ContentType="image/jpeg"/>
  <Override PartName="/ppt/media/DRIVEBY.WAV" ContentType="audio/x-wav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308-73C0-4741-9D9F-07979654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331-66F9-4EB4-81D1-03806379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5DA-4386-46E0-86E5-70809DFE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389-5431-4B7D-A268-DE2326EC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C9BE-6A93-422E-B03E-2D576318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B65C-FDA6-4D19-9F9F-1F795EE5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9A3C-95A9-46FD-B3E0-F57C2428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ACB5-73EA-43A9-A688-A2D98079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D713-69C6-4384-A7ED-DA34260A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80F3-50E2-4B91-B904-2459DF9C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5D6D-7449-45BF-93BA-B5986ED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CF0-D8D2-4F73-A989-0844D75D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DABE-C3BC-41BE-8B0B-3C855351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536E-F72A-43D5-BD23-815DE23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D550-7838-43AB-9816-DBFEC368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E69E-FDCB-42EC-BE29-D93A95A7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E79F-A21B-4501-A454-24178FBA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A71-3593-4138-BF35-F36F683F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AE5-6A6A-414D-AE7B-092D769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0C4-08F6-4AD4-B143-5946C596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268-0C24-4F3E-B47A-8A111EEC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0E2-1DDD-4A2E-A326-D54E7037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61B-1145-420B-B2DA-A05C493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79F-A23D-4069-B35D-58961D3B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CB8E-06EC-48E8-8657-C9CFB26AB46C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00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F9B7-AF4F-4BA6-9BAC-47A20D172E00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REMINDER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52388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cec8ba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190bd5"/>
                </a:solidFill>
                <a:latin typeface="隶书"/>
                <a:ea typeface="隶书"/>
              </a:rPr>
              <a:t>高分子化学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4571640"/>
            <a:ext cx="7677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42086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838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黑体"/>
                <a:ea typeface="黑体"/>
              </a:rPr>
              <a:t>1.2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高分子化合物的基本特征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4382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分子量大是高分子的根本性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的许多特殊性质都与分子量大有关，如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的溶液性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难溶，甚至不溶，溶解过程往往要经过溶胀阶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溶液粘度比同浓度的小分子高得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分子之间的作用力大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只有液态和固态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不能汽化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固体聚合物具有一定的力学强度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可抽丝、能制膜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6720" y="175176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分子量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7621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分子量多大才算是高分子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其实，并无明确界限，一般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334120"/>
            <a:ext cx="4038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的强度与分子量密切相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8997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- - - - - &lt; 1000 &lt; - - - - - - - - - - - - &lt; 10000 &lt; - - - - -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bd5"/>
                </a:solidFill>
                <a:latin typeface="幼圆"/>
                <a:ea typeface="幼圆"/>
              </a:rPr>
              <a:t>低分子</a:t>
            </a:r>
            <a:r>
              <a:rPr b="1" lang="zh-CN" sz="2400" spc="-1" strike="noStrike">
                <a:solidFill>
                  <a:srgbClr val="5b5249"/>
                </a:solidFill>
                <a:latin typeface="幼圆"/>
                <a:ea typeface="幼圆"/>
              </a:rPr>
              <a:t>       </a:t>
            </a:r>
            <a:r>
              <a:rPr b="1" lang="zh-CN" sz="2400" spc="-1" strike="noStrike">
                <a:solidFill>
                  <a:srgbClr val="190bd5"/>
                </a:solidFill>
                <a:latin typeface="幼圆"/>
                <a:ea typeface="幼圆"/>
              </a:rPr>
              <a:t>过渡区（齐聚物）       高聚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120120"/>
            <a:ext cx="350496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一般高分子的分子量在 </a:t>
            </a:r>
            <a:r>
              <a:rPr b="1" lang="zh-CN" sz="2600" spc="-1" strike="noStrike">
                <a:solidFill>
                  <a:srgbClr val="5b5249"/>
                </a:solidFill>
                <a:latin typeface="宋体"/>
              </a:rPr>
              <a:t>10</a:t>
            </a:r>
            <a:r>
              <a:rPr b="1" lang="zh-CN" sz="2600" spc="-1" strike="noStrike" baseline="30000">
                <a:solidFill>
                  <a:srgbClr val="5b5249"/>
                </a:solidFill>
                <a:latin typeface="宋体"/>
              </a:rPr>
              <a:t>4 </a:t>
            </a:r>
            <a:r>
              <a:rPr b="1" lang="zh-CN" sz="2600" spc="-1" strike="noStrike">
                <a:solidFill>
                  <a:srgbClr val="5b5249"/>
                </a:solidFill>
                <a:latin typeface="宋体"/>
              </a:rPr>
              <a:t>～</a:t>
            </a:r>
            <a:r>
              <a:rPr b="1" lang="zh-CN" sz="2600" spc="-1" strike="noStrike">
                <a:solidFill>
                  <a:srgbClr val="5b5249"/>
                </a:solidFill>
                <a:latin typeface="宋体"/>
              </a:rPr>
              <a:t>10</a:t>
            </a:r>
            <a:r>
              <a:rPr b="1" lang="zh-CN" sz="2600" spc="-1" strike="noStrike" baseline="30000">
                <a:solidFill>
                  <a:srgbClr val="5b5249"/>
                </a:solidFill>
                <a:latin typeface="宋体"/>
              </a:rPr>
              <a:t>6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范围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超高分子量的聚合物               的分子量高达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10</a:t>
            </a:r>
            <a:r>
              <a:rPr b="1" lang="zh-CN" sz="2600" spc="-1" strike="noStrike" baseline="30000">
                <a:solidFill>
                  <a:srgbClr val="5b5249"/>
                </a:solidFill>
                <a:latin typeface="楷体_GB2312"/>
                <a:ea typeface="楷体_GB2312"/>
              </a:rPr>
              <a:t>6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以上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3962520"/>
            <a:ext cx="0" cy="1828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5791320"/>
            <a:ext cx="3047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4343400"/>
            <a:ext cx="2133720" cy="1447920"/>
          </a:xfrm>
          <a:custGeom>
            <a:avLst/>
            <a:gdLst/>
            <a:ahLst/>
            <a:rect l="l" t="t" r="r" b="b"/>
            <a:pathLst>
              <a:path w="1344" h="912">
                <a:moveTo>
                  <a:pt x="0" y="912"/>
                </a:moveTo>
                <a:cubicBezTo>
                  <a:pt x="40" y="772"/>
                  <a:pt x="80" y="632"/>
                  <a:pt x="144" y="528"/>
                </a:cubicBezTo>
                <a:cubicBezTo>
                  <a:pt x="208" y="424"/>
                  <a:pt x="304" y="344"/>
                  <a:pt x="384" y="288"/>
                </a:cubicBezTo>
                <a:cubicBezTo>
                  <a:pt x="464" y="232"/>
                  <a:pt x="464" y="240"/>
                  <a:pt x="624" y="192"/>
                </a:cubicBezTo>
                <a:cubicBezTo>
                  <a:pt x="784" y="144"/>
                  <a:pt x="1064" y="72"/>
                  <a:pt x="1344" y="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53330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4720" y="396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5720" y="377532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强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47240" y="5790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合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441864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914400"/>
            <a:ext cx="5257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11480" indent="-41148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点是初具强度的最低聚合度，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A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点以上强度随分子链迅速增加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B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点是临界点，强度增加逐 渐减慢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C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点以后强度不再明显增加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不同高分子初具强度的聚合度和临界点的聚合度不同，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883800"/>
            <a:ext cx="2895480" cy="3326760"/>
          </a:xfrm>
          <a:prstGeom prst="rect">
            <a:avLst/>
          </a:prstGeom>
          <a:solidFill>
            <a:srgbClr val="ffe7fe"/>
          </a:solidFill>
          <a:ln w="9360">
            <a:solidFill>
              <a:srgbClr val="ffe7fe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bd5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190bd5"/>
                </a:solidFill>
                <a:latin typeface="Times New Roman"/>
              </a:rPr>
              <a:t>A          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42086"/>
                </a:solidFill>
                <a:latin typeface="幼圆"/>
                <a:ea typeface="幼圆"/>
              </a:rPr>
              <a:t>尼龙</a:t>
            </a:r>
            <a:r>
              <a:rPr b="1" lang="zh-CN" sz="2200" spc="-1" strike="noStrike">
                <a:solidFill>
                  <a:srgbClr val="ff9900"/>
                </a:solidFill>
                <a:latin typeface="幼圆"/>
                <a:ea typeface="幼圆"/>
              </a:rPr>
              <a:t>   </a:t>
            </a:r>
            <a:r>
              <a:rPr b="1" lang="zh-CN" sz="2200" spc="-1" strike="noStrike">
                <a:solidFill>
                  <a:srgbClr val="5b5249"/>
                </a:solidFill>
                <a:latin typeface="幼圆"/>
                <a:ea typeface="幼圆"/>
              </a:rPr>
              <a:t>  </a:t>
            </a:r>
            <a:r>
              <a:rPr b="1" lang="zh-CN" sz="2200" spc="-1" strike="noStrike">
                <a:solidFill>
                  <a:srgbClr val="5b5249"/>
                </a:solidFill>
                <a:latin typeface="幼圆"/>
                <a:ea typeface="幼圆"/>
              </a:rPr>
              <a:t>40    150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42086"/>
                </a:solidFill>
                <a:latin typeface="幼圆"/>
                <a:ea typeface="幼圆"/>
              </a:rPr>
              <a:t>纤维素</a:t>
            </a:r>
            <a:r>
              <a:rPr b="1" lang="zh-CN" sz="2200" spc="-1" strike="noStrike">
                <a:solidFill>
                  <a:srgbClr val="5b5249"/>
                </a:solidFill>
                <a:latin typeface="幼圆"/>
                <a:ea typeface="幼圆"/>
              </a:rPr>
              <a:t>   </a:t>
            </a:r>
            <a:r>
              <a:rPr b="1" lang="zh-CN" sz="2200" spc="-1" strike="noStrike">
                <a:solidFill>
                  <a:srgbClr val="5b5249"/>
                </a:solidFill>
                <a:latin typeface="幼圆"/>
                <a:ea typeface="幼圆"/>
              </a:rPr>
              <a:t>60    250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42086"/>
                </a:solidFill>
                <a:latin typeface="幼圆"/>
                <a:ea typeface="幼圆"/>
              </a:rPr>
              <a:t>乙烯基</a:t>
            </a:r>
            <a:r>
              <a:rPr b="1" lang="zh-CN" sz="2200" spc="-1" strike="noStrike">
                <a:solidFill>
                  <a:srgbClr val="ff9900"/>
                </a:solidFill>
                <a:latin typeface="幼圆"/>
                <a:ea typeface="幼圆"/>
              </a:rPr>
              <a:t>  </a:t>
            </a:r>
            <a:r>
              <a:rPr b="1" lang="zh-CN" sz="2200" spc="-1" strike="noStrike">
                <a:solidFill>
                  <a:srgbClr val="5b5249"/>
                </a:solidFill>
                <a:latin typeface="幼圆"/>
                <a:ea typeface="幼圆"/>
              </a:rPr>
              <a:t>100    400</a:t>
            </a:r>
            <a:r>
              <a:rPr b="1" lang="zh-CN" sz="2200" spc="-1" strike="noStrike">
                <a:solidFill>
                  <a:srgbClr val="842086"/>
                </a:solidFill>
                <a:latin typeface="幼圆"/>
                <a:ea typeface="幼圆"/>
              </a:rPr>
              <a:t>聚合物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272920"/>
            <a:ext cx="77724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过大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合物熔体粘度过高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难以成型加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达到一定分子量，保证使用强度后，不必追求过高的分子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19112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的加工性能与分子量有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828800"/>
            <a:ext cx="8229600" cy="2438280"/>
          </a:xfrm>
          <a:prstGeom prst="rect">
            <a:avLst/>
          </a:prstGeom>
          <a:solidFill>
            <a:srgbClr val="ffe7fe"/>
          </a:solidFill>
          <a:ln w="9360">
            <a:solidFill>
              <a:srgbClr val="ffe7fe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36320" y="10666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常用的聚合物的分子量（万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80" y="1905120"/>
            <a:ext cx="9366480" cy="21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42086"/>
                </a:solidFill>
                <a:latin typeface="Times New Roman"/>
              </a:rPr>
              <a:t>塑料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</a:rPr>
              <a:t>分子量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842086"/>
                </a:solidFill>
                <a:latin typeface="Times New Roman"/>
              </a:rPr>
              <a:t>纤维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</a:rPr>
              <a:t>分子量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842086"/>
                </a:solidFill>
                <a:latin typeface="Times New Roman"/>
              </a:rPr>
              <a:t>橡胶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</a:rPr>
              <a:t>分子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乙烯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30 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涤纶 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.8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.3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天然橡胶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4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氯乙烯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5 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尼龙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-66   1.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.8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丁苯橡胶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苯乙烯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30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维呢纶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7.5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顺丁烯胶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3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724280"/>
            <a:ext cx="46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具有多分散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48640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什么是分子量的多分散性（</a:t>
            </a:r>
            <a:r>
              <a:rPr b="0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Polydispersity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不是由单一分子量的化合物所组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即使是一种“纯粹”的高分子，也是由化学组成相同、分子量不等、结构不同的同系聚合物的混合物所组成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</a:rPr>
              <a:t>这种高分子的分子量不均一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即分子量大小不一、参差不齐）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</a:rPr>
              <a:t>的特性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，就称为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</a:rPr>
              <a:t>分子量的多分散性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因此应注意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一般测得的高分子的分子量都是平均分子量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</a:rPr>
              <a:t>聚合物的平均分子量相同，但分散性不一定相同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838080"/>
            <a:ext cx="8583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平均分子量的表示方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-39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数均分子量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Number-average molecular weight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66680" y="3048120"/>
                <a:ext cx="713124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i</m:t>
                            </m:r>
                            <m:r>
                              <m:t xml:space="preserve">M</m:t>
                            </m:r>
                            <m:r>
                              <m:t xml:space="preserve">i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i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i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borderBox>
                          <m:borderBoxPr>
                            <m:hideTop m:val="1"/>
                            <m:hideBot m:val="1"/>
                            <m:hideLeft m:val="1"/>
                            <m:hideRight m:val="1"/>
                            <m:strikeH m:val="1"/>
                          </m:borderBoxPr>
                          <m:e>
                            <m:r>
                              <m:t xml:space="preserve">N</m:t>
                            </m:r>
                          </m:e>
                        </m:borderBox>
                        <m:r>
                          <m:t xml:space="preserve">i</m:t>
                        </m:r>
                        <m:r>
                          <m:t xml:space="preserve">M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5800" y="1978560"/>
            <a:ext cx="81532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按聚合物中含有的分子数目统计平均的分子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样品中所有分子的总重量除以其分子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摩尔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总数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4583160"/>
            <a:ext cx="861048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式中，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W</a:t>
            </a:r>
            <a:r>
              <a:rPr b="1" i="1" lang="zh-CN" sz="26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i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N</a:t>
            </a:r>
            <a:r>
              <a:rPr b="1" i="1" lang="zh-CN" sz="26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i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i="1" lang="zh-CN" sz="26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i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别为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i-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体的重量、分子数、分子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1" i="1" lang="zh-CN" sz="2600" spc="-1" strike="noStrike">
                <a:solidFill>
                  <a:srgbClr val="5b5249"/>
                </a:solidFill>
                <a:latin typeface="Times New Roman"/>
              </a:rPr>
              <a:t>i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 = 1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－∞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数均分子量是通过</a:t>
            </a:r>
            <a:r>
              <a:rPr b="1" lang="zh-CN" sz="2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依数性方法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(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冰点降低法、沸点升高法、渗透压法、蒸汽压法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)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和</a:t>
            </a:r>
            <a:r>
              <a:rPr b="1" lang="zh-CN" sz="2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端基滴定法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测定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295280" y="43430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式中符号意义同前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测定方法：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光散射法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38080" y="3146400"/>
                <a:ext cx="685800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i</m:t>
                            </m:r>
                          </m:e>
                        </m:nary>
                        <m:r>
                          <m:t xml:space="preserve">M</m:t>
                        </m:r>
                        <m:r>
                          <m:t xml:space="preserve">i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r>
                              <m:t xml:space="preserve">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borderBox>
                          <m:borderBoxPr>
                            <m:hideTop m:val="1"/>
                            <m:hideBot m:val="1"/>
                            <m:hideLeft m:val="1"/>
                            <m:hideRight m:val="1"/>
                            <m:strikeH m:val="1"/>
                          </m:borderBoxPr>
                          <m:e>
                            <m:r>
                              <m:t xml:space="preserve">W</m:t>
                            </m:r>
                          </m:e>
                        </m:borderBox>
                        <m:r>
                          <m:t xml:space="preserve">i</m:t>
                        </m:r>
                        <m:r>
                          <m:t xml:space="preserve">M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896760" y="1066680"/>
            <a:ext cx="7171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重均分子量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Weight-average molecular weight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是按照聚合物的重量进行统计平均的分子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i-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聚体的分子量乘以其重量分数的加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均分子量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Z-average molecular weight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按照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值统计平均的分子量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334120" y="160020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W</m:t>
                    </m:r>
                    <m:r>
                      <m:t xml:space="preserve">i</m:t>
                    </m:r>
                    <m:r>
                      <m:t xml:space="preserve">M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990720" y="2246400"/>
                <a:ext cx="7238880" cy="14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i</m:t>
                            </m:r>
                            <m:r>
                              <m:t xml:space="preserve">M</m:t>
                            </m:r>
                            <m:r>
                              <m:t xml:space="preserve">i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r>
                              <m:t xml:space="preserve">i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i</m:t>
                            </m:r>
                            <m:r>
                              <m:t xml:space="preserve">M</m:t>
                            </m:r>
                            <m:r>
                              <m:t xml:space="preserve">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55920" y="4862520"/>
                <a:ext cx="309240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＝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i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q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562720" y="4419720"/>
                <a:ext cx="11332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162920" y="4343400"/>
                <a:ext cx="63504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  <m:r>
                          <m:t xml:space="preserve">n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  <m:r>
                          <m:t xml:space="preserve">w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3657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测定方法：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超离心法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三种分子量可用通式表示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对于一定的聚合物－溶剂体系，其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特性粘数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[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η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和分子量的关系如下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57913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一般，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α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值在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0.9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之间，故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90920" y="2760840"/>
                <a:ext cx="2361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η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654160" y="2590920"/>
            <a:ext cx="2517120" cy="1015920"/>
          </a:xfrm>
          <a:prstGeom prst="rect">
            <a:avLst/>
          </a:prstGeom>
          <a:noFill/>
          <a:ln w="9360">
            <a:solidFill>
              <a:srgbClr val="842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Mark-Houwink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方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K, α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方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1840" y="3657600"/>
            <a:ext cx="101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K, α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是与聚合物、溶剂有关的常数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882720" y="4173480"/>
                <a:ext cx="66610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W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M</m:t>
                                    </m:r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Wi</m:t>
                                    </m:r>
                                  </m:e>
                                </m:nary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α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M</m:t>
                                    </m:r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α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248520" y="5791320"/>
                <a:ext cx="1295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v</m:t>
                        </m:r>
                      </m:e>
                    </m:bar>
                    <m:r>
                      <m:t xml:space="preserve">&lt;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110240" y="990720"/>
            <a:ext cx="73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粘均分子量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Viscosity- average molecular weight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9907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举例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：设一聚合物样品，其中分子量为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 baseline="30000">
                <a:solidFill>
                  <a:srgbClr val="5b5249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的分子有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 mol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为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 baseline="30000">
                <a:solidFill>
                  <a:srgbClr val="5b5249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的分子有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5 mol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求分子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914400" y="2209680"/>
                <a:ext cx="66294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Mi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505320"/>
                <a:ext cx="76960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iM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Mi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5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914400" y="4876920"/>
                <a:ext cx="7543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0000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3d7a"/>
                </a:solidFill>
                <a:latin typeface="隶书"/>
                <a:ea typeface="隶书"/>
              </a:rPr>
              <a:t>1.</a:t>
            </a:r>
            <a:r>
              <a:rPr b="0" lang="zh-CN" sz="5400" spc="-1" strike="noStrike">
                <a:solidFill>
                  <a:srgbClr val="2a3d7a"/>
                </a:solidFill>
                <a:latin typeface="隶书"/>
                <a:ea typeface="隶书"/>
              </a:rPr>
              <a:t>  </a:t>
            </a:r>
            <a:r>
              <a:rPr b="0" lang="zh-CN" sz="5400" spc="-1" strike="noStrike">
                <a:solidFill>
                  <a:srgbClr val="2a3d7a"/>
                </a:solidFill>
                <a:latin typeface="隶书"/>
                <a:ea typeface="隶书"/>
              </a:rPr>
              <a:t>绪   论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5640" y="480060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fac1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高分子的基本概念</a:t>
            </a:r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601"/>
              </a:spcBef>
              <a:buClr>
                <a:srgbClr val="fac1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高分子化合物的基本特征</a:t>
            </a:r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601"/>
              </a:spcBef>
              <a:buClr>
                <a:srgbClr val="fac1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高分子化合物的命名和分类</a:t>
            </a:r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spcBef>
                <a:spcPts val="601"/>
              </a:spcBef>
              <a:buClr>
                <a:srgbClr val="fac1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聚合反应</a:t>
            </a:r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86600" y="990720"/>
            <a:ext cx="1731960" cy="40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6" name=""/>
          <p:cNvSpPr/>
          <p:nvPr/>
        </p:nvSpPr>
        <p:spPr>
          <a:xfrm>
            <a:off x="8001000" y="1828800"/>
            <a:ext cx="74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828800"/>
            <a:ext cx="6172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科学是当代发展最迅速的学科之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科学既是一门应用科学，又是一门基础科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科学已经发展成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高分子化学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高分子物理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两个主要分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50800" y="48024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fff"/>
                </a:solidFill>
                <a:latin typeface="Times New Roman"/>
              </a:rPr>
              <a:t>本章内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320" y="2819160"/>
            <a:ext cx="76964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&gt; 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&gt; 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&gt; 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略低于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w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靠近聚合物中低分子量的部分，即低分子量部分对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影响较大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靠近聚合物中高分子量的部分，即高分子量部分对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影响较大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S Outlook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一般用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来表征聚合物比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更恰当，因为聚合物的性能如强度、熔体粘度更多地依赖于样品中较大的分子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5800" y="990720"/>
                <a:ext cx="79502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  <m:r>
                              <m:t xml:space="preserve">i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98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925920" y="2286000"/>
            <a:ext cx="8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讨论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1066680"/>
            <a:ext cx="8001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分子量多分散性的表示方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单独一种平均分子量不足以表征聚合物的性能，还需要了解分子量多分散性的程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Monotype Sorts"/>
                <a:ea typeface="Monotype Sorts"/>
              </a:rPr>
              <a:t>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分子量分布指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数表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即重均分子量与数均分子量的比值，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i="1" lang="zh-CN" sz="28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w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/ 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i="1" lang="zh-CN" sz="28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</a:t>
            </a:r>
            <a:r>
              <a:rPr b="1" i="1" lang="zh-CN" sz="2800" spc="-1" strike="noStrike" u="sng">
                <a:solidFill>
                  <a:srgbClr val="5b5249"/>
                </a:solidFill>
                <a:uFillTx/>
                <a:latin typeface="Times New Roman"/>
                <a:ea typeface="楷体_GB2312"/>
              </a:rPr>
              <a:t>Mw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imes New Roman"/>
                <a:ea typeface="楷体_GB2312"/>
              </a:rPr>
              <a:t> / </a:t>
            </a:r>
            <a:r>
              <a:rPr b="1" i="1" lang="zh-CN" sz="2800" spc="-1" strike="noStrike" u="sng">
                <a:solidFill>
                  <a:srgbClr val="5b5249"/>
                </a:solidFill>
                <a:uFillTx/>
                <a:latin typeface="Times New Roman"/>
                <a:ea typeface="楷体_GB2312"/>
              </a:rPr>
              <a:t>M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2800" spc="-1" strike="noStrike" u="sng">
                <a:solidFill>
                  <a:srgbClr val="5b5249"/>
                </a:solidFill>
                <a:uFillTx/>
                <a:latin typeface="Times New Roman"/>
                <a:ea typeface="楷体_GB2312"/>
              </a:rPr>
              <a:t>分子量分布情况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                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均一分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接近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  (1.5 ~ 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                分布较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远离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  (20 ~ 50)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布较宽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3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914400"/>
            <a:ext cx="419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Monotype Sorts"/>
                <a:ea typeface="Monotype Sorts"/>
              </a:rPr>
              <a:t>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分子量分布曲线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表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将高分子样品分成不同分子量的级分，这一实验操作称为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分级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3352680"/>
            <a:ext cx="289548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6440" y="3276720"/>
            <a:ext cx="7902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重量分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88240" y="5256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平均分子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3733920"/>
            <a:ext cx="1295280" cy="1536480"/>
          </a:xfrm>
          <a:custGeom>
            <a:avLst/>
            <a:gdLst/>
            <a:ahLst/>
            <a:rect l="l" t="t" r="r" b="b"/>
            <a:pathLst>
              <a:path w="816" h="968">
                <a:moveTo>
                  <a:pt x="0" y="968"/>
                </a:moveTo>
                <a:cubicBezTo>
                  <a:pt x="72" y="896"/>
                  <a:pt x="144" y="824"/>
                  <a:pt x="192" y="680"/>
                </a:cubicBezTo>
                <a:cubicBezTo>
                  <a:pt x="240" y="536"/>
                  <a:pt x="256" y="200"/>
                  <a:pt x="288" y="104"/>
                </a:cubicBezTo>
                <a:cubicBezTo>
                  <a:pt x="320" y="8"/>
                  <a:pt x="344" y="0"/>
                  <a:pt x="384" y="104"/>
                </a:cubicBezTo>
                <a:cubicBezTo>
                  <a:pt x="424" y="208"/>
                  <a:pt x="456" y="584"/>
                  <a:pt x="528" y="728"/>
                </a:cubicBezTo>
                <a:cubicBezTo>
                  <a:pt x="600" y="872"/>
                  <a:pt x="776" y="936"/>
                  <a:pt x="816" y="968"/>
                </a:cubicBezTo>
              </a:path>
            </a:pathLst>
          </a:custGeom>
          <a:noFill/>
          <a:ln w="1260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4330800"/>
            <a:ext cx="2286000" cy="927000"/>
          </a:xfrm>
          <a:custGeom>
            <a:avLst/>
            <a:gdLst/>
            <a:ahLst/>
            <a:rect l="l" t="t" r="r" b="b"/>
            <a:pathLst>
              <a:path w="1440" h="584">
                <a:moveTo>
                  <a:pt x="0" y="584"/>
                </a:moveTo>
                <a:cubicBezTo>
                  <a:pt x="68" y="480"/>
                  <a:pt x="136" y="376"/>
                  <a:pt x="192" y="296"/>
                </a:cubicBezTo>
                <a:cubicBezTo>
                  <a:pt x="248" y="216"/>
                  <a:pt x="272" y="152"/>
                  <a:pt x="336" y="104"/>
                </a:cubicBezTo>
                <a:cubicBezTo>
                  <a:pt x="400" y="56"/>
                  <a:pt x="488" y="0"/>
                  <a:pt x="576" y="8"/>
                </a:cubicBezTo>
                <a:cubicBezTo>
                  <a:pt x="664" y="16"/>
                  <a:pt x="776" y="88"/>
                  <a:pt x="864" y="152"/>
                </a:cubicBezTo>
                <a:cubicBezTo>
                  <a:pt x="952" y="216"/>
                  <a:pt x="1040" y="336"/>
                  <a:pt x="1104" y="392"/>
                </a:cubicBezTo>
                <a:cubicBezTo>
                  <a:pt x="1168" y="448"/>
                  <a:pt x="1208" y="464"/>
                  <a:pt x="1248" y="488"/>
                </a:cubicBezTo>
                <a:cubicBezTo>
                  <a:pt x="1288" y="512"/>
                  <a:pt x="1312" y="520"/>
                  <a:pt x="1344" y="536"/>
                </a:cubicBezTo>
                <a:cubicBezTo>
                  <a:pt x="1376" y="552"/>
                  <a:pt x="1424" y="576"/>
                  <a:pt x="1440" y="584"/>
                </a:cubicBezTo>
              </a:path>
            </a:pathLst>
          </a:custGeom>
          <a:noFill/>
          <a:ln w="1260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6680" y="5713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聚物的分子量分布曲线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124080"/>
            <a:ext cx="35812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以被分离的各级分的重量分率对平均分子量作图，得到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分子量重量分率分布曲线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可通过曲线形状，直观判断分子量分布的宽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990720"/>
            <a:ext cx="3353040" cy="1956600"/>
          </a:xfrm>
          <a:prstGeom prst="rect">
            <a:avLst/>
          </a:prstGeom>
          <a:solidFill>
            <a:srgbClr val="ffe7fe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分级的实验方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逐步沉淀分级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逐步溶解分级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GPC(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凝胶渗透色谱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914400"/>
            <a:ext cx="8001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分布是影响聚合物性能的因素之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过高的部分使聚合物强度增加，但加工成型时塑化困难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低分子量部分使聚合物强度降低，但易于加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不同用途的聚合物应有其合适的分子量分布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合成纤维            分子量分布易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塑料薄膜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橡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4648320"/>
            <a:ext cx="381240" cy="1295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52578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83800" y="5334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分子量分布可较宽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7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44197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线形高分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其长链可能比较伸展，也可能卷曲成团，取决于链的柔顺性和外部条件，一般为无规线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适当溶剂可溶解，加热可以熔融，即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可溶可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238560"/>
            <a:ext cx="1892520" cy="977760"/>
          </a:xfrm>
          <a:custGeom>
            <a:avLst/>
            <a:gdLst/>
            <a:ahLst/>
            <a:rect l="l" t="t" r="r" b="b"/>
            <a:pathLst>
              <a:path w="1144" h="568">
                <a:moveTo>
                  <a:pt x="136" y="0"/>
                </a:moveTo>
                <a:cubicBezTo>
                  <a:pt x="68" y="156"/>
                  <a:pt x="0" y="312"/>
                  <a:pt x="88" y="336"/>
                </a:cubicBezTo>
                <a:cubicBezTo>
                  <a:pt x="176" y="360"/>
                  <a:pt x="544" y="112"/>
                  <a:pt x="664" y="144"/>
                </a:cubicBezTo>
                <a:cubicBezTo>
                  <a:pt x="784" y="176"/>
                  <a:pt x="768" y="488"/>
                  <a:pt x="808" y="528"/>
                </a:cubicBezTo>
                <a:cubicBezTo>
                  <a:pt x="848" y="568"/>
                  <a:pt x="856" y="408"/>
                  <a:pt x="904" y="384"/>
                </a:cubicBezTo>
                <a:cubicBezTo>
                  <a:pt x="952" y="360"/>
                  <a:pt x="1056" y="416"/>
                  <a:pt x="1096" y="384"/>
                </a:cubicBezTo>
                <a:cubicBezTo>
                  <a:pt x="1136" y="352"/>
                  <a:pt x="1140" y="272"/>
                  <a:pt x="1144" y="192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3429000"/>
            <a:ext cx="2286000" cy="495360"/>
          </a:xfrm>
          <a:custGeom>
            <a:avLst/>
            <a:gdLst/>
            <a:ahLst/>
            <a:rect l="l" t="t" r="r" b="b"/>
            <a:pathLst>
              <a:path w="1344" h="216">
                <a:moveTo>
                  <a:pt x="0" y="216"/>
                </a:moveTo>
                <a:cubicBezTo>
                  <a:pt x="72" y="148"/>
                  <a:pt x="144" y="80"/>
                  <a:pt x="240" y="72"/>
                </a:cubicBezTo>
                <a:cubicBezTo>
                  <a:pt x="336" y="64"/>
                  <a:pt x="456" y="152"/>
                  <a:pt x="576" y="168"/>
                </a:cubicBezTo>
                <a:cubicBezTo>
                  <a:pt x="696" y="184"/>
                  <a:pt x="864" y="192"/>
                  <a:pt x="960" y="168"/>
                </a:cubicBezTo>
                <a:cubicBezTo>
                  <a:pt x="1056" y="144"/>
                  <a:pt x="1104" y="48"/>
                  <a:pt x="1152" y="24"/>
                </a:cubicBezTo>
                <a:cubicBezTo>
                  <a:pt x="1200" y="0"/>
                  <a:pt x="1216" y="8"/>
                  <a:pt x="1248" y="24"/>
                </a:cubicBezTo>
                <a:cubicBezTo>
                  <a:pt x="1280" y="40"/>
                  <a:pt x="1328" y="104"/>
                  <a:pt x="1344" y="12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3238560"/>
            <a:ext cx="452520" cy="404640"/>
          </a:xfrm>
          <a:custGeom>
            <a:avLst/>
            <a:gdLst/>
            <a:ahLst/>
            <a:rect l="l" t="t" r="r" b="b"/>
            <a:pathLst>
              <a:path w="285" h="255">
                <a:moveTo>
                  <a:pt x="0" y="255"/>
                </a:moveTo>
                <a:cubicBezTo>
                  <a:pt x="5" y="240"/>
                  <a:pt x="2" y="219"/>
                  <a:pt x="15" y="210"/>
                </a:cubicBezTo>
                <a:cubicBezTo>
                  <a:pt x="41" y="192"/>
                  <a:pt x="79" y="198"/>
                  <a:pt x="105" y="180"/>
                </a:cubicBezTo>
                <a:cubicBezTo>
                  <a:pt x="120" y="170"/>
                  <a:pt x="135" y="160"/>
                  <a:pt x="150" y="150"/>
                </a:cubicBezTo>
                <a:cubicBezTo>
                  <a:pt x="160" y="120"/>
                  <a:pt x="154" y="78"/>
                  <a:pt x="180" y="60"/>
                </a:cubicBezTo>
                <a:cubicBezTo>
                  <a:pt x="213" y="38"/>
                  <a:pt x="258" y="27"/>
                  <a:pt x="285" y="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657600"/>
            <a:ext cx="357120" cy="378000"/>
          </a:xfrm>
          <a:custGeom>
            <a:avLst/>
            <a:gdLst/>
            <a:ahLst/>
            <a:rect l="l" t="t" r="r" b="b"/>
            <a:pathLst>
              <a:path w="225" h="238">
                <a:moveTo>
                  <a:pt x="0" y="0"/>
                </a:moveTo>
                <a:cubicBezTo>
                  <a:pt x="17" y="99"/>
                  <a:pt x="8" y="118"/>
                  <a:pt x="105" y="150"/>
                </a:cubicBezTo>
                <a:cubicBezTo>
                  <a:pt x="115" y="165"/>
                  <a:pt x="149" y="184"/>
                  <a:pt x="135" y="195"/>
                </a:cubicBezTo>
                <a:cubicBezTo>
                  <a:pt x="107" y="217"/>
                  <a:pt x="1" y="190"/>
                  <a:pt x="30" y="210"/>
                </a:cubicBezTo>
                <a:cubicBezTo>
                  <a:pt x="72" y="238"/>
                  <a:pt x="130" y="221"/>
                  <a:pt x="180" y="225"/>
                </a:cubicBezTo>
                <a:cubicBezTo>
                  <a:pt x="195" y="226"/>
                  <a:pt x="210" y="225"/>
                  <a:pt x="225" y="225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3390840"/>
            <a:ext cx="547560" cy="428760"/>
          </a:xfrm>
          <a:custGeom>
            <a:avLst/>
            <a:gdLst/>
            <a:ahLst/>
            <a:rect l="l" t="t" r="r" b="b"/>
            <a:pathLst>
              <a:path w="345" h="270">
                <a:moveTo>
                  <a:pt x="0" y="269"/>
                </a:moveTo>
                <a:cubicBezTo>
                  <a:pt x="25" y="264"/>
                  <a:pt x="55" y="270"/>
                  <a:pt x="75" y="254"/>
                </a:cubicBezTo>
                <a:cubicBezTo>
                  <a:pt x="91" y="241"/>
                  <a:pt x="85" y="214"/>
                  <a:pt x="90" y="194"/>
                </a:cubicBezTo>
                <a:cubicBezTo>
                  <a:pt x="100" y="159"/>
                  <a:pt x="102" y="121"/>
                  <a:pt x="120" y="89"/>
                </a:cubicBezTo>
                <a:cubicBezTo>
                  <a:pt x="169" y="0"/>
                  <a:pt x="345" y="129"/>
                  <a:pt x="345" y="14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95720" y="3684600"/>
            <a:ext cx="452520" cy="344520"/>
          </a:xfrm>
          <a:custGeom>
            <a:avLst/>
            <a:gdLst/>
            <a:ahLst/>
            <a:rect l="l" t="t" r="r" b="b"/>
            <a:pathLst>
              <a:path w="285" h="217">
                <a:moveTo>
                  <a:pt x="0" y="7"/>
                </a:moveTo>
                <a:cubicBezTo>
                  <a:pt x="77" y="20"/>
                  <a:pt x="91" y="0"/>
                  <a:pt x="120" y="67"/>
                </a:cubicBezTo>
                <a:cubicBezTo>
                  <a:pt x="128" y="86"/>
                  <a:pt x="121" y="111"/>
                  <a:pt x="135" y="127"/>
                </a:cubicBezTo>
                <a:cubicBezTo>
                  <a:pt x="191" y="191"/>
                  <a:pt x="237" y="169"/>
                  <a:pt x="285" y="217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2781360"/>
            <a:ext cx="2743200" cy="698400"/>
          </a:xfrm>
          <a:custGeom>
            <a:avLst/>
            <a:gdLst/>
            <a:ahLst/>
            <a:rect l="l" t="t" r="r" b="b"/>
            <a:pathLst>
              <a:path w="1728" h="440">
                <a:moveTo>
                  <a:pt x="0" y="440"/>
                </a:moveTo>
                <a:cubicBezTo>
                  <a:pt x="84" y="368"/>
                  <a:pt x="168" y="296"/>
                  <a:pt x="288" y="248"/>
                </a:cubicBezTo>
                <a:cubicBezTo>
                  <a:pt x="408" y="200"/>
                  <a:pt x="608" y="168"/>
                  <a:pt x="720" y="152"/>
                </a:cubicBezTo>
                <a:cubicBezTo>
                  <a:pt x="832" y="136"/>
                  <a:pt x="880" y="168"/>
                  <a:pt x="960" y="152"/>
                </a:cubicBezTo>
                <a:cubicBezTo>
                  <a:pt x="1040" y="136"/>
                  <a:pt x="1128" y="80"/>
                  <a:pt x="1200" y="56"/>
                </a:cubicBezTo>
                <a:cubicBezTo>
                  <a:pt x="1272" y="32"/>
                  <a:pt x="1304" y="0"/>
                  <a:pt x="1392" y="8"/>
                </a:cubicBezTo>
                <a:cubicBezTo>
                  <a:pt x="1480" y="16"/>
                  <a:pt x="1604" y="60"/>
                  <a:pt x="1728" y="10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352680"/>
            <a:ext cx="1981080" cy="495360"/>
          </a:xfrm>
          <a:custGeom>
            <a:avLst/>
            <a:gdLst/>
            <a:ahLst/>
            <a:rect l="l" t="t" r="r" b="b"/>
            <a:pathLst>
              <a:path w="1248" h="312">
                <a:moveTo>
                  <a:pt x="0" y="312"/>
                </a:moveTo>
                <a:cubicBezTo>
                  <a:pt x="116" y="276"/>
                  <a:pt x="232" y="240"/>
                  <a:pt x="336" y="216"/>
                </a:cubicBezTo>
                <a:cubicBezTo>
                  <a:pt x="440" y="192"/>
                  <a:pt x="544" y="176"/>
                  <a:pt x="624" y="168"/>
                </a:cubicBezTo>
                <a:cubicBezTo>
                  <a:pt x="704" y="160"/>
                  <a:pt x="728" y="192"/>
                  <a:pt x="816" y="168"/>
                </a:cubicBezTo>
                <a:cubicBezTo>
                  <a:pt x="904" y="144"/>
                  <a:pt x="1080" y="48"/>
                  <a:pt x="1152" y="24"/>
                </a:cubicBezTo>
                <a:cubicBezTo>
                  <a:pt x="1224" y="0"/>
                  <a:pt x="1236" y="12"/>
                  <a:pt x="1248" y="24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4038480"/>
            <a:ext cx="2590920" cy="254160"/>
          </a:xfrm>
          <a:custGeom>
            <a:avLst/>
            <a:gdLst/>
            <a:ahLst/>
            <a:rect l="l" t="t" r="r" b="b"/>
            <a:pathLst>
              <a:path w="1632" h="160">
                <a:moveTo>
                  <a:pt x="0" y="56"/>
                </a:moveTo>
                <a:cubicBezTo>
                  <a:pt x="128" y="80"/>
                  <a:pt x="256" y="104"/>
                  <a:pt x="384" y="104"/>
                </a:cubicBezTo>
                <a:cubicBezTo>
                  <a:pt x="512" y="104"/>
                  <a:pt x="656" y="48"/>
                  <a:pt x="768" y="56"/>
                </a:cubicBezTo>
                <a:cubicBezTo>
                  <a:pt x="880" y="64"/>
                  <a:pt x="936" y="160"/>
                  <a:pt x="1056" y="152"/>
                </a:cubicBezTo>
                <a:cubicBezTo>
                  <a:pt x="1176" y="144"/>
                  <a:pt x="1392" y="16"/>
                  <a:pt x="1488" y="8"/>
                </a:cubicBezTo>
                <a:cubicBezTo>
                  <a:pt x="1584" y="0"/>
                  <a:pt x="1608" y="52"/>
                  <a:pt x="1632" y="104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3289320"/>
            <a:ext cx="179280" cy="48564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24" y="0"/>
                </a:moveTo>
                <a:cubicBezTo>
                  <a:pt x="0" y="73"/>
                  <a:pt x="14" y="82"/>
                  <a:pt x="84" y="105"/>
                </a:cubicBezTo>
                <a:cubicBezTo>
                  <a:pt x="110" y="183"/>
                  <a:pt x="99" y="134"/>
                  <a:pt x="99" y="255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2822400"/>
            <a:ext cx="433440" cy="657360"/>
          </a:xfrm>
          <a:custGeom>
            <a:avLst/>
            <a:gdLst/>
            <a:ahLst/>
            <a:rect l="l" t="t" r="r" b="b"/>
            <a:pathLst>
              <a:path w="272" h="452">
                <a:moveTo>
                  <a:pt x="272" y="0"/>
                </a:moveTo>
                <a:cubicBezTo>
                  <a:pt x="262" y="15"/>
                  <a:pt x="251" y="29"/>
                  <a:pt x="242" y="45"/>
                </a:cubicBezTo>
                <a:cubicBezTo>
                  <a:pt x="221" y="84"/>
                  <a:pt x="182" y="165"/>
                  <a:pt x="182" y="165"/>
                </a:cubicBezTo>
                <a:cubicBezTo>
                  <a:pt x="187" y="190"/>
                  <a:pt x="197" y="215"/>
                  <a:pt x="197" y="240"/>
                </a:cubicBezTo>
                <a:cubicBezTo>
                  <a:pt x="197" y="316"/>
                  <a:pt x="88" y="316"/>
                  <a:pt x="32" y="330"/>
                </a:cubicBezTo>
                <a:cubicBezTo>
                  <a:pt x="0" y="425"/>
                  <a:pt x="2" y="452"/>
                  <a:pt x="2" y="40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657600"/>
            <a:ext cx="228600" cy="512640"/>
          </a:xfrm>
          <a:custGeom>
            <a:avLst/>
            <a:gdLst/>
            <a:ahLst/>
            <a:rect l="l" t="t" r="r" b="b"/>
            <a:pathLst>
              <a:path w="201" h="309">
                <a:moveTo>
                  <a:pt x="112" y="0"/>
                </a:moveTo>
                <a:cubicBezTo>
                  <a:pt x="58" y="54"/>
                  <a:pt x="63" y="74"/>
                  <a:pt x="22" y="135"/>
                </a:cubicBezTo>
                <a:cubicBezTo>
                  <a:pt x="56" y="271"/>
                  <a:pt x="0" y="127"/>
                  <a:pt x="187" y="210"/>
                </a:cubicBezTo>
                <a:cubicBezTo>
                  <a:pt x="201" y="216"/>
                  <a:pt x="186" y="247"/>
                  <a:pt x="172" y="255"/>
                </a:cubicBezTo>
                <a:cubicBezTo>
                  <a:pt x="77" y="309"/>
                  <a:pt x="82" y="233"/>
                  <a:pt x="82" y="285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3505320"/>
            <a:ext cx="228600" cy="609480"/>
          </a:xfrm>
          <a:custGeom>
            <a:avLst/>
            <a:gdLst/>
            <a:ahLst/>
            <a:rect l="l" t="t" r="r" b="b"/>
            <a:pathLst>
              <a:path w="137" h="360">
                <a:moveTo>
                  <a:pt x="0" y="0"/>
                </a:moveTo>
                <a:cubicBezTo>
                  <a:pt x="5" y="20"/>
                  <a:pt x="4" y="43"/>
                  <a:pt x="15" y="60"/>
                </a:cubicBezTo>
                <a:cubicBezTo>
                  <a:pt x="25" y="75"/>
                  <a:pt x="56" y="72"/>
                  <a:pt x="60" y="90"/>
                </a:cubicBezTo>
                <a:cubicBezTo>
                  <a:pt x="68" y="130"/>
                  <a:pt x="50" y="170"/>
                  <a:pt x="45" y="210"/>
                </a:cubicBezTo>
                <a:cubicBezTo>
                  <a:pt x="55" y="225"/>
                  <a:pt x="61" y="244"/>
                  <a:pt x="75" y="255"/>
                </a:cubicBezTo>
                <a:cubicBezTo>
                  <a:pt x="87" y="265"/>
                  <a:pt x="110" y="258"/>
                  <a:pt x="120" y="270"/>
                </a:cubicBezTo>
                <a:cubicBezTo>
                  <a:pt x="137" y="292"/>
                  <a:pt x="135" y="333"/>
                  <a:pt x="135" y="36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34280" y="3751200"/>
            <a:ext cx="547560" cy="428760"/>
          </a:xfrm>
          <a:custGeom>
            <a:avLst/>
            <a:gdLst/>
            <a:ahLst/>
            <a:rect l="l" t="t" r="r" b="b"/>
            <a:pathLst>
              <a:path w="345" h="270">
                <a:moveTo>
                  <a:pt x="315" y="0"/>
                </a:moveTo>
                <a:cubicBezTo>
                  <a:pt x="325" y="15"/>
                  <a:pt x="345" y="27"/>
                  <a:pt x="345" y="45"/>
                </a:cubicBezTo>
                <a:cubicBezTo>
                  <a:pt x="345" y="239"/>
                  <a:pt x="216" y="199"/>
                  <a:pt x="60" y="210"/>
                </a:cubicBezTo>
                <a:cubicBezTo>
                  <a:pt x="6" y="246"/>
                  <a:pt x="23" y="224"/>
                  <a:pt x="0" y="27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520640"/>
            <a:ext cx="57909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a1d0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的链结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a1d0c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链的几何形状大致有三种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线形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支链形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体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0920" y="83736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高分子的结构复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2971800"/>
            <a:ext cx="2286000" cy="4572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72"/>
                </a:moveTo>
                <a:cubicBezTo>
                  <a:pt x="192" y="200"/>
                  <a:pt x="384" y="128"/>
                  <a:pt x="528" y="128"/>
                </a:cubicBezTo>
                <a:cubicBezTo>
                  <a:pt x="672" y="128"/>
                  <a:pt x="744" y="288"/>
                  <a:pt x="864" y="272"/>
                </a:cubicBezTo>
                <a:cubicBezTo>
                  <a:pt x="984" y="256"/>
                  <a:pt x="1152" y="64"/>
                  <a:pt x="1248" y="32"/>
                </a:cubicBezTo>
                <a:cubicBezTo>
                  <a:pt x="1344" y="0"/>
                  <a:pt x="1408" y="72"/>
                  <a:pt x="1440" y="8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48720" y="33526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0" y="0"/>
                </a:moveTo>
                <a:cubicBezTo>
                  <a:pt x="20" y="60"/>
                  <a:pt x="40" y="120"/>
                  <a:pt x="48" y="144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762120"/>
            <a:ext cx="83818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支链高分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线形高分子上带有侧枝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侧枝的长短和数量可不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上的支链，有的是聚合中自然形成的；有的则是人为的通过反应接枝上去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可溶解在适当溶剂中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加热可以熔融，即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可溶可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体形高分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可看成是线形或支链形大分子间以化学键交联而成，许多大分子键合成一个整体，已无单个大分子可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交联程度浅的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受热可软化，适当溶剂可溶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交联程度深的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既不溶解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又不熔融，即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不溶不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6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1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序列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具有取代基的乙烯基单体可能存在头－尾或头－头或尾－尾连接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837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a50021"/>
              </a:buClr>
              <a:buSzPct val="70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分子链的微结构复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64556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在高分子链中，结构单元的化学组成相同时，连接方式和空间排列也会不同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8153280" cy="777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671120" y="5409360"/>
            <a:ext cx="11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头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尾结构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33800" y="548532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头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头、尾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</a:t>
            </a: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尾结构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81760" y="396144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有取代基的碳原子为头，无取代基的碳原子为尾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94040" y="6095520"/>
            <a:ext cx="3841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氯乙烯分子中的头－头结构多达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6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％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1091160"/>
            <a:ext cx="2568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立体异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当高分子链中含有不对称碳原子时，则会形成立体异构体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24562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全同立构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Isotactic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66440" y="38088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间同立构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</a:rPr>
              <a:t>Syndiotactic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61711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5b5249"/>
                </a:solidFill>
                <a:latin typeface="Times New Roman"/>
              </a:rPr>
              <a:t>高分子链的立构规整性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533304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无规立构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</a:rPr>
              <a:t>Atactic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1095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连有四个不相同的原子或基团的碳原子称为不对称碳原子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3954600"/>
            <a:ext cx="25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高分子链上有取代基的碳原子可以看成是不对称碳原子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将锯齿形碳链排在一个平面上，取代基在空间有不同的排列方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16080" cy="1295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4257720" cy="3616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00"/>
                            </p:stCondLst>
                            <p:childTnLst>
                              <p:par>
                                <p:cTn id="1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顺反异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大分子链中存在双键时，会存在顺、反异构体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48765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分子链中的结构差异，对聚合物的性能影响很大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顺式聚丁二烯是性能很好的橡胶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反式聚丁二烯则是塑料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3440" y="419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顺式（天然橡胶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16840" y="419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反式（古塔波胶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467480" cy="1020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9a1d0c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高分子的聚集态结构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高分子的聚集态结构，是指高聚物材料整体的内部结构，即高分子链与链之间的排列和堆砌结构。分为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225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非晶态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高聚物可以是完全的非晶态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非晶态高聚物的分子链处于无规线团状态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这种缠结、混杂的状态存在着一定程度的有序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非晶态高分子没有熔点，在比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温度曲线上有一转折点，此点对应的温度称为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玻璃化转变温度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用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表示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6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990720"/>
            <a:ext cx="6248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1.1  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高分子的基本概念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1828800"/>
            <a:ext cx="2133720" cy="1800360"/>
          </a:xfrm>
          <a:prstGeom prst="rect">
            <a:avLst/>
          </a:prstGeom>
          <a:solidFill>
            <a:srgbClr val="ffe7fe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高分子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也叫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高分子化合物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是指分子量很高并由共价键连接的一类化合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666880"/>
            <a:ext cx="563868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高分子化合物、大分子化合物、高分子、大分子、高聚物、聚合物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这些术语一般可以通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Arial"/>
                <a:ea typeface="楷体_GB2312"/>
              </a:rPr>
              <a:t>Macromolecules,  High Polymer, Polym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257800"/>
            <a:ext cx="79246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高常用的高分子的分子量一般高达几万、几十万，甚至上百万，范围在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 baseline="30000">
                <a:solidFill>
                  <a:srgbClr val="5b5249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 baseline="30000">
                <a:solidFill>
                  <a:srgbClr val="5b5249"/>
                </a:solidFill>
                <a:latin typeface="Times New Roman"/>
                <a:ea typeface="楷体_GB2312"/>
              </a:rPr>
              <a:t>6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什么是高分子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66680" y="914400"/>
            <a:ext cx="21337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1905120"/>
            <a:ext cx="0" cy="99036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8600" y="2970720"/>
            <a:ext cx="8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温 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3600" y="757800"/>
            <a:ext cx="48528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比 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86200" y="3351960"/>
            <a:ext cx="236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</a:rPr>
              <a:t>非晶态高聚物的温度比容曲线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676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将一非态晶高聚物试样，施一恒定外力，记录试样的形变随温度的变化，可得到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温度形变曲线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或</a:t>
            </a:r>
            <a:r>
              <a:rPr b="1" lang="zh-CN" sz="28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热机械曲线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1143000"/>
            <a:ext cx="1752840" cy="1752480"/>
          </a:xfrm>
          <a:custGeom>
            <a:avLst/>
            <a:gdLst/>
            <a:ahLst/>
            <a:rect l="l" t="t" r="r" b="b"/>
            <a:pathLst>
              <a:path w="1104" h="1104">
                <a:moveTo>
                  <a:pt x="0" y="1104"/>
                </a:moveTo>
                <a:cubicBezTo>
                  <a:pt x="316" y="932"/>
                  <a:pt x="632" y="760"/>
                  <a:pt x="816" y="576"/>
                </a:cubicBezTo>
                <a:cubicBezTo>
                  <a:pt x="1000" y="392"/>
                  <a:pt x="1056" y="96"/>
                  <a:pt x="1104" y="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3429000"/>
            <a:ext cx="0" cy="1600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0080" y="5029200"/>
            <a:ext cx="29718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3809880"/>
            <a:ext cx="213372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cubicBezTo>
                  <a:pt x="168" y="716"/>
                  <a:pt x="336" y="712"/>
                  <a:pt x="432" y="672"/>
                </a:cubicBezTo>
                <a:cubicBezTo>
                  <a:pt x="528" y="632"/>
                  <a:pt x="536" y="520"/>
                  <a:pt x="576" y="480"/>
                </a:cubicBezTo>
                <a:cubicBezTo>
                  <a:pt x="616" y="440"/>
                  <a:pt x="584" y="448"/>
                  <a:pt x="672" y="432"/>
                </a:cubicBezTo>
                <a:cubicBezTo>
                  <a:pt x="760" y="416"/>
                  <a:pt x="1016" y="416"/>
                  <a:pt x="1104" y="384"/>
                </a:cubicBezTo>
                <a:cubicBezTo>
                  <a:pt x="1192" y="352"/>
                  <a:pt x="1176" y="304"/>
                  <a:pt x="1200" y="240"/>
                </a:cubicBezTo>
                <a:cubicBezTo>
                  <a:pt x="1224" y="176"/>
                  <a:pt x="1236" y="88"/>
                  <a:pt x="1248" y="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581280"/>
            <a:ext cx="0" cy="144792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3581280"/>
            <a:ext cx="0" cy="144792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3640" y="5028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Tg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5009760"/>
            <a:ext cx="37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1800" spc="-1" strike="noStrike" baseline="-25000">
                <a:solidFill>
                  <a:srgbClr val="5b524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48640" y="5180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温 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26080" y="3505320"/>
            <a:ext cx="8510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形 变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91800" y="3657240"/>
            <a:ext cx="6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玻 璃 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358020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高 弹 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358020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粘 流 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58200" y="5790240"/>
            <a:ext cx="236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</a:rPr>
              <a:t>非晶态高聚物的温度形变曲线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51480" y="3886200"/>
            <a:ext cx="729360" cy="18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玻璃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高弹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粘流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4191120"/>
            <a:ext cx="297180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玻璃化转变温度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2400" spc="-1" strike="noStrike" baseline="-25000">
                <a:solidFill>
                  <a:srgbClr val="5b5249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粘流温度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2400" spc="-1" strike="noStrike" baseline="-25000">
                <a:solidFill>
                  <a:srgbClr val="5b524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962520"/>
            <a:ext cx="304920" cy="1676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791320"/>
            <a:ext cx="411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T</a:t>
            </a:r>
            <a:r>
              <a:rPr b="1" lang="zh-CN" sz="24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g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是非晶态高聚物的主要热转变温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0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6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晶态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高聚物可以高度结晶，但不能达到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％，即结晶高聚物可处于晶态和非晶态两相共存的状态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结晶熔融温度，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T</a:t>
            </a:r>
            <a:r>
              <a:rPr b="1" lang="zh-CN" sz="2800" spc="-1" strike="noStrike" baseline="-25000">
                <a:solidFill>
                  <a:srgbClr val="175fff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是结晶高聚物的主要热转变温度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液晶态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取向态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720" y="5866920"/>
            <a:ext cx="35049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33520" y="91440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370080" indent="-370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1.4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5b5249"/>
                </a:solidFill>
                <a:latin typeface="隶书"/>
                <a:ea typeface="隶书"/>
              </a:rPr>
              <a:t>高分子化合物的命名和分类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828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命名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2514600"/>
            <a:ext cx="8305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以单体名称为基础，在前面加“</a:t>
            </a:r>
            <a:r>
              <a:rPr b="1" lang="zh-CN" sz="26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聚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字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乙烯     丙烯     氯乙烯      甲基丙烯酸甲酯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聚乙烯   聚丙烯   聚氯乙烯    聚甲基丙烯酸甲酯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取单体简名，在后面加“</a:t>
            </a:r>
            <a:r>
              <a:rPr b="1" lang="zh-CN" sz="26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树脂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 、“</a:t>
            </a:r>
            <a:r>
              <a:rPr b="1" lang="zh-CN" sz="26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橡胶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二字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如  苯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酚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甲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醛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     酚醛树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尿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素     甲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醛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     脲醛树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甘油     邻苯二甲酸酐    醇酸树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丁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二烯   </a:t>
            </a:r>
            <a:r>
              <a:rPr b="1" lang="zh-CN" sz="26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苯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乙烯          丁苯橡胶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3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880" y="2666880"/>
            <a:ext cx="8763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商品名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合成纤维最普遍，我国以“纶”作为合成纤维的后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涤纶     聚对苯二甲酸乙二醇酯（聚酯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丙纶     聚丙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锦纶     聚酰胺（尼龙），后面加数字区别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2284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聚酰胺       聚酯        聚氨酯     聚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837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9a1d0c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宋体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  <a:ea typeface="楷体_GB2312"/>
              </a:rPr>
              <a:t>以高分子链的结构特征命名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533304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第一个数字表示二元胺的碳原子数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第二个数字表示二元酸的碳原子数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只附一个数字表示内酰胺或氨基酸的碳原子数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410080"/>
            <a:ext cx="304560" cy="99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858000" cy="822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990720" y="5713920"/>
            <a:ext cx="14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数字含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00"/>
                            </p:stCondLst>
                            <p:childTnLst>
                              <p:par>
                                <p:cTn id="17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724280" y="5181480"/>
            <a:ext cx="4114800" cy="129564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IUPAC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命名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命名程序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确定重复单元结构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排出次级单元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subunit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的次序，两个原则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对乙烯基聚合物，先写有取代基的部分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连接元素最少的次级单元写在前面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给重复单元命名，在前面加“ 聚”字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例子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209680" cy="1265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976640" y="5334120"/>
            <a:ext cx="367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(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－苯基乙烯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oly(1-phenylethylen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500"/>
                            </p:stCondLst>
                            <p:childTnLst>
                              <p:par>
                                <p:cTn id="17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047760" y="83808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聚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[1-(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甲氧基羰基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)-1-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甲基乙烯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Poly[1-(methoxycarbonyl)-1-methyl ethylene ]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00040" y="32000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聚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亚胺基六次甲基亚胺基己二酰）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Poly(iminohexamethylene imino  adipoyl)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724640" cy="465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029200" y="5029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聚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氧羰基氧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1,4-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苯撑－异丙叉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1,4-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苯撑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6019920"/>
            <a:ext cx="85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oly(oxycarbonyloxy-1,4-phenylene-isopropylidene-1,4-phenylen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4191120" cy="12528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133360" cy="155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500"/>
                            </p:stCondLst>
                            <p:childTnLst>
                              <p:par>
                                <p:cTn id="1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9480" y="4572000"/>
            <a:ext cx="4191120" cy="1828800"/>
          </a:xfrm>
          <a:prstGeom prst="wedgeRectCallout">
            <a:avLst>
              <a:gd name="adj1" fmla="val -48407"/>
              <a:gd name="adj2" fmla="val -46268"/>
            </a:avLst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4343400"/>
            <a:ext cx="3733920" cy="2286000"/>
          </a:xfrm>
          <a:prstGeom prst="horizontalScroll">
            <a:avLst>
              <a:gd name="adj" fmla="val 12500"/>
            </a:avLst>
          </a:prstGeom>
          <a:solidFill>
            <a:srgbClr val="dafee2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2520" y="3170160"/>
            <a:ext cx="3962160" cy="1143000"/>
          </a:xfrm>
          <a:prstGeom prst="roundRect">
            <a:avLst>
              <a:gd name="adj" fmla="val 16667"/>
            </a:avLst>
          </a:prstGeom>
          <a:solidFill>
            <a:srgbClr val="fbfeda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06800" indent="-406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分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根据材料的性能和用途分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457200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2200" spc="-1" strike="noStrike">
                <a:solidFill>
                  <a:srgbClr val="175fff"/>
                </a:solidFill>
                <a:latin typeface="Times New Roman"/>
                <a:ea typeface="文鼎细圆简"/>
              </a:rPr>
              <a:t>功能高分子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幼圆"/>
              </a:rPr>
              <a:t>是指在高分子主链和侧枝上带有反应性功能基团，并具有可逆或不可逆的物理功能或化学活性的一类高分子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981080"/>
            <a:ext cx="1981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塑料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橡胶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纤维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涂料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胶粘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功能高分子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213372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21337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83640" y="2054160"/>
            <a:ext cx="2192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产量最大，与国民经济、人民生活关系密切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故称为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190bd5"/>
                </a:solidFill>
                <a:latin typeface="楷体_GB2312"/>
                <a:ea typeface="楷体_GB2312"/>
              </a:rPr>
              <a:t>三大合成材料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335160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90bd5"/>
                </a:solidFill>
                <a:latin typeface="Times New Roman"/>
                <a:ea typeface="文鼎细圆简"/>
              </a:rPr>
              <a:t>涂料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幼圆"/>
              </a:rPr>
              <a:t>是涂布于物体表面能结成坚韧保护膜的涂装材料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5302080"/>
            <a:ext cx="335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90bd5"/>
                </a:solidFill>
                <a:latin typeface="Times New Roman"/>
                <a:ea typeface="文鼎细圆简"/>
              </a:rPr>
              <a:t>胶粘剂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幼圆"/>
              </a:rPr>
              <a:t>是指具有良好的粘合性能，可将两种相同或不相同的物体粘接在一起的连接材料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05740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500"/>
                            </p:stCondLst>
                            <p:childTnLst>
                              <p:par>
                                <p:cTn id="19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500"/>
                            </p:stCondLst>
                            <p:childTnLst>
                              <p:par>
                                <p:cTn id="1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57200" y="10666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通常所说的塑料、橡胶，正是按照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和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在室温之上或室温之下划分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52578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大部分纤维是晶态高聚物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T</a:t>
            </a:r>
            <a:r>
              <a:rPr b="1" lang="zh-CN" sz="24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应高于室温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5b5249"/>
                </a:solidFill>
                <a:latin typeface="宋体"/>
                <a:ea typeface="楷体_GB2312"/>
              </a:rPr>
              <a:t>℃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也有非晶态高聚物    分子排列要有一定规则和取向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9640" y="263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塑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37280" y="2434680"/>
            <a:ext cx="50817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晶态高聚物  处于部分结晶态 ，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Tm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是使用的上限温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非晶态高聚物  处于玻璃态，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Tg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是使用的上限温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49760" y="3677040"/>
            <a:ext cx="712980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橡胶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只能是非晶态高聚物，处于高弹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Tg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是使用的下限温度，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Tg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应低于室温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70℃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 baseline="-25000">
                <a:solidFill>
                  <a:srgbClr val="5b5249"/>
                </a:solidFill>
                <a:latin typeface="楷体_GB2312"/>
                <a:ea typeface="楷体_GB2312"/>
              </a:rPr>
              <a:t>f  </a:t>
            </a: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是使用的上限温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9640" y="5379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纤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52578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514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940" dur="indefinite" restart="never" nodeType="tmRoot">
          <p:childTnLst>
            <p:seq>
              <p:cTn id="1941" dur="indefinite" nodeType="mainSeq">
                <p:childTnLst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4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8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7200" y="838080"/>
            <a:ext cx="5486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根据高分子的主链结构分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1447920"/>
            <a:ext cx="80769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碳链聚合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大分子主链完全由碳原子组成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绝大部分烯类、二烯类聚合物属于这一类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如：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E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P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S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VC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杂链聚合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大分子主链中除碳原子外，还有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O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N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等杂原子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如：聚酯、聚酰胺、聚氨酯、聚醚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元素有机聚合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大分子主链中没有碳原子，主要由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i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B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Al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O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N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P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等原子组成，侧基则由有机基团组成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如：硅橡胶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1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1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6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1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3520" y="9144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1.5   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聚合反应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1595520"/>
            <a:ext cx="78483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由低分子单体合成聚合物的反应称为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聚合反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按反应机理分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3048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连锁聚合反应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Chain Polymerizatio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也称 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链式 反应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，反应需要活性中心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反应中一旦形成单体活性中心，就能很快传递下去，瞬间形成高分子。平均每个大分子的生成时间很短（零点几秒到几秒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连锁聚合反应的特征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8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8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8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3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5181480"/>
            <a:ext cx="8153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75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合成聚合物的起始原料称为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单体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onomer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75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在大分子链中出现的以单体结构为基础的原子团称为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结构单元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tructure unit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9710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42086"/>
                </a:solidFill>
                <a:latin typeface="Times New Roman"/>
                <a:ea typeface="楷体_GB2312"/>
              </a:rPr>
              <a:t>聚合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447920"/>
            <a:ext cx="77724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一个大分子往往是由许多相同的、简单的结构单元通过共价键重复连接而成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例如：聚苯乙烯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3080" y="838080"/>
            <a:ext cx="11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由一种结构单元组成的高分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7010280" cy="1139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10080" y="4086360"/>
            <a:ext cx="1752840" cy="1042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94560" y="4191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缩写成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038480"/>
            <a:ext cx="6095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自由基聚合：活性中心为自由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阳离子聚合：活性中心为阳离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阴离子聚合：活性中心为阴离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配位离子聚合：活性中心为配位离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4191120"/>
            <a:ext cx="304920" cy="2209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聚合过程由链引发、链增长和链终止几步基元反应组成，各步反应速率和活化能差别很大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反应体系中只存在单体、聚合物和微量引发剂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进行连锁聚合反应的单体主要是烯类、二烯类化合物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根据活性中心不同，连锁聚合反应又分为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109" dur="indefinite" restart="never" nodeType="tmRoot">
          <p:childTnLst>
            <p:seq>
              <p:cTn id="2110" dur="indefinite" nodeType="mainSeq">
                <p:childTnLst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14400" y="5334120"/>
            <a:ext cx="7924680" cy="121896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91440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逐步聚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Step Polymerizatio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在低分子转变成聚合物的过程中反应是逐步进行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反应早期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单体很快转变成二聚体、三聚体、四聚体等中间产物，以后反应在这些低聚体之间进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合体系由单体和分子量递增的中间产物所组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大部分的缩聚反应（反应中有低分子副产物生成）都属于逐步聚合，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单体通常是含有官能团的化合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5486400"/>
            <a:ext cx="76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幼圆"/>
              </a:rPr>
              <a:t>两种聚合机理的区别：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幼圆"/>
              </a:rPr>
              <a:t>主要反映在平均每一个分子链增长所需要的时间上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165" dur="indefinite" restart="never" nodeType="tmRoot">
          <p:childTnLst>
            <p:seq>
              <p:cTn id="2166" dur="indefinite" nodeType="mainSeq">
                <p:childTnLst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2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76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加聚反应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ddition Polymerization)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单体加成而聚合起来的反应称为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加聚反应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反应产物称为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加聚物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其特征是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76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加聚反应往往是烯类单体</a:t>
            </a:r>
            <a:r>
              <a:rPr b="1" lang="zh-CN" sz="3200" spc="-1" strike="noStrike">
                <a:solidFill>
                  <a:srgbClr val="5b5249"/>
                </a:solidFill>
                <a:latin typeface="Symbol"/>
                <a:ea typeface="Symbol"/>
              </a:rPr>
              <a:t>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键加成的聚合反应，无官能团结构特征，多是碳链聚合物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76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加聚物的元素组成与其单体相同，仅电子结构有所改变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76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加聚物分子量是单体分子量的整数倍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按单体和聚合物在组成和结构上发生的变化分类</a:t>
            </a:r>
            <a:endParaRPr b="1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214" dur="indefinite" restart="never" nodeType="tmRoot">
          <p:childTnLst>
            <p:seq>
              <p:cTn id="2215" dur="indefinite" nodeType="mainSeq">
                <p:childTnLst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缩聚反应（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ondensation Polymerizatio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是缩合反应多次重复结果形成聚合物的过程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兼有缩合出低分子和聚合成高分子的双重含义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反应产物称为</a:t>
            </a:r>
            <a:r>
              <a:rPr b="1" lang="zh-CN" sz="2800" spc="-1" strike="noStrike">
                <a:solidFill>
                  <a:srgbClr val="175fff"/>
                </a:solidFill>
                <a:latin typeface="Times New Roman"/>
              </a:rPr>
              <a:t>缩聚物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其特征是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缩聚反应通常是官能团间的聚合反应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反应中有低分子副产物产生，如水、醇、胺等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缩聚物中往往留有官能团的结构特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如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-OCO- -NHCO-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故大部分缩聚物都是杂链聚合物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a50021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缩聚物的结构单元比其单体少若干原子，故分子量不再是单体分子量的整数倍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252" dur="indefinite" restart="never" nodeType="tmRoot">
          <p:childTnLst>
            <p:seq>
              <p:cTn id="2253" dur="indefinite" nodeType="mainSeq">
                <p:childTnLst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000240"/>
            <a:ext cx="2133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680" y="525744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914400"/>
            <a:ext cx="7467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需要注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缩聚和逐步聚合、加聚和连锁聚合常常出现混淆情况，将它们等同起来是不对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应加以区别，这是两种不同范畴的分类方案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981080"/>
            <a:ext cx="6477120" cy="91440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97180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n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表示重复单元数，也称为链节数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在此等于</a:t>
            </a:r>
            <a:r>
              <a:rPr b="1" lang="zh-CN" sz="26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聚合度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聚合度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Degree of polymerization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聚合度是衡量高分子大小的一个指标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有两种表示法：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20000"/>
              </a:lnSpc>
              <a:spcBef>
                <a:spcPts val="975"/>
              </a:spcBef>
              <a:buClr>
                <a:srgbClr val="fac164"/>
              </a:buClr>
              <a:buSzPct val="75000"/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以大分子链中的结构单元数目表示，记作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20000"/>
              </a:lnSpc>
              <a:spcBef>
                <a:spcPts val="975"/>
              </a:spcBef>
              <a:buClr>
                <a:srgbClr val="fac164"/>
              </a:buClr>
              <a:buSzPct val="75000"/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以大分子链中的重复单元数目表示，记作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133720"/>
            <a:ext cx="62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＝单体单元＝重复单元＝链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772400" y="5410080"/>
                <a:ext cx="6094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772400" y="6019920"/>
                <a:ext cx="609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33520" y="99072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75"/>
              </a:spcBef>
              <a:buClr>
                <a:srgbClr val="a50021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有时也称为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单体单元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onomer unit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 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重复单元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(Repeating unit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链节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(Chain element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）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5562720"/>
            <a:ext cx="6477120" cy="83808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43000" y="990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b5249"/>
                </a:solidFill>
                <a:latin typeface="楷体_GB2312"/>
              </a:rPr>
              <a:t>在这里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</a:rPr>
              <a:t>,</a:t>
            </a:r>
            <a:r>
              <a:rPr b="1" lang="zh-CN" sz="2600" spc="-1" strike="noStrike">
                <a:solidFill>
                  <a:srgbClr val="5b5249"/>
                </a:solidFill>
                <a:latin typeface="楷体_GB2312"/>
              </a:rPr>
              <a:t>两种聚合度相等，都等于 </a:t>
            </a:r>
            <a:r>
              <a:rPr b="1" lang="zh-CN" sz="26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1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另一种情况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90720" y="3048120"/>
                <a:ext cx="46130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15000" y="297180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式中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: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i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  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是高分子的分子量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i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i="1" lang="zh-CN" sz="22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0 </a:t>
            </a:r>
            <a:r>
              <a:rPr b="1" lang="zh-CN" sz="2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是结构单元的分子量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3640" y="2285280"/>
            <a:ext cx="38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由聚合度可计算出高分子的分子量：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90920" y="1447920"/>
                <a:ext cx="26683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n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ba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295280" y="5715000"/>
            <a:ext cx="62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＝重复单元＝链节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单体单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4800600"/>
            <a:ext cx="8001000" cy="623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5477040" cy="74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43000" y="5834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此时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，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两种结构单元构成一个重复结构单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0320" y="465192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 </a:t>
            </a:r>
            <a:r>
              <a:rPr b="1" lang="zh-CN" sz="2000" spc="-1" strike="noStrike">
                <a:solidFill>
                  <a:srgbClr val="cec8ba"/>
                </a:solidFill>
                <a:latin typeface="Times New Roman"/>
                <a:ea typeface="楷体_GB2312"/>
              </a:rPr>
              <a:t>                  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27400" y="5157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5fff"/>
                </a:solidFill>
                <a:latin typeface="Times New Roman"/>
                <a:ea typeface="楷体_GB2312"/>
              </a:rPr>
              <a:t>重复结构单元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618920" y="5373720"/>
            <a:ext cx="11430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5373720"/>
            <a:ext cx="12952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619280" y="4869000"/>
            <a:ext cx="53352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4869000"/>
            <a:ext cx="4572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51280" y="4869000"/>
            <a:ext cx="4572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869000"/>
            <a:ext cx="3808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200400"/>
            <a:ext cx="0" cy="685800"/>
          </a:xfrm>
          <a:prstGeom prst="line">
            <a:avLst/>
          </a:prstGeom>
          <a:ln w="28440">
            <a:solidFill>
              <a:srgbClr val="5b524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447920" y="2666880"/>
            <a:ext cx="6324480" cy="444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5440" y="990720"/>
            <a:ext cx="39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由两种结构单元组成的高分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30520" y="175248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合成尼龙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-66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则具有另一特征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2097000" cy="44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0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600"/>
                            </p:stCondLst>
                            <p:childTnLst>
                              <p:par>
                                <p:cTn id="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1447920"/>
            <a:ext cx="5638680" cy="83808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9120" y="53341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由无规排列的结构单元组成的高分子</a:t>
            </a:r>
            <a:endParaRPr b="1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由一种单体聚合而成的高分子称为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</a:rPr>
              <a:t>均聚物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752480" y="2971800"/>
                <a:ext cx="3276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ba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76520" y="3733920"/>
                <a:ext cx="5410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676520" y="16002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单元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重复单元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单体单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838080"/>
            <a:ext cx="761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单体在形成高分子的过程中要失掉一些原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5146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8440" indent="-38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但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重复单元＝链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648320"/>
            <a:ext cx="6019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注意：</a:t>
            </a:r>
            <a:r>
              <a:rPr b="1" i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M</a:t>
            </a:r>
            <a:r>
              <a:rPr b="1" i="1" lang="zh-CN" sz="2800" spc="-1" strike="noStrike" baseline="-25000">
                <a:solidFill>
                  <a:srgbClr val="5b5249"/>
                </a:solidFill>
                <a:latin typeface="Times New Roman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两种结构单元的平均分子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33720" y="6019920"/>
            <a:ext cx="3504960" cy="533160"/>
          </a:xfrm>
          <a:prstGeom prst="rect">
            <a:avLst/>
          </a:prstGeom>
          <a:solidFill>
            <a:srgbClr val="ffe1ff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3886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x, y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为任意值，故在分子链上结构单元的排列是任意的：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Symbol"/>
                <a:ea typeface="Symbol"/>
              </a:rPr>
              <a:t>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在这种情况下，无法确定它的重复单元，仅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结构单元＝单体单元</a:t>
            </a:r>
            <a:endParaRPr b="1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由两种或两种以上的单体聚合而成的高分子则称为</a:t>
            </a:r>
            <a:r>
              <a:rPr b="1" lang="zh-CN" sz="2800" spc="-1" strike="noStrike">
                <a:solidFill>
                  <a:srgbClr val="190bd5"/>
                </a:solidFill>
                <a:latin typeface="Times New Roman"/>
                <a:ea typeface="楷体_GB2312"/>
              </a:rPr>
              <a:t>共聚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例如：丁苯橡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2468520"/>
            <a:ext cx="670536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教育 高分子 化学</cp:keywords>
  <dc:language>en-US</dc:language>
  <cp:lastModifiedBy/>
  <cp:revision>0</cp:revision>
  <dc:subject/>
  <dc:title/>
</cp:coreProperties>
</file>