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8FF-291B-4C16-9D2A-C0635842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96D1-B3FA-4A05-B8AD-911AE7F9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457-F20C-410D-B6D5-11ED7172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396-72B3-4A57-93BC-A4A2C130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AEC3-FECF-431B-B40E-07C0BB95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406B-8983-47D7-8E1F-C527579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1427-7456-417F-8CAF-42F251FC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E95-6AA4-4A2B-8A89-045358D1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63F-8EBB-4E1F-94AD-54C3E061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993-8D07-40E0-B863-B48985E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1803-D1E4-4CDC-928C-AD4F6A7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B62-F541-40C8-B67C-15BDDCC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0511-7D1D-428C-B342-166D2AE6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A538-0D26-41B2-8743-1CFE032C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1B75-5FEE-4262-90D4-AFD9AA1F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1FD6-ABAF-4E4D-8C1F-2CDB1666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BE93-C321-4AF7-8F99-9481C416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BCE8-0628-4C17-A8EF-34DAD690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7B9-6C8F-47CD-9B16-1F472E8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C90-CC01-40EB-9CAE-C0FA23A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C10-194B-486D-BF68-4BFE061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571-97C5-4807-99F1-422C4562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8D8-A4FC-4FE3-BB97-60EB5EF6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CDC-80C9-4CB7-9EC8-1B9E46D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550A-267E-4C20-814B-762AF3D37A5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D08B-EB6D-4FEF-AB1A-C6D90EA6774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hyperlink" Target="../../Downloads/&#24863;&#35273;&#22120;&#23448;.ppt" TargetMode="External"/><Relationship Id="rId5" Type="http://schemas.openxmlformats.org/officeDocument/2006/relationships/hyperlink" Target="../../Downloads/&#24863;&#35273;&#22120;&#23448;.ppt" TargetMode="External"/><Relationship Id="rId6" Type="http://schemas.openxmlformats.org/officeDocument/2006/relationships/hyperlink" Target="../../Downloads/&#24863;&#35273;&#22120;&#23448;.ppt" TargetMode="External"/><Relationship Id="rId7" Type="http://schemas.openxmlformats.org/officeDocument/2006/relationships/hyperlink" Target="../../Downloads/&#24863;&#35273;&#22120;&#23448;.ppt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hyperlink" Target="../../Downloads/&#24863;&#35273;&#22120;&#23448;.ppt" TargetMode="External"/><Relationship Id="rId4" Type="http://schemas.openxmlformats.org/officeDocument/2006/relationships/hyperlink" Target="../../Downloads/&#24863;&#35273;&#22120;&#23448;.p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../../Downloads/&#24863;&#35273;&#22120;&#23448;.ppt" TargetMode="External"/><Relationship Id="rId2" Type="http://schemas.openxmlformats.org/officeDocument/2006/relationships/hyperlink" Target="../../Downloads/&#24863;&#35273;&#22120;&#23448;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66"/>
                </a:solidFill>
                <a:latin typeface="Times New Roman"/>
              </a:rPr>
              <a:t>感觉器官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380880"/>
            <a:ext cx="85341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 三节    前庭耳蜗器官——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耳是听觉和位觉器官，包括外耳、中耳和内耳三部分。外耳是收集声波部分，中耳是传导声波部分，内耳是听觉和位觉所在部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610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304920"/>
            <a:ext cx="86104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一、外耳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外耳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耳廓、外耳道和鼓膜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耳廓：其大小、厚度、方位因不同品种、不同种类而异，有的垂直，有的倾斜，有的下垂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耳廓呈园筒状，上端较大，下端较少。耳廓以软骨为支架，外复皮肤，皮下组织少，皮肤与软骨紧密连接，被毛少，皮脂腺丰富。耳廓基部附有许多小的耳肌，转动灵活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外耳道：从耳廓基部到鼓膜的一条管道，分外侧软骨管和内侧骨管，内衬皮肤，皮肤内含有皮脂腺和盯或耳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三）鼓膜：为一片园形半透明薄膜，坚韧而具有弹性，位于外耳道底部，作为外耳和中耳的分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二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中耳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鼓室和听小骨以及咽鼓管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鼓室：为颞骨鼓泡内的一个腔，外侧以鼓膜与外耳道隔开，内侧壁为内耳外界。腔内衬有粘膜。内侧壁上有两个孔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前庭窗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又称卵园窗。呈卵园形，被镫骨和环状韧带封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蜗窗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又称园窗。呈园形，被薄膜封闭（第二鼓膜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304920"/>
            <a:ext cx="85341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听小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有三块，从外向内依次为锤骨、砧骨和镫骨，以关节相连成骨链。锤骨柄连于鼓膜，镫骨底连于前庭窗。声波对鼓膜的振动，借听小骨经前庭窗传到内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咽鼓管：又称耳咽管。为一衬有粘膜的软骨管，从鼓室前下壁到咽侧壁。平衡鼓膜内外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三、内耳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耳位于颞骨的骨质内，形态结构复杂，故称迷路，它是由一个弯曲而复杂的骨质空腔——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骨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和套在骨质空腔内的膜质管道——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充满着内淋巴，在膜迷路和骨迷路之间充满着外淋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骨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包括前庭、半规管和耳蜗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前庭是骨迷路的扩大部分，前庭的外侧壁与中耳鼓室相邻，壁上有前庭窗和蜗窗。前庭窗内侧壁有一内耳道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半规管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有三枚，位于前庭后上方，是三个半环形并相互垂直小管，半规管的一端膨大呈壶腹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宋体"/>
                <a:hlinkClick r:id="rId7"/>
              </a:rPr>
              <a:t>耳蜗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位于前庭的前外侧，似蜗壳。由蜗螺旋管环绕蜗轴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04920"/>
            <a:ext cx="853416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曲形成，卷曲圈数为：牛羊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半，猪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，马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圈半。自蜗轴发出一薄的骨性螺旋板伸入螺旋管内，其游离缘与膜性螺旋板相接，将蜗管分为上下两部，上部为前庭阶，通前庭窗，下部为鼓阶，通蜗窗，二阶在蜗顶部以蜗孔相通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膜迷路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位于骨迷路内，形态与骨迷路相似，包括椭圆囊、球囊、膜半规管、蜗管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椭圆囊和球囊均在前庭内，椭圆囊与膜半规管相通，球囊以连合管与蜗管相连，两囊间借椭圆球囊管相连，并延长为内淋巴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椭圆囊、球囊、膜壶腹壁上均有一增厚部分，分别称椭圆囊斑、球囊斑、壶腹嵴，都为位觉感受器。当体位发生改变时，内淋巴流动，刺激感受器，经前庭神经传入脑，引起系列反射动作，借以调节姿势和维持平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蜗管位于耳蜗内，蜗管内有一螺旋形耳蜗管或螺旋器或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氏器，为听觉感受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四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听觉传导径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304920"/>
            <a:ext cx="861048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一节    概     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感觉器官的感受装置称为感受器，感受器能接受体内、外环境的各种刺激，然后将刺激所引起的兴奋转化为神经冲动，通过传入神经到中枢，建立机体与内、外环境之间的联系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一、感受器根据分布和所接受的刺激来源分为三类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外感受器：接受外界环境的刺激。例如：触觉、压觉、痛觉、温觉、味觉、嗅觉、光、声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内感受器：分布于内脏、心脏、血管等器官，接受压力和化学刺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、本体感受器：分布于肌、腱、关节、内耳位觉等器官，接受运动器官所处状态和身体位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本章只讲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视觉器官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——眼和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位听器官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</a:rPr>
              <a:t>（前庭蜗器官——耳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61048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第 二节    视觉器官——眼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视觉器官能感受光的刺激，经视神经传至脑中枢，引起视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一、形态与位置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眼可分为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眼球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为主要视觉器官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辅助装置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眼睑、泪器、眼肌、眼眶主要起保护和运动眼球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一）眼球：位于眼眶内，略呈球形，后端由视神经连于间脑。眼球由眼球壁和折光装置共同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球壁结构：由外向内依次为纤维膜、血管膜、视网膜三层构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纤维膜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最外层，由坚韧的纤维组织构成，具有保护和维持眼球形状作用，分两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角膜：占外膜的前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/5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，无色透明，曲度较大，角膜无血管，感觉神经未梢丰富。感觉灵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巩膜：占外膜后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/5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，白色不透明，厚而坚韧，有保护眼球内容 物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角膜与巩膜交界处，有巩膜静脉窦，是眼房水回流的径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3840120"/>
            <a:ext cx="63360" cy="515880"/>
          </a:xfrm>
          <a:custGeom>
            <a:avLst/>
            <a:gdLst>
              <a:gd name="textAreaLeft" fmla="*/ 40680 w 63360"/>
              <a:gd name="textAreaRight" fmla="*/ 63720 w 63360"/>
              <a:gd name="textAreaTop" fmla="*/ 13320 h 515880"/>
              <a:gd name="textAreaBottom" fmla="*/ 502560 h 51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24000" y="40464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32004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）血管膜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为眼球壁中层，富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血管和色素，具有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养眼内组织和吸收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射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由后向前依次分为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脉络膜、睫状体和虹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920"/>
            <a:ext cx="85341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ff00"/>
                </a:solidFill>
                <a:latin typeface="宋体"/>
              </a:rPr>
              <a:t>脉络膜：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贴于巩膜内面，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后壁有一呈青绿色带金属光泽的三角形区域，称照膜。该区视网膜无色素，反光很强，有助于动物在暗光下对外界感应。（猪无照膜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 睫状体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呈环状，是血管膜中部增厚部分，位于巩膜和角膜交界处内面，睫状体内形成许多放射状排列的皱褶，称睫状突，以睫状小带（呈细致的纤维状）或称睫状体悬韧带将晶状体固定其上。睫状体外有睫状肌，副交感神经支配，可调节晶状体曲度，便于看清不同物离物体。睫状体产生房水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虹膜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为血管膜最前部的环形薄膜，透过角膜既可看到，中央有一横椭园形瞳孔，（猪呈园形），扩大呈园形，牛、羊瞳孔的上下缘形成一些小颗粒———虹膜粒（猪无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虹膜内有色素细胞，其颜色因家畜种类和品种不同而异，兰色或黄褐色或黑色，若无色素细胞时，呈红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瞳孔内含有两种平滑肌纤维，瞳孔括约肌环绕瞳孔周围，受付交感神经支配，收缩时瞳孔缩小、减少强光刺激。瞳孔开大肌呈放射状，伸向虹膜周边，受交感神经支配和付交感神经支配  ，收缩时，瞳孔开大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80880"/>
            <a:ext cx="853416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视网膜：眼球壁最内层，分虹膜部，睫状体部和视部三部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虹膜部和睫状体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分别贴在虹膜和睫状体内面，无感光作用。称为视网膜盲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视部：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贴在脉络膜内面，具有感光作用，活体上为透明而带微红色。由一层色素细胞和三层神经细胞组成。神经感光细胞有两种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视锥细胞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：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强光和有色光敏感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视杆细胞：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弱光敏感，死后视部易从脉络膜上剥离，并呈灰白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视网膜后部稍下方有一卵园形白点，略凹，称视神经乳头或视神经盘，为视网膜上神经纤维汇集处，再穿过络膜和巩膜，形成视神经。乳头处无感光作用，称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生理性盲点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动脉也以此进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在眼球后端视网膜中央区，感光敏锐，相当于人的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黄斑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视锥细胞多，视杆细胞少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80880"/>
            <a:ext cx="8534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折光装置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包括：角膜、眼房水、晶状体、玻璃体等，其中无血管，透明，具有折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眼房与房水：角膜与晶状体之间的空隙为眼房，被虹膜分成前、后两房，经瞳孔相连。房水充满于眼房中，具有折光  、维持眼内压、营养角膜和晶状体等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房水由睫状体产生，由后房流向前房，入巩膜静脉窦。若房水回流受阻，则眼内压升高——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青光眼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晶状体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位于虹膜后方，呈双凸透镜状，无色透明，有弹性，以捷状小带连于睫状突上。晶状体凸度由睫状肌调节，收缩时，小带放松，凸度增加，便于观近物。反之则观远物。若晶状体浑浊，光线透不过——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白内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）玻璃体：无色透明胶冻状物，外有一层薄膜，填充于晶体与视网膜之间，对视网膜有支撑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（二）辅助器官： 主要有眼睑、泪器、眼球肌、眼眶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睑：俗称“眼皮”。分上、下眼睑，游离缘上有睫毛。外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304920"/>
            <a:ext cx="85341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为皮肤，内层为睑结膜，并折转复盖于眼球前部成为球结膜，折转处为结膜穹窿。睑结膜与球结膜之间空隙为结膜囊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正常结膜为淡红色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宋体"/>
              </a:rPr>
              <a:t>眼睑内有眼轮匝肌、上眼睑提肌和致密结缔组织构成的睑板。起支架作用。睑板内含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有睑板腺，导管开口于睑缘，分泌脂质润滑睑缘。位于眼内角的半月形结膜褶称第三眼睑或瞬膜，内有一片软骨，轻压眼球，则被推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泪器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包括泪腺和泪道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腺：位于眼球背外侧，有几条或几十条导管，开口于结膜穹窿。泪腺分泌泪水，有湿润和清洁眼球表面作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道：泪水排出的管道，包括泪小管、泪囊、鼻泪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小管：两条，起于上下眼睑近内眼角处两个泪孔，汇入泪囊。猪无下泪孔和下泪管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囊：位于泪囊窝，为鼻泪管上端膨大部。（猪无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鼻泪管：行于额窦和鼻腔背侧，开口于鼻前庭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泪水经泪小管        泪囊          鼻泪管         鼻腔         蒸发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眼球肌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：共有四条直肌、两条斜肌、一块退缩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6019920"/>
            <a:ext cx="5331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60199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6019920"/>
            <a:ext cx="533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60199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080" y="3254400"/>
            <a:ext cx="127080" cy="689040"/>
          </a:xfrm>
          <a:custGeom>
            <a:avLst/>
            <a:gdLst>
              <a:gd name="textAreaLeft" fmla="*/ 81360 w 127080"/>
              <a:gd name="textAreaRight" fmla="*/ 127440 w 127080"/>
              <a:gd name="textAreaTop" fmla="*/ 17640 h 689040"/>
              <a:gd name="textAreaBottom" fmla="*/ 671400 h 68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直肌：上直肌、下直肌、内直肌、外直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斜肌：上斜肌、下斜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退缩肌：眼球退缩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眼球肌使眼球作上、下、内、外、外上、外下等转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、眼眶与眶骨膜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眶由额骨、蝶骨、泪骨、颧骨等围成，为骨性支架。眶内有一园锥形纤维结缔组织囊，称眶骨膜，包围眼球和眼球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猪眶骨缘不完整，由眶韧带填补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二、视觉传导径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光对视网膜刺激，被神经细胞接受，产生神经冲动           视神经         视交叉           视束，再分成两路：间脑外侧膝状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内束          大脑皮层枕叶        中脑四迭体前丘          脑干眼球肌运动核和脊髓颈胸部灰质腹柱运动神经元，完成对光的反射运动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此外，前丘与中脑内的交感神经中枢相联系，由此发出付交感受神经，由第三对脑神经出脑分布于眼球，司理眼球瞳孔括约肌和睫状肌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1911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11480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572000"/>
            <a:ext cx="6098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572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4495680"/>
            <a:ext cx="6094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理 感觉器官</cp:keywords>
  <dc:language>en-US</dc:language>
  <cp:lastModifiedBy/>
  <cp:revision>0</cp:revision>
  <dc:subject/>
  <dc:title/>
</cp:coreProperties>
</file>