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5252-4" descr=""/>
          <p:cNvPicPr/>
          <p:nvPr/>
        </p:nvPicPr>
        <p:blipFill>
          <a:blip r:embed="rId2"/>
          <a:stretch/>
        </p:blipFill>
        <p:spPr>
          <a:xfrm>
            <a:off x="0" y="558720"/>
            <a:ext cx="9144000" cy="279360"/>
          </a:xfrm>
          <a:prstGeom prst="rect">
            <a:avLst/>
          </a:prstGeom>
          <a:ln w="0">
            <a:noFill/>
          </a:ln>
        </p:spPr>
      </p:pic>
      <p:pic>
        <p:nvPicPr>
          <p:cNvPr id="1" name="5252-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52523tif" descr=""/>
          <p:cNvPicPr/>
          <p:nvPr/>
        </p:nvPicPr>
        <p:blipFill>
          <a:blip r:embed="rId4"/>
          <a:stretch/>
        </p:blipFill>
        <p:spPr>
          <a:xfrm>
            <a:off x="3943440" y="1447920"/>
            <a:ext cx="520056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1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1.png"/><Relationship Id="rId3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90512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有效的供应链管理是企业最佳的选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327672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XXX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U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／供应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应用架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2209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应用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32960" y="144792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面的数据信息和集成使企业的决策层不再盲目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04120" y="2438280"/>
            <a:ext cx="7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支持以订单为中心的业务模式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35960" y="3429000"/>
            <a:ext cx="312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效控制企业财务运营风险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89280" y="434340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大的分析决策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89280" y="533412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完善的资金管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40240" y="1619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严格的预算控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40240" y="25336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细的权限管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90320" y="3448080"/>
            <a:ext cx="25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线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40240" y="443880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用的远程管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57680" y="5353200"/>
            <a:ext cx="26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大的查询、统计功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0"/>
            <a:ext cx="22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应用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1981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技术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10000" y="1143000"/>
            <a:ext cx="63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发工具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B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C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QLSERVER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93800" y="2133720"/>
            <a:ext cx="83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CO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件技术，提高了系统性能，增强了开放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124080"/>
            <a:ext cx="79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D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取代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A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技术，提高了数据库性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58040" y="411480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用动态行锁，提高了网络并发性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58040" y="510552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用存贮过程，提高了网络计算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2971800" y="2362320"/>
            <a:ext cx="3276720" cy="2971800"/>
            <a:chOff x="2971800" y="2362320"/>
            <a:chExt cx="3276720" cy="2971800"/>
          </a:xfrm>
        </p:grpSpPr>
        <p:sp>
          <p:nvSpPr>
            <p:cNvPr id="266" name=""/>
            <p:cNvSpPr/>
            <p:nvPr/>
          </p:nvSpPr>
          <p:spPr>
            <a:xfrm>
              <a:off x="2971800" y="2362320"/>
              <a:ext cx="3276720" cy="29718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3638520" y="2708280"/>
              <a:ext cx="1981080" cy="233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8" name=""/>
          <p:cNvGrpSpPr/>
          <p:nvPr/>
        </p:nvGrpSpPr>
        <p:grpSpPr>
          <a:xfrm>
            <a:off x="2895480" y="1676520"/>
            <a:ext cx="3657600" cy="627480"/>
            <a:chOff x="2895480" y="1676520"/>
            <a:chExt cx="3657600" cy="627480"/>
          </a:xfrm>
        </p:grpSpPr>
        <p:sp>
          <p:nvSpPr>
            <p:cNvPr id="269" name=""/>
            <p:cNvSpPr/>
            <p:nvPr/>
          </p:nvSpPr>
          <p:spPr>
            <a:xfrm>
              <a:off x="2895480" y="1676520"/>
              <a:ext cx="3657600" cy="457200"/>
            </a:xfrm>
            <a:custGeom>
              <a:avLst/>
              <a:gdLst>
                <a:gd name="textAreaLeft" fmla="*/ 640080 w 3657600"/>
                <a:gd name="textAreaRight" fmla="*/ 2651760 w 365760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160" y="190512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用户认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815560" y="5486400"/>
            <a:ext cx="3283200" cy="631080"/>
            <a:chOff x="2815560" y="5486400"/>
            <a:chExt cx="3283200" cy="631080"/>
          </a:xfrm>
        </p:grpSpPr>
        <p:sp>
          <p:nvSpPr>
            <p:cNvPr id="272" name=""/>
            <p:cNvSpPr/>
            <p:nvPr/>
          </p:nvSpPr>
          <p:spPr>
            <a:xfrm>
              <a:off x="4190760" y="5486400"/>
              <a:ext cx="129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功能权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5445000">
              <a:off x="4190400" y="4191120"/>
              <a:ext cx="533160" cy="327636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573120 h 3276360"/>
                <a:gd name="textAreaBottom" fmla="*/ 2375280 h 32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145560" y="2590920"/>
            <a:ext cx="1169640" cy="2743200"/>
            <a:chOff x="6145560" y="2590920"/>
            <a:chExt cx="1169640" cy="2743200"/>
          </a:xfrm>
        </p:grpSpPr>
        <p:sp>
          <p:nvSpPr>
            <p:cNvPr id="275" name=""/>
            <p:cNvSpPr/>
            <p:nvPr/>
          </p:nvSpPr>
          <p:spPr>
            <a:xfrm>
              <a:off x="6781680" y="2590920"/>
              <a:ext cx="533520" cy="274320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479880 h 2743200"/>
                <a:gd name="textAreaBottom" fmla="*/ 198900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45560" y="3200400"/>
              <a:ext cx="79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组管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882800" y="2054160"/>
            <a:ext cx="861480" cy="3358440"/>
            <a:chOff x="1882800" y="2054160"/>
            <a:chExt cx="861480" cy="3358440"/>
          </a:xfrm>
        </p:grpSpPr>
        <p:sp>
          <p:nvSpPr>
            <p:cNvPr id="278" name=""/>
            <p:cNvSpPr/>
            <p:nvPr/>
          </p:nvSpPr>
          <p:spPr>
            <a:xfrm>
              <a:off x="1954080" y="3276720"/>
              <a:ext cx="7902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数据权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45600">
              <a:off x="456840" y="3504600"/>
              <a:ext cx="3352680" cy="456840"/>
            </a:xfrm>
            <a:custGeom>
              <a:avLst/>
              <a:gdLst>
                <a:gd name="textAreaLeft" fmla="*/ 586440 w 3352680"/>
                <a:gd name="textAreaRight" fmla="*/ 2430720 w 3352680"/>
                <a:gd name="textAreaTop" fmla="*/ 61200 h 456840"/>
                <a:gd name="textAreaBottom" fmla="*/ 39564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22400" y="10144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领先的安全技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1981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技术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447920" y="1371600"/>
            <a:ext cx="571500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buClr>
                <a:srgbClr val="99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面向现代企业的供应链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buClr>
                <a:srgbClr val="99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U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供应链管理总体介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buClr>
                <a:srgbClr val="99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U8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供应链系统应用解决方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371600" y="1676520"/>
            <a:ext cx="6400800" cy="3992400"/>
          </a:xfrm>
          <a:prstGeom prst="rect">
            <a:avLst/>
          </a:pr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 rot="5400000">
            <a:off x="4229640" y="1322280"/>
            <a:ext cx="522360" cy="412560"/>
          </a:xfrm>
          <a:prstGeom prst="rightArrow">
            <a:avLst>
              <a:gd name="adj1" fmla="val 49287"/>
              <a:gd name="adj2" fmla="val 56513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28800" y="1654200"/>
            <a:ext cx="5486400" cy="457200"/>
          </a:xfrm>
          <a:prstGeom prst="rect">
            <a:avLst/>
          </a:prstGeom>
          <a:gradFill rotWithShape="0">
            <a:gsLst>
              <a:gs pos="0">
                <a:srgbClr val="aec0d7"/>
              </a:gs>
              <a:gs pos="50000">
                <a:srgbClr val="829fc2"/>
              </a:gs>
              <a:gs pos="100000">
                <a:srgbClr val="aec0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企业门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rot="16200000">
            <a:off x="4229640" y="5266440"/>
            <a:ext cx="522360" cy="412560"/>
          </a:xfrm>
          <a:prstGeom prst="rightArrow">
            <a:avLst>
              <a:gd name="adj1" fmla="val 49287"/>
              <a:gd name="adj2" fmla="val 56513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52240" y="944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90680" y="5805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三方应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57240" y="3330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供应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3280" y="3406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客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28800" y="4854600"/>
            <a:ext cx="5486400" cy="45720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I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企业应用集成工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14560" y="5734080"/>
            <a:ext cx="863640" cy="4316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银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5734080"/>
            <a:ext cx="1081080" cy="4316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其他应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67280" y="5734080"/>
            <a:ext cx="863640" cy="4316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税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4473720"/>
            <a:ext cx="5473800" cy="43308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50000">
                <a:srgbClr val="b2b2b2"/>
              </a:gs>
              <a:gs pos="100000">
                <a:srgbClr val="5252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力资源管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43800" y="3330720"/>
            <a:ext cx="522360" cy="412560"/>
          </a:xfrm>
          <a:prstGeom prst="rightArrow">
            <a:avLst>
              <a:gd name="adj1" fmla="val 49287"/>
              <a:gd name="adj2" fmla="val 56513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913680" y="3406680"/>
            <a:ext cx="522360" cy="412920"/>
          </a:xfrm>
          <a:prstGeom prst="rightArrow">
            <a:avLst>
              <a:gd name="adj1" fmla="val 49287"/>
              <a:gd name="adj2" fmla="val 56464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24480" y="2565360"/>
            <a:ext cx="762120" cy="175572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50000">
                <a:srgbClr val="99ffcc"/>
              </a:gs>
              <a:gs pos="100000">
                <a:srgbClr val="46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购销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2340000"/>
            <a:ext cx="761760" cy="1981080"/>
          </a:xfrm>
          <a:prstGeom prst="rect">
            <a:avLst/>
          </a:prstGeom>
          <a:gradFill rotWithShape="0">
            <a:gsLst>
              <a:gs pos="0">
                <a:srgbClr val="5e7546"/>
              </a:gs>
              <a:gs pos="50000">
                <a:srgbClr val="ccff99"/>
              </a:gs>
              <a:gs pos="100000">
                <a:srgbClr val="5e75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客户关系管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2340000"/>
            <a:ext cx="762120" cy="1981080"/>
          </a:xfrm>
          <a:prstGeom prst="rect">
            <a:avLst/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产制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2416320"/>
            <a:ext cx="761760" cy="198108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网络分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8800" y="4005360"/>
            <a:ext cx="5473800" cy="487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50000">
                <a:srgbClr val="99ffcc"/>
              </a:gs>
              <a:gs pos="100000">
                <a:srgbClr val="46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财务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111400"/>
            <a:ext cx="5483160" cy="447480"/>
          </a:xfrm>
          <a:prstGeom prst="rect">
            <a:avLst/>
          </a:prstGeom>
          <a:gradFill rotWithShape="0">
            <a:gsLst>
              <a:gs pos="0">
                <a:srgbClr val="febddd"/>
              </a:gs>
              <a:gs pos="50000">
                <a:srgbClr val="ff99cc"/>
              </a:gs>
              <a:gs pos="100000">
                <a:srgbClr val="feb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商业智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76320" y="0"/>
            <a:ext cx="6019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成本解决方案—多数据源归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3714480" cy="36399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097160" y="1612800"/>
            <a:ext cx="49532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861080" y="411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61080" y="441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0"/>
            <a:ext cx="3581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成本分析与预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1293480"/>
            <a:ext cx="1871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批次成本分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部门利润分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成本差异分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成本构成分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成本预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部门成本预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产品成本预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971800" y="914400"/>
            <a:ext cx="5049720" cy="30322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48006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533520" y="1066680"/>
            <a:ext cx="8324280" cy="4952880"/>
            <a:chOff x="533520" y="1066680"/>
            <a:chExt cx="8324280" cy="4952880"/>
          </a:xfrm>
        </p:grpSpPr>
        <p:sp>
          <p:nvSpPr>
            <p:cNvPr id="315" name=""/>
            <p:cNvSpPr/>
            <p:nvPr/>
          </p:nvSpPr>
          <p:spPr>
            <a:xfrm>
              <a:off x="2819160" y="1066680"/>
              <a:ext cx="1447560" cy="324720"/>
            </a:xfrm>
            <a:prstGeom prst="rect">
              <a:avLst/>
            </a:prstGeom>
            <a:gradFill rotWithShape="0">
              <a:gsLst>
                <a:gs pos="0">
                  <a:srgbClr val="2165a8"/>
                </a:gs>
                <a:gs pos="100000">
                  <a:srgbClr val="3399ff"/>
                </a:gs>
              </a:gsLst>
              <a:lin ang="108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ec00"/>
                  </a:solidFill>
                  <a:latin typeface="宋体"/>
                </a:rPr>
                <a:t>核算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24280" y="1066680"/>
              <a:ext cx="1447200" cy="324720"/>
            </a:xfrm>
            <a:prstGeom prst="rect">
              <a:avLst/>
            </a:prstGeom>
            <a:gradFill rotWithShape="0">
              <a:gsLst>
                <a:gs pos="0">
                  <a:srgbClr val="2165a8"/>
                </a:gs>
                <a:gs pos="100000">
                  <a:srgbClr val="3399ff"/>
                </a:gs>
              </a:gsLst>
              <a:lin ang="108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ec00"/>
                  </a:solidFill>
                  <a:latin typeface="宋体"/>
                </a:rPr>
                <a:t>核算什么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57640" y="1066680"/>
              <a:ext cx="1447560" cy="324720"/>
            </a:xfrm>
            <a:prstGeom prst="rect">
              <a:avLst/>
            </a:prstGeom>
            <a:gradFill rotWithShape="0">
              <a:gsLst>
                <a:gs pos="0">
                  <a:srgbClr val="2165a8"/>
                </a:gs>
                <a:gs pos="100000">
                  <a:srgbClr val="3399ff"/>
                </a:gs>
              </a:gsLst>
              <a:lin ang="108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ec00"/>
                  </a:solidFill>
                  <a:latin typeface="宋体"/>
                </a:rPr>
                <a:t>怎样核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33520" y="1553760"/>
              <a:ext cx="1447560" cy="1704600"/>
              <a:chOff x="533520" y="1553760"/>
              <a:chExt cx="1447560" cy="1704600"/>
            </a:xfrm>
          </p:grpSpPr>
          <p:sp>
            <p:nvSpPr>
              <p:cNvPr id="319" name=""/>
              <p:cNvSpPr/>
              <p:nvPr/>
            </p:nvSpPr>
            <p:spPr>
              <a:xfrm>
                <a:off x="533520" y="1553760"/>
                <a:ext cx="1447560" cy="324720"/>
              </a:xfrm>
              <a:prstGeom prst="rect">
                <a:avLst/>
              </a:prstGeom>
              <a:gradFill rotWithShape="0">
                <a:gsLst>
                  <a:gs pos="0">
                    <a:srgbClr val="2165a8"/>
                  </a:gs>
                  <a:gs pos="100000">
                    <a:srgbClr val="3399ff"/>
                  </a:gs>
                </a:gsLst>
                <a:lin ang="10800000"/>
              </a:gra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2ec00"/>
                    </a:solidFill>
                    <a:latin typeface="宋体"/>
                  </a:rPr>
                  <a:t>项目类型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33520" y="2202840"/>
                <a:ext cx="1447560" cy="324720"/>
              </a:xfrm>
              <a:prstGeom prst="rect">
                <a:avLst/>
              </a:prstGeom>
              <a:gradFill rotWithShape="0">
                <a:gsLst>
                  <a:gs pos="0">
                    <a:srgbClr val="2165a8"/>
                  </a:gs>
                  <a:gs pos="100000">
                    <a:srgbClr val="3399ff"/>
                  </a:gs>
                </a:gsLst>
                <a:lin ang="10800000"/>
              </a:gra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2ec00"/>
                    </a:solidFill>
                    <a:latin typeface="宋体"/>
                  </a:rPr>
                  <a:t>项目分类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33520" y="2933640"/>
                <a:ext cx="1447560" cy="324720"/>
              </a:xfrm>
              <a:prstGeom prst="rect">
                <a:avLst/>
              </a:prstGeom>
              <a:gradFill rotWithShape="0">
                <a:gsLst>
                  <a:gs pos="0">
                    <a:srgbClr val="2165a8"/>
                  </a:gs>
                  <a:gs pos="100000">
                    <a:srgbClr val="3399ff"/>
                  </a:gs>
                </a:gsLst>
                <a:lin ang="10800000"/>
              </a:gra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2ec00"/>
                    </a:solidFill>
                    <a:latin typeface="宋体"/>
                  </a:rPr>
                  <a:t>项目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2666880" y="204084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38280" y="2609280"/>
              <a:ext cx="76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2259000" y="1635120"/>
              <a:ext cx="2386080" cy="1974600"/>
              <a:chOff x="2259000" y="1635120"/>
              <a:chExt cx="2386080" cy="1974600"/>
            </a:xfrm>
          </p:grpSpPr>
          <p:sp>
            <p:nvSpPr>
              <p:cNvPr id="325" name=""/>
              <p:cNvSpPr/>
              <p:nvPr/>
            </p:nvSpPr>
            <p:spPr>
              <a:xfrm>
                <a:off x="3382560" y="1635120"/>
                <a:ext cx="50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</a:rPr>
                  <a:t>旅游团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656880" y="187848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666160" y="2040840"/>
                <a:ext cx="175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419000" y="2040840"/>
                <a:ext cx="0" cy="16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544120" y="2240640"/>
                <a:ext cx="50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</a:rPr>
                  <a:t>国内团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144320" y="2203200"/>
                <a:ext cx="50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</a:rPr>
                  <a:t>国外团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832840" y="2457000"/>
                <a:ext cx="0" cy="16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437560" y="260892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9680" y="2608920"/>
                <a:ext cx="0" cy="24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59000" y="2972520"/>
                <a:ext cx="58932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</a:rPr>
                  <a:t>桂林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宋体"/>
                  </a:rPr>
                  <a:t>1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35160" y="2993040"/>
                <a:ext cx="58932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</a:rPr>
                  <a:t>北京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宋体"/>
                  </a:rPr>
                  <a:t>32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533520" y="3746160"/>
              <a:ext cx="1447560" cy="324720"/>
            </a:xfrm>
            <a:prstGeom prst="rect">
              <a:avLst/>
            </a:prstGeom>
            <a:gradFill rotWithShape="0">
              <a:gsLst>
                <a:gs pos="0">
                  <a:srgbClr val="2165a8"/>
                </a:gs>
                <a:gs pos="100000">
                  <a:srgbClr val="3399ff"/>
                </a:gs>
              </a:gsLst>
              <a:lin ang="108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ec00"/>
                  </a:solidFill>
                  <a:latin typeface="宋体"/>
                </a:rPr>
                <a:t>项目要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3042360" y="3389400"/>
              <a:ext cx="2756160" cy="2062800"/>
              <a:chOff x="3042360" y="3389400"/>
              <a:chExt cx="2756160" cy="2062800"/>
            </a:xfrm>
          </p:grpSpPr>
          <p:sp>
            <p:nvSpPr>
              <p:cNvPr id="338" name=""/>
              <p:cNvSpPr/>
              <p:nvPr/>
            </p:nvSpPr>
            <p:spPr>
              <a:xfrm>
                <a:off x="4108680" y="3389400"/>
                <a:ext cx="394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</a:rPr>
                  <a:t>门票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08680" y="3714120"/>
                <a:ext cx="394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</a:rPr>
                  <a:t>住宿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108680" y="4038480"/>
                <a:ext cx="394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</a:rPr>
                  <a:t>饭费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08680" y="4363560"/>
                <a:ext cx="394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</a:rPr>
                  <a:t>车费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08680" y="4688280"/>
                <a:ext cx="394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宋体"/>
                  </a:rPr>
                  <a:t>其他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809160" y="3502440"/>
                <a:ext cx="0" cy="138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809160" y="35024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809160" y="38271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809160" y="41522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809160" y="44766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09160" y="48830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3580560" y="415224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2360" y="4038480"/>
                <a:ext cx="394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0000"/>
                    </a:solidFill>
                    <a:latin typeface="宋体"/>
                  </a:rPr>
                  <a:t>收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952160" y="3502440"/>
                <a:ext cx="0" cy="138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47600" y="350244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47600" y="382716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952160" y="41522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647600" y="447660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647600" y="488304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4647240" y="415224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404320" y="4038480"/>
                <a:ext cx="394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0000"/>
                    </a:solidFill>
                    <a:latin typeface="宋体"/>
                  </a:rPr>
                  <a:t>成本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032720" y="5177160"/>
                <a:ext cx="3942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0000"/>
                    </a:solidFill>
                    <a:latin typeface="宋体"/>
                  </a:rPr>
                  <a:t>利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51960" y="4314600"/>
                <a:ext cx="533160" cy="89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4570920" y="4314600"/>
                <a:ext cx="990360" cy="97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533520" y="5694840"/>
              <a:ext cx="1447560" cy="324720"/>
            </a:xfrm>
            <a:prstGeom prst="rect">
              <a:avLst/>
            </a:prstGeom>
            <a:gradFill rotWithShape="0">
              <a:gsLst>
                <a:gs pos="0">
                  <a:srgbClr val="2165a8"/>
                </a:gs>
                <a:gs pos="100000">
                  <a:srgbClr val="3399ff"/>
                </a:gs>
              </a:gsLst>
              <a:lin ang="108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ec00"/>
                  </a:solidFill>
                  <a:latin typeface="宋体"/>
                </a:rPr>
                <a:t>分配依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56560" y="5662440"/>
              <a:ext cx="607320" cy="275040"/>
            </a:xfrm>
            <a:prstGeom prst="rect">
              <a:avLst/>
            </a:prstGeom>
            <a:noFill/>
            <a:ln w="9360">
              <a:solidFill>
                <a:srgbClr val="109f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09f05"/>
                  </a:solidFill>
                  <a:latin typeface="宋体"/>
                </a:rPr>
                <a:t>单团收入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52880" y="1553760"/>
              <a:ext cx="3904920" cy="45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桂林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1100 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门票收入（营业收入）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1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桂林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1100 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门票成本（营业成本）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5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52880" y="2284560"/>
              <a:ext cx="3885840" cy="45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桂林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1100 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车费收入（营业收入） 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桂林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1100 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车费成本 （营业成本）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62560" y="4720320"/>
              <a:ext cx="609120" cy="649440"/>
            </a:xfrm>
            <a:prstGeom prst="downArrow">
              <a:avLst>
                <a:gd name="adj1" fmla="val 50000"/>
                <a:gd name="adj2" fmla="val 26655"/>
              </a:avLst>
            </a:prstGeom>
            <a:gradFill rotWithShape="0">
              <a:gsLst>
                <a:gs pos="0">
                  <a:srgbClr val="2165a8"/>
                </a:gs>
                <a:gs pos="100000">
                  <a:srgbClr val="3399ff"/>
                </a:gs>
              </a:gsLst>
              <a:lin ang="108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18000" y="5510160"/>
              <a:ext cx="1796040" cy="27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桂林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1100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总利润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5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76960" y="3779640"/>
              <a:ext cx="2050200" cy="81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桂林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1100 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单团收入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1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北京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3210 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单团收入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18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则桂林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1100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分得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其他成本  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1200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95880" y="3015360"/>
              <a:ext cx="2742840" cy="45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导游工资</a:t>
              </a:r>
              <a:r>
                <a:rPr b="0" lang="en-US" sz="1400" spc="-1" strike="noStrike">
                  <a:solidFill>
                    <a:srgbClr val="000000"/>
                  </a:solidFill>
                  <a:latin typeface="宋体"/>
                </a:rPr>
                <a:t>3000</a:t>
              </a: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（营业费用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宋体"/>
                </a:rPr>
                <a:t>在这两个团之间分摊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476960"/>
              <a:ext cx="1447560" cy="324720"/>
            </a:xfrm>
            <a:prstGeom prst="rect">
              <a:avLst/>
            </a:prstGeom>
            <a:gradFill rotWithShape="0">
              <a:gsLst>
                <a:gs pos="0">
                  <a:srgbClr val="2165a8"/>
                </a:gs>
                <a:gs pos="100000">
                  <a:srgbClr val="3399ff"/>
                </a:gs>
              </a:gsLst>
              <a:lin ang="108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ec00"/>
                  </a:solidFill>
                  <a:latin typeface="宋体"/>
                </a:rPr>
                <a:t>会计科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2356560" y="4525920"/>
              <a:ext cx="3426480" cy="1248840"/>
              <a:chOff x="2356560" y="4525920"/>
              <a:chExt cx="3426480" cy="1248840"/>
            </a:xfrm>
          </p:grpSpPr>
          <p:sp>
            <p:nvSpPr>
              <p:cNvPr id="372" name=""/>
              <p:cNvSpPr/>
              <p:nvPr/>
            </p:nvSpPr>
            <p:spPr>
              <a:xfrm>
                <a:off x="2356560" y="4525920"/>
                <a:ext cx="607320" cy="2750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333cc"/>
                    </a:solidFill>
                    <a:latin typeface="宋体"/>
                  </a:rPr>
                  <a:t>营业收入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75720" y="5012640"/>
                <a:ext cx="607320" cy="2750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333cc"/>
                    </a:solidFill>
                    <a:latin typeface="宋体"/>
                  </a:rPr>
                  <a:t>营业成本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175720" y="5499720"/>
                <a:ext cx="607320" cy="2750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333cc"/>
                    </a:solidFill>
                    <a:latin typeface="宋体"/>
                  </a:rPr>
                  <a:t>营业费用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5" name=""/>
          <p:cNvSpPr/>
          <p:nvPr/>
        </p:nvSpPr>
        <p:spPr>
          <a:xfrm>
            <a:off x="380880" y="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旅游业项目管理解决方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1600" y="1447920"/>
            <a:ext cx="571500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buClr>
                <a:srgbClr val="99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面向现代企业的供应链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buClr>
                <a:srgbClr val="99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U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供应链管理总体介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buClr>
                <a:srgbClr val="99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U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供应链系统应用解决方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buClr>
                <a:srgbClr val="99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533520" y="1066680"/>
            <a:ext cx="8293320" cy="4932000"/>
            <a:chOff x="533520" y="1066680"/>
            <a:chExt cx="8293320" cy="4932000"/>
          </a:xfrm>
        </p:grpSpPr>
        <p:sp>
          <p:nvSpPr>
            <p:cNvPr id="377" name=""/>
            <p:cNvSpPr/>
            <p:nvPr/>
          </p:nvSpPr>
          <p:spPr>
            <a:xfrm>
              <a:off x="3810240" y="1066680"/>
              <a:ext cx="1447560" cy="319680"/>
            </a:xfrm>
            <a:prstGeom prst="rect">
              <a:avLst/>
            </a:prstGeom>
            <a:gradFill rotWithShape="0">
              <a:gsLst>
                <a:gs pos="0">
                  <a:srgbClr val="2165a8"/>
                </a:gs>
                <a:gs pos="100000">
                  <a:srgbClr val="3399ff"/>
                </a:gs>
              </a:gsLst>
              <a:lin ang="108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ec00"/>
                  </a:solidFill>
                  <a:latin typeface="宋体"/>
                </a:rPr>
                <a:t>核算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3520" y="1625760"/>
              <a:ext cx="1447920" cy="319320"/>
            </a:xfrm>
            <a:prstGeom prst="rect">
              <a:avLst/>
            </a:prstGeom>
            <a:gradFill rotWithShape="0">
              <a:gsLst>
                <a:gs pos="0">
                  <a:srgbClr val="2165a8"/>
                </a:gs>
                <a:gs pos="100000">
                  <a:srgbClr val="3399ff"/>
                </a:gs>
              </a:gsLst>
              <a:lin ang="108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ec00"/>
                  </a:solidFill>
                  <a:latin typeface="宋体"/>
                </a:rPr>
                <a:t>项目类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3520" y="2345040"/>
              <a:ext cx="1447920" cy="319320"/>
            </a:xfrm>
            <a:prstGeom prst="rect">
              <a:avLst/>
            </a:prstGeom>
            <a:gradFill rotWithShape="0">
              <a:gsLst>
                <a:gs pos="0">
                  <a:srgbClr val="2165a8"/>
                </a:gs>
                <a:gs pos="100000">
                  <a:srgbClr val="3399ff"/>
                </a:gs>
              </a:gsLst>
              <a:lin ang="108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ec00"/>
                  </a:solidFill>
                  <a:latin typeface="宋体"/>
                </a:rPr>
                <a:t>项目阶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3520" y="3303720"/>
              <a:ext cx="1447920" cy="319320"/>
            </a:xfrm>
            <a:prstGeom prst="rect">
              <a:avLst/>
            </a:prstGeom>
            <a:gradFill rotWithShape="0">
              <a:gsLst>
                <a:gs pos="0">
                  <a:srgbClr val="2165a8"/>
                </a:gs>
                <a:gs pos="100000">
                  <a:srgbClr val="3399ff"/>
                </a:gs>
              </a:gsLst>
              <a:lin ang="108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ec00"/>
                  </a:solidFill>
                  <a:latin typeface="宋体"/>
                </a:rPr>
                <a:t>项目分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3520" y="4502160"/>
              <a:ext cx="1447920" cy="319320"/>
            </a:xfrm>
            <a:prstGeom prst="rect">
              <a:avLst/>
            </a:prstGeom>
            <a:gradFill rotWithShape="0">
              <a:gsLst>
                <a:gs pos="0">
                  <a:srgbClr val="2165a8"/>
                </a:gs>
                <a:gs pos="100000">
                  <a:srgbClr val="3399ff"/>
                </a:gs>
              </a:gsLst>
              <a:lin ang="108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ec00"/>
                  </a:solidFill>
                  <a:latin typeface="宋体"/>
                </a:rPr>
                <a:t>项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520" y="5460840"/>
              <a:ext cx="1447920" cy="319320"/>
            </a:xfrm>
            <a:prstGeom prst="rect">
              <a:avLst/>
            </a:prstGeom>
            <a:gradFill rotWithShape="0">
              <a:gsLst>
                <a:gs pos="0">
                  <a:srgbClr val="2165a8"/>
                </a:gs>
                <a:gs pos="100000">
                  <a:srgbClr val="3399ff"/>
                </a:gs>
              </a:gsLst>
              <a:lin ang="10800000"/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2ec00"/>
                  </a:solidFill>
                  <a:latin typeface="宋体"/>
                </a:rPr>
                <a:t>项目路线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63560" y="1625760"/>
              <a:ext cx="455040" cy="326880"/>
            </a:xfrm>
            <a:prstGeom prst="rect">
              <a:avLst/>
            </a:pr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工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4953240" y="1865520"/>
              <a:ext cx="3873600" cy="799200"/>
              <a:chOff x="4953240" y="1865520"/>
              <a:chExt cx="3873600" cy="799200"/>
            </a:xfrm>
          </p:grpSpPr>
          <p:sp>
            <p:nvSpPr>
              <p:cNvPr id="385" name=""/>
              <p:cNvSpPr/>
              <p:nvPr/>
            </p:nvSpPr>
            <p:spPr>
              <a:xfrm>
                <a:off x="4953240" y="1865520"/>
                <a:ext cx="2819520" cy="0"/>
              </a:xfrm>
              <a:prstGeom prst="line">
                <a:avLst/>
              </a:prstGeom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772760" y="1865520"/>
                <a:ext cx="0" cy="239400"/>
              </a:xfrm>
              <a:prstGeom prst="line">
                <a:avLst/>
              </a:prstGeom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061040" y="2104920"/>
                <a:ext cx="317880" cy="55980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立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项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18240" y="2104920"/>
                <a:ext cx="317880" cy="55980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975440" y="2104920"/>
                <a:ext cx="317880" cy="55980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施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工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508960" y="2104920"/>
                <a:ext cx="317880" cy="55980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验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4572000" y="1987200"/>
              <a:ext cx="0" cy="91656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71800" y="2904120"/>
              <a:ext cx="28195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71800" y="2904120"/>
              <a:ext cx="0" cy="39960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91320" y="2904120"/>
              <a:ext cx="0" cy="39960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63360" y="3303720"/>
              <a:ext cx="455040" cy="326880"/>
            </a:xfrm>
            <a:prstGeom prst="rect">
              <a:avLst/>
            </a:pr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土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82880" y="3303720"/>
              <a:ext cx="455040" cy="326880"/>
            </a:xfrm>
            <a:prstGeom prst="rect">
              <a:avLst/>
            </a:prstGeom>
            <a:noFill/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安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2229840" y="3702960"/>
              <a:ext cx="3808080" cy="1045800"/>
              <a:chOff x="2229840" y="3702960"/>
              <a:chExt cx="3808080" cy="1045800"/>
            </a:xfrm>
          </p:grpSpPr>
          <p:sp>
            <p:nvSpPr>
              <p:cNvPr id="398" name=""/>
              <p:cNvSpPr/>
              <p:nvPr/>
            </p:nvSpPr>
            <p:spPr>
              <a:xfrm>
                <a:off x="2971800" y="3702960"/>
                <a:ext cx="0" cy="399240"/>
              </a:xfrm>
              <a:prstGeom prst="line">
                <a:avLst/>
              </a:prstGeom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86000" y="4102200"/>
                <a:ext cx="1371600" cy="0"/>
              </a:xfrm>
              <a:prstGeom prst="line">
                <a:avLst/>
              </a:prstGeom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86000" y="4102200"/>
                <a:ext cx="0" cy="319320"/>
              </a:xfrm>
              <a:prstGeom prst="line">
                <a:avLst/>
              </a:prstGeom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57600" y="4102200"/>
                <a:ext cx="0" cy="319320"/>
              </a:xfrm>
              <a:prstGeom prst="line">
                <a:avLst/>
              </a:prstGeom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29840" y="4421880"/>
                <a:ext cx="455040" cy="32688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宿舍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449160" y="4421880"/>
                <a:ext cx="455040" cy="32688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食堂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791320" y="3702960"/>
                <a:ext cx="0" cy="638640"/>
              </a:xfrm>
              <a:prstGeom prst="line">
                <a:avLst/>
              </a:prstGeom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582880" y="4341600"/>
                <a:ext cx="455040" cy="32688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机房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3657600" y="4776480"/>
              <a:ext cx="4886280" cy="1222200"/>
              <a:chOff x="3657600" y="4776480"/>
              <a:chExt cx="4886280" cy="1222200"/>
            </a:xfrm>
          </p:grpSpPr>
          <p:sp>
            <p:nvSpPr>
              <p:cNvPr id="407" name=""/>
              <p:cNvSpPr/>
              <p:nvPr/>
            </p:nvSpPr>
            <p:spPr>
              <a:xfrm>
                <a:off x="3657600" y="4776480"/>
                <a:ext cx="0" cy="479160"/>
              </a:xfrm>
              <a:prstGeom prst="line">
                <a:avLst/>
              </a:prstGeom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657600" y="5255640"/>
                <a:ext cx="228600" cy="0"/>
              </a:xfrm>
              <a:prstGeom prst="line">
                <a:avLst/>
              </a:prstGeom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86200" y="5096160"/>
                <a:ext cx="380880" cy="0"/>
              </a:xfrm>
              <a:prstGeom prst="line">
                <a:avLst/>
              </a:prstGeom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886200" y="5096160"/>
                <a:ext cx="0" cy="798480"/>
              </a:xfrm>
              <a:prstGeom prst="line">
                <a:avLst/>
              </a:prstGeom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886200" y="5894640"/>
                <a:ext cx="380880" cy="0"/>
              </a:xfrm>
              <a:prstGeom prst="line">
                <a:avLst/>
              </a:prstGeom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574880" y="5017320"/>
                <a:ext cx="3880080" cy="26208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300" spc="-1" strike="noStrike">
                    <a:solidFill>
                      <a:srgbClr val="000000"/>
                    </a:solidFill>
                    <a:latin typeface="宋体"/>
                  </a:rPr>
                  <a:t>设计  开始时间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宋体"/>
                  </a:rPr>
                  <a:t>2000</a:t>
                </a:r>
                <a:r>
                  <a:rPr b="0" lang="zh-CN" sz="1300" spc="-1" strike="noStrike">
                    <a:solidFill>
                      <a:srgbClr val="000000"/>
                    </a:solidFill>
                    <a:latin typeface="宋体"/>
                  </a:rPr>
                  <a:t>年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宋体"/>
                  </a:rPr>
                  <a:t>10</a:t>
                </a:r>
                <a:r>
                  <a:rPr b="0" lang="zh-CN" sz="1300" spc="-1" strike="noStrike">
                    <a:solidFill>
                      <a:srgbClr val="000000"/>
                    </a:solidFill>
                    <a:latin typeface="宋体"/>
                  </a:rPr>
                  <a:t>月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r>
                  <a:rPr b="0" lang="zh-CN" sz="1300" spc="-1" strike="noStrike">
                    <a:solidFill>
                      <a:srgbClr val="000000"/>
                    </a:solidFill>
                    <a:latin typeface="宋体"/>
                  </a:rPr>
                  <a:t>日 预计结束时间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宋体"/>
                  </a:rPr>
                  <a:t>2001</a:t>
                </a:r>
                <a:r>
                  <a:rPr b="0" lang="zh-CN" sz="1300" spc="-1" strike="noStrike">
                    <a:solidFill>
                      <a:srgbClr val="000000"/>
                    </a:solidFill>
                    <a:latin typeface="宋体"/>
                  </a:rPr>
                  <a:t>年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r>
                  <a:rPr b="0" lang="zh-CN" sz="1300" spc="-1" strike="noStrike">
                    <a:solidFill>
                      <a:srgbClr val="000000"/>
                    </a:solidFill>
                    <a:latin typeface="宋体"/>
                  </a:rPr>
                  <a:t>月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r>
                  <a:rPr b="0" lang="zh-CN" sz="1300" spc="-1" strike="noStrike">
                    <a:solidFill>
                      <a:srgbClr val="000000"/>
                    </a:solidFill>
                    <a:latin typeface="宋体"/>
                  </a:rPr>
                  <a:t>日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569120" y="5736600"/>
                <a:ext cx="3974760" cy="262080"/>
              </a:xfrm>
              <a:prstGeom prst="rect">
                <a:avLst/>
              </a:prstGeom>
              <a:noFill/>
              <a:ln w="936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300" spc="-1" strike="noStrike">
                    <a:solidFill>
                      <a:srgbClr val="000000"/>
                    </a:solidFill>
                    <a:latin typeface="宋体"/>
                  </a:rPr>
                  <a:t>施工  开始时间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宋体"/>
                  </a:rPr>
                  <a:t>2000</a:t>
                </a:r>
                <a:r>
                  <a:rPr b="0" lang="zh-CN" sz="1300" spc="-1" strike="noStrike">
                    <a:solidFill>
                      <a:srgbClr val="000000"/>
                    </a:solidFill>
                    <a:latin typeface="宋体"/>
                  </a:rPr>
                  <a:t>年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宋体"/>
                  </a:rPr>
                  <a:t>12</a:t>
                </a:r>
                <a:r>
                  <a:rPr b="0" lang="zh-CN" sz="1300" spc="-1" strike="noStrike">
                    <a:solidFill>
                      <a:srgbClr val="000000"/>
                    </a:solidFill>
                    <a:latin typeface="宋体"/>
                  </a:rPr>
                  <a:t>月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r>
                  <a:rPr b="0" lang="zh-CN" sz="1300" spc="-1" strike="noStrike">
                    <a:solidFill>
                      <a:srgbClr val="000000"/>
                    </a:solidFill>
                    <a:latin typeface="宋体"/>
                  </a:rPr>
                  <a:t>日 预计结束时间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宋体"/>
                  </a:rPr>
                  <a:t>2001</a:t>
                </a:r>
                <a:r>
                  <a:rPr b="0" lang="zh-CN" sz="1300" spc="-1" strike="noStrike">
                    <a:solidFill>
                      <a:srgbClr val="000000"/>
                    </a:solidFill>
                    <a:latin typeface="宋体"/>
                  </a:rPr>
                  <a:t>年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宋体"/>
                  </a:rPr>
                  <a:t>12</a:t>
                </a:r>
                <a:r>
                  <a:rPr b="0" lang="zh-CN" sz="1300" spc="-1" strike="noStrike">
                    <a:solidFill>
                      <a:srgbClr val="000000"/>
                    </a:solidFill>
                    <a:latin typeface="宋体"/>
                  </a:rPr>
                  <a:t>月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r>
                  <a:rPr b="0" lang="zh-CN" sz="1300" spc="-1" strike="noStrike">
                    <a:solidFill>
                      <a:srgbClr val="000000"/>
                    </a:solidFill>
                    <a:latin typeface="宋体"/>
                  </a:rPr>
                  <a:t>日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4" name=""/>
          <p:cNvSpPr/>
          <p:nvPr/>
        </p:nvSpPr>
        <p:spPr>
          <a:xfrm>
            <a:off x="304920" y="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施工业项目管理解决方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228600" y="1219320"/>
            <a:ext cx="8444160" cy="4571640"/>
            <a:chOff x="228600" y="1219320"/>
            <a:chExt cx="8444160" cy="4571640"/>
          </a:xfrm>
        </p:grpSpPr>
        <p:sp>
          <p:nvSpPr>
            <p:cNvPr id="416" name=""/>
            <p:cNvSpPr/>
            <p:nvPr/>
          </p:nvSpPr>
          <p:spPr>
            <a:xfrm>
              <a:off x="380880" y="2653560"/>
              <a:ext cx="8229600" cy="0"/>
            </a:xfrm>
            <a:prstGeom prst="line">
              <a:avLst/>
            </a:prstGeom>
            <a:ln w="38160">
              <a:solidFill>
                <a:srgbClr val="00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00200" y="3549960"/>
              <a:ext cx="762120" cy="627480"/>
            </a:xfrm>
            <a:prstGeom prst="cube">
              <a:avLst>
                <a:gd name="adj" fmla="val 25000"/>
              </a:avLst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Times New Roman"/>
                </a:rPr>
                <a:t>报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Times New Roman"/>
                </a:rPr>
                <a:t>中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" y="5074200"/>
              <a:ext cx="762120" cy="627120"/>
            </a:xfrm>
            <a:prstGeom prst="cube">
              <a:avLst>
                <a:gd name="adj" fmla="val 25000"/>
              </a:avLst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Times New Roman"/>
                </a:rPr>
                <a:t>应收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28800" y="5163480"/>
              <a:ext cx="762120" cy="627480"/>
            </a:xfrm>
            <a:prstGeom prst="cube">
              <a:avLst>
                <a:gd name="adj" fmla="val 25000"/>
              </a:avLst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Times New Roman"/>
                </a:rPr>
                <a:t>应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124080" y="3549960"/>
              <a:ext cx="762120" cy="627480"/>
            </a:xfrm>
            <a:prstGeom prst="cube">
              <a:avLst>
                <a:gd name="adj" fmla="val 25000"/>
              </a:avLst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Times New Roman"/>
                </a:rPr>
                <a:t>资金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Times New Roman"/>
                </a:rPr>
                <a:t>管理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85440" y="4177440"/>
              <a:ext cx="1066680" cy="8964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52480" y="4177440"/>
              <a:ext cx="533520" cy="98568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62320" y="3908520"/>
              <a:ext cx="76176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172200" y="3549960"/>
              <a:ext cx="762120" cy="627480"/>
            </a:xfrm>
            <a:prstGeom prst="cube">
              <a:avLst>
                <a:gd name="adj" fmla="val 25000"/>
              </a:avLst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Times New Roman"/>
                </a:rPr>
                <a:t>报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Times New Roman"/>
                </a:rPr>
                <a:t>中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0600" y="5074200"/>
              <a:ext cx="762120" cy="627120"/>
            </a:xfrm>
            <a:prstGeom prst="cube">
              <a:avLst>
                <a:gd name="adj" fmla="val 25000"/>
              </a:avLst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Times New Roman"/>
                </a:rPr>
                <a:t>应收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400800" y="5163480"/>
              <a:ext cx="762120" cy="627480"/>
            </a:xfrm>
            <a:prstGeom prst="cube">
              <a:avLst>
                <a:gd name="adj" fmla="val 25000"/>
              </a:avLst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Times New Roman"/>
                </a:rPr>
                <a:t>应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6080" y="3549960"/>
              <a:ext cx="762120" cy="627480"/>
            </a:xfrm>
            <a:prstGeom prst="cube">
              <a:avLst>
                <a:gd name="adj" fmla="val 25000"/>
              </a:avLst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Times New Roman"/>
                </a:rPr>
                <a:t>资金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Times New Roman"/>
                </a:rPr>
                <a:t>管理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5257440" y="4177440"/>
              <a:ext cx="1066680" cy="89640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24480" y="4177440"/>
              <a:ext cx="533520" cy="98568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34320" y="3818880"/>
              <a:ext cx="76176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25680" y="1219320"/>
              <a:ext cx="546480" cy="4597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集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126280" y="5253120"/>
              <a:ext cx="546480" cy="4597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公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1980720" y="1757160"/>
              <a:ext cx="1600200" cy="170316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81280" y="1757160"/>
              <a:ext cx="2971800" cy="179244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4920" y="3549960"/>
              <a:ext cx="761760" cy="627480"/>
            </a:xfrm>
            <a:prstGeom prst="cube">
              <a:avLst>
                <a:gd name="adj" fmla="val 25000"/>
              </a:avLst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Times New Roman"/>
                </a:rPr>
                <a:t>全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Times New Roman"/>
                </a:rPr>
                <a:t>预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66680" y="3818880"/>
              <a:ext cx="53352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76920" y="3549960"/>
              <a:ext cx="761760" cy="627480"/>
            </a:xfrm>
            <a:prstGeom prst="cube">
              <a:avLst>
                <a:gd name="adj" fmla="val 25000"/>
              </a:avLst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Times New Roman"/>
                </a:rPr>
                <a:t>全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Times New Roman"/>
                </a:rPr>
                <a:t>预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38680" y="3908520"/>
              <a:ext cx="53352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209680" y="3191040"/>
              <a:ext cx="762120" cy="358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71800" y="3191400"/>
              <a:ext cx="25146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86400" y="3191400"/>
              <a:ext cx="762120" cy="447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1037520" y="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前台报账解决方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533520" y="1447920"/>
            <a:ext cx="6248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方便的网络化管理实现远程报账、查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样、灵活的原始单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便捷的基础设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严格的支出预算控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、后台处理无缝联接，保证数据一致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详尽的收支情况统计、查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61560" y="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前台报账解决方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520" y="29880"/>
            <a:ext cx="3886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销售业务处理流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438280" y="5105520"/>
            <a:ext cx="5072040" cy="79380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362320" y="1600200"/>
            <a:ext cx="5257800" cy="30369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66520" y="304812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0000"/>
                </a:solidFill>
                <a:latin typeface="宋体"/>
              </a:rPr>
              <a:t>销售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66520" y="335268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0000"/>
                </a:solidFill>
                <a:latin typeface="宋体"/>
              </a:rPr>
              <a:t>业务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90200" y="518148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0000"/>
                </a:solidFill>
                <a:latin typeface="宋体"/>
              </a:rPr>
              <a:t>应收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90200" y="556272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0000"/>
                </a:solidFill>
                <a:latin typeface="宋体"/>
              </a:rPr>
              <a:t>总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82680" y="3701880"/>
            <a:ext cx="241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43000" y="2743200"/>
            <a:ext cx="609480" cy="2717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153280" y="2971800"/>
            <a:ext cx="609840" cy="1789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67080" y="205740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销售订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410080" y="2971800"/>
            <a:ext cx="10670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发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76920" y="35812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19720" y="3886200"/>
            <a:ext cx="10666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出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24080" y="2971800"/>
            <a:ext cx="10670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销售发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00400" y="5181480"/>
            <a:ext cx="10666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应收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57600" y="3276720"/>
            <a:ext cx="144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86400" y="40384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19920" y="3886200"/>
            <a:ext cx="7617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存货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324480" y="4267080"/>
            <a:ext cx="1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5410080"/>
            <a:ext cx="10670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出库成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752480" y="51055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52480" y="30481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14800" y="8380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客户需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724280" y="1295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3885840" y="2666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43800" y="358128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6200" y="26668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42160" y="266688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3885840" y="3581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32767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942160" y="32767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40388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采购业务处理流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5791320"/>
            <a:ext cx="5540400" cy="77616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13040" y="2844720"/>
            <a:ext cx="5556240" cy="28702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05120" y="1371600"/>
            <a:ext cx="5556240" cy="137628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26160" y="1614600"/>
            <a:ext cx="1068120" cy="298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25400" y="165888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宋体"/>
              </a:rPr>
              <a:t>请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11400" y="1517760"/>
            <a:ext cx="49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再订货申请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098960" y="2362320"/>
            <a:ext cx="1268280" cy="296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63640" y="240048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宋体"/>
              </a:rPr>
              <a:t>询价比价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97240" y="3805200"/>
            <a:ext cx="1068480" cy="300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596840" y="385128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宋体"/>
              </a:rPr>
              <a:t>到货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38680" y="3809880"/>
            <a:ext cx="1069920" cy="300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65280" y="385128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宋体"/>
              </a:rPr>
              <a:t>质检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28800" y="4583160"/>
            <a:ext cx="1068480" cy="298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8400" y="462744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宋体"/>
              </a:rPr>
              <a:t>发票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28800" y="5300640"/>
            <a:ext cx="1068480" cy="298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8400" y="534348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宋体"/>
              </a:rPr>
              <a:t>结算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97240" y="4583160"/>
            <a:ext cx="1068480" cy="298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96840" y="462744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宋体"/>
              </a:rPr>
              <a:t>入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5334120"/>
            <a:ext cx="1068120" cy="298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43240" y="541008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宋体"/>
              </a:rPr>
              <a:t>存货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732200" y="3379680"/>
            <a:ext cx="1800" cy="325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91160" y="3695760"/>
            <a:ext cx="81000" cy="109440"/>
          </a:xfrm>
          <a:custGeom>
            <a:avLst/>
            <a:gdLst/>
            <a:ahLst/>
            <a:rect l="l" t="t" r="r" b="b"/>
            <a:pathLst>
              <a:path w="51" h="69">
                <a:moveTo>
                  <a:pt x="51" y="0"/>
                </a:moveTo>
                <a:lnTo>
                  <a:pt x="26" y="69"/>
                </a:lnTo>
                <a:lnTo>
                  <a:pt x="0" y="0"/>
                </a:lnTo>
                <a:lnTo>
                  <a:pt x="5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4724280" y="4876920"/>
            <a:ext cx="7920" cy="609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65720" y="3956040"/>
            <a:ext cx="2890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543640" y="3917880"/>
            <a:ext cx="122040" cy="74520"/>
          </a:xfrm>
          <a:custGeom>
            <a:avLst/>
            <a:gdLst/>
            <a:ahLst/>
            <a:rect l="l" t="t" r="r" b="b"/>
            <a:pathLst>
              <a:path w="77" h="47">
                <a:moveTo>
                  <a:pt x="0" y="0"/>
                </a:moveTo>
                <a:lnTo>
                  <a:pt x="77" y="24"/>
                </a:lnTo>
                <a:lnTo>
                  <a:pt x="0" y="4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63760" y="3625920"/>
            <a:ext cx="1468440" cy="855720"/>
          </a:xfrm>
          <a:custGeom>
            <a:avLst/>
            <a:gdLst/>
            <a:ahLst/>
            <a:rect l="l" t="t" r="r" b="b"/>
            <a:pathLst>
              <a:path w="925" h="539">
                <a:moveTo>
                  <a:pt x="925" y="0"/>
                </a:moveTo>
                <a:lnTo>
                  <a:pt x="0" y="0"/>
                </a:lnTo>
                <a:lnTo>
                  <a:pt x="0" y="53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22720" y="4473720"/>
            <a:ext cx="82440" cy="109440"/>
          </a:xfrm>
          <a:custGeom>
            <a:avLst/>
            <a:gdLst/>
            <a:ahLst/>
            <a:rect l="l" t="t" r="r" b="b"/>
            <a:pathLst>
              <a:path w="52" h="69">
                <a:moveTo>
                  <a:pt x="52" y="0"/>
                </a:moveTo>
                <a:lnTo>
                  <a:pt x="26" y="69"/>
                </a:lnTo>
                <a:lnTo>
                  <a:pt x="0" y="0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63760" y="4881600"/>
            <a:ext cx="1800" cy="317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22720" y="5191200"/>
            <a:ext cx="82440" cy="109440"/>
          </a:xfrm>
          <a:custGeom>
            <a:avLst/>
            <a:gdLst/>
            <a:ahLst/>
            <a:rect l="l" t="t" r="r" b="b"/>
            <a:pathLst>
              <a:path w="52" h="69">
                <a:moveTo>
                  <a:pt x="52" y="0"/>
                </a:moveTo>
                <a:lnTo>
                  <a:pt x="26" y="69"/>
                </a:lnTo>
                <a:lnTo>
                  <a:pt x="0" y="0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97240" y="3079800"/>
            <a:ext cx="1068480" cy="299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63640" y="312588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宋体"/>
              </a:rPr>
              <a:t>采购订单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35280" y="6021360"/>
            <a:ext cx="1066680" cy="297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067920" y="606600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宋体"/>
              </a:rPr>
              <a:t>应付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63760" y="5599080"/>
            <a:ext cx="3240" cy="320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25960" y="5910120"/>
            <a:ext cx="82440" cy="111240"/>
          </a:xfrm>
          <a:custGeom>
            <a:avLst/>
            <a:gdLst/>
            <a:ahLst/>
            <a:rect l="l" t="t" r="r" b="b"/>
            <a:pathLst>
              <a:path w="52" h="70">
                <a:moveTo>
                  <a:pt x="52" y="0"/>
                </a:moveTo>
                <a:lnTo>
                  <a:pt x="27" y="70"/>
                </a:lnTo>
                <a:lnTo>
                  <a:pt x="0" y="0"/>
                </a:lnTo>
                <a:lnTo>
                  <a:pt x="5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9880" y="5486400"/>
            <a:ext cx="92232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44240" y="1438200"/>
            <a:ext cx="343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0000"/>
                </a:solidFill>
                <a:latin typeface="宋体"/>
              </a:rPr>
              <a:t>请购与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06080" y="166068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0000"/>
                </a:solidFill>
                <a:latin typeface="宋体"/>
              </a:rPr>
              <a:t>询价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02840" y="300528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0000"/>
                </a:solidFill>
                <a:latin typeface="宋体"/>
              </a:rPr>
              <a:t>采购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02840" y="322740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0000"/>
                </a:solidFill>
                <a:latin typeface="宋体"/>
              </a:rPr>
              <a:t>业务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1295280"/>
            <a:ext cx="934920" cy="525960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43560" y="3360600"/>
            <a:ext cx="352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基 控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43560" y="3646440"/>
            <a:ext cx="352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础 制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43560" y="3933720"/>
            <a:ext cx="352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数 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43560" y="4221000"/>
            <a:ext cx="352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据 数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550880" y="3894120"/>
            <a:ext cx="536760" cy="479520"/>
          </a:xfrm>
          <a:custGeom>
            <a:avLst/>
            <a:gdLst/>
            <a:ahLst/>
            <a:rect l="l" t="t" r="r" b="b"/>
            <a:pathLst>
              <a:path w="338" h="302">
                <a:moveTo>
                  <a:pt x="338" y="151"/>
                </a:moveTo>
                <a:lnTo>
                  <a:pt x="265" y="302"/>
                </a:lnTo>
                <a:lnTo>
                  <a:pt x="265" y="189"/>
                </a:lnTo>
                <a:lnTo>
                  <a:pt x="191" y="189"/>
                </a:lnTo>
                <a:lnTo>
                  <a:pt x="147" y="302"/>
                </a:lnTo>
                <a:lnTo>
                  <a:pt x="0" y="302"/>
                </a:lnTo>
                <a:lnTo>
                  <a:pt x="44" y="151"/>
                </a:lnTo>
                <a:lnTo>
                  <a:pt x="0" y="0"/>
                </a:lnTo>
                <a:lnTo>
                  <a:pt x="147" y="0"/>
                </a:lnTo>
                <a:lnTo>
                  <a:pt x="191" y="114"/>
                </a:lnTo>
                <a:lnTo>
                  <a:pt x="265" y="114"/>
                </a:lnTo>
                <a:lnTo>
                  <a:pt x="265" y="0"/>
                </a:lnTo>
                <a:lnTo>
                  <a:pt x="338" y="15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50880" y="1773360"/>
            <a:ext cx="536760" cy="477720"/>
          </a:xfrm>
          <a:custGeom>
            <a:avLst/>
            <a:gdLst/>
            <a:ahLst/>
            <a:rect l="l" t="t" r="r" b="b"/>
            <a:pathLst>
              <a:path w="338" h="301">
                <a:moveTo>
                  <a:pt x="338" y="151"/>
                </a:moveTo>
                <a:lnTo>
                  <a:pt x="265" y="301"/>
                </a:lnTo>
                <a:lnTo>
                  <a:pt x="265" y="188"/>
                </a:lnTo>
                <a:lnTo>
                  <a:pt x="191" y="188"/>
                </a:lnTo>
                <a:lnTo>
                  <a:pt x="147" y="301"/>
                </a:lnTo>
                <a:lnTo>
                  <a:pt x="0" y="301"/>
                </a:lnTo>
                <a:lnTo>
                  <a:pt x="44" y="151"/>
                </a:lnTo>
                <a:lnTo>
                  <a:pt x="0" y="0"/>
                </a:lnTo>
                <a:lnTo>
                  <a:pt x="147" y="0"/>
                </a:lnTo>
                <a:lnTo>
                  <a:pt x="191" y="113"/>
                </a:lnTo>
                <a:lnTo>
                  <a:pt x="265" y="113"/>
                </a:lnTo>
                <a:lnTo>
                  <a:pt x="265" y="0"/>
                </a:lnTo>
                <a:lnTo>
                  <a:pt x="338" y="15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550880" y="5925960"/>
            <a:ext cx="536760" cy="479520"/>
          </a:xfrm>
          <a:custGeom>
            <a:avLst/>
            <a:gdLst/>
            <a:ahLst/>
            <a:rect l="l" t="t" r="r" b="b"/>
            <a:pathLst>
              <a:path w="338" h="302">
                <a:moveTo>
                  <a:pt x="338" y="151"/>
                </a:moveTo>
                <a:lnTo>
                  <a:pt x="265" y="302"/>
                </a:lnTo>
                <a:lnTo>
                  <a:pt x="265" y="189"/>
                </a:lnTo>
                <a:lnTo>
                  <a:pt x="191" y="189"/>
                </a:lnTo>
                <a:lnTo>
                  <a:pt x="147" y="302"/>
                </a:lnTo>
                <a:lnTo>
                  <a:pt x="0" y="302"/>
                </a:lnTo>
                <a:lnTo>
                  <a:pt x="44" y="151"/>
                </a:lnTo>
                <a:lnTo>
                  <a:pt x="0" y="0"/>
                </a:lnTo>
                <a:lnTo>
                  <a:pt x="147" y="0"/>
                </a:lnTo>
                <a:lnTo>
                  <a:pt x="191" y="114"/>
                </a:lnTo>
                <a:lnTo>
                  <a:pt x="265" y="114"/>
                </a:lnTo>
                <a:lnTo>
                  <a:pt x="265" y="0"/>
                </a:lnTo>
                <a:lnTo>
                  <a:pt x="338" y="15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51800" y="1370160"/>
            <a:ext cx="776160" cy="51847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954200" y="311004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954200" y="339732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料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954200" y="368316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需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954200" y="397044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954200" y="425772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计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954200" y="4545000"/>
            <a:ext cx="145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划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69120" y="1803240"/>
            <a:ext cx="566640" cy="478080"/>
          </a:xfrm>
          <a:custGeom>
            <a:avLst/>
            <a:gdLst/>
            <a:ahLst/>
            <a:rect l="l" t="t" r="r" b="b"/>
            <a:pathLst>
              <a:path w="357" h="301">
                <a:moveTo>
                  <a:pt x="0" y="151"/>
                </a:moveTo>
                <a:lnTo>
                  <a:pt x="78" y="0"/>
                </a:lnTo>
                <a:lnTo>
                  <a:pt x="78" y="113"/>
                </a:lnTo>
                <a:lnTo>
                  <a:pt x="155" y="113"/>
                </a:lnTo>
                <a:lnTo>
                  <a:pt x="201" y="0"/>
                </a:lnTo>
                <a:lnTo>
                  <a:pt x="357" y="0"/>
                </a:lnTo>
                <a:lnTo>
                  <a:pt x="310" y="151"/>
                </a:lnTo>
                <a:lnTo>
                  <a:pt x="357" y="301"/>
                </a:lnTo>
                <a:lnTo>
                  <a:pt x="201" y="301"/>
                </a:lnTo>
                <a:lnTo>
                  <a:pt x="155" y="188"/>
                </a:lnTo>
                <a:lnTo>
                  <a:pt x="78" y="188"/>
                </a:lnTo>
                <a:lnTo>
                  <a:pt x="78" y="301"/>
                </a:lnTo>
                <a:lnTo>
                  <a:pt x="0" y="15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732200" y="2654280"/>
            <a:ext cx="1800" cy="325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691160" y="2970360"/>
            <a:ext cx="81000" cy="109440"/>
          </a:xfrm>
          <a:custGeom>
            <a:avLst/>
            <a:gdLst/>
            <a:ahLst/>
            <a:rect l="l" t="t" r="r" b="b"/>
            <a:pathLst>
              <a:path w="51" h="69">
                <a:moveTo>
                  <a:pt x="51" y="0"/>
                </a:moveTo>
                <a:lnTo>
                  <a:pt x="26" y="69"/>
                </a:lnTo>
                <a:lnTo>
                  <a:pt x="0" y="0"/>
                </a:lnTo>
                <a:lnTo>
                  <a:pt x="5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43400" y="1905120"/>
            <a:ext cx="0" cy="4572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08520" y="1752480"/>
            <a:ext cx="397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宋体"/>
              </a:rPr>
              <a:t>销售订单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62680" y="1654200"/>
            <a:ext cx="358920" cy="218880"/>
          </a:xfrm>
          <a:custGeom>
            <a:avLst/>
            <a:gdLst/>
            <a:ahLst/>
            <a:rect l="l" t="t" r="r" b="b"/>
            <a:pathLst>
              <a:path w="226" h="138">
                <a:moveTo>
                  <a:pt x="0" y="69"/>
                </a:moveTo>
                <a:lnTo>
                  <a:pt x="76" y="138"/>
                </a:lnTo>
                <a:lnTo>
                  <a:pt x="95" y="120"/>
                </a:lnTo>
                <a:lnTo>
                  <a:pt x="57" y="86"/>
                </a:lnTo>
                <a:lnTo>
                  <a:pt x="226" y="86"/>
                </a:lnTo>
                <a:lnTo>
                  <a:pt x="226" y="52"/>
                </a:lnTo>
                <a:lnTo>
                  <a:pt x="57" y="52"/>
                </a:lnTo>
                <a:lnTo>
                  <a:pt x="95" y="17"/>
                </a:lnTo>
                <a:lnTo>
                  <a:pt x="76" y="0"/>
                </a:lnTo>
                <a:lnTo>
                  <a:pt x="0" y="69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29000" y="1600200"/>
            <a:ext cx="1066680" cy="297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3200" y="167652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宋体"/>
              </a:rPr>
              <a:t>采购计划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525780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588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2428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95680" y="1752480"/>
            <a:ext cx="304920" cy="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809520" y="4724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09320" y="624852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0000"/>
                </a:solidFill>
                <a:latin typeface="宋体"/>
              </a:rPr>
              <a:t>总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09320" y="5943600"/>
            <a:ext cx="22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0000"/>
                </a:solidFill>
                <a:latin typeface="宋体"/>
              </a:rPr>
              <a:t>应收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741920" y="5484960"/>
            <a:ext cx="820800" cy="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1722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638680" y="6102360"/>
            <a:ext cx="1068480" cy="298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943240" y="617220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宋体"/>
              </a:rPr>
              <a:t>入库成本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80880" y="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财务业务一体化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457200" y="1143000"/>
            <a:ext cx="8229600" cy="5181120"/>
            <a:chOff x="457200" y="1143000"/>
            <a:chExt cx="8229600" cy="5181120"/>
          </a:xfrm>
        </p:grpSpPr>
        <p:sp>
          <p:nvSpPr>
            <p:cNvPr id="555" name=""/>
            <p:cNvSpPr/>
            <p:nvPr/>
          </p:nvSpPr>
          <p:spPr>
            <a:xfrm>
              <a:off x="457200" y="3191760"/>
              <a:ext cx="8229600" cy="3132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7200" y="1143000"/>
              <a:ext cx="8229600" cy="19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03880" y="3592440"/>
              <a:ext cx="429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71760" y="1297800"/>
              <a:ext cx="867240" cy="509400"/>
            </a:xfrm>
            <a:prstGeom prst="flowChartDocumen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销售订单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09520" y="1297800"/>
              <a:ext cx="786960" cy="509400"/>
            </a:xfrm>
            <a:prstGeom prst="flowChartDocumen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请购单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959840" y="2399400"/>
              <a:ext cx="1001520" cy="509760"/>
            </a:xfrm>
            <a:prstGeom prst="flowChartDocumen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销售出库单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1760" y="2390400"/>
              <a:ext cx="867240" cy="509400"/>
            </a:xfrm>
            <a:prstGeom prst="flowChartDocumen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发货单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754320" y="1297800"/>
              <a:ext cx="929880" cy="509400"/>
            </a:xfrm>
            <a:prstGeom prst="flowChartDocumen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采购订单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54320" y="2390400"/>
              <a:ext cx="858600" cy="509400"/>
            </a:xfrm>
            <a:prstGeom prst="flowChartDocumen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到货单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94600" y="2399400"/>
              <a:ext cx="1001520" cy="509760"/>
            </a:xfrm>
            <a:prstGeom prst="flowChartDocumen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采购入库单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30360" y="1516320"/>
              <a:ext cx="1502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65480" y="1516320"/>
              <a:ext cx="644040" cy="1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77400" y="1880280"/>
              <a:ext cx="0" cy="5187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29240" y="1789560"/>
              <a:ext cx="0" cy="600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96480" y="1589040"/>
              <a:ext cx="357840" cy="14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83800" y="1789560"/>
              <a:ext cx="0" cy="600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9120" y="2390400"/>
              <a:ext cx="715680" cy="509400"/>
            </a:xfrm>
            <a:prstGeom prst="flowChartDocumen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报检单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13280" y="2608920"/>
              <a:ext cx="285840" cy="1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754320" y="3337200"/>
              <a:ext cx="1001520" cy="509760"/>
            </a:xfrm>
            <a:prstGeom prst="flowChartDocumen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采购发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530360" y="2608920"/>
              <a:ext cx="429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396480" y="2608920"/>
              <a:ext cx="3578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49800" y="2390400"/>
              <a:ext cx="1001880" cy="509400"/>
            </a:xfrm>
            <a:prstGeom prst="flowChartDocumen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材料出库单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105000" y="2390400"/>
              <a:ext cx="1001520" cy="509400"/>
            </a:xfrm>
            <a:prstGeom prst="flowChartDocumen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产成品入库单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80320" y="3756600"/>
              <a:ext cx="8640" cy="382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2380320" y="2899800"/>
              <a:ext cx="0" cy="582840"/>
            </a:xfrm>
            <a:prstGeom prst="line">
              <a:avLst/>
            </a:prstGeom>
            <a:ln cap="rnd" w="12600">
              <a:solidFill>
                <a:srgbClr val="80808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71760" y="3410280"/>
              <a:ext cx="930240" cy="509760"/>
            </a:xfrm>
            <a:prstGeom prst="flowChartDocumen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销售发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71760" y="4138920"/>
              <a:ext cx="1001520" cy="509400"/>
            </a:xfrm>
            <a:prstGeom prst="flowChartDocumen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收款单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54320" y="4138920"/>
              <a:ext cx="1001520" cy="509400"/>
            </a:xfrm>
            <a:prstGeom prst="flowChartDocumen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付款单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02000" y="3583440"/>
              <a:ext cx="54540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1760" y="5595840"/>
              <a:ext cx="7943040" cy="59184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总                           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888200" y="4138920"/>
              <a:ext cx="1001880" cy="509400"/>
            </a:xfrm>
            <a:prstGeom prst="flowChartDocumen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应收单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475240" y="4138920"/>
              <a:ext cx="858600" cy="509400"/>
            </a:xfrm>
            <a:prstGeom prst="flowChartDocumen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应付单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029240" y="5231520"/>
              <a:ext cx="0" cy="354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389320" y="4648680"/>
              <a:ext cx="0" cy="938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895720" y="4648680"/>
              <a:ext cx="0" cy="9381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183800" y="5231520"/>
              <a:ext cx="0" cy="354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1315440" y="5085720"/>
              <a:ext cx="10731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5895360" y="5085720"/>
              <a:ext cx="107316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389320" y="5304240"/>
              <a:ext cx="121608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形成应收凭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029240" y="5304240"/>
              <a:ext cx="85860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收款凭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678920" y="5304240"/>
              <a:ext cx="12164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形成应付凭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25200" y="5304240"/>
              <a:ext cx="85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付款凭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33360" y="1224720"/>
              <a:ext cx="1932120" cy="65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生产制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78920" y="1880280"/>
              <a:ext cx="0" cy="5187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033360" y="3264480"/>
              <a:ext cx="1932120" cy="65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存货核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（出入库成本核算）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29760" y="3446640"/>
              <a:ext cx="500400" cy="291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结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10280" y="3555720"/>
              <a:ext cx="6440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886720" y="3719880"/>
              <a:ext cx="9000" cy="4186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5886720" y="2863800"/>
              <a:ext cx="0" cy="5461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965480" y="3546720"/>
              <a:ext cx="6883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636160" y="3410280"/>
              <a:ext cx="500760" cy="291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结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34880" y="3920400"/>
              <a:ext cx="0" cy="16750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042760" y="1224720"/>
              <a:ext cx="500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物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042760" y="3337200"/>
              <a:ext cx="500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资金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14680" y="4939920"/>
              <a:ext cx="500760" cy="291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核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29240" y="4648680"/>
              <a:ext cx="0" cy="291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969240" y="4939920"/>
              <a:ext cx="500400" cy="291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核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183800" y="4648680"/>
              <a:ext cx="0" cy="291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426840" y="5085720"/>
              <a:ext cx="12164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出入库 凭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3677400" y="2864160"/>
              <a:ext cx="0" cy="400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4607640" y="2900160"/>
              <a:ext cx="0" cy="364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2133720" y="990720"/>
            <a:ext cx="4800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三流同步   协同运做     快速反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914400" y="2057400"/>
            <a:ext cx="7086240" cy="3276360"/>
            <a:chOff x="914400" y="2057400"/>
            <a:chExt cx="7086240" cy="3276360"/>
          </a:xfrm>
        </p:grpSpPr>
        <p:sp>
          <p:nvSpPr>
            <p:cNvPr id="618" name=""/>
            <p:cNvSpPr/>
            <p:nvPr/>
          </p:nvSpPr>
          <p:spPr>
            <a:xfrm>
              <a:off x="4009320" y="2057400"/>
              <a:ext cx="1221480" cy="665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库  存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97440" y="2057400"/>
              <a:ext cx="1303200" cy="665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采购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995760" y="4637160"/>
              <a:ext cx="1302840" cy="665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客  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914400" y="2057400"/>
              <a:ext cx="1303200" cy="665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销售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78800" y="4637160"/>
              <a:ext cx="1221480" cy="665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供应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28320" y="4637160"/>
              <a:ext cx="1302840" cy="6652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财务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462040" y="2140560"/>
              <a:ext cx="1297800" cy="530280"/>
            </a:xfrm>
            <a:prstGeom prst="leftRightArrow">
              <a:avLst>
                <a:gd name="adj1" fmla="val 50000"/>
                <a:gd name="adj2" fmla="val 48948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5396400">
              <a:off x="3994200" y="3474360"/>
              <a:ext cx="1325880" cy="519480"/>
            </a:xfrm>
            <a:prstGeom prst="leftRightArrow">
              <a:avLst>
                <a:gd name="adj1" fmla="val 50000"/>
                <a:gd name="adj2" fmla="val 51046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5373600">
              <a:off x="6618240" y="3374280"/>
              <a:ext cx="1325880" cy="519120"/>
            </a:xfrm>
            <a:prstGeom prst="leftRightArrow">
              <a:avLst>
                <a:gd name="adj1" fmla="val 50000"/>
                <a:gd name="adj2" fmla="val 51082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12880" y="2140560"/>
              <a:ext cx="1297800" cy="530280"/>
            </a:xfrm>
            <a:prstGeom prst="leftRightArrow">
              <a:avLst>
                <a:gd name="adj1" fmla="val 50000"/>
                <a:gd name="adj2" fmla="val 48948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5400000">
              <a:off x="997920" y="3457440"/>
              <a:ext cx="1325880" cy="519120"/>
            </a:xfrm>
            <a:prstGeom prst="leftRightArrow">
              <a:avLst>
                <a:gd name="adj1" fmla="val 50000"/>
                <a:gd name="adj2" fmla="val 51082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18666600">
              <a:off x="5212800" y="3477600"/>
              <a:ext cx="1747440" cy="519480"/>
            </a:xfrm>
            <a:prstGeom prst="leftRightArrow">
              <a:avLst>
                <a:gd name="adj1" fmla="val 50000"/>
                <a:gd name="adj2" fmla="val 67276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416200">
              <a:off x="2135520" y="3471840"/>
              <a:ext cx="1926000" cy="530640"/>
            </a:xfrm>
            <a:prstGeom prst="leftRightArrow">
              <a:avLst>
                <a:gd name="adj1" fmla="val 50000"/>
                <a:gd name="adj2" fmla="val 72591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312880" y="4720320"/>
              <a:ext cx="1297800" cy="530640"/>
            </a:xfrm>
            <a:prstGeom prst="leftRightArrow">
              <a:avLst>
                <a:gd name="adj1" fmla="val 50000"/>
                <a:gd name="adj2" fmla="val 48914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62040" y="4803480"/>
              <a:ext cx="1297800" cy="530280"/>
            </a:xfrm>
            <a:prstGeom prst="leftRightArrow">
              <a:avLst>
                <a:gd name="adj1" fmla="val 50000"/>
                <a:gd name="adj2" fmla="val 48948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125880" y="5791320"/>
            <a:ext cx="292392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见树又见林，我不再是信息孤岛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0"/>
            <a:ext cx="4343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财务业务一体化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066680" y="1752480"/>
            <a:ext cx="372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谢谢大家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6400800" y="4952880"/>
            <a:ext cx="22068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928800"/>
            <a:ext cx="7162920" cy="1206360"/>
            <a:chOff x="228600" y="928800"/>
            <a:chExt cx="7162920" cy="1206360"/>
          </a:xfrm>
        </p:grpSpPr>
        <p:sp>
          <p:nvSpPr>
            <p:cNvPr id="46" name=""/>
            <p:cNvSpPr/>
            <p:nvPr/>
          </p:nvSpPr>
          <p:spPr>
            <a:xfrm>
              <a:off x="228600" y="92880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供应链管理的实质：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90720" y="1614600"/>
              <a:ext cx="586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物流、信息流、资金流的优化管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04920" y="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何谓供应链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2610000"/>
            <a:ext cx="64767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球化供需网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品（或服务）的生产、配送、销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物流、信息流、资金流形式链接合作伙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制造商、分销商、零售商、运输公司、客户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控制、优化整条供需链的运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传统企业管理模式的弊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823320"/>
            <a:ext cx="8713800" cy="5063760"/>
            <a:chOff x="0" y="823320"/>
            <a:chExt cx="8713800" cy="5063760"/>
          </a:xfrm>
        </p:grpSpPr>
        <p:sp>
          <p:nvSpPr>
            <p:cNvPr id="52" name=""/>
            <p:cNvSpPr/>
            <p:nvPr/>
          </p:nvSpPr>
          <p:spPr>
            <a:xfrm>
              <a:off x="380880" y="1686600"/>
              <a:ext cx="860400" cy="3658320"/>
            </a:xfrm>
            <a:custGeom>
              <a:avLst/>
              <a:gdLst/>
              <a:ahLst/>
              <a:rect l="l" t="t" r="r" b="b"/>
              <a:pathLst>
                <a:path w="542" h="2156">
                  <a:moveTo>
                    <a:pt x="0" y="2155"/>
                  </a:moveTo>
                  <a:lnTo>
                    <a:pt x="151" y="0"/>
                  </a:lnTo>
                  <a:lnTo>
                    <a:pt x="390" y="0"/>
                  </a:lnTo>
                  <a:lnTo>
                    <a:pt x="541" y="2155"/>
                  </a:lnTo>
                  <a:lnTo>
                    <a:pt x="0" y="2155"/>
                  </a:lnTo>
                </a:path>
              </a:pathLst>
            </a:custGeom>
            <a:gradFill rotWithShape="0">
              <a:gsLst>
                <a:gs pos="0">
                  <a:srgbClr val="a2a2cb"/>
                </a:gs>
                <a:gs pos="100000">
                  <a:srgbClr val="ccccff"/>
                </a:gs>
              </a:gsLst>
              <a:lin ang="5400000"/>
            </a:gradFill>
            <a:ln cap="rnd"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52480" y="1767960"/>
              <a:ext cx="862200" cy="3629160"/>
            </a:xfrm>
            <a:custGeom>
              <a:avLst/>
              <a:gdLst/>
              <a:ahLst/>
              <a:rect l="l" t="t" r="r" b="b"/>
              <a:pathLst>
                <a:path w="543" h="2139">
                  <a:moveTo>
                    <a:pt x="0" y="2138"/>
                  </a:moveTo>
                  <a:lnTo>
                    <a:pt x="149" y="0"/>
                  </a:lnTo>
                  <a:lnTo>
                    <a:pt x="391" y="0"/>
                  </a:lnTo>
                  <a:lnTo>
                    <a:pt x="542" y="2138"/>
                  </a:lnTo>
                  <a:lnTo>
                    <a:pt x="0" y="2138"/>
                  </a:lnTo>
                </a:path>
              </a:pathLst>
            </a:custGeom>
            <a:gradFill rotWithShape="0">
              <a:gsLst>
                <a:gs pos="0">
                  <a:srgbClr val="2d2db6"/>
                </a:gs>
                <a:gs pos="100000">
                  <a:srgbClr val="3333cc"/>
                </a:gs>
              </a:gsLst>
              <a:lin ang="5400000"/>
            </a:gra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76720" y="1767960"/>
              <a:ext cx="865080" cy="3655080"/>
            </a:xfrm>
            <a:custGeom>
              <a:avLst/>
              <a:gdLst/>
              <a:ahLst/>
              <a:rect l="l" t="t" r="r" b="b"/>
              <a:pathLst>
                <a:path w="545" h="2154">
                  <a:moveTo>
                    <a:pt x="0" y="2153"/>
                  </a:moveTo>
                  <a:lnTo>
                    <a:pt x="151" y="0"/>
                  </a:lnTo>
                  <a:lnTo>
                    <a:pt x="395" y="0"/>
                  </a:lnTo>
                  <a:lnTo>
                    <a:pt x="544" y="2153"/>
                  </a:lnTo>
                  <a:lnTo>
                    <a:pt x="0" y="2153"/>
                  </a:lnTo>
                </a:path>
              </a:pathLst>
            </a:custGeom>
            <a:gradFill rotWithShape="0">
              <a:gsLst>
                <a:gs pos="0">
                  <a:srgbClr val="9f9f9f"/>
                </a:gs>
                <a:gs pos="100000">
                  <a:srgbClr val="b2b2b2"/>
                </a:gs>
              </a:gsLst>
              <a:lin ang="5400000"/>
            </a:gra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24280" y="1767960"/>
              <a:ext cx="862200" cy="3657960"/>
            </a:xfrm>
            <a:custGeom>
              <a:avLst/>
              <a:gdLst/>
              <a:ahLst/>
              <a:rect l="l" t="t" r="r" b="b"/>
              <a:pathLst>
                <a:path w="543" h="2156">
                  <a:moveTo>
                    <a:pt x="0" y="2155"/>
                  </a:moveTo>
                  <a:lnTo>
                    <a:pt x="151" y="0"/>
                  </a:lnTo>
                  <a:lnTo>
                    <a:pt x="391" y="0"/>
                  </a:lnTo>
                  <a:lnTo>
                    <a:pt x="542" y="2155"/>
                  </a:lnTo>
                  <a:lnTo>
                    <a:pt x="0" y="2155"/>
                  </a:lnTo>
                </a:path>
              </a:pathLst>
            </a:custGeom>
            <a:gradFill rotWithShape="0">
              <a:gsLst>
                <a:gs pos="0">
                  <a:srgbClr val="a2a2cb"/>
                </a:gs>
                <a:gs pos="100000">
                  <a:srgbClr val="ccccff"/>
                </a:gs>
              </a:gsLst>
              <a:lin ang="5400000"/>
            </a:gradFill>
            <a:ln cap="rnd" w="1260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24480" y="1767960"/>
              <a:ext cx="860400" cy="3629160"/>
            </a:xfrm>
            <a:custGeom>
              <a:avLst/>
              <a:gdLst/>
              <a:ahLst/>
              <a:rect l="l" t="t" r="r" b="b"/>
              <a:pathLst>
                <a:path w="542" h="2139">
                  <a:moveTo>
                    <a:pt x="0" y="2138"/>
                  </a:moveTo>
                  <a:lnTo>
                    <a:pt x="149" y="0"/>
                  </a:lnTo>
                  <a:lnTo>
                    <a:pt x="390" y="0"/>
                  </a:lnTo>
                  <a:lnTo>
                    <a:pt x="541" y="2138"/>
                  </a:lnTo>
                  <a:lnTo>
                    <a:pt x="0" y="2138"/>
                  </a:lnTo>
                </a:path>
              </a:pathLst>
            </a:custGeom>
            <a:gradFill rotWithShape="0">
              <a:gsLst>
                <a:gs pos="0">
                  <a:srgbClr val="9f9f9f"/>
                </a:gs>
                <a:gs pos="100000">
                  <a:srgbClr val="b2b2b2"/>
                </a:gs>
              </a:gsLst>
              <a:lin ang="5400000"/>
            </a:gradFill>
            <a:ln cap="rnd" w="1260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48720" y="1686600"/>
              <a:ext cx="865080" cy="3655080"/>
            </a:xfrm>
            <a:custGeom>
              <a:avLst/>
              <a:gdLst/>
              <a:ahLst/>
              <a:rect l="l" t="t" r="r" b="b"/>
              <a:pathLst>
                <a:path w="545" h="2154">
                  <a:moveTo>
                    <a:pt x="0" y="2153"/>
                  </a:moveTo>
                  <a:lnTo>
                    <a:pt x="151" y="0"/>
                  </a:lnTo>
                  <a:lnTo>
                    <a:pt x="395" y="0"/>
                  </a:lnTo>
                  <a:lnTo>
                    <a:pt x="544" y="2153"/>
                  </a:lnTo>
                  <a:lnTo>
                    <a:pt x="0" y="2153"/>
                  </a:lnTo>
                </a:path>
              </a:pathLst>
            </a:custGeom>
            <a:gradFill rotWithShape="0">
              <a:gsLst>
                <a:gs pos="0">
                  <a:srgbClr val="2d2db6"/>
                </a:gs>
                <a:gs pos="100000">
                  <a:srgbClr val="3333cc"/>
                </a:gs>
              </a:gsLst>
              <a:lin ang="5400000"/>
            </a:gradFill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5595840"/>
              <a:ext cx="83664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4040"/>
                  <a:tab algn="l" pos="568440"/>
                  <a:tab algn="l" pos="852480"/>
                  <a:tab algn="l" pos="1136520"/>
                  <a:tab algn="l" pos="1420920"/>
                  <a:tab algn="l" pos="1704960"/>
                  <a:tab algn="l" pos="1989000"/>
                  <a:tab algn="l" pos="2273400"/>
                  <a:tab algn="l" pos="2557440"/>
                  <a:tab algn="l" pos="2841480"/>
                  <a:tab algn="l" pos="3125880"/>
                  <a:tab algn="l" pos="3409920"/>
                  <a:tab algn="l" pos="3693960"/>
                  <a:tab algn="l" pos="3978360"/>
                  <a:tab algn="l" pos="4262400"/>
                  <a:tab algn="l" pos="4546440"/>
                  <a:tab algn="l" pos="4830840"/>
                  <a:tab algn="l" pos="5114880"/>
                  <a:tab algn="l" pos="5398920"/>
                  <a:tab algn="l" pos="568332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采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89720" y="5595840"/>
              <a:ext cx="58356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4040"/>
                  <a:tab algn="l" pos="568440"/>
                  <a:tab algn="l" pos="852480"/>
                  <a:tab algn="l" pos="1136520"/>
                  <a:tab algn="l" pos="1420920"/>
                  <a:tab algn="l" pos="1704960"/>
                  <a:tab algn="l" pos="1989000"/>
                  <a:tab algn="l" pos="2273400"/>
                  <a:tab algn="l" pos="2557440"/>
                  <a:tab algn="l" pos="2841480"/>
                  <a:tab algn="l" pos="3125880"/>
                  <a:tab algn="l" pos="3409920"/>
                  <a:tab algn="l" pos="3693960"/>
                  <a:tab algn="l" pos="3978360"/>
                  <a:tab algn="l" pos="4262400"/>
                  <a:tab algn="l" pos="4546440"/>
                  <a:tab algn="l" pos="4830840"/>
                  <a:tab algn="l" pos="5114880"/>
                  <a:tab algn="l" pos="5398920"/>
                  <a:tab algn="l" pos="568332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资金利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013960" y="5595840"/>
              <a:ext cx="58356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4040"/>
                  <a:tab algn="l" pos="568440"/>
                  <a:tab algn="l" pos="852480"/>
                  <a:tab algn="l" pos="1136520"/>
                  <a:tab algn="l" pos="1420920"/>
                  <a:tab algn="l" pos="1704960"/>
                  <a:tab algn="l" pos="1989000"/>
                  <a:tab algn="l" pos="2273400"/>
                  <a:tab algn="l" pos="2557440"/>
                  <a:tab algn="l" pos="2841480"/>
                  <a:tab algn="l" pos="3125880"/>
                  <a:tab algn="l" pos="3409920"/>
                  <a:tab algn="l" pos="3693960"/>
                  <a:tab algn="l" pos="3978360"/>
                  <a:tab algn="l" pos="4262400"/>
                  <a:tab algn="l" pos="4546440"/>
                  <a:tab algn="l" pos="4830840"/>
                  <a:tab algn="l" pos="5114880"/>
                  <a:tab algn="l" pos="5398920"/>
                  <a:tab algn="l" pos="568332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信息集成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52720" y="5575680"/>
              <a:ext cx="33948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4040"/>
                  <a:tab algn="l" pos="568440"/>
                  <a:tab algn="l" pos="852480"/>
                  <a:tab algn="l" pos="1136520"/>
                  <a:tab algn="l" pos="1420920"/>
                  <a:tab algn="l" pos="1704960"/>
                  <a:tab algn="l" pos="1989000"/>
                  <a:tab algn="l" pos="2273400"/>
                  <a:tab algn="l" pos="2557440"/>
                  <a:tab algn="l" pos="2841480"/>
                  <a:tab algn="l" pos="3125880"/>
                  <a:tab algn="l" pos="3409920"/>
                  <a:tab algn="l" pos="3693960"/>
                  <a:tab algn="l" pos="3978360"/>
                  <a:tab algn="l" pos="4262400"/>
                  <a:tab algn="l" pos="4546440"/>
                  <a:tab algn="l" pos="4830840"/>
                  <a:tab algn="l" pos="5114880"/>
                  <a:tab algn="l" pos="5398920"/>
                  <a:tab algn="l" pos="568332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销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87760" y="5595840"/>
              <a:ext cx="33948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4040"/>
                  <a:tab algn="l" pos="568440"/>
                  <a:tab algn="l" pos="852480"/>
                  <a:tab algn="l" pos="1136520"/>
                  <a:tab algn="l" pos="1420920"/>
                  <a:tab algn="l" pos="1704960"/>
                  <a:tab algn="l" pos="1989000"/>
                  <a:tab algn="l" pos="2273400"/>
                  <a:tab algn="l" pos="2557440"/>
                  <a:tab algn="l" pos="2841480"/>
                  <a:tab algn="l" pos="3125880"/>
                  <a:tab algn="l" pos="3409920"/>
                  <a:tab algn="l" pos="3693960"/>
                  <a:tab algn="l" pos="3978360"/>
                  <a:tab algn="l" pos="4262400"/>
                  <a:tab algn="l" pos="4546440"/>
                  <a:tab algn="l" pos="4830840"/>
                  <a:tab algn="l" pos="5114880"/>
                  <a:tab algn="l" pos="5398920"/>
                  <a:tab algn="l" pos="568332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库存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89520" y="5595840"/>
              <a:ext cx="583560" cy="2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4040"/>
                  <a:tab algn="l" pos="568440"/>
                  <a:tab algn="l" pos="852480"/>
                  <a:tab algn="l" pos="1136520"/>
                  <a:tab algn="l" pos="1420920"/>
                  <a:tab algn="l" pos="1704960"/>
                  <a:tab algn="l" pos="1989000"/>
                  <a:tab algn="l" pos="2273400"/>
                  <a:tab algn="l" pos="2557440"/>
                  <a:tab algn="l" pos="2841480"/>
                  <a:tab algn="l" pos="3125880"/>
                  <a:tab algn="l" pos="3409920"/>
                  <a:tab algn="l" pos="3693960"/>
                  <a:tab algn="l" pos="3978360"/>
                  <a:tab algn="l" pos="4262400"/>
                  <a:tab algn="l" pos="4546440"/>
                  <a:tab algn="l" pos="4830840"/>
                  <a:tab algn="l" pos="5114880"/>
                  <a:tab algn="l" pos="5398920"/>
                  <a:tab algn="l" pos="568332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成本核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300000">
              <a:off x="845640" y="2256840"/>
              <a:ext cx="4341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2137680"/>
              <a:ext cx="414648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0022000">
              <a:off x="323640" y="1523520"/>
              <a:ext cx="323820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9688400">
              <a:off x="4399560" y="33710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cc"/>
                  </a:solidFill>
                  <a:latin typeface="Times New Roman"/>
                </a:rPr>
                <a:t>存货繁多，库存混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20155200">
              <a:off x="862560" y="175572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不能及时控制采购成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9827600">
              <a:off x="3177720" y="214092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Times New Roman"/>
                </a:rPr>
                <a:t>经济采购批量的施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0019600">
              <a:off x="6149520" y="3601800"/>
              <a:ext cx="234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缺乏严格的信用控制程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305200">
              <a:off x="813600" y="421632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8080"/>
                  </a:solidFill>
                  <a:latin typeface="Times New Roman"/>
                </a:rPr>
                <a:t>产销速度难以平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95960" y="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有效的供应链管理是企业最佳的选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838080" y="1447920"/>
            <a:ext cx="7772400" cy="4343040"/>
            <a:chOff x="838080" y="1447920"/>
            <a:chExt cx="7772400" cy="4343040"/>
          </a:xfrm>
        </p:grpSpPr>
        <p:graphicFrame>
          <p:nvGraphicFramePr>
            <p:cNvPr id="74" name=""/>
            <p:cNvGraphicFramePr/>
            <p:nvPr/>
          </p:nvGraphicFramePr>
          <p:xfrm>
            <a:off x="838080" y="1540800"/>
            <a:ext cx="625320" cy="714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540800"/>
                      <a:ext cx="625320" cy="7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838080" y="2774160"/>
            <a:ext cx="625320" cy="71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2774160"/>
                      <a:ext cx="625320" cy="71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38080" y="4816800"/>
            <a:ext cx="625320" cy="71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8080" y="4816800"/>
                      <a:ext cx="625320" cy="7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2209680" y="1447920"/>
            <a:ext cx="655560" cy="742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09680" y="1447920"/>
                      <a:ext cx="655560" cy="74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2133360" y="3768480"/>
            <a:ext cx="655920" cy="752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33360" y="3768480"/>
                      <a:ext cx="655920" cy="75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2193840" y="2747160"/>
            <a:ext cx="625320" cy="7156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193840" y="2747160"/>
                      <a:ext cx="625320" cy="71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3581280" y="1447920"/>
            <a:ext cx="731880" cy="1001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581280" y="1447920"/>
                      <a:ext cx="731880" cy="100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3504960" y="2840040"/>
            <a:ext cx="731880" cy="1001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504960" y="2840040"/>
                      <a:ext cx="731880" cy="100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"/>
            <p:cNvGraphicFramePr/>
            <p:nvPr/>
          </p:nvGraphicFramePr>
          <p:xfrm>
            <a:off x="3504960" y="4789440"/>
            <a:ext cx="731880" cy="1001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504960" y="4789440"/>
                      <a:ext cx="731880" cy="100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"/>
            <p:cNvGraphicFramePr/>
            <p:nvPr/>
          </p:nvGraphicFramePr>
          <p:xfrm>
            <a:off x="4876560" y="3304080"/>
            <a:ext cx="739800" cy="6962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876560" y="3304080"/>
                      <a:ext cx="739800" cy="69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"/>
            <p:cNvGraphicFramePr/>
            <p:nvPr/>
          </p:nvGraphicFramePr>
          <p:xfrm>
            <a:off x="6933960" y="1447920"/>
            <a:ext cx="685800" cy="79848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933960" y="1447920"/>
                      <a:ext cx="685800" cy="7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" name=""/>
            <p:cNvGraphicFramePr/>
            <p:nvPr/>
          </p:nvGraphicFramePr>
          <p:xfrm>
            <a:off x="6933960" y="2840040"/>
            <a:ext cx="685800" cy="7984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933960" y="2840040"/>
                      <a:ext cx="685800" cy="7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6933960" y="4974840"/>
            <a:ext cx="685800" cy="7988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933960" y="4974840"/>
                      <a:ext cx="685800" cy="7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5943600" y="2283120"/>
            <a:ext cx="792000" cy="8082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943600" y="2283120"/>
                      <a:ext cx="792000" cy="8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"/>
            <p:cNvGraphicFramePr/>
            <p:nvPr/>
          </p:nvGraphicFramePr>
          <p:xfrm>
            <a:off x="5943600" y="4325400"/>
            <a:ext cx="792000" cy="8082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943600" y="4325400"/>
                      <a:ext cx="792000" cy="8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7924680" y="1726200"/>
            <a:ext cx="685800" cy="10767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7924680" y="1726200"/>
                      <a:ext cx="685800" cy="107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7924680" y="3861000"/>
            <a:ext cx="685800" cy="107748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7924680" y="3861000"/>
                      <a:ext cx="685800" cy="107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1600200" y="1819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600200" y="2097360"/>
              <a:ext cx="53316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1800" y="1819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71800" y="1911600"/>
              <a:ext cx="533160" cy="111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2895480" y="2004480"/>
              <a:ext cx="60948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95480" y="4417920"/>
              <a:ext cx="685800" cy="55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160" y="5160960"/>
              <a:ext cx="175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3400" y="2097720"/>
              <a:ext cx="761760" cy="12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43400" y="339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267080" y="4047120"/>
              <a:ext cx="762120" cy="111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638680" y="2932920"/>
              <a:ext cx="228600" cy="37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15000" y="3861000"/>
              <a:ext cx="304560" cy="46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705360" y="2097720"/>
              <a:ext cx="304920" cy="37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5360" y="2561760"/>
              <a:ext cx="228600" cy="2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629400" y="3582360"/>
              <a:ext cx="380880" cy="74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4510800"/>
              <a:ext cx="38088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1371600"/>
            <a:ext cx="5715000" cy="39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001"/>
              </a:spcBef>
              <a:buClr>
                <a:srgbClr val="99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面向现代企业的供应链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buClr>
                <a:srgbClr val="99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黑体"/>
                <a:ea typeface="黑体"/>
              </a:rPr>
              <a:t>U8</a:t>
            </a: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供应链管理总体介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buClr>
                <a:srgbClr val="99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U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供应链系统应用解决方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2001"/>
              </a:spcBef>
              <a:buClr>
                <a:srgbClr val="99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2133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产品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56360" y="2643120"/>
            <a:ext cx="1908360" cy="2481480"/>
          </a:xfrm>
          <a:prstGeom prst="flowChartAlternateProcess">
            <a:avLst/>
          </a:prstGeom>
          <a:solidFill>
            <a:srgbClr val="ccccff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1280" y="3809880"/>
            <a:ext cx="7767720" cy="505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63720" y="2838600"/>
            <a:ext cx="6887880" cy="504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619280" y="4362480"/>
            <a:ext cx="6265800" cy="515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35000" y="5506920"/>
            <a:ext cx="6224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77760" y="5506920"/>
            <a:ext cx="6897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52200" y="5505480"/>
            <a:ext cx="6897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00360" y="5505480"/>
            <a:ext cx="6897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1400" y="5506920"/>
            <a:ext cx="6897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9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73360" y="5505480"/>
            <a:ext cx="6897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21160" y="5505480"/>
            <a:ext cx="6897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25560" y="5505480"/>
            <a:ext cx="6897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200" y="6075360"/>
            <a:ext cx="8929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89080" y="3676680"/>
            <a:ext cx="191880" cy="191880"/>
            <a:chOff x="289080" y="3676680"/>
            <a:chExt cx="191880" cy="191880"/>
          </a:xfrm>
        </p:grpSpPr>
        <p:sp>
          <p:nvSpPr>
            <p:cNvPr id="141" name=""/>
            <p:cNvSpPr/>
            <p:nvPr/>
          </p:nvSpPr>
          <p:spPr>
            <a:xfrm>
              <a:off x="289080" y="3676680"/>
              <a:ext cx="191880" cy="1918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3000" y="3738240"/>
              <a:ext cx="34560" cy="34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7995960" y="5505480"/>
            <a:ext cx="6897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68360" y="3003480"/>
            <a:ext cx="192240" cy="192240"/>
            <a:chOff x="1368360" y="3003480"/>
            <a:chExt cx="192240" cy="192240"/>
          </a:xfrm>
        </p:grpSpPr>
        <p:sp>
          <p:nvSpPr>
            <p:cNvPr id="145" name=""/>
            <p:cNvSpPr/>
            <p:nvPr/>
          </p:nvSpPr>
          <p:spPr>
            <a:xfrm>
              <a:off x="1368360" y="3003480"/>
              <a:ext cx="192240" cy="19224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12640" y="3065400"/>
              <a:ext cx="34920" cy="349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556000" y="4514760"/>
            <a:ext cx="191880" cy="192240"/>
            <a:chOff x="2556000" y="4514760"/>
            <a:chExt cx="191880" cy="192240"/>
          </a:xfrm>
        </p:grpSpPr>
        <p:sp>
          <p:nvSpPr>
            <p:cNvPr id="148" name=""/>
            <p:cNvSpPr/>
            <p:nvPr/>
          </p:nvSpPr>
          <p:spPr>
            <a:xfrm>
              <a:off x="2556000" y="4514760"/>
              <a:ext cx="191880" cy="19224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99920" y="4576680"/>
              <a:ext cx="34560" cy="3492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592360" y="3676680"/>
            <a:ext cx="360000" cy="286920"/>
            <a:chOff x="2592360" y="3676680"/>
            <a:chExt cx="360000" cy="286920"/>
          </a:xfrm>
        </p:grpSpPr>
        <p:sp>
          <p:nvSpPr>
            <p:cNvPr id="151" name=""/>
            <p:cNvSpPr/>
            <p:nvPr/>
          </p:nvSpPr>
          <p:spPr>
            <a:xfrm>
              <a:off x="2592360" y="3676680"/>
              <a:ext cx="360000" cy="286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75160" y="3768840"/>
              <a:ext cx="65160" cy="51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944720" y="3676680"/>
            <a:ext cx="191880" cy="191880"/>
            <a:chOff x="1944720" y="3676680"/>
            <a:chExt cx="191880" cy="191880"/>
          </a:xfrm>
        </p:grpSpPr>
        <p:sp>
          <p:nvSpPr>
            <p:cNvPr id="154" name=""/>
            <p:cNvSpPr/>
            <p:nvPr/>
          </p:nvSpPr>
          <p:spPr>
            <a:xfrm>
              <a:off x="1944720" y="3676680"/>
              <a:ext cx="191880" cy="191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88640" y="3738240"/>
              <a:ext cx="34560" cy="345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089080" y="3828960"/>
            <a:ext cx="192240" cy="192240"/>
            <a:chOff x="2089080" y="3828960"/>
            <a:chExt cx="192240" cy="192240"/>
          </a:xfrm>
        </p:grpSpPr>
        <p:sp>
          <p:nvSpPr>
            <p:cNvPr id="157" name=""/>
            <p:cNvSpPr/>
            <p:nvPr/>
          </p:nvSpPr>
          <p:spPr>
            <a:xfrm>
              <a:off x="2089080" y="3828960"/>
              <a:ext cx="192240" cy="192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360" y="3890880"/>
              <a:ext cx="34920" cy="349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232000" y="3075120"/>
            <a:ext cx="192240" cy="191880"/>
            <a:chOff x="2232000" y="3075120"/>
            <a:chExt cx="192240" cy="191880"/>
          </a:xfrm>
        </p:grpSpPr>
        <p:sp>
          <p:nvSpPr>
            <p:cNvPr id="160" name=""/>
            <p:cNvSpPr/>
            <p:nvPr/>
          </p:nvSpPr>
          <p:spPr>
            <a:xfrm>
              <a:off x="2232000" y="3075120"/>
              <a:ext cx="192240" cy="191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76280" y="3136680"/>
              <a:ext cx="34920" cy="345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36720" y="2930400"/>
            <a:ext cx="192240" cy="192240"/>
            <a:chOff x="2736720" y="2930400"/>
            <a:chExt cx="192240" cy="192240"/>
          </a:xfrm>
        </p:grpSpPr>
        <p:sp>
          <p:nvSpPr>
            <p:cNvPr id="163" name=""/>
            <p:cNvSpPr/>
            <p:nvPr/>
          </p:nvSpPr>
          <p:spPr>
            <a:xfrm>
              <a:off x="2736720" y="2930400"/>
              <a:ext cx="192240" cy="192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81000" y="2992320"/>
              <a:ext cx="34920" cy="349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979640" y="4514760"/>
            <a:ext cx="192240" cy="192240"/>
            <a:chOff x="1979640" y="4514760"/>
            <a:chExt cx="192240" cy="192240"/>
          </a:xfrm>
        </p:grpSpPr>
        <p:sp>
          <p:nvSpPr>
            <p:cNvPr id="166" name=""/>
            <p:cNvSpPr/>
            <p:nvPr/>
          </p:nvSpPr>
          <p:spPr>
            <a:xfrm>
              <a:off x="1979640" y="4514760"/>
              <a:ext cx="192240" cy="192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23920" y="4576680"/>
              <a:ext cx="34920" cy="349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600360" y="2714760"/>
            <a:ext cx="649440" cy="1728720"/>
          </a:xfrm>
          <a:prstGeom prst="ellipse">
            <a:avLst/>
          </a:prstGeom>
          <a:solidFill>
            <a:srgbClr val="cc3300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10800" bIns="10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360" y="3981600"/>
            <a:ext cx="3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财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79640" y="3133800"/>
            <a:ext cx="5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报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28720" y="3828960"/>
            <a:ext cx="3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工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0920" y="3981600"/>
            <a:ext cx="5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固定资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74920" y="3147840"/>
            <a:ext cx="5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财务分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08360" y="2427120"/>
            <a:ext cx="5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决策支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71640" y="3997440"/>
            <a:ext cx="7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集成账务</a:t>
            </a: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6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48196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商业进销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97440" y="2714760"/>
            <a:ext cx="681480" cy="2587680"/>
            <a:chOff x="4897440" y="2714760"/>
            <a:chExt cx="681480" cy="2587680"/>
          </a:xfrm>
        </p:grpSpPr>
        <p:sp>
          <p:nvSpPr>
            <p:cNvPr id="178" name=""/>
            <p:cNvSpPr/>
            <p:nvPr/>
          </p:nvSpPr>
          <p:spPr>
            <a:xfrm>
              <a:off x="4897440" y="2714760"/>
              <a:ext cx="681480" cy="25876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54400" y="3548160"/>
              <a:ext cx="123480" cy="4698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004360" y="2932200"/>
            <a:ext cx="4701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8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52640" y="2832120"/>
            <a:ext cx="435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黑体"/>
                <a:ea typeface="黑体"/>
              </a:rPr>
              <a:t>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160" y="5505480"/>
            <a:ext cx="689760" cy="3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53280" y="217332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U8E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8200" y="51958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74120" y="2971800"/>
            <a:ext cx="1223640" cy="368280"/>
          </a:xfrm>
          <a:prstGeom prst="rect">
            <a:avLst/>
          </a:prstGeom>
          <a:solidFill>
            <a:srgbClr val="ffff00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战略决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00680" y="3665520"/>
            <a:ext cx="1003680" cy="368280"/>
          </a:xfrm>
          <a:prstGeom prst="rect">
            <a:avLst/>
          </a:prstGeom>
          <a:solidFill>
            <a:srgbClr val="ffff00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基础资源管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4280" y="4438800"/>
            <a:ext cx="866520" cy="368280"/>
          </a:xfrm>
          <a:prstGeom prst="rect">
            <a:avLst/>
          </a:prstGeom>
          <a:solidFill>
            <a:srgbClr val="ffff00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供应链管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81120" y="47433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工业购销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300720" y="2569320"/>
            <a:ext cx="1079640" cy="505080"/>
          </a:xfrm>
          <a:custGeom>
            <a:avLst/>
            <a:gdLst/>
            <a:ahLst/>
            <a:rect l="l" t="t" r="r" b="b"/>
            <a:pathLst>
              <a:path w="4082" h="642">
                <a:moveTo>
                  <a:pt x="0" y="635"/>
                </a:moveTo>
                <a:cubicBezTo>
                  <a:pt x="314" y="642"/>
                  <a:pt x="632" y="640"/>
                  <a:pt x="953" y="635"/>
                </a:cubicBezTo>
                <a:cubicBezTo>
                  <a:pt x="1274" y="630"/>
                  <a:pt x="1622" y="624"/>
                  <a:pt x="1929" y="603"/>
                </a:cubicBezTo>
                <a:cubicBezTo>
                  <a:pt x="2236" y="582"/>
                  <a:pt x="2538" y="556"/>
                  <a:pt x="2797" y="512"/>
                </a:cubicBezTo>
                <a:cubicBezTo>
                  <a:pt x="3056" y="468"/>
                  <a:pt x="3311" y="394"/>
                  <a:pt x="3483" y="338"/>
                </a:cubicBezTo>
                <a:cubicBezTo>
                  <a:pt x="3655" y="282"/>
                  <a:pt x="3730" y="230"/>
                  <a:pt x="3830" y="174"/>
                </a:cubicBezTo>
                <a:cubicBezTo>
                  <a:pt x="3930" y="118"/>
                  <a:pt x="4030" y="36"/>
                  <a:pt x="4082" y="0"/>
                </a:cubicBezTo>
              </a:path>
            </a:pathLst>
          </a:custGeom>
          <a:noFill/>
          <a:ln w="152280">
            <a:solidFill>
              <a:srgbClr val="00ccff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7236000" y="2930400"/>
            <a:ext cx="191880" cy="192240"/>
            <a:chOff x="7236000" y="2930400"/>
            <a:chExt cx="191880" cy="192240"/>
          </a:xfrm>
        </p:grpSpPr>
        <p:sp>
          <p:nvSpPr>
            <p:cNvPr id="191" name=""/>
            <p:cNvSpPr/>
            <p:nvPr/>
          </p:nvSpPr>
          <p:spPr>
            <a:xfrm>
              <a:off x="7236000" y="2930400"/>
              <a:ext cx="191880" cy="192240"/>
            </a:xfrm>
            <a:prstGeom prst="ellipse">
              <a:avLst/>
            </a:prstGeom>
            <a:solidFill>
              <a:srgbClr val="ff9999"/>
            </a:solidFill>
            <a:ln w="1260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79920" y="2992320"/>
              <a:ext cx="34560" cy="3492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653080" y="2138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通宝专家分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9144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高度成熟的软件产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83960" y="1720800"/>
            <a:ext cx="466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年的产品发展历程——高度成熟的软件产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59000" y="6216480"/>
            <a:ext cx="5063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万家用户的成功应用——集先进管理思想之大成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6320" y="1371600"/>
            <a:ext cx="89913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开放的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EAI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企业应用集成工具，轻松整合与第三方系统的应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80880" y="2133720"/>
            <a:ext cx="8305920" cy="4495680"/>
            <a:chOff x="380880" y="2133720"/>
            <a:chExt cx="8305920" cy="4495680"/>
          </a:xfrm>
        </p:grpSpPr>
        <p:sp>
          <p:nvSpPr>
            <p:cNvPr id="199" name=""/>
            <p:cNvSpPr/>
            <p:nvPr/>
          </p:nvSpPr>
          <p:spPr>
            <a:xfrm>
              <a:off x="380880" y="2133720"/>
              <a:ext cx="8305920" cy="449568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8080" y="2819520"/>
              <a:ext cx="762120" cy="3505320"/>
            </a:xfrm>
            <a:prstGeom prst="rect">
              <a:avLst/>
            </a:prstGeom>
            <a:gradFill rotWithShape="0">
              <a:gsLst>
                <a:gs pos="0">
                  <a:srgbClr val="5e6c75"/>
                </a:gs>
                <a:gs pos="50000">
                  <a:srgbClr val="ccecff"/>
                </a:gs>
                <a:gs pos="100000">
                  <a:srgbClr val="5e6c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用友软件供应链全面解决方案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15000" y="2743200"/>
              <a:ext cx="304560" cy="35816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93240 h 3581640"/>
                <a:gd name="textAreaBottom" fmla="*/ 3488400 h 358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48160" y="3505320"/>
              <a:ext cx="2133720" cy="4316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银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48160" y="5054760"/>
              <a:ext cx="2133720" cy="4316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办公自动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6760" y="219420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三方应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48160" y="2743200"/>
              <a:ext cx="2133720" cy="4320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行开发的软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28800" y="2743200"/>
              <a:ext cx="457200" cy="358164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93240 h 3581640"/>
                <a:gd name="textAreaBottom" fmla="*/ 3488400 h 358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1960" y="4114800"/>
              <a:ext cx="3276720" cy="838440"/>
            </a:xfrm>
            <a:prstGeom prst="leftRightArrow">
              <a:avLst>
                <a:gd name="adj1" fmla="val 50000"/>
                <a:gd name="adj2" fmla="val 78162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ff66"/>
                </a:gs>
                <a:gs pos="100000">
                  <a:srgbClr val="000000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EAI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企业应用集成工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48160" y="5791320"/>
              <a:ext cx="2133720" cy="4316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其他应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48160" y="4267440"/>
              <a:ext cx="2133720" cy="4316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税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952920" y="8524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高度开放的管理系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205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产品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U8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供应链套件适用对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5040" y="838080"/>
            <a:ext cx="32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供应链产品的适用客户群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00200" y="171756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00200" y="628956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/>
          <p:nvPr/>
        </p:nvCxnSpPr>
        <p:spPr>
          <a:xfrm>
            <a:off x="1523880" y="5982840"/>
            <a:ext cx="153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" name=""/>
          <p:cNvCxnSpPr/>
          <p:nvPr/>
        </p:nvCxnSpPr>
        <p:spPr>
          <a:xfrm>
            <a:off x="1523880" y="5297040"/>
            <a:ext cx="153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" name=""/>
          <p:cNvCxnSpPr/>
          <p:nvPr/>
        </p:nvCxnSpPr>
        <p:spPr>
          <a:xfrm>
            <a:off x="1523880" y="4307040"/>
            <a:ext cx="153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" name=""/>
          <p:cNvCxnSpPr/>
          <p:nvPr/>
        </p:nvCxnSpPr>
        <p:spPr>
          <a:xfrm>
            <a:off x="1523880" y="3165480"/>
            <a:ext cx="153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/>
          <p:nvPr/>
        </p:nvCxnSpPr>
        <p:spPr>
          <a:xfrm>
            <a:off x="1523880" y="2251080"/>
            <a:ext cx="153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091880" y="580536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83160" y="510228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83160" y="411156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37080" y="3000240"/>
            <a:ext cx="5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13400" y="2085840"/>
            <a:ext cx="5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59850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57400" y="5985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819520" y="53751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53751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733920" y="438444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38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181480" y="32414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3241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3960" y="1676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企业规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92720" y="6324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可控动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400800" y="217476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5520" y="3089160"/>
            <a:ext cx="1439640" cy="2735280"/>
          </a:xfrm>
          <a:prstGeom prst="ellipse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ff0000">
                  <a:alpha val="7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客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8680" y="1150920"/>
            <a:ext cx="1440000" cy="2735280"/>
          </a:xfrm>
          <a:prstGeom prst="ellipse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ff0000">
                  <a:alpha val="7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端组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全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息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18200" y="2773440"/>
            <a:ext cx="45864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81280" y="3271680"/>
            <a:ext cx="72900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战略决策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企业文化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组织形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44440" y="1299960"/>
            <a:ext cx="454680" cy="34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资源的合理应用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&amp;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高效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55280" y="261252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关键资源控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17200" y="41619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高效作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36000" y="467640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关键技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企业 管理</cp:keywords>
  <dc:language>en-US</dc:language>
  <cp:lastModifiedBy/>
  <cp:revision>0</cp:revision>
  <dc:subject/>
  <dc:title/>
</cp:coreProperties>
</file>