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PROJCTOR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A895-5614-4AD4-B9E7-01B299A28482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CD1B-194A-44E3-A27A-68E6CA34E0F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703D-9244-4F57-8556-C57BCAB13B0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B438-4DA7-4906-8950-EC23D3E5B37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FD50-8967-4BCF-9108-428613F96F39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82EE-3026-4206-BFF9-3EAC6FDB8AA7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FC0-1265-4FBC-8F59-A877D619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010-2B25-49B6-B296-B202F0DD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C19-EF54-451C-9BA7-52DE009B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620-B5F7-499B-9890-143F8F4D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73C0-DEC2-4578-B8BD-6AC57C93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D188-266E-42EC-A698-2A4D4CD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66E3-89BF-4C2E-98E1-1F05F8A6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F436-D09B-4EF1-B96B-D35E2540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0DBA-2497-4157-B3A2-3582D4A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F2C0-2F81-4CBE-B4A7-AEF9F9D5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C63F-90CA-4614-8291-123858BF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07D-379D-422F-8001-580A4CA0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47A3-6306-42B0-94C7-B75BBB2C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9143-0230-4588-9586-72D989B5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99F4-B1B7-4BE2-A24D-99361C9E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AB11-DEB5-4725-B1CF-D1ED394F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106B-74A3-4C0E-A1C4-E6D75359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A5C-E928-4F01-951F-4B45617E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B8C1-82A8-42AA-A85E-42386881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665-6F92-4FC5-8E5B-EBC6AB6F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9123-F20B-4CF2-8DFA-51B99A92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BDF-580F-45AC-B8A8-83CCF3E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D184-F54E-405C-901F-DA32847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C83-7C7C-4770-83D0-B3066B00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C1FD-0181-4FA2-AC06-54CA1191686D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DED2-0266-4A6E-A114-70800452E137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7081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系統的角色－</a:t>
            </a: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標楷體"/>
              </a:rPr>
              <a:t>2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5640" y="3352320"/>
            <a:ext cx="25909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客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供應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股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4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債權人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52880" y="33523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5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證券分析師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6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員工工會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7.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  <a:ea typeface="標楷體"/>
              </a:rPr>
              <a:t>政府機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2286000"/>
            <a:ext cx="61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Times New Roman"/>
                <a:ea typeface="MingLiU"/>
              </a:rPr>
              <a:t>→</a:t>
            </a:r>
            <a:r>
              <a:rPr b="0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外部使用者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6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＊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企業專題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4-1</a:t>
            </a:r>
            <a:br>
              <a:rPr sz="3600"/>
            </a:b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聯強國際：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ERP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 </a:t>
            </a:r>
            <a:r>
              <a:rPr b="0" lang="zh-TW" sz="4400" spc="-1" strike="noStrike">
                <a:solidFill>
                  <a:srgbClr val="ffff00"/>
                </a:solidFill>
                <a:latin typeface="Mirror"/>
                <a:ea typeface="超研澤魏碑體"/>
              </a:rPr>
              <a:t>v.s.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 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會計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MingLiU"/>
                <a:ea typeface="標楷體"/>
              </a:rPr>
              <a:t>導入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ERP</a:t>
            </a:r>
            <a:r>
              <a:rPr b="0" lang="zh-TW" sz="4400" spc="-1" strike="noStrike">
                <a:solidFill>
                  <a:srgbClr val="ffff00"/>
                </a:solidFill>
                <a:latin typeface="MingLiU"/>
                <a:ea typeface="標楷體"/>
              </a:rPr>
              <a:t>時之要求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會計科目要非常清楚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各部門必須在一定期限內向會計部門報支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MingLiU"/>
                <a:ea typeface="標楷體"/>
              </a:rPr>
              <a:t>企業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標楷體"/>
              </a:rPr>
              <a:t>e</a:t>
            </a:r>
            <a:r>
              <a:rPr b="0" lang="zh-TW" sz="4400" spc="-1" strike="noStrike">
                <a:solidFill>
                  <a:srgbClr val="ffff00"/>
                </a:solidFill>
                <a:latin typeface="MingLiU"/>
                <a:ea typeface="標楷體"/>
              </a:rPr>
              <a:t>化之共通重點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「維持第一時間的工作品質」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超研澤魏碑體"/>
                <a:ea typeface="超研澤魏碑體"/>
              </a:rPr>
              <a:t>第三節　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與組織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價值鏈的基本理論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資訊科技對價值鏈的影響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長鞭效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Arial"/>
              <a:buChar char="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企業專題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4-2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　汽車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e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化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系統如何增加企業之價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為什麼要學會計資訊系統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的基本型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有類似的架構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(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不論人工或電腦化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有類似的處理流程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(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使用的會計方法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有類似的目的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(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提供會計資訊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資訊系統可增加企業之價值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240" y="2743200"/>
            <a:ext cx="7162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提升產品或勞務的品質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增進效率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改進管理決策的過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21280" y="1981080"/>
            <a:ext cx="27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8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價值工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長鞭效應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</a:rPr>
              <a:t>定義：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579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當價值系統中的某一點發生波動時，連帶造成價值系統中的其他成員也發生波動，而距波動發生的來源愈遠，波動就愈大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形成原因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批次訂貨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訂貨間隔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價格波動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供給短缺之預期心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6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＊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企業專題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4-2</a:t>
            </a:r>
            <a:r>
              <a:rPr b="0" lang="zh-TW" sz="36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　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汽車業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e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化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MingLiU"/>
                <a:ea typeface="標楷體"/>
              </a:rPr>
              <a:t>汽車的生命週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研發→設計→製造→銷售→售後服務→廢車回收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00"/>
                </a:solidFill>
                <a:latin typeface="MingLiU"/>
                <a:ea typeface="標楷體"/>
              </a:rPr>
              <a:t>資訊科技之影響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新細明體"/>
              </a:rPr>
              <a:t>車款研發及測試工程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生產線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1219320" indent="-457200">
              <a:lnSpc>
                <a:spcPct val="100000"/>
              </a:lnSpc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</a:rPr>
              <a:t>行銷、銷售及服務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</a:t>
            </a:r>
            <a:br>
              <a:rPr sz="4400"/>
            </a:b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如何增加企業之價值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主要活動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內運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操作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外運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行銷與銷售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5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服務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→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支援性活動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公司基礎功能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人力資源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研究發展、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採購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57168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超研澤魏碑體"/>
              </a:rPr>
              <a:t>為什麼要學會計資訊系統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2590560"/>
            <a:ext cx="2438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1.</a:t>
            </a: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使用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2.</a:t>
            </a: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評估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3.</a:t>
            </a:r>
            <a:r>
              <a:rPr b="0" lang="zh-TW" sz="4000" spc="-1" strike="noStrike">
                <a:solidFill>
                  <a:srgbClr val="3333ff"/>
                </a:solidFill>
                <a:latin typeface="Arial"/>
                <a:ea typeface="標楷體"/>
              </a:rPr>
              <a:t>開發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809880" cy="359280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PROJCTO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超研澤魏碑體"/>
                <a:ea typeface="超研澤魏碑體"/>
              </a:rPr>
              <a:t>第四節　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之未來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系統未來的應用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標楷體"/>
              </a:rPr>
              <a:t>傳統的會計資訊系統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標楷體"/>
              </a:rPr>
              <a:t>未來會計資訊系統的設計概念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lvl="1" marL="3513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＊企業專題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4-3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　網路財報新語言－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XBR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實務焦點－會計教育何去何從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MingLiU"/>
                <a:ea typeface="標楷體"/>
              </a:rPr>
              <a:t>三個令人引以為憂的現象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MingLiU"/>
                <a:ea typeface="標楷體"/>
              </a:rPr>
              <a:t>會計系的課程內容安排及設計，應予重新思考及定位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4920" y="556920"/>
            <a:ext cx="723924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超研澤魏碑體"/>
              </a:rPr>
              <a:t>會計資訊系統未來的應用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2286000"/>
            <a:ext cx="190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1</a:t>
            </a: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不同年代下的資訊種類與獲得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4835520" cy="437832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PROJCTO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超研澤魏碑體"/>
              </a:rPr>
              <a:t>傳統的會計資訊系統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00400"/>
            <a:ext cx="4191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請參見　圖</a:t>
            </a:r>
            <a:r>
              <a:rPr b="0" lang="zh-TW" sz="40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2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未來會計資訊系統的設計概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6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3</a:t>
            </a:r>
            <a:r>
              <a:rPr b="0" lang="zh-TW" sz="36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決策導向的會計資訊系統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5892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44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4</a:t>
            </a:r>
            <a:r>
              <a:rPr b="0" lang="zh-TW" sz="44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各種決策模式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92200" y="2071800"/>
            <a:ext cx="71280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92200" y="3503520"/>
            <a:ext cx="71280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7467480" cy="5310360"/>
          </a:xfrm>
          <a:prstGeom prst="rect">
            <a:avLst/>
          </a:prstGeom>
          <a:ln w="0">
            <a:noFill/>
          </a:ln>
        </p:spPr>
      </p:pic>
    </p:spTree>
  </p:cSld>
  <p:transition>
    <p:zoom dir="in"/>
    <p:sndAc>
      <p:stSnd>
        <p:snd r:embed="rId3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6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Arial"/>
                <a:ea typeface="標楷體"/>
              </a:rPr>
              <a:t>＊</a:t>
            </a:r>
            <a:r>
              <a:rPr b="0" lang="zh-TW" sz="44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企業專題</a:t>
            </a:r>
            <a:r>
              <a:rPr b="0" lang="zh-TW" sz="4400" spc="-1" strike="noStrike">
                <a:solidFill>
                  <a:srgbClr val="ffff00"/>
                </a:solidFill>
                <a:latin typeface="Arial"/>
                <a:ea typeface="超研澤魏碑體"/>
              </a:rPr>
              <a:t>4-3</a:t>
            </a:r>
            <a:br>
              <a:rPr sz="3600"/>
            </a:br>
            <a:r>
              <a:rPr b="0" lang="zh-TW" sz="4800" spc="-1" strike="noStrike">
                <a:solidFill>
                  <a:srgbClr val="ffff00"/>
                </a:solidFill>
                <a:latin typeface="超研澤魏碑體"/>
                <a:ea typeface="超研澤魏碑體"/>
              </a:rPr>
              <a:t>網路財報新語言－</a:t>
            </a:r>
            <a:r>
              <a:rPr b="0" lang="zh-TW" sz="4800" spc="-1" strike="noStrike">
                <a:solidFill>
                  <a:srgbClr val="ffff00"/>
                </a:solidFill>
                <a:latin typeface="Arial"/>
                <a:ea typeface="超研澤魏碑體"/>
              </a:rPr>
              <a:t>XBRL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28195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37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超研澤魏碑體"/>
              </a:rPr>
              <a:t>XML </a:t>
            </a:r>
            <a:r>
              <a:rPr b="0" lang="zh-TW" sz="4000" spc="-1" strike="noStrike">
                <a:solidFill>
                  <a:srgbClr val="eaeaea"/>
                </a:solidFill>
                <a:latin typeface="Mirror"/>
                <a:ea typeface="超研澤魏碑體"/>
              </a:rPr>
              <a:t>v.s.</a:t>
            </a: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超研澤魏碑體"/>
              </a:rPr>
              <a:t> XBRL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571680" indent="-571680">
              <a:spcBef>
                <a:spcPts val="41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超研澤魏碑體"/>
              </a:rPr>
              <a:t>XBRL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標楷體"/>
              </a:rPr>
              <a:t>之發展沿革及目的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571680" indent="-571680">
              <a:spcBef>
                <a:spcPts val="4124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  <a:ea typeface="超研澤魏碑體"/>
              </a:rPr>
              <a:t>XBRL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標楷體"/>
              </a:rPr>
              <a:t>之特性及效益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超研澤魏碑體"/>
                <a:ea typeface="超研澤魏碑體"/>
              </a:rPr>
              <a:t>第一節　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企業的語言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企業活動與財務報表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的重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5461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33ff"/>
                </a:solidFill>
                <a:latin typeface="Arial"/>
                <a:ea typeface="超研澤魏碑體"/>
              </a:rPr>
              <a:t>企業活動與財務報表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828800"/>
            <a:ext cx="3429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0000"/>
                </a:solidFill>
                <a:latin typeface="Times New Roman"/>
                <a:ea typeface="超研澤魏碑體"/>
              </a:rPr>
              <a:t>會計：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企業的語言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(Language of Business)</a:t>
            </a:r>
            <a:r>
              <a:rPr b="0" lang="zh-TW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67080" y="1676520"/>
          <a:ext cx="4191120" cy="34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1676520"/>
                    <a:ext cx="41911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043000" y="5257800"/>
            <a:ext cx="468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1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企業循環與財務報表的關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2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會計循環的一般化模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411444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ff"/>
                </a:solidFill>
                <a:latin typeface="Arial"/>
                <a:ea typeface="超研澤魏碑體"/>
              </a:rPr>
              <a:t>會計資訊的重要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560" y="487692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交易事項的處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制訂決策、規劃和控制活動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3.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	</a:t>
            </a:r>
            <a:r>
              <a:rPr b="0" lang="zh-TW" sz="3200" spc="-1" strike="noStrike">
                <a:solidFill>
                  <a:srgbClr val="3333ff"/>
                </a:solidFill>
                <a:latin typeface="Arial"/>
                <a:ea typeface="標楷體"/>
              </a:rPr>
              <a:t>產品及服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219320"/>
          <a:ext cx="5715000" cy="26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219320"/>
                    <a:ext cx="57150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185200" y="533520"/>
            <a:ext cx="41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3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會計系統的組成與功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4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792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90600"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超研澤魏碑體"/>
                <a:ea typeface="超研澤魏碑體"/>
              </a:rPr>
              <a:t>第二節　</a:t>
            </a: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之定義與角色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MIS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與</a:t>
            </a: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AI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"/>
                <a:ea typeface="標楷體"/>
              </a:rPr>
              <a:t>會計資訊系統的角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343044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＊企業專題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4-1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　聯強國際：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3430440" indent="0">
              <a:spcBef>
                <a:spcPts val="9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  <a:ea typeface="標楷體"/>
              </a:rPr>
              <a:t>ERP </a:t>
            </a:r>
            <a:r>
              <a:rPr b="0" lang="zh-TW" sz="3200" spc="-1" strike="noStrike">
                <a:solidFill>
                  <a:srgbClr val="ff0000"/>
                </a:solidFill>
                <a:latin typeface="Mirror"/>
                <a:ea typeface="標楷體"/>
              </a:rPr>
              <a:t>v.s. </a:t>
            </a:r>
            <a:r>
              <a:rPr b="0" lang="zh-TW" sz="3600" spc="-1" strike="noStrike">
                <a:solidFill>
                  <a:srgbClr val="ff0000"/>
                </a:solidFill>
                <a:latin typeface="Arial"/>
                <a:ea typeface="標楷體"/>
              </a:rPr>
              <a:t>會計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43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MIS</a:t>
            </a:r>
            <a:r>
              <a:rPr b="0" lang="zh-CN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與</a:t>
            </a:r>
            <a:r>
              <a:rPr b="0" lang="en-US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AI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1523520"/>
            <a:ext cx="7391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AIS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通常被視為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MIS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中的一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一套完整的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MIS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會涉及四個部分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在管理資訊系統中，包含一些子系統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行銷資訊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製造資訊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人力資源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財務資訊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會計資訊系統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的定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狹義：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一個電腦化的會計系統，它將會計資料變成會計資訊，供組織內、外部使用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廣義：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一個經過整合的資訊系統，為組織資訊系統中的一部份，利用各種資源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(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人、機器、資本等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)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，將組織的經濟事項，轉換成會計資訊的資料處理系統，其目的在提供資訊使用者可靠的會計資訊，協助其制定各種決策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13680" y="579132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5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管理資訊系統之組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超研澤魏碑體"/>
              </a:rPr>
              <a:t>會計資訊系統的角色</a:t>
            </a: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標楷體"/>
              </a:rPr>
              <a:t>－</a:t>
            </a:r>
            <a:r>
              <a:rPr b="0" lang="zh-TW" sz="4800" spc="-1" strike="noStrike">
                <a:solidFill>
                  <a:srgbClr val="eaeaea"/>
                </a:solidFill>
                <a:latin typeface="Arial"/>
                <a:ea typeface="標楷體"/>
              </a:rPr>
              <a:t>1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89548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MingLiU"/>
              </a:rPr>
              <a:t>→</a:t>
            </a:r>
            <a:r>
              <a:rPr b="0" lang="zh-TW" sz="4000" spc="-1" strike="noStrike">
                <a:solidFill>
                  <a:srgbClr val="ff0000"/>
                </a:solidFill>
                <a:latin typeface="Arial"/>
                <a:ea typeface="標楷體"/>
              </a:rPr>
              <a:t>內部使用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指出問題所在，促使管理人員採取適當的措施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2.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  <a:ea typeface="標楷體"/>
              </a:rPr>
              <a:t>降低可行方案的不確定性，作為選擇可行方案之判斷基礎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65960" y="990720"/>
            <a:ext cx="39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圖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4-6</a:t>
            </a:r>
            <a:r>
              <a:rPr b="0" lang="zh-TW" sz="3200" spc="-1" strike="noStrike">
                <a:solidFill>
                  <a:srgbClr val="ff0000"/>
                </a:solidFill>
                <a:latin typeface="超研澤魏碑體"/>
                <a:ea typeface="超研澤魏碑體"/>
              </a:rPr>
              <a:t>　會計資訊系統之角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会计 资讯</cp:keywords>
  <dc:language>en-US</dc:language>
  <cp:lastModifiedBy/>
  <cp:revision>0</cp:revision>
  <dc:subject/>
  <dc:title/>
</cp:coreProperties>
</file>