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CARBRAKE.WAV" ContentType="audio/x-wav"/>
  <Override PartName="/ppt/media/image16.wmf" ContentType="image/x-wmf"/>
  <Override PartName="/ppt/media/image6.wmf" ContentType="image/x-wmf"/>
  <Override PartName="/ppt/media/image5.wmf" ContentType="image/x-wmf"/>
  <Override PartName="/ppt/media/applause.wav" ContentType="audio/x-wav"/>
  <Override PartName="/ppt/media/image4.png" ContentType="image/png"/>
  <Override PartName="/ppt/media/TYPE.WAV" ContentType="audio/x-wav"/>
  <Override PartName="/ppt/media/image12.wmf" ContentType="image/x-wmf"/>
  <Override PartName="/ppt/media/image3.png" ContentType="image/png"/>
  <Override PartName="/ppt/media/image11.wmf" ContentType="image/x-wmf"/>
  <Override PartName="/ppt/media/image2.png" ContentType="image/png"/>
  <Override PartName="/ppt/media/GLASS.WAV" ContentType="audio/x-wav"/>
  <Override PartName="/ppt/media/chimes.wav" ContentType="audio/x-wav"/>
  <Override PartName="/ppt/media/LASER.WAV" ContentType="audio/x-wav"/>
  <Override PartName="/ppt/media/image14.wmf" ContentType="image/x-wmf"/>
  <Override PartName="/ppt/media/image17.png" ContentType="image/png"/>
  <Override PartName="/ppt/media/driveby.wav" ContentType="audio/x-wav"/>
  <Override PartName="/ppt/media/EXPLODE.WAV" ContentType="audio/x-wav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projctor.wav" ContentType="audio/x-wav"/>
  <Override PartName="/ppt/media/CAMERA.WAV" ContentType="audio/x-wav"/>
  <Override PartName="/ppt/media/image1.jpeg" ContentType="image/jpeg"/>
  <Override PartName="/ppt/media/image15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8FC9-B236-4141-A60C-DA420DB45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5028-16D9-4ADF-BEDB-F9374D926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DBF0-D6C4-4EDB-932D-A6F246CBA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B102-8B74-49D3-86E8-9F513B84B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3CF9-15B7-4260-BA9E-86E5D08510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8602-B6F2-4D49-A7F3-074B6BA440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9EFB-9639-4361-866A-1C4BC0AD7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1219-8098-44D1-9D4A-1CEB67539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2009-69A6-4775-857B-373DD6E8E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530E-ED8A-4D42-8055-26C8E7867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5B74-A2B4-42BD-8C9D-7D7069A0E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9C09-AFCE-49A1-9F6E-2087FF62E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A7F6-60FE-4F88-99C1-5A28163C6E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455E-6E07-4DB8-9A6D-34E94A6203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3082-A26D-4907-BB3E-9EDB63398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769E-C605-412F-922D-6B235ADDC2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97EB-C01A-466C-B3F0-C1BED8991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2369-3A2A-4060-9E60-3E48E677C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F15-8CE8-4EC1-9076-2DD5F085E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A540-3774-434D-B706-10D5EC50E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F2C9-DF59-41DD-AF45-326AE3D6A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9121-0325-4651-AB16-64E913FD9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F853-3CB7-4642-9100-0150BFB72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A3A3-7578-4B6D-9228-FA53B8559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5063-EF74-4960-BE3A-A5394D297622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409-2039-4019-A1C3-48E47A3258A8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../../../download/New%20Page%202.files/l3.ppt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ecff"/>
                </a:solidFill>
                <a:latin typeface="Tahoma"/>
                <a:ea typeface="隶书"/>
              </a:rPr>
              <a:t> </a:t>
            </a:r>
            <a:r>
              <a:rPr b="1" lang="zh-CN" sz="8800" spc="-1" strike="noStrike">
                <a:solidFill>
                  <a:srgbClr val="ccecff"/>
                </a:solidFill>
                <a:latin typeface="Tahoma"/>
                <a:ea typeface="隶书"/>
              </a:rPr>
              <a:t>基  础   会  计</a:t>
            </a:r>
            <a:endParaRPr b="0" lang="en-US" sz="8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99"/>
                </a:solidFill>
                <a:latin typeface="方正水柱简体"/>
                <a:ea typeface="方正水柱简体"/>
              </a:rPr>
              <a:t>教     案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A99A-0E9F-4A6A-9B04-69F3D9AAB48A}" type="slidenum">
              <a:t>1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cc"/>
                </a:solidFill>
                <a:latin typeface="方正水柱简体"/>
                <a:ea typeface="方正水柱简体"/>
              </a:rPr>
              <a:t>第二章   会计科目与帐户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会计科目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借贷记帐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会计分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2971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819520"/>
            <a:ext cx="16765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总帐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（一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明细科目             （二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971800"/>
            <a:ext cx="15238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子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细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19112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411480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191120"/>
            <a:ext cx="1752840" cy="990360"/>
          </a:xfrm>
          <a:custGeom>
            <a:avLst/>
            <a:gdLst>
              <a:gd name="textAreaLeft" fmla="*/ 411840 w 1752840"/>
              <a:gd name="textAreaRight" fmla="*/ 1339920 w 17528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机器设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车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F1E5-F1FE-4C25-BCBC-27F673F787C1}" type="slidenum">
              <a:t>10</a:t>
            </a:fld>
          </a:p>
        </p:txBody>
      </p:sp>
    </p:spTree>
  </p:cSld>
  <p:transition>
    <p:pull dir="d"/>
  </p:transition>
  <p:timing>
    <p:tnLst>
      <p:par>
        <p:cTn id="646" dur="indefinite" restart="never" nodeType="tmRoot">
          <p:childTnLst>
            <p:seq>
              <p:cTn id="64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ccff"/>
                </a:solidFill>
                <a:uFillTx/>
                <a:latin typeface="Tahoma"/>
                <a:ea typeface="方正姚体简体"/>
              </a:rPr>
              <a:t>会 计 分 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971800"/>
            <a:ext cx="1676160" cy="1214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记帐符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200400"/>
            <a:ext cx="1600200" cy="99072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会计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结构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例： 借：    现金   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5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       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贷：   银行存款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5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200400"/>
            <a:ext cx="1219320" cy="990720"/>
          </a:xfrm>
          <a:prstGeom prst="can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金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49568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49568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49568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C820-591A-4EB1-B262-4AE6481547D6}" type="slidenum">
              <a:t>11</a:t>
            </a:fld>
          </a:p>
        </p:txBody>
      </p:sp>
    </p:spTree>
  </p:cSld>
  <p:transition>
    <p:pull dir="r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75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75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75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75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方正姚体简体"/>
              </a:rPr>
              <a:t>借贷记帐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cc99"/>
                </a:solidFill>
                <a:latin typeface="Tahoma"/>
              </a:rPr>
              <a:t>借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帐    户        </a:t>
            </a:r>
            <a:r>
              <a:rPr b="0" lang="zh-CN" sz="3200" spc="-1" strike="noStrike">
                <a:solidFill>
                  <a:srgbClr val="ffcc99"/>
                </a:solidFill>
                <a:latin typeface="Tahoma"/>
              </a:rPr>
              <a:t> 贷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资产的增加          资产的减少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负债的减少          负债的增加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权益的减少          权益的增加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成本的增加          成本的减少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收益的减少          收益的增加</a:t>
            </a: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7432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743200"/>
            <a:ext cx="0" cy="38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3344-9865-4A5E-ACFA-CD04E3FDC02F}" type="slidenum">
              <a:t>12</a:t>
            </a:fld>
          </a:p>
        </p:txBody>
      </p:sp>
    </p:spTree>
  </p:cSld>
  <p:transition>
    <p:random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  <a:ea typeface="方正姚体简体"/>
              </a:rPr>
              <a:t>复式记帐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复式记帐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会计等式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资产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=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负债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+ 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所有者权益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复式记帐内容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设置科目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确定记帐符号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制定记帐规则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规定平衡公式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F381-C886-4631-8120-8DB6D93084FB}" type="slidenum">
              <a:t>13</a:t>
            </a:fld>
          </a:p>
        </p:txBody>
      </p:sp>
    </p:spTree>
  </p:cSld>
  <p:transition>
    <p:randomBar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3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3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00"/>
                </a:solidFill>
                <a:latin typeface="方正水柱简体"/>
                <a:ea typeface="方正水柱简体"/>
              </a:rPr>
              <a:t>第四章  会计对象要素</a:t>
            </a:r>
            <a:br>
              <a:rPr sz="4800"/>
            </a:br>
            <a:r>
              <a:rPr b="1" lang="zh-CN" sz="4800" spc="-1" strike="noStrike">
                <a:solidFill>
                  <a:srgbClr val="669900"/>
                </a:solidFill>
                <a:latin typeface="方正水柱简体"/>
                <a:ea typeface="方正水柱简体"/>
              </a:rPr>
              <a:t>           的确认与计量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ahoma"/>
                <a:ea typeface="文鼎CS长宋"/>
              </a:rPr>
              <a:t>资产的确认与计量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200400"/>
            <a:ext cx="990720" cy="9144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657600"/>
            <a:ext cx="380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26668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4495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5791320"/>
            <a:ext cx="16002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228600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320040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95288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403848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6400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334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657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流动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投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无形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其他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25909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53341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1828800"/>
            <a:ext cx="0" cy="1447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828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4382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银行存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现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收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存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34290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累计折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债券、股票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专利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DB4A-1DC6-4452-9D93-C77CE00C4FC8}" type="slidenum">
              <a:t>14</a:t>
            </a:fld>
          </a:p>
        </p:txBody>
      </p:sp>
    </p:spTree>
  </p:cSld>
  <p:transition>
    <p:cover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75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75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75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75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75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75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75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75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75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75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75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00"/>
                </a:solidFill>
                <a:latin typeface="Tahoma"/>
              </a:rPr>
              <a:t>负债的确认与计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3505320"/>
            <a:ext cx="990720" cy="685800"/>
          </a:xfrm>
          <a:custGeom>
            <a:avLst/>
            <a:gdLst>
              <a:gd name="textAreaLeft" fmla="*/ 80640 w 990720"/>
              <a:gd name="textAreaRight" fmla="*/ 910080 w 99072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311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599" y="21600"/>
                </a:lnTo>
                <a:arcTo wR="3600" hR="3600" stAng="10800000" swAng="5400000"/>
                <a:lnTo>
                  <a:pt x="31199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8862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2666880"/>
            <a:ext cx="0" cy="297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56386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438280"/>
            <a:ext cx="160020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流动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5334120"/>
            <a:ext cx="16002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7432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56386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1981080"/>
            <a:ext cx="0" cy="3353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19810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4382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4290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9625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44197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短期借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票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预收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657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工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4800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福利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交税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53341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预提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借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2113-DAE8-454D-83BE-AFC51A9CAEAF}" type="slidenum">
              <a:t>15</a:t>
            </a:fld>
          </a:p>
        </p:txBody>
      </p:sp>
    </p:spTree>
  </p:cSld>
  <p:transition>
    <p:zoom dir="in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75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75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75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75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75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7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75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75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75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00"/>
                </a:solidFill>
                <a:latin typeface="Tahoma"/>
                <a:ea typeface="隶书"/>
              </a:rPr>
              <a:t>所有者权益确认与计量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3124080"/>
            <a:ext cx="1523880" cy="1143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3200400"/>
            <a:ext cx="167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所有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权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3657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2133720"/>
            <a:ext cx="0" cy="4267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133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6400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1752480"/>
            <a:ext cx="2209680" cy="609840"/>
          </a:xfrm>
          <a:prstGeom prst="parallelogram">
            <a:avLst>
              <a:gd name="adj" fmla="val 90584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048120"/>
            <a:ext cx="2209680" cy="609480"/>
          </a:xfrm>
          <a:prstGeom prst="parallelogram">
            <a:avLst>
              <a:gd name="adj" fmla="val 90638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495680"/>
            <a:ext cx="2209680" cy="609840"/>
          </a:xfrm>
          <a:prstGeom prst="parallelogram">
            <a:avLst>
              <a:gd name="adj" fmla="val 90584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5943600"/>
            <a:ext cx="2210040" cy="609480"/>
          </a:xfrm>
          <a:prstGeom prst="parallelogram">
            <a:avLst>
              <a:gd name="adj" fmla="val 90653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33526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实收资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资本公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盈余公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未分配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7D3D-5431-42E8-B6FA-9BD5903DB3E6}" type="slidenum">
              <a:t>16</a:t>
            </a:fld>
          </a:p>
        </p:txBody>
      </p:sp>
    </p:spTree>
  </p:cSld>
  <p:transition>
    <p:split dir="in" orient="vert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75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75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75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75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75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ahoma"/>
                <a:ea typeface="隶书"/>
              </a:rPr>
              <a:t>收入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2771640"/>
          <a:ext cx="914400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71640"/>
                    <a:ext cx="914400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A4EE-1753-4ED6-9635-EEE78B213981}" type="slidenum">
              <a:t>17</a:t>
            </a:fld>
          </a:p>
        </p:txBody>
      </p:sp>
    </p:spTree>
  </p:cSld>
  <p:transition>
    <p:strips dir="rd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ahoma"/>
                <a:ea typeface="隶书"/>
              </a:rPr>
              <a:t>费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3657600"/>
            <a:ext cx="1371600" cy="838080"/>
          </a:xfrm>
          <a:prstGeom prst="plus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2590920"/>
            <a:ext cx="0" cy="3047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25909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286000"/>
            <a:ext cx="1676160" cy="685800"/>
          </a:xfrm>
          <a:prstGeom prst="flowChartOnlineStorag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257800"/>
            <a:ext cx="1828800" cy="685800"/>
          </a:xfrm>
          <a:prstGeom prst="flowChartOnlineStorag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286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生产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期间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1752480"/>
            <a:ext cx="0" cy="221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17524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直接材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直接人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制造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434340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6553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4191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管理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销售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财务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FA30-0500-400A-BEBB-91FFFAA9A725}" type="slidenum">
              <a:t>18</a:t>
            </a:fld>
          </a:p>
        </p:txBody>
      </p:sp>
    </p:spTree>
  </p:cSld>
  <p:transition>
    <p:strips dir="ld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75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75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7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7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7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7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7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7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Tahoma"/>
                <a:ea typeface="方正水柱简体"/>
              </a:rPr>
              <a:t>第五章   会计凭证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 rot="21548400">
            <a:off x="7391520" y="533520"/>
            <a:ext cx="1218960" cy="1066680"/>
          </a:xfrm>
          <a:prstGeom prst="flowChartMultidocumen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3809880"/>
            <a:ext cx="990360" cy="1295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13640" y="3809880"/>
            <a:ext cx="91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原始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2590920"/>
            <a:ext cx="0" cy="358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59092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358128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487692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61722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2286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填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45720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86728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335268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格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15238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自制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73392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42670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6668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32004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800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53341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3400" y="5943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6477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0574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一次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4340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累计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汇总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通知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4800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执行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533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计算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统一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专用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外来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087D-D9E1-4609-A34C-14F507D1BCCC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3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3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3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3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3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3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3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3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3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3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3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3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3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3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3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3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ff"/>
                </a:solidFill>
                <a:latin typeface="Tahoma"/>
                <a:ea typeface="方正水柱简体"/>
              </a:rPr>
              <a:t>第一章      总论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一节     会计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二节     会计的对象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会计对象概念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企业资金运动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三节     会计的职能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四节     会计的核算方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DD80-ABBF-4E54-B656-769B3AF49930}" type="slidenum">
              <a:t>2</a:t>
            </a:fld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方正水柱简体"/>
              </a:rPr>
              <a:t>第六章   会计帐簿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2971800"/>
            <a:ext cx="106668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278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帐       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2666880"/>
            <a:ext cx="0" cy="3048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5715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2286000"/>
            <a:ext cx="9144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5410080"/>
            <a:ext cx="9144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16765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日记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22096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ccff"/>
                </a:solidFill>
                <a:uFillTx/>
                <a:latin typeface="Times New Roman"/>
              </a:rPr>
              <a:t>分类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2743200"/>
            <a:ext cx="1752840" cy="380880"/>
          </a:xfrm>
          <a:prstGeom prst="parallelogram">
            <a:avLst>
              <a:gd name="adj" fmla="val 115052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明细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32767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3962520"/>
            <a:ext cx="1752840" cy="380880"/>
          </a:xfrm>
          <a:prstGeom prst="parallelogram">
            <a:avLst>
              <a:gd name="adj" fmla="val 115052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联合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备查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3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00400" y="49528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56386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62485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4876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订本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活页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卡片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E3EA-BA2F-475C-A66F-BC3BEC99D94B}" type="slidenum">
              <a:t>20</a:t>
            </a:fld>
          </a:p>
        </p:txBody>
      </p:sp>
    </p:spTree>
  </p:cSld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2F70-77DB-485C-B2B8-94FD0DFDC318}" type="slidenum">
              <a:t>21</a:t>
            </a:fld>
          </a:p>
        </p:txBody>
      </p:sp>
    </p:spTree>
  </p:cSld>
  <p:transition>
    <p:zoom dir="out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58D5-82FB-45EA-B810-C924FF4D5E57}" type="slidenum">
              <a:t>22</a:t>
            </a:fld>
          </a:p>
        </p:txBody>
      </p:sp>
    </p:spTree>
  </p:cSld>
  <p:transition>
    <p:cover dir="lu"/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  <a:ea typeface="方正水柱简体"/>
              </a:rPr>
              <a:t>第七章   财产清查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ahoma"/>
                <a:ea typeface="文鼎CS长宋"/>
              </a:rPr>
              <a:t>财产清查的概念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Tahoma"/>
                <a:ea typeface="文鼎CS长宋"/>
              </a:rPr>
              <a:t>财产清查的制度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Tahoma"/>
                <a:ea typeface="文鼎CS长宋"/>
              </a:rPr>
              <a:t>     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1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。永续盘存制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     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2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。实地盘存制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Tahoma"/>
                <a:ea typeface="文鼎CS长宋"/>
              </a:rPr>
              <a:t>现金的清查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ahoma"/>
                <a:ea typeface="文鼎CS长宋"/>
              </a:rPr>
              <a:t>银行存款调节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DDED-3F0C-4CF6-B10B-735CA8B5012C}" type="slidenum">
              <a:t>23</a:t>
            </a:fld>
          </a:p>
        </p:txBody>
      </p:sp>
    </p:spTree>
  </p:cSld>
  <p:transition>
    <p:cover dir="rd"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ahoma"/>
                <a:ea typeface="方正水柱简体"/>
              </a:rPr>
              <a:t>第八章 会计报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ahoma"/>
                <a:ea typeface="方正舒体"/>
              </a:rPr>
              <a:t>会计报表的发展    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ccff"/>
                </a:solidFill>
                <a:uFillTx/>
                <a:latin typeface="Tahoma"/>
                <a:ea typeface="方正舒体"/>
              </a:rPr>
              <a:t>会计报表种类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81280" cy="350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410080" y="160020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琥珀简体"/>
              </a:rPr>
              <a:t>西方会计报表发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琥珀简体"/>
              <a:ea typeface="方正琥珀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919F-C484-4AF3-8ED7-3E823EE7E33F}" type="slidenum">
              <a:t>24</a:t>
            </a:fld>
          </a:p>
        </p:txBody>
      </p:sp>
    </p:spTree>
  </p:cSld>
  <p:transition>
    <p:checker dir="horz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3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ahoma"/>
              </a:rPr>
              <a:t>资 产 负 债 表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资产负债表的结构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ff00"/>
                </a:solidFill>
                <a:latin typeface="Tahoma"/>
                <a:ea typeface="华文中宋"/>
              </a:rPr>
              <a:t>资产        金额         权益      金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ahoma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流动资产                       流动负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固定资产                      长期负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长期资产                    所有者权益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无形资产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资产总计                        权益总计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715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624852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2514600"/>
            <a:ext cx="4876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03BC-2B45-4A14-88E6-B0A3A1F82C9D}" type="slidenum">
              <a:t>25</a:t>
            </a:fld>
          </a:p>
        </p:txBody>
      </p:sp>
    </p:spTree>
  </p:cSld>
  <p:transition>
    <p:checker dir="vert"/>
  </p:transition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ccffcc">
              <a:alpha val="50000"/>
            </a:srgbClr>
          </a:solidFill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方正水柱简体"/>
                <a:ea typeface="方正水柱简体"/>
              </a:rPr>
              <a:t>损 益  表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一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收入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：产品销售成本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税金及附加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二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利润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加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其他销售利润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管理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财务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三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加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投资收益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外收入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外支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四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利润总额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1828800"/>
            <a:ext cx="6248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1905120"/>
            <a:ext cx="0" cy="4952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B198-7876-4B6C-8649-35F9AC3F75AF}" type="slidenum">
              <a:t>26</a:t>
            </a:fld>
          </a:p>
        </p:txBody>
      </p:sp>
    </p:spTree>
  </p:cSld>
  <p:transition>
    <p:wipe dir="u"/>
  </p:transition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楷体_GB2312"/>
              </a:rPr>
              <a:t>财务分析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ahoma"/>
                <a:ea typeface="方正舒体"/>
              </a:rPr>
              <a:t>产品成本分析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105520" y="2057400"/>
          <a:ext cx="4038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057400"/>
                    <a:ext cx="4038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28600" y="2971800"/>
          <a:ext cx="4800600" cy="2678040"/>
        </p:xfrm>
        <a:graphic>
          <a:graphicData uri="http://schemas.openxmlformats.org/drawingml/2006/table">
            <a:tbl>
              <a:tblPr/>
              <a:tblGrid>
                <a:gridCol w="960480"/>
                <a:gridCol w="960480"/>
                <a:gridCol w="958680"/>
                <a:gridCol w="960480"/>
                <a:gridCol w="96048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一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二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三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四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0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0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8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1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6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3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13D5-6EEA-412C-BF9F-24EA88316B45}" type="slidenum">
              <a:t>27</a:t>
            </a:fld>
          </a:p>
        </p:txBody>
      </p:sp>
    </p:spTree>
  </p:cSld>
  <p:transition>
    <p:dissolve/>
  </p:transition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514600" y="990720"/>
            <a:ext cx="47242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E025-7A8E-4DB9-B267-35068355E5BC}" type="slidenum">
              <a:t>28</a:t>
            </a:fld>
          </a:p>
        </p:txBody>
      </p:sp>
    </p:spTree>
  </p:cSld>
  <p:transition>
    <p:checker dir="vert"/>
  </p:transition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076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33"/>
                </a:solidFill>
                <a:latin typeface="Tahoma"/>
                <a:ea typeface="文鼎CS长宋"/>
              </a:rPr>
              <a:t>第一节     会计的概念</a:t>
            </a:r>
            <a:br>
              <a:rPr sz="4400"/>
            </a:br>
            <a:r>
              <a:rPr b="1" lang="zh-CN" sz="4400" spc="-1" strike="noStrike">
                <a:solidFill>
                  <a:srgbClr val="cccc00"/>
                </a:solidFill>
                <a:latin typeface="Tahoma"/>
                <a:ea typeface="文鼎CS长宋"/>
              </a:rPr>
              <a:t>•</a:t>
            </a:r>
            <a:r>
              <a:rPr b="1" lang="zh-CN" sz="3600" spc="-1" strike="noStrike">
                <a:solidFill>
                  <a:srgbClr val="cccc00"/>
                </a:solidFill>
                <a:latin typeface="Tahoma"/>
                <a:ea typeface="文鼎CS长宋"/>
              </a:rPr>
              <a:t>会计的产生与发展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西周   “司会”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鼎盛时期，宋淳宗（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075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），“四柱清册”即 旧管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实收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开除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实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494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意大利数学家巴里却《复式记帐原理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985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《会计法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99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《企业财务通则》，《企业会计准则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43CC-6D5E-4E33-89B4-276786110C8E}" type="slidenum">
              <a:t>3</a:t>
            </a:fld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6553080" cy="838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zh-CN" sz="4800" spc="-1" strike="noStrike" u="sng">
                <a:solidFill>
                  <a:srgbClr val="99ccff"/>
                </a:solidFill>
                <a:uFillTx/>
                <a:latin typeface="Tahoma"/>
              </a:rPr>
              <a:t>企业资金运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供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生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销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666880"/>
            <a:ext cx="1181160" cy="12193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筹集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666880"/>
            <a:ext cx="1295280" cy="1143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运用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2666880"/>
            <a:ext cx="1219320" cy="1143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收回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20968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209680"/>
            <a:ext cx="152640" cy="457200"/>
          </a:xfrm>
          <a:custGeom>
            <a:avLst/>
            <a:gdLst>
              <a:gd name="textAreaLeft" fmla="*/ 20160 w 152640"/>
              <a:gd name="textAreaRight" fmla="*/ 132480 w 1526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124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124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20968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20968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962520"/>
            <a:ext cx="12193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货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生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3962520"/>
            <a:ext cx="1066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货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41911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储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581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5053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952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952880"/>
            <a:ext cx="1295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47360" y="5334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在产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80880" y="5334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半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5200" y="5334120"/>
            <a:ext cx="1102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待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6280" y="52578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原材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7800" y="5334120"/>
            <a:ext cx="110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固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38280" y="518148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产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952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62520" y="5410080"/>
            <a:ext cx="91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银行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32760" y="52578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合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4876920"/>
            <a:ext cx="1066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3908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7040" y="52578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收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97880" y="52578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A25-CB95-4B18-9507-49F4C43203CD}" type="slidenum">
              <a:t>4</a:t>
            </a:fld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75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75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文鼎CS长宋"/>
                <a:ea typeface="文鼎CS长宋"/>
              </a:rPr>
              <a:t>•</a:t>
            </a:r>
            <a:r>
              <a:rPr b="1" lang="zh-CN" sz="4800" spc="-1" strike="noStrike">
                <a:solidFill>
                  <a:srgbClr val="3333cc"/>
                </a:solidFill>
                <a:latin typeface="文鼎CS长宋"/>
                <a:ea typeface="文鼎CS长宋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文鼎CS长宋"/>
                <a:ea typeface="文鼎CS长宋"/>
              </a:rPr>
              <a:t>会计的概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依据：货币计量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对象：经济活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职能：核算、监督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方法：凭证、帐簿、报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目的：提高经济效益，加强经济管理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F427-AB99-4688-9606-456B522BEFBD}" type="slidenum">
              <a:t>5</a:t>
            </a:fld>
          </a:p>
        </p:txBody>
      </p:sp>
    </p:spTree>
  </p:cSld>
  <p:transition>
    <p:strips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二节  会计对象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文鼎CS行楷"/>
              </a:rPr>
              <a:t>会计对象内容：会计工作的内容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文鼎CS行楷"/>
              </a:rPr>
              <a:t>扩大再生产资金运动：生产、分配、交换、消费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D59D-563D-491E-A365-CA4C1E0F6CF5}" type="slidenum">
              <a:t>6</a:t>
            </a:fld>
          </a:p>
        </p:txBody>
      </p:sp>
    </p:spTree>
  </p:cSld>
  <p:transition>
    <p:pull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三节  会计职能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核算：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内容（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~7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）方面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要求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监督：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前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中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后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4332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8195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6B67-2A48-4508-9AEB-7A1AD6DA302B}" type="slidenum">
              <a:t>7</a:t>
            </a:fld>
          </a:p>
        </p:txBody>
      </p:sp>
    </p:spTree>
  </p:cSld>
  <p:transition>
    <p:randomBar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五节    会计核算方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905120"/>
            <a:ext cx="1905120" cy="838080"/>
          </a:xfrm>
          <a:custGeom>
            <a:avLst/>
            <a:gdLst>
              <a:gd name="textAreaLeft" fmla="*/ 476280 w 1905120"/>
              <a:gd name="textAreaRight" fmla="*/ 1428840 w 190512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帐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7150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报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7150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财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清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124080"/>
            <a:ext cx="1904760" cy="83844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帐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905120"/>
            <a:ext cx="1905120" cy="838080"/>
          </a:xfrm>
          <a:custGeom>
            <a:avLst/>
            <a:gdLst>
              <a:gd name="textAreaLeft" fmla="*/ 476280 w 1905120"/>
              <a:gd name="textAreaRight" fmla="*/ 1428840 w 190512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复式记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2004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2209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724280"/>
            <a:ext cx="381240" cy="457200"/>
          </a:xfrm>
          <a:custGeom>
            <a:avLst/>
            <a:gdLst>
              <a:gd name="textAreaLeft" fmla="*/ 0 w 381240"/>
              <a:gd name="textAreaRight" fmla="*/ 381600 w 381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48769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48769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7339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7339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601992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505320"/>
            <a:ext cx="9903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648320"/>
            <a:ext cx="11430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成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64832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资本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572000"/>
            <a:ext cx="10670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464832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12408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CE4D-F30D-4044-AF53-E91B2A1858A7}" type="slidenum">
              <a:t>8</a:t>
            </a:fld>
          </a:p>
        </p:txBody>
      </p:sp>
    </p:spTree>
  </p:cSld>
  <p:transition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cc"/>
                </a:solidFill>
                <a:latin typeface="方正水柱简体"/>
                <a:ea typeface="方正水柱简体"/>
              </a:rPr>
              <a:t>第二章   会计科目与帐户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会计科目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借贷记帐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会计分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971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819520"/>
            <a:ext cx="16765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总帐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（一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明细科目             （二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971800"/>
            <a:ext cx="15238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子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细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19112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191120"/>
            <a:ext cx="1752840" cy="990360"/>
          </a:xfrm>
          <a:custGeom>
            <a:avLst/>
            <a:gdLst>
              <a:gd name="textAreaLeft" fmla="*/ 411840 w 1752840"/>
              <a:gd name="textAreaRight" fmla="*/ 1339920 w 17528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机器设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车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4C94-D803-45B5-ACA9-9041FA34D81B}" type="slidenum">
              <a:t>9</a:t>
            </a:fld>
          </a:p>
        </p:txBody>
      </p:sp>
    </p:spTree>
  </p:cSld>
  <p:transition>
    <p:pull dir="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5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基础 会计</cp:keywords>
  <dc:language>en-US</dc:language>
  <cp:lastModifiedBy/>
  <cp:revision>0</cp:revision>
  <dc:subject/>
  <dc:title/>
</cp:coreProperties>
</file>