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A6CA-48D0-4B25-8922-9397AC0BBF2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DB1F-89AA-43A9-967F-782688CC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0B5F-03EE-4CB6-BBB6-DF8704E5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6887-9FD4-49A6-BCD0-43CB7E1D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CDD-AC6B-4FB7-9540-E0BFF352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0A5C-6060-463D-B3B3-412E8836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44F-FA07-4E7A-B836-E0AB8BA8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8B41-2968-4068-ABF3-AE2CE43F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3D3-86B2-43B4-B188-48660296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8D1-DA75-4CFE-A463-A1F5B0FD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EFAF-CFE6-4192-8A5B-34508ABD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4BCB-279B-416C-A3F3-ADE70A90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FDF1-A173-4E42-9163-AE39B9AE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F5E7-B67F-4F7E-A8A6-E248283CAD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计算机文化基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信息时代的基本技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3657600"/>
          <a:ext cx="91440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57600"/>
                    <a:ext cx="91440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第四代：大规模集成电路计算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6819840" cy="4419720"/>
          </a:xfrm>
          <a:prstGeom prst="rect">
            <a:avLst/>
          </a:prstGeom>
          <a:solidFill>
            <a:srgbClr val="006200"/>
          </a:solidFill>
          <a:ln w="9360">
            <a:solidFill>
              <a:srgbClr val="ff3300"/>
            </a:solidFill>
            <a:miter/>
          </a:ln>
          <a:effectLst>
            <a:outerShdw dist="127008" dir="13016092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宋体"/>
              </a:rPr>
              <a:t>逻辑元件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ffff99"/>
                </a:solidFill>
                <a:latin typeface="宋体"/>
              </a:rPr>
              <a:t>（超）大规模集成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宋体"/>
              </a:rPr>
              <a:t>内    存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半导体存储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宋体"/>
              </a:rPr>
              <a:t>外    存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磁盘和光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宋体"/>
              </a:rPr>
              <a:t>工作速度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几百万～几千万次／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宋体"/>
              </a:rPr>
              <a:t>软    件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操作系统和应用软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宋体"/>
              </a:rPr>
              <a:t>应    用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以计算机网络为特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66"/>
                </a:solidFill>
                <a:latin typeface="宋体"/>
              </a:rPr>
              <a:t>微型计算机属于第四代计算机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34040" y="3467160"/>
            <a:ext cx="2685960" cy="236232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21127200">
            <a:off x="6322680" y="4308480"/>
            <a:ext cx="222264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ntel</a:t>
            </a:r>
            <a:br>
              <a:rPr sz="20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PENT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6000840"/>
            <a:ext cx="2305080" cy="6300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cc99"/>
                </a:solidFill>
                <a:latin typeface="宋体"/>
              </a:rPr>
              <a:t>71</a:t>
            </a:r>
            <a:r>
              <a:rPr b="1" i="1" lang="zh-CN" sz="3200" spc="-1" strike="noStrike">
                <a:solidFill>
                  <a:srgbClr val="00cc99"/>
                </a:solidFill>
                <a:latin typeface="宋体"/>
              </a:rPr>
              <a:t>年</a:t>
            </a:r>
            <a:r>
              <a:rPr b="1" i="1" lang="zh-CN" sz="3200" spc="-1" strike="noStrike">
                <a:solidFill>
                  <a:srgbClr val="00cc99"/>
                </a:solidFill>
                <a:latin typeface="宋体"/>
              </a:rPr>
              <a:t>--</a:t>
            </a:r>
            <a:r>
              <a:rPr b="1" i="1" lang="zh-CN" sz="3200" spc="-1" strike="noStrike">
                <a:solidFill>
                  <a:srgbClr val="00cc99"/>
                </a:solidFill>
                <a:latin typeface="宋体"/>
              </a:rPr>
              <a:t>现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896480"/>
            <a:ext cx="2438280" cy="1417320"/>
          </a:xfrm>
          <a:prstGeom prst="wedgeRoundRectCallout">
            <a:avLst>
              <a:gd name="adj1" fmla="val 12754"/>
              <a:gd name="adj2" fmla="val 105050"/>
              <a:gd name="adj3" fmla="val 16667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ＬＳＩ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ＶＬＳ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34000" y="2647800"/>
            <a:ext cx="2381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47520" y="274680"/>
            <a:ext cx="73342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第五代：智能化计算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2360" y="1257480"/>
            <a:ext cx="8167680" cy="831240"/>
          </a:xfrm>
          <a:prstGeom prst="rect">
            <a:avLst/>
          </a:prstGeom>
          <a:solidFill>
            <a:srgbClr val="006200"/>
          </a:solidFill>
          <a:ln w="9360">
            <a:solidFill>
              <a:srgbClr val="e5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  <a:ea typeface="隶书"/>
              </a:rPr>
              <a:t>主攻目标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e5ffff"/>
                </a:solidFill>
                <a:latin typeface="Times New Roman"/>
              </a:rPr>
              <a:t>让计算机具有人的听、说、读、写和思维推理能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4440" y="2955960"/>
            <a:ext cx="3962160" cy="2505960"/>
          </a:xfrm>
          <a:prstGeom prst="rect">
            <a:avLst/>
          </a:prstGeom>
          <a:solidFill>
            <a:srgbClr val="0062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Times New Roman"/>
                <a:ea typeface="隶书"/>
              </a:rPr>
              <a:t>神经网络计算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数据单元模拟人脑的神经元，并利用神经元结点的分布式存储和相互关联来模拟人脑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1440" y="2941560"/>
            <a:ext cx="4095720" cy="2505960"/>
          </a:xfrm>
          <a:prstGeom prst="rect">
            <a:avLst/>
          </a:prstGeom>
          <a:solidFill>
            <a:srgbClr val="0062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隶书"/>
                <a:ea typeface="隶书"/>
              </a:rPr>
              <a:t>生物计算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使用蛋白分子为主要原料制成的生物芯片构成，存储能力巨大，而且以波的形式来传播信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52280"/>
            <a:ext cx="91440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将电脑浓缩在一颗芯片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95840" y="966960"/>
            <a:ext cx="5518800" cy="5478120"/>
            <a:chOff x="195840" y="966960"/>
            <a:chExt cx="5518800" cy="5478120"/>
          </a:xfrm>
        </p:grpSpPr>
        <p:grpSp>
          <p:nvGrpSpPr>
            <p:cNvPr id="91" name=""/>
            <p:cNvGrpSpPr/>
            <p:nvPr/>
          </p:nvGrpSpPr>
          <p:grpSpPr>
            <a:xfrm>
              <a:off x="195840" y="966960"/>
              <a:ext cx="5518800" cy="5478120"/>
              <a:chOff x="195840" y="966960"/>
              <a:chExt cx="5518800" cy="547812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1096920" y="1436760"/>
                <a:ext cx="4617720" cy="4458960"/>
                <a:chOff x="1096920" y="1436760"/>
                <a:chExt cx="4617720" cy="4458960"/>
              </a:xfrm>
            </p:grpSpPr>
            <p:grpSp>
              <p:nvGrpSpPr>
                <p:cNvPr id="93" name=""/>
                <p:cNvGrpSpPr/>
                <p:nvPr/>
              </p:nvGrpSpPr>
              <p:grpSpPr>
                <a:xfrm>
                  <a:off x="1096920" y="4014720"/>
                  <a:ext cx="1603440" cy="1880640"/>
                  <a:chOff x="1096920" y="4014720"/>
                  <a:chExt cx="1603440" cy="188064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1096920" y="4767120"/>
                    <a:ext cx="657720" cy="1128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669">
                        <a:moveTo>
                          <a:pt x="0" y="273"/>
                        </a:moveTo>
                        <a:lnTo>
                          <a:pt x="94" y="273"/>
                        </a:lnTo>
                        <a:lnTo>
                          <a:pt x="94" y="668"/>
                        </a:lnTo>
                        <a:lnTo>
                          <a:pt x="259" y="668"/>
                        </a:lnTo>
                        <a:lnTo>
                          <a:pt x="259" y="273"/>
                        </a:lnTo>
                        <a:lnTo>
                          <a:pt x="355" y="273"/>
                        </a:lnTo>
                        <a:lnTo>
                          <a:pt x="176" y="0"/>
                        </a:lnTo>
                        <a:lnTo>
                          <a:pt x="0" y="27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120680" y="4682880"/>
                    <a:ext cx="661320" cy="12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716">
                        <a:moveTo>
                          <a:pt x="0" y="274"/>
                        </a:moveTo>
                        <a:lnTo>
                          <a:pt x="95" y="274"/>
                        </a:lnTo>
                        <a:lnTo>
                          <a:pt x="95" y="715"/>
                        </a:lnTo>
                        <a:lnTo>
                          <a:pt x="261" y="715"/>
                        </a:lnTo>
                        <a:lnTo>
                          <a:pt x="261" y="274"/>
                        </a:lnTo>
                        <a:lnTo>
                          <a:pt x="357" y="274"/>
                        </a:lnTo>
                        <a:lnTo>
                          <a:pt x="178" y="0"/>
                        </a:lnTo>
                        <a:lnTo>
                          <a:pt x="0" y="274"/>
                        </a:lnTo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180080" y="4682880"/>
                    <a:ext cx="712800" cy="12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86" h="719">
                        <a:moveTo>
                          <a:pt x="0" y="274"/>
                        </a:moveTo>
                        <a:lnTo>
                          <a:pt x="102" y="274"/>
                        </a:lnTo>
                        <a:lnTo>
                          <a:pt x="102" y="718"/>
                        </a:lnTo>
                        <a:lnTo>
                          <a:pt x="281" y="718"/>
                        </a:lnTo>
                        <a:lnTo>
                          <a:pt x="281" y="274"/>
                        </a:lnTo>
                        <a:lnTo>
                          <a:pt x="385" y="274"/>
                        </a:lnTo>
                        <a:lnTo>
                          <a:pt x="191" y="0"/>
                        </a:lnTo>
                        <a:lnTo>
                          <a:pt x="0" y="274"/>
                        </a:lnTo>
                      </a:path>
                    </a:pathLst>
                  </a:custGeom>
                  <a:solidFill>
                    <a:srgbClr val="8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203840" y="4600080"/>
                    <a:ext cx="714600" cy="129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765">
                        <a:moveTo>
                          <a:pt x="0" y="273"/>
                        </a:moveTo>
                        <a:lnTo>
                          <a:pt x="104" y="273"/>
                        </a:lnTo>
                        <a:lnTo>
                          <a:pt x="104" y="764"/>
                        </a:lnTo>
                        <a:lnTo>
                          <a:pt x="282" y="764"/>
                        </a:lnTo>
                        <a:lnTo>
                          <a:pt x="282" y="273"/>
                        </a:lnTo>
                        <a:lnTo>
                          <a:pt x="386" y="273"/>
                        </a:lnTo>
                        <a:lnTo>
                          <a:pt x="193" y="0"/>
                        </a:lnTo>
                        <a:lnTo>
                          <a:pt x="0" y="273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1266840" y="4534560"/>
                    <a:ext cx="804960" cy="135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804">
                        <a:moveTo>
                          <a:pt x="0" y="307"/>
                        </a:moveTo>
                        <a:lnTo>
                          <a:pt x="116" y="307"/>
                        </a:lnTo>
                        <a:lnTo>
                          <a:pt x="115" y="802"/>
                        </a:lnTo>
                        <a:lnTo>
                          <a:pt x="317" y="803"/>
                        </a:lnTo>
                        <a:lnTo>
                          <a:pt x="317" y="307"/>
                        </a:lnTo>
                        <a:lnTo>
                          <a:pt x="435" y="307"/>
                        </a:lnTo>
                        <a:lnTo>
                          <a:pt x="217" y="0"/>
                        </a:lnTo>
                        <a:lnTo>
                          <a:pt x="0" y="307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1298160" y="4439880"/>
                    <a:ext cx="804960" cy="145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863">
                        <a:moveTo>
                          <a:pt x="0" y="307"/>
                        </a:moveTo>
                        <a:lnTo>
                          <a:pt x="116" y="307"/>
                        </a:lnTo>
                        <a:lnTo>
                          <a:pt x="115" y="862"/>
                        </a:lnTo>
                        <a:lnTo>
                          <a:pt x="317" y="861"/>
                        </a:lnTo>
                        <a:lnTo>
                          <a:pt x="318" y="307"/>
                        </a:lnTo>
                        <a:lnTo>
                          <a:pt x="435" y="307"/>
                        </a:lnTo>
                        <a:lnTo>
                          <a:pt x="217" y="0"/>
                        </a:lnTo>
                        <a:lnTo>
                          <a:pt x="0" y="307"/>
                        </a:lnTo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1368360" y="4397400"/>
                    <a:ext cx="870120" cy="149616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887">
                        <a:moveTo>
                          <a:pt x="0" y="316"/>
                        </a:moveTo>
                        <a:lnTo>
                          <a:pt x="125" y="316"/>
                        </a:lnTo>
                        <a:lnTo>
                          <a:pt x="125" y="886"/>
                        </a:lnTo>
                        <a:lnTo>
                          <a:pt x="343" y="886"/>
                        </a:lnTo>
                        <a:lnTo>
                          <a:pt x="343" y="316"/>
                        </a:lnTo>
                        <a:lnTo>
                          <a:pt x="470" y="316"/>
                        </a:lnTo>
                        <a:lnTo>
                          <a:pt x="234" y="0"/>
                        </a:lnTo>
                        <a:lnTo>
                          <a:pt x="0" y="316"/>
                        </a:lnTo>
                      </a:path>
                    </a:pathLst>
                  </a:custGeom>
                  <a:solidFill>
                    <a:srgbClr val="8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1401840" y="4303080"/>
                    <a:ext cx="867960" cy="159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0" h="943">
                        <a:moveTo>
                          <a:pt x="0" y="315"/>
                        </a:moveTo>
                        <a:lnTo>
                          <a:pt x="125" y="315"/>
                        </a:lnTo>
                        <a:lnTo>
                          <a:pt x="125" y="942"/>
                        </a:lnTo>
                        <a:lnTo>
                          <a:pt x="343" y="942"/>
                        </a:lnTo>
                        <a:lnTo>
                          <a:pt x="343" y="315"/>
                        </a:lnTo>
                        <a:lnTo>
                          <a:pt x="469" y="315"/>
                        </a:lnTo>
                        <a:lnTo>
                          <a:pt x="235" y="0"/>
                        </a:lnTo>
                        <a:lnTo>
                          <a:pt x="0" y="315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1501560" y="4262760"/>
                    <a:ext cx="876960" cy="1632600"/>
                  </a:xfrm>
                  <a:custGeom>
                    <a:avLst/>
                    <a:gdLst/>
                    <a:ahLst/>
                    <a:rect l="l" t="t" r="r" b="b"/>
                    <a:pathLst>
                      <a:path w="475" h="968">
                        <a:moveTo>
                          <a:pt x="0" y="336"/>
                        </a:moveTo>
                        <a:lnTo>
                          <a:pt x="127" y="336"/>
                        </a:lnTo>
                        <a:lnTo>
                          <a:pt x="126" y="965"/>
                        </a:lnTo>
                        <a:lnTo>
                          <a:pt x="346" y="967"/>
                        </a:lnTo>
                        <a:lnTo>
                          <a:pt x="346" y="336"/>
                        </a:lnTo>
                        <a:lnTo>
                          <a:pt x="474" y="336"/>
                        </a:lnTo>
                        <a:lnTo>
                          <a:pt x="236" y="0"/>
                        </a:lnTo>
                        <a:lnTo>
                          <a:pt x="0" y="336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1534680" y="4159800"/>
                    <a:ext cx="877680" cy="173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75" h="1029">
                        <a:moveTo>
                          <a:pt x="0" y="336"/>
                        </a:moveTo>
                        <a:lnTo>
                          <a:pt x="127" y="336"/>
                        </a:lnTo>
                        <a:lnTo>
                          <a:pt x="127" y="1028"/>
                        </a:lnTo>
                        <a:lnTo>
                          <a:pt x="346" y="1028"/>
                        </a:lnTo>
                        <a:lnTo>
                          <a:pt x="346" y="336"/>
                        </a:lnTo>
                        <a:lnTo>
                          <a:pt x="474" y="336"/>
                        </a:lnTo>
                        <a:lnTo>
                          <a:pt x="237" y="0"/>
                        </a:lnTo>
                        <a:lnTo>
                          <a:pt x="0" y="336"/>
                        </a:lnTo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1612080" y="4159800"/>
                    <a:ext cx="947880" cy="1735560"/>
                  </a:xfrm>
                  <a:custGeom>
                    <a:avLst/>
                    <a:gdLst/>
                    <a:ahLst/>
                    <a:rect l="l" t="t" r="r" b="b"/>
                    <a:pathLst>
                      <a:path w="513" h="1029">
                        <a:moveTo>
                          <a:pt x="0" y="336"/>
                        </a:moveTo>
                        <a:lnTo>
                          <a:pt x="137" y="336"/>
                        </a:lnTo>
                        <a:lnTo>
                          <a:pt x="139" y="1026"/>
                        </a:lnTo>
                        <a:lnTo>
                          <a:pt x="374" y="1028"/>
                        </a:lnTo>
                        <a:lnTo>
                          <a:pt x="374" y="336"/>
                        </a:lnTo>
                        <a:lnTo>
                          <a:pt x="512" y="336"/>
                        </a:lnTo>
                        <a:lnTo>
                          <a:pt x="256" y="0"/>
                        </a:lnTo>
                        <a:lnTo>
                          <a:pt x="0" y="336"/>
                        </a:lnTo>
                      </a:path>
                    </a:pathLst>
                  </a:custGeom>
                  <a:solidFill>
                    <a:srgbClr val="8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1647360" y="4055040"/>
                    <a:ext cx="947520" cy="18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513" h="1091">
                        <a:moveTo>
                          <a:pt x="0" y="337"/>
                        </a:moveTo>
                        <a:lnTo>
                          <a:pt x="137" y="337"/>
                        </a:lnTo>
                        <a:lnTo>
                          <a:pt x="136" y="1090"/>
                        </a:lnTo>
                        <a:lnTo>
                          <a:pt x="374" y="1090"/>
                        </a:lnTo>
                        <a:lnTo>
                          <a:pt x="374" y="337"/>
                        </a:lnTo>
                        <a:lnTo>
                          <a:pt x="512" y="337"/>
                        </a:lnTo>
                        <a:lnTo>
                          <a:pt x="256" y="0"/>
                        </a:lnTo>
                        <a:lnTo>
                          <a:pt x="0" y="337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1771200" y="4014720"/>
                    <a:ext cx="929160" cy="18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503" h="1115">
                        <a:moveTo>
                          <a:pt x="0" y="363"/>
                        </a:moveTo>
                        <a:lnTo>
                          <a:pt x="135" y="363"/>
                        </a:lnTo>
                        <a:lnTo>
                          <a:pt x="135" y="1114"/>
                        </a:lnTo>
                        <a:lnTo>
                          <a:pt x="367" y="1114"/>
                        </a:lnTo>
                        <a:lnTo>
                          <a:pt x="367" y="363"/>
                        </a:lnTo>
                        <a:lnTo>
                          <a:pt x="502" y="363"/>
                        </a:lnTo>
                        <a:lnTo>
                          <a:pt x="250" y="0"/>
                        </a:lnTo>
                        <a:lnTo>
                          <a:pt x="0" y="363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aphicFrame>
              <p:nvGraphicFramePr>
                <p:cNvPr id="107" name=""/>
                <p:cNvGraphicFramePr/>
                <p:nvPr/>
              </p:nvGraphicFramePr>
              <p:xfrm>
                <a:off x="1717920" y="1436760"/>
                <a:ext cx="3996720" cy="44589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0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717920" y="1436760"/>
                          <a:ext cx="3996720" cy="4458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09" name=""/>
              <p:cNvSpPr/>
              <p:nvPr/>
            </p:nvSpPr>
            <p:spPr>
              <a:xfrm>
                <a:off x="539640" y="1614600"/>
                <a:ext cx="428760" cy="252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仿宋_GB2312"/>
                  </a:rPr>
                  <a:t>晶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仿宋_GB2312"/>
                  </a:rPr>
                  <a:t>体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仿宋_GB2312"/>
                  </a:rPr>
                  <a:t>管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仿宋_GB2312"/>
                  </a:rPr>
                  <a:t>数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仿宋_GB2312"/>
                  </a:rPr>
                  <a:t>目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33680" y="5925960"/>
                <a:ext cx="8982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400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30560" y="5925960"/>
                <a:ext cx="1337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奔腾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PR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5840" y="4881600"/>
                <a:ext cx="9867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800" spc="-1" strike="noStrike">
                    <a:solidFill>
                      <a:srgbClr val="ff0033"/>
                    </a:solidFill>
                    <a:latin typeface="Times New Roman"/>
                    <a:ea typeface="隶书"/>
                  </a:rPr>
                  <a:t>2,3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41800" y="966960"/>
                <a:ext cx="1018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750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万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4" name=""/>
              <p:cNvGraphicFramePr/>
              <p:nvPr/>
            </p:nvGraphicFramePr>
            <p:xfrm>
              <a:off x="1343160" y="1449360"/>
              <a:ext cx="1476360" cy="13492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1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343160" y="1449360"/>
                        <a:ext cx="1476360" cy="134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6" name=""/>
            <p:cNvGrpSpPr/>
            <p:nvPr/>
          </p:nvGrpSpPr>
          <p:grpSpPr>
            <a:xfrm>
              <a:off x="1014480" y="1600200"/>
              <a:ext cx="4522320" cy="4290480"/>
              <a:chOff x="1014480" y="1600200"/>
              <a:chExt cx="4522320" cy="4290480"/>
            </a:xfrm>
          </p:grpSpPr>
          <p:sp>
            <p:nvSpPr>
              <p:cNvPr id="117" name=""/>
              <p:cNvSpPr/>
              <p:nvPr/>
            </p:nvSpPr>
            <p:spPr>
              <a:xfrm flipV="1">
                <a:off x="1014480" y="1600200"/>
                <a:ext cx="0" cy="4290480"/>
              </a:xfrm>
              <a:prstGeom prst="line">
                <a:avLst/>
              </a:prstGeom>
              <a:ln w="12600">
                <a:solidFill>
                  <a:srgbClr val="ffff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014480" y="5890680"/>
                <a:ext cx="4522320" cy="0"/>
              </a:xfrm>
              <a:prstGeom prst="line">
                <a:avLst/>
              </a:prstGeom>
              <a:ln w="12600">
                <a:solidFill>
                  <a:srgbClr val="ffff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2864880" y="4314960"/>
              <a:ext cx="16189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24 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年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457840" y="0"/>
            <a:ext cx="685800" cy="2610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ffff"/>
                </a:solidFill>
                <a:latin typeface="Times New Roman"/>
              </a:rPr>
              <a:t>摩</a:t>
            </a:r>
            <a:br>
              <a:rPr sz="4000"/>
            </a:br>
            <a:r>
              <a:rPr b="0" lang="zh-CN" sz="4000" spc="-1" strike="noStrike">
                <a:solidFill>
                  <a:srgbClr val="66ffff"/>
                </a:solidFill>
                <a:latin typeface="Times New Roman"/>
              </a:rPr>
              <a:t>尔</a:t>
            </a:r>
            <a:br>
              <a:rPr sz="4000"/>
            </a:br>
            <a:r>
              <a:rPr b="0" lang="zh-CN" sz="4000" spc="-1" strike="noStrike">
                <a:solidFill>
                  <a:srgbClr val="66ffff"/>
                </a:solidFill>
                <a:latin typeface="Times New Roman"/>
              </a:rPr>
              <a:t>定</a:t>
            </a:r>
            <a:br>
              <a:rPr sz="4000"/>
            </a:br>
            <a:r>
              <a:rPr b="0" lang="zh-CN" sz="4000" spc="-1" strike="noStrike">
                <a:solidFill>
                  <a:srgbClr val="66ffff"/>
                </a:solidFill>
                <a:latin typeface="Times New Roman"/>
              </a:rPr>
              <a:t>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38480" y="6019920"/>
            <a:ext cx="1846080" cy="7034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99"/>
                </a:solidFill>
                <a:latin typeface="隶书"/>
                <a:ea typeface="隶书"/>
              </a:rPr>
              <a:t>每</a:t>
            </a:r>
            <a:r>
              <a:rPr b="1" lang="zh-CN" sz="4000" spc="-1" strike="noStrike">
                <a:solidFill>
                  <a:srgbClr val="ffcc99"/>
                </a:solidFill>
                <a:latin typeface="隶书"/>
                <a:ea typeface="隶书"/>
              </a:rPr>
              <a:t>18</a:t>
            </a:r>
            <a:r>
              <a:rPr b="1" lang="zh-CN" sz="4000" spc="-1" strike="noStrike">
                <a:solidFill>
                  <a:srgbClr val="ffcc99"/>
                </a:solidFill>
                <a:latin typeface="隶书"/>
                <a:ea typeface="隶书"/>
              </a:rPr>
              <a:t>个月芯片能力增长一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282600"/>
            <a:ext cx="1244520" cy="4514040"/>
            <a:chOff x="0" y="282600"/>
            <a:chExt cx="1244520" cy="4514040"/>
          </a:xfrm>
        </p:grpSpPr>
        <p:sp>
          <p:nvSpPr>
            <p:cNvPr id="123" name=""/>
            <p:cNvSpPr/>
            <p:nvPr/>
          </p:nvSpPr>
          <p:spPr>
            <a:xfrm>
              <a:off x="0" y="863280"/>
              <a:ext cx="542880" cy="393336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800"/>
              </a:b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仿宋_GB2312"/>
                </a:rPr>
                <a:t>晶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仿宋_GB2312"/>
                </a:rPr>
                <a:t>体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仿宋_GB2312"/>
                </a:rPr>
                <a:t>管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仿宋_GB2312"/>
                </a:rPr>
                <a:t>数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425160" y="282600"/>
              <a:ext cx="819360" cy="4432680"/>
              <a:chOff x="425160" y="282600"/>
              <a:chExt cx="819360" cy="4432680"/>
            </a:xfrm>
          </p:grpSpPr>
          <p:sp>
            <p:nvSpPr>
              <p:cNvPr id="125" name=""/>
              <p:cNvSpPr/>
              <p:nvPr/>
            </p:nvSpPr>
            <p:spPr>
              <a:xfrm>
                <a:off x="609480" y="4316400"/>
                <a:ext cx="635040" cy="3988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10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5920" y="3292200"/>
                <a:ext cx="762840" cy="3988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100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73920" y="2293920"/>
                <a:ext cx="549360" cy="3988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1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8720" y="1234800"/>
                <a:ext cx="677520" cy="3988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10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25160" y="282600"/>
                <a:ext cx="805680" cy="3988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100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1904760" y="5448240"/>
            <a:ext cx="5760000" cy="398880"/>
            <a:chOff x="1904760" y="5448240"/>
            <a:chExt cx="5760000" cy="398880"/>
          </a:xfrm>
        </p:grpSpPr>
        <p:sp>
          <p:nvSpPr>
            <p:cNvPr id="131" name=""/>
            <p:cNvSpPr/>
            <p:nvPr/>
          </p:nvSpPr>
          <p:spPr>
            <a:xfrm>
              <a:off x="1904760" y="5448240"/>
              <a:ext cx="692640" cy="3988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197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71800" y="5448240"/>
              <a:ext cx="692640" cy="3988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19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81240" y="5448240"/>
              <a:ext cx="692640" cy="3988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198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87880" y="5448240"/>
              <a:ext cx="692640" cy="3988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19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16240" y="5448240"/>
              <a:ext cx="692640" cy="3988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19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72120" y="5448240"/>
              <a:ext cx="692640" cy="3988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412400" y="1235160"/>
            <a:ext cx="881280" cy="4318560"/>
            <a:chOff x="7412400" y="1235160"/>
            <a:chExt cx="881280" cy="4318560"/>
          </a:xfrm>
        </p:grpSpPr>
        <p:sp>
          <p:nvSpPr>
            <p:cNvPr id="138" name=""/>
            <p:cNvSpPr/>
            <p:nvPr/>
          </p:nvSpPr>
          <p:spPr>
            <a:xfrm>
              <a:off x="7431120" y="1235160"/>
              <a:ext cx="564840" cy="3988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930080" y="2248200"/>
              <a:ext cx="363600" cy="302004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每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秒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百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万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12400" y="5154840"/>
              <a:ext cx="500760" cy="3988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0.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32200" y="4321440"/>
              <a:ext cx="308880" cy="3988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31840" y="3303720"/>
              <a:ext cx="436680" cy="3988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31840" y="2244960"/>
              <a:ext cx="436680" cy="3988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224000" y="441000"/>
            <a:ext cx="6188040" cy="5099040"/>
            <a:chOff x="1224000" y="441000"/>
            <a:chExt cx="6188040" cy="5099040"/>
          </a:xfrm>
        </p:grpSpPr>
        <p:sp>
          <p:nvSpPr>
            <p:cNvPr id="145" name=""/>
            <p:cNvSpPr/>
            <p:nvPr/>
          </p:nvSpPr>
          <p:spPr>
            <a:xfrm>
              <a:off x="1228680" y="446040"/>
              <a:ext cx="6183360" cy="5068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741320" y="441000"/>
              <a:ext cx="5161320" cy="5099040"/>
              <a:chOff x="1741320" y="441000"/>
              <a:chExt cx="5161320" cy="5099040"/>
            </a:xfrm>
          </p:grpSpPr>
          <p:sp>
            <p:nvSpPr>
              <p:cNvPr id="147" name=""/>
              <p:cNvSpPr/>
              <p:nvPr/>
            </p:nvSpPr>
            <p:spPr>
              <a:xfrm>
                <a:off x="1741320" y="441360"/>
                <a:ext cx="2160" cy="5098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2257920" y="441000"/>
                <a:ext cx="4644720" cy="5098680"/>
                <a:chOff x="2257920" y="441000"/>
                <a:chExt cx="4644720" cy="50986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354640" y="441360"/>
                  <a:ext cx="2160" cy="5098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2257920" y="441000"/>
                  <a:ext cx="2584080" cy="5098320"/>
                  <a:chOff x="2257920" y="441000"/>
                  <a:chExt cx="2584080" cy="509832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4840200" y="441360"/>
                    <a:ext cx="1800" cy="5097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V="1">
                    <a:off x="4323240" y="441000"/>
                    <a:ext cx="1800" cy="5097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806280" y="441360"/>
                    <a:ext cx="2160" cy="5097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V="1">
                    <a:off x="3289320" y="441000"/>
                    <a:ext cx="2160" cy="5097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2257920" y="441360"/>
                    <a:ext cx="518400" cy="5097600"/>
                    <a:chOff x="2257920" y="441360"/>
                    <a:chExt cx="518400" cy="509760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2774160" y="441360"/>
                      <a:ext cx="2160" cy="5097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 flipV="1">
                      <a:off x="2257920" y="441360"/>
                      <a:ext cx="2160" cy="5097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5871960" y="441360"/>
                  <a:ext cx="1030680" cy="5097960"/>
                  <a:chOff x="5871960" y="441360"/>
                  <a:chExt cx="1030680" cy="509796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5871960" y="441360"/>
                    <a:ext cx="1800" cy="5097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6900840" y="445320"/>
                    <a:ext cx="1800" cy="50893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384240" y="445320"/>
                    <a:ext cx="1800" cy="50893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2" name=""/>
            <p:cNvGrpSpPr/>
            <p:nvPr/>
          </p:nvGrpSpPr>
          <p:grpSpPr>
            <a:xfrm>
              <a:off x="1224000" y="950760"/>
              <a:ext cx="6188040" cy="4065480"/>
              <a:chOff x="1224000" y="950760"/>
              <a:chExt cx="6188040" cy="4065480"/>
            </a:xfrm>
          </p:grpSpPr>
          <p:sp>
            <p:nvSpPr>
              <p:cNvPr id="163" name=""/>
              <p:cNvSpPr/>
              <p:nvPr/>
            </p:nvSpPr>
            <p:spPr>
              <a:xfrm>
                <a:off x="1224000" y="2982600"/>
                <a:ext cx="618516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224000" y="2475000"/>
                <a:ext cx="618804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24000" y="1965600"/>
                <a:ext cx="618804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224000" y="1458000"/>
                <a:ext cx="618804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224000" y="950760"/>
                <a:ext cx="6188040" cy="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24000" y="5014440"/>
                <a:ext cx="618804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224000" y="4506840"/>
                <a:ext cx="6188040" cy="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24000" y="3999240"/>
                <a:ext cx="6188040" cy="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24000" y="3489840"/>
                <a:ext cx="6188040" cy="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 flipV="1">
            <a:off x="1362240" y="955440"/>
            <a:ext cx="5948280" cy="4346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218960" y="2811600"/>
            <a:ext cx="4313160" cy="2734200"/>
            <a:chOff x="1218960" y="2811600"/>
            <a:chExt cx="4313160" cy="2734200"/>
          </a:xfrm>
        </p:grpSpPr>
        <p:grpSp>
          <p:nvGrpSpPr>
            <p:cNvPr id="174" name=""/>
            <p:cNvGrpSpPr/>
            <p:nvPr/>
          </p:nvGrpSpPr>
          <p:grpSpPr>
            <a:xfrm>
              <a:off x="1636200" y="2811600"/>
              <a:ext cx="3895920" cy="2228760"/>
              <a:chOff x="1636200" y="2811600"/>
              <a:chExt cx="3895920" cy="2228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1636200" y="4505040"/>
                <a:ext cx="692640" cy="535320"/>
                <a:chOff x="1636200" y="4505040"/>
                <a:chExt cx="692640" cy="5353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943640" y="4505040"/>
                  <a:ext cx="205200" cy="201960"/>
                </a:xfrm>
                <a:prstGeom prst="rect">
                  <a:avLst/>
                </a:prstGeom>
                <a:solidFill>
                  <a:srgbClr val="66ff66"/>
                </a:solidFill>
                <a:ln w="9360">
                  <a:solidFill>
                    <a:srgbClr val="66ff66"/>
                  </a:solidFill>
                  <a:miter/>
                </a:ln>
                <a:effectLst>
                  <a:outerShdw dist="17819" dir="2700000" blurRad="0" rotWithShape="0">
                    <a:srgbClr val="cc33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636200" y="464148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cc"/>
                      </a:solidFill>
                      <a:latin typeface="Times New Roman"/>
                      <a:ea typeface="隶书"/>
                    </a:rPr>
                    <a:t>808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2635560" y="4023720"/>
                <a:ext cx="692640" cy="533160"/>
                <a:chOff x="2635560" y="4023720"/>
                <a:chExt cx="692640" cy="5331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943360" y="4023720"/>
                  <a:ext cx="204840" cy="201600"/>
                </a:xfrm>
                <a:prstGeom prst="rect">
                  <a:avLst/>
                </a:prstGeom>
                <a:solidFill>
                  <a:srgbClr val="66ff66"/>
                </a:solidFill>
                <a:ln w="9360">
                  <a:solidFill>
                    <a:srgbClr val="66ff66"/>
                  </a:solidFill>
                  <a:miter/>
                </a:ln>
                <a:effectLst>
                  <a:outerShdw dist="17819" dir="2700000" blurRad="0" rotWithShape="0">
                    <a:srgbClr val="cc33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635560" y="415800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cc"/>
                      </a:solidFill>
                      <a:latin typeface="Times New Roman"/>
                      <a:ea typeface="隶书"/>
                    </a:rPr>
                    <a:t>808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353040" y="3316320"/>
                <a:ext cx="820800" cy="530640"/>
                <a:chOff x="3353040" y="3316320"/>
                <a:chExt cx="820800" cy="5306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660840" y="3316320"/>
                  <a:ext cx="205200" cy="201600"/>
                </a:xfrm>
                <a:prstGeom prst="rect">
                  <a:avLst/>
                </a:prstGeom>
                <a:solidFill>
                  <a:srgbClr val="66ff66"/>
                </a:solidFill>
                <a:ln w="9360">
                  <a:solidFill>
                    <a:srgbClr val="66ff66"/>
                  </a:solidFill>
                  <a:miter/>
                </a:ln>
                <a:effectLst>
                  <a:outerShdw dist="17819" dir="2700000" blurRad="0" rotWithShape="0">
                    <a:srgbClr val="cc33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353040" y="3448080"/>
                  <a:ext cx="82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cc"/>
                      </a:solidFill>
                      <a:latin typeface="Times New Roman"/>
                      <a:ea typeface="隶书"/>
                    </a:rPr>
                    <a:t>8028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3865680" y="3114360"/>
                <a:ext cx="820800" cy="530640"/>
                <a:chOff x="3865680" y="3114360"/>
                <a:chExt cx="820800" cy="5306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173480" y="3114360"/>
                  <a:ext cx="204840" cy="201600"/>
                </a:xfrm>
                <a:prstGeom prst="rect">
                  <a:avLst/>
                </a:prstGeom>
                <a:solidFill>
                  <a:srgbClr val="66ff66"/>
                </a:solidFill>
                <a:ln w="9360">
                  <a:solidFill>
                    <a:srgbClr val="66ff66"/>
                  </a:solidFill>
                  <a:miter/>
                </a:ln>
                <a:effectLst>
                  <a:outerShdw dist="17819" dir="2700000" blurRad="0" rotWithShape="0">
                    <a:srgbClr val="cc33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865680" y="3246120"/>
                  <a:ext cx="82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cc"/>
                      </a:solidFill>
                      <a:latin typeface="Times New Roman"/>
                      <a:ea typeface="隶书"/>
                    </a:rPr>
                    <a:t>8038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4711320" y="2811600"/>
                <a:ext cx="820800" cy="535320"/>
                <a:chOff x="4711320" y="2811600"/>
                <a:chExt cx="820800" cy="5353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019120" y="2811600"/>
                  <a:ext cx="204840" cy="201600"/>
                </a:xfrm>
                <a:prstGeom prst="rect">
                  <a:avLst/>
                </a:prstGeom>
                <a:solidFill>
                  <a:srgbClr val="66ff66"/>
                </a:solidFill>
                <a:ln w="9360">
                  <a:solidFill>
                    <a:srgbClr val="66ff66"/>
                  </a:solidFill>
                  <a:miter/>
                </a:ln>
                <a:effectLst>
                  <a:outerShdw dist="17819" dir="2700000" blurRad="0" rotWithShape="0">
                    <a:srgbClr val="cc33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711320" y="2948040"/>
                  <a:ext cx="82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cc"/>
                      </a:solidFill>
                      <a:latin typeface="Times New Roman"/>
                      <a:ea typeface="隶书"/>
                    </a:rPr>
                    <a:t>8048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0" name=""/>
            <p:cNvGrpSpPr/>
            <p:nvPr/>
          </p:nvGrpSpPr>
          <p:grpSpPr>
            <a:xfrm>
              <a:off x="1218960" y="5010120"/>
              <a:ext cx="692640" cy="535680"/>
              <a:chOff x="1218960" y="5010120"/>
              <a:chExt cx="692640" cy="535680"/>
            </a:xfrm>
          </p:grpSpPr>
          <p:sp>
            <p:nvSpPr>
              <p:cNvPr id="191" name=""/>
              <p:cNvSpPr/>
              <p:nvPr/>
            </p:nvSpPr>
            <p:spPr>
              <a:xfrm>
                <a:off x="1525680" y="5010120"/>
                <a:ext cx="204480" cy="20232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66ff66"/>
                </a:solidFill>
                <a:miter/>
              </a:ln>
              <a:effectLst>
                <a:outerShdw dist="17819" dir="2700000" blurRad="0" rotWithShape="0">
                  <a:srgbClr val="cc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218960" y="514692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400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6860880" y="228600"/>
            <a:ext cx="1155960" cy="839880"/>
            <a:chOff x="6860880" y="228600"/>
            <a:chExt cx="1155960" cy="839880"/>
          </a:xfrm>
        </p:grpSpPr>
        <p:sp>
          <p:nvSpPr>
            <p:cNvPr id="194" name=""/>
            <p:cNvSpPr/>
            <p:nvPr/>
          </p:nvSpPr>
          <p:spPr>
            <a:xfrm>
              <a:off x="7296120" y="866880"/>
              <a:ext cx="204840" cy="2016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66ff66"/>
              </a:solidFill>
              <a:miter/>
            </a:ln>
            <a:effectLst>
              <a:outerShdw dist="17819" dir="2700000" blurRad="0" rotWithShape="0">
                <a:srgbClr val="cc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60880" y="228600"/>
              <a:ext cx="1155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仿宋_GB2312"/>
                  <a:ea typeface="仿宋_GB2312"/>
                </a:rPr>
                <a:t>2000</a:t>
              </a:r>
              <a:r>
                <a:rPr b="1" lang="zh-CN" sz="2000" spc="-1" strike="noStrike">
                  <a:solidFill>
                    <a:srgbClr val="ff3300"/>
                  </a:solidFill>
                  <a:latin typeface="仿宋_GB2312"/>
                  <a:ea typeface="仿宋_GB2312"/>
                </a:rPr>
                <a:t>年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仿宋_GB2312"/>
                  <a:ea typeface="仿宋_GB2312"/>
                </a:rPr>
                <a:t>微处理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510160" y="1959120"/>
            <a:ext cx="912240" cy="518760"/>
            <a:chOff x="5510160" y="1959120"/>
            <a:chExt cx="912240" cy="518760"/>
          </a:xfrm>
        </p:grpSpPr>
        <p:sp>
          <p:nvSpPr>
            <p:cNvPr id="197" name=""/>
            <p:cNvSpPr/>
            <p:nvPr/>
          </p:nvSpPr>
          <p:spPr>
            <a:xfrm>
              <a:off x="5814360" y="1959120"/>
              <a:ext cx="205200" cy="20232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66ff66"/>
              </a:solidFill>
              <a:miter/>
            </a:ln>
            <a:effectLst>
              <a:outerShdw dist="17819" dir="2700000" blurRad="0" rotWithShape="0">
                <a:srgbClr val="cc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10160" y="214056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Penti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hecker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6" presetSubtype="2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微处理器（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CPU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639880"/>
            <a:ext cx="3408480" cy="1200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改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微处理器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的两种方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4176720"/>
            <a:ext cx="3405240" cy="641520"/>
          </a:xfrm>
          <a:prstGeom prst="rect">
            <a:avLst/>
          </a:prstGeom>
          <a:solidFill>
            <a:srgbClr val="ffe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762120" indent="-76212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提高工作速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122800"/>
            <a:ext cx="3411360" cy="1190520"/>
          </a:xfrm>
          <a:prstGeom prst="rect">
            <a:avLst/>
          </a:prstGeom>
          <a:solidFill>
            <a:srgbClr val="ffe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同时处理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更多的数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809880" y="2743200"/>
            <a:ext cx="5105520" cy="1033560"/>
            <a:chOff x="3809880" y="2743200"/>
            <a:chExt cx="5105520" cy="1033560"/>
          </a:xfrm>
        </p:grpSpPr>
        <p:sp>
          <p:nvSpPr>
            <p:cNvPr id="204" name=""/>
            <p:cNvSpPr/>
            <p:nvPr/>
          </p:nvSpPr>
          <p:spPr>
            <a:xfrm>
              <a:off x="3809880" y="2743200"/>
              <a:ext cx="1524240" cy="1009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ntel</a:t>
              </a:r>
              <a:br>
                <a:rPr sz="3200"/>
              </a:b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808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38680" y="2743200"/>
              <a:ext cx="152424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ntel</a:t>
              </a:r>
              <a:br>
                <a:rPr sz="2800"/>
              </a:b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8048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91520" y="2743200"/>
              <a:ext cx="152388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Pentiu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809880" y="4114800"/>
            <a:ext cx="1524240" cy="888840"/>
          </a:xfrm>
          <a:prstGeom prst="rect">
            <a:avLst/>
          </a:prstGeom>
          <a:solidFill>
            <a:srgbClr val="006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  <a:ea typeface="隶书"/>
              </a:rPr>
              <a:t>4.7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4114800"/>
            <a:ext cx="1524240" cy="888840"/>
          </a:xfrm>
          <a:prstGeom prst="rect">
            <a:avLst/>
          </a:prstGeom>
          <a:solidFill>
            <a:srgbClr val="006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  <a:ea typeface="隶书"/>
              </a:rPr>
              <a:t>10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29680" y="4095720"/>
            <a:ext cx="1523880" cy="889200"/>
          </a:xfrm>
          <a:prstGeom prst="rect">
            <a:avLst/>
          </a:prstGeom>
          <a:solidFill>
            <a:srgbClr val="006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  <a:ea typeface="隶书"/>
              </a:rPr>
              <a:t>500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5353200"/>
            <a:ext cx="1468440" cy="8888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8 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5353200"/>
            <a:ext cx="1468440" cy="8888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32 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29680" y="5353200"/>
            <a:ext cx="1468080" cy="8888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64 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2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457200" y="0"/>
          <a:ext cx="601992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601992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6896160" y="5295960"/>
            <a:ext cx="1844640" cy="1311480"/>
          </a:xfrm>
          <a:prstGeom prst="rect">
            <a:avLst/>
          </a:prstGeom>
          <a:solidFill>
            <a:srgbClr val="006200"/>
          </a:solidFill>
          <a:ln w="0">
            <a:noFill/>
          </a:ln>
          <a:effectLst>
            <a:outerShdw dist="140247" dir="30926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Alt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8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0"/>
            <a:ext cx="925560" cy="5030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40247" dir="30926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47640" y="361800"/>
            <a:ext cx="3219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计算机</a:t>
            </a:r>
            <a:br>
              <a:rPr sz="4800"/>
            </a:b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发展趋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36760" y="2322360"/>
            <a:ext cx="3654360" cy="3565800"/>
          </a:xfrm>
          <a:custGeom>
            <a:avLst/>
            <a:gdLst/>
            <a:ahLst/>
            <a:rect l="l" t="t" r="r" b="b"/>
            <a:pathLst>
              <a:path w="2302" h="2246">
                <a:moveTo>
                  <a:pt x="1530" y="9"/>
                </a:moveTo>
                <a:lnTo>
                  <a:pt x="2026" y="0"/>
                </a:lnTo>
                <a:lnTo>
                  <a:pt x="1862" y="484"/>
                </a:lnTo>
                <a:lnTo>
                  <a:pt x="1774" y="380"/>
                </a:lnTo>
                <a:lnTo>
                  <a:pt x="1655" y="487"/>
                </a:lnTo>
                <a:lnTo>
                  <a:pt x="1510" y="596"/>
                </a:lnTo>
                <a:lnTo>
                  <a:pt x="1401" y="683"/>
                </a:lnTo>
                <a:lnTo>
                  <a:pt x="1262" y="777"/>
                </a:lnTo>
                <a:lnTo>
                  <a:pt x="1088" y="878"/>
                </a:lnTo>
                <a:lnTo>
                  <a:pt x="901" y="957"/>
                </a:lnTo>
                <a:lnTo>
                  <a:pt x="1901" y="959"/>
                </a:lnTo>
                <a:lnTo>
                  <a:pt x="1900" y="829"/>
                </a:lnTo>
                <a:lnTo>
                  <a:pt x="2301" y="1118"/>
                </a:lnTo>
                <a:lnTo>
                  <a:pt x="1900" y="1407"/>
                </a:lnTo>
                <a:lnTo>
                  <a:pt x="1902" y="1280"/>
                </a:lnTo>
                <a:lnTo>
                  <a:pt x="889" y="1280"/>
                </a:lnTo>
                <a:lnTo>
                  <a:pt x="1082" y="1364"/>
                </a:lnTo>
                <a:lnTo>
                  <a:pt x="1233" y="1444"/>
                </a:lnTo>
                <a:lnTo>
                  <a:pt x="1373" y="1539"/>
                </a:lnTo>
                <a:lnTo>
                  <a:pt x="1517" y="1651"/>
                </a:lnTo>
                <a:lnTo>
                  <a:pt x="1630" y="1733"/>
                </a:lnTo>
                <a:lnTo>
                  <a:pt x="1774" y="1857"/>
                </a:lnTo>
                <a:lnTo>
                  <a:pt x="1862" y="1762"/>
                </a:lnTo>
                <a:lnTo>
                  <a:pt x="2029" y="2245"/>
                </a:lnTo>
                <a:lnTo>
                  <a:pt x="1530" y="2233"/>
                </a:lnTo>
                <a:lnTo>
                  <a:pt x="1603" y="2113"/>
                </a:lnTo>
                <a:lnTo>
                  <a:pt x="1463" y="2020"/>
                </a:lnTo>
                <a:lnTo>
                  <a:pt x="1312" y="1909"/>
                </a:lnTo>
                <a:lnTo>
                  <a:pt x="1174" y="1819"/>
                </a:lnTo>
                <a:lnTo>
                  <a:pt x="1046" y="1738"/>
                </a:lnTo>
                <a:lnTo>
                  <a:pt x="926" y="1671"/>
                </a:lnTo>
                <a:lnTo>
                  <a:pt x="799" y="1605"/>
                </a:lnTo>
                <a:lnTo>
                  <a:pt x="643" y="1534"/>
                </a:lnTo>
                <a:lnTo>
                  <a:pt x="484" y="1502"/>
                </a:lnTo>
                <a:lnTo>
                  <a:pt x="0" y="1500"/>
                </a:lnTo>
                <a:lnTo>
                  <a:pt x="0" y="750"/>
                </a:lnTo>
                <a:lnTo>
                  <a:pt x="482" y="750"/>
                </a:lnTo>
                <a:lnTo>
                  <a:pt x="643" y="716"/>
                </a:lnTo>
                <a:lnTo>
                  <a:pt x="837" y="626"/>
                </a:lnTo>
                <a:lnTo>
                  <a:pt x="965" y="553"/>
                </a:lnTo>
                <a:lnTo>
                  <a:pt x="1073" y="489"/>
                </a:lnTo>
                <a:lnTo>
                  <a:pt x="1200" y="411"/>
                </a:lnTo>
                <a:lnTo>
                  <a:pt x="1320" y="331"/>
                </a:lnTo>
                <a:lnTo>
                  <a:pt x="1452" y="237"/>
                </a:lnTo>
                <a:lnTo>
                  <a:pt x="1608" y="128"/>
                </a:lnTo>
                <a:lnTo>
                  <a:pt x="1530" y="9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0" y="3102120"/>
          <a:ext cx="2666880" cy="21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02120"/>
                    <a:ext cx="266688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7661160" y="1333440"/>
            <a:ext cx="1413000" cy="5000760"/>
          </a:xfrm>
          <a:prstGeom prst="rect">
            <a:avLst/>
          </a:prstGeom>
          <a:solidFill>
            <a:srgbClr val="00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巨型化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型化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网络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智能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宋体"/>
              </a:rPr>
              <a:t>多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宋体"/>
              </a:rPr>
              <a:t>多极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971960" y="2732040"/>
            <a:ext cx="2512800" cy="2349720"/>
            <a:chOff x="4971960" y="2732040"/>
            <a:chExt cx="2512800" cy="2349720"/>
          </a:xfrm>
        </p:grpSpPr>
        <p:graphicFrame>
          <p:nvGraphicFramePr>
            <p:cNvPr id="223" name=""/>
            <p:cNvGraphicFramePr/>
            <p:nvPr/>
          </p:nvGraphicFramePr>
          <p:xfrm>
            <a:off x="4971960" y="2732040"/>
            <a:ext cx="2512800" cy="192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71960" y="2732040"/>
                      <a:ext cx="2512800" cy="192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5" name=""/>
            <p:cNvSpPr/>
            <p:nvPr/>
          </p:nvSpPr>
          <p:spPr>
            <a:xfrm>
              <a:off x="5597280" y="462204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PDP-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680000" y="382680"/>
            <a:ext cx="2849040" cy="2326320"/>
            <a:chOff x="4680000" y="382680"/>
            <a:chExt cx="2849040" cy="2326320"/>
          </a:xfrm>
        </p:grpSpPr>
        <p:graphicFrame>
          <p:nvGraphicFramePr>
            <p:cNvPr id="227" name=""/>
            <p:cNvGraphicFramePr/>
            <p:nvPr/>
          </p:nvGraphicFramePr>
          <p:xfrm>
            <a:off x="4680000" y="382680"/>
            <a:ext cx="2849040" cy="192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80000" y="382680"/>
                      <a:ext cx="2849040" cy="192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9" name=""/>
            <p:cNvSpPr/>
            <p:nvPr/>
          </p:nvSpPr>
          <p:spPr>
            <a:xfrm>
              <a:off x="5379120" y="224928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CRAY-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465800" y="5100480"/>
            <a:ext cx="3085200" cy="1757520"/>
            <a:chOff x="4465800" y="5100480"/>
            <a:chExt cx="3085200" cy="1757520"/>
          </a:xfrm>
        </p:grpSpPr>
        <p:graphicFrame>
          <p:nvGraphicFramePr>
            <p:cNvPr id="231" name=""/>
            <p:cNvGraphicFramePr/>
            <p:nvPr/>
          </p:nvGraphicFramePr>
          <p:xfrm>
            <a:off x="4465800" y="5100480"/>
            <a:ext cx="2152800" cy="1757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465800" y="5100480"/>
                      <a:ext cx="2152800" cy="175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6590160" y="5555520"/>
              <a:ext cx="96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Altair</a:t>
              </a:r>
              <a:br>
                <a:rPr sz="2400"/>
              </a:b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 88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98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.2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计算机的特点和分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1104840"/>
            <a:ext cx="8001000" cy="764280"/>
          </a:xfrm>
          <a:prstGeom prst="rect">
            <a:avLst/>
          </a:prstGeom>
          <a:solidFill>
            <a:srgbClr val="0062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  <a:ea typeface="隶书"/>
              </a:rPr>
              <a:t>运算速度快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每秒几百亿次几千亿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1924200"/>
            <a:ext cx="8001000" cy="764280"/>
          </a:xfrm>
          <a:prstGeom prst="rect">
            <a:avLst/>
          </a:prstGeom>
          <a:solidFill>
            <a:srgbClr val="0062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  <a:ea typeface="隶书"/>
              </a:rPr>
              <a:t>计算精度高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可使用足够多的二进制位数来获得所要求的数据精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3295800"/>
            <a:ext cx="8001000" cy="764280"/>
          </a:xfrm>
          <a:prstGeom prst="rect">
            <a:avLst/>
          </a:prstGeom>
          <a:solidFill>
            <a:srgbClr val="0062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  <a:ea typeface="隶书"/>
              </a:rPr>
              <a:t>具有记忆能力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提供大容量的存储器来存储程序和数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667400"/>
            <a:ext cx="8001000" cy="764280"/>
          </a:xfrm>
          <a:prstGeom prst="rect">
            <a:avLst/>
          </a:prstGeom>
          <a:solidFill>
            <a:srgbClr val="0062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  <a:ea typeface="隶书"/>
              </a:rPr>
              <a:t>具有逻辑判断能力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是区别于其它任何机器的一个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6019920"/>
            <a:ext cx="8001000" cy="764280"/>
          </a:xfrm>
          <a:prstGeom prst="rect">
            <a:avLst/>
          </a:prstGeom>
          <a:solidFill>
            <a:srgbClr val="0062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  <a:ea typeface="隶书"/>
              </a:rPr>
              <a:t>可靠性高，通用性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8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计算机的类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1680" y="1219320"/>
            <a:ext cx="8001000" cy="831240"/>
          </a:xfrm>
          <a:prstGeom prst="rect">
            <a:avLst/>
          </a:prstGeom>
          <a:solidFill>
            <a:srgbClr val="0062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  <a:ea typeface="隶书"/>
              </a:rPr>
              <a:t>国外较流行的分法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巨型机、小巨型机、大型机、小型机、工作站和个人计算机（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P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六大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680" y="4780080"/>
            <a:ext cx="8001000" cy="697320"/>
          </a:xfrm>
          <a:prstGeom prst="rect">
            <a:avLst/>
          </a:prstGeom>
          <a:solidFill>
            <a:srgbClr val="0062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随着计算技术和超大规模集成电路技术的飞速发展，不管那种分类方法都是相对而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2600" y="3276720"/>
            <a:ext cx="8001000" cy="831240"/>
          </a:xfrm>
          <a:prstGeom prst="rect">
            <a:avLst/>
          </a:prstGeom>
          <a:solidFill>
            <a:srgbClr val="0062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  <a:ea typeface="隶书"/>
              </a:rPr>
              <a:t>我国的分法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巨型机、大型机、中型机、小型机、单片机和微型机六大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.3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计算机的应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522440"/>
            <a:ext cx="9144000" cy="53355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66"/>
                </a:solidFill>
                <a:latin typeface="宋体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科学计算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(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数值计算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计算机在处理计算量大、时间性强的数值计算中尤其表现出巨大威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66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数据处理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(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非数值计算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对大批量的信息进行收集、分类、排序、传送、存储以及打印报表和图形等。在办公自动化、事务管理和情报检索等领域应用十分广泛。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85840" y="2001960"/>
            <a:ext cx="6107040" cy="3759120"/>
          </a:xfrm>
          <a:prstGeom prst="rect">
            <a:avLst/>
          </a:prstGeom>
          <a:solidFill>
            <a:srgbClr val="006200"/>
          </a:solidFill>
          <a:ln w="0">
            <a:noFill/>
          </a:ln>
          <a:effectLst>
            <a:outerShdw dist="180599" dir="3039742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466560" indent="-280080">
              <a:lnSpc>
                <a:spcPct val="120000"/>
              </a:lnSpc>
              <a:spcBef>
                <a:spcPts val="799"/>
              </a:spcBef>
              <a:buClr>
                <a:srgbClr val="ffcc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</a:rPr>
              <a:t>计算机文化概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280080">
              <a:lnSpc>
                <a:spcPct val="120000"/>
              </a:lnSpc>
              <a:spcBef>
                <a:spcPts val="799"/>
              </a:spcBef>
              <a:buClr>
                <a:srgbClr val="ffcc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</a:rPr>
              <a:t>1.1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</a:rPr>
              <a:t>计算机发展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280080">
              <a:lnSpc>
                <a:spcPct val="120000"/>
              </a:lnSpc>
              <a:spcBef>
                <a:spcPts val="799"/>
              </a:spcBef>
              <a:buClr>
                <a:srgbClr val="ffcc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</a:rPr>
              <a:t>1.2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</a:rPr>
              <a:t>计算机的特点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280080">
              <a:lnSpc>
                <a:spcPct val="120000"/>
              </a:lnSpc>
              <a:spcBef>
                <a:spcPts val="799"/>
              </a:spcBef>
              <a:buClr>
                <a:srgbClr val="ffcc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</a:rPr>
              <a:t>1.3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</a:rPr>
              <a:t>计算机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280080">
              <a:lnSpc>
                <a:spcPct val="120000"/>
              </a:lnSpc>
              <a:spcBef>
                <a:spcPts val="799"/>
              </a:spcBef>
              <a:buClr>
                <a:srgbClr val="ffcc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</a:rPr>
              <a:t>1.4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</a:rPr>
              <a:t>计算机文化与信息社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352520" y="304920"/>
            <a:ext cx="5943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内容提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1362240"/>
            <a:ext cx="9144000" cy="54957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66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ff99"/>
                </a:solidFill>
                <a:latin typeface="宋体"/>
              </a:rPr>
              <a:t>过程控制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。在生产过程中对现场数数据 进行巡回检测并由计算机进行自动调节和控制。（工业自动化及现代化的武器系统等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66"/>
                </a:solidFill>
                <a:latin typeface="宋体"/>
              </a:rPr>
              <a:t>4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ff99"/>
                </a:solidFill>
                <a:latin typeface="宋体"/>
              </a:rPr>
              <a:t>计算机辅助系统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。包括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:</a:t>
            </a:r>
            <a:br>
              <a:rPr sz="3600"/>
            </a:b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CAD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omputer Aided Design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利用计算机的图形功能做各种设计工作。</a:t>
            </a:r>
            <a:br>
              <a:rPr sz="3600"/>
            </a:b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CAM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omputer Aided Manufacture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利用计算机管理、控制生产设备及其操作。</a:t>
            </a:r>
            <a:br>
              <a:rPr sz="3600"/>
            </a:b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CAI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omputer Aided Instruction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利用多媒体计算机的图、文、声功能实施教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9720" y="287280"/>
            <a:ext cx="77724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计算机的应用领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228600"/>
            <a:ext cx="77724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计算机的应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332000"/>
            <a:ext cx="9144000" cy="697320"/>
          </a:xfrm>
          <a:prstGeom prst="rect">
            <a:avLst/>
          </a:prstGeom>
          <a:solidFill>
            <a:srgbClr val="00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66"/>
                </a:solidFill>
                <a:latin typeface="Times New Roman"/>
              </a:rPr>
              <a:t>５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ffff99"/>
                </a:solidFill>
                <a:latin typeface="Times New Roman"/>
              </a:rPr>
              <a:t>人工智能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用计算机来模拟人的智能，包括：模式识别、景物分析、自然语言理解和生成、专家系统、博弈、机器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298680"/>
            <a:ext cx="9144000" cy="67860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9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信息高速公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个交互式的多媒体网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4022640"/>
            <a:ext cx="9144000" cy="63000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Internet(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互联网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不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种新技术的出现，而且是一种新文化的起源，它使得空间、时间、国界以及个人都发生了根本的转变。它正改变着我们的教育方式、学习方式、生活方式、思维方式等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计算机文化概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266480"/>
            <a:ext cx="9144000" cy="5591160"/>
          </a:xfrm>
          <a:prstGeom prst="rect">
            <a:avLst/>
          </a:prstGeom>
          <a:solidFill>
            <a:srgbClr val="0062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文化是一种历史现象，也是一定社会阶段政治和经济的反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可以指某一社会的意识形态，如：</a:t>
            </a:r>
            <a:r>
              <a:rPr b="0" i="1" lang="zh-CN" sz="3600" spc="-1" strike="noStrike">
                <a:solidFill>
                  <a:srgbClr val="ffff99"/>
                </a:solidFill>
                <a:latin typeface="Times New Roman"/>
                <a:ea typeface="黑体"/>
              </a:rPr>
              <a:t>封建文化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、</a:t>
            </a:r>
            <a:r>
              <a:rPr b="0" i="1" lang="zh-CN" sz="3600" spc="-1" strike="noStrike">
                <a:solidFill>
                  <a:srgbClr val="ffff99"/>
                </a:solidFill>
                <a:latin typeface="Times New Roman"/>
                <a:ea typeface="黑体"/>
              </a:rPr>
              <a:t>社会主义文化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也可以泛指与特定的时代、技术或生活习惯相联系的人类文明：</a:t>
            </a:r>
            <a:r>
              <a:rPr b="0" i="1" lang="zh-CN" sz="3600" spc="-1" strike="noStrike">
                <a:solidFill>
                  <a:srgbClr val="ffff99"/>
                </a:solidFill>
                <a:latin typeface="Times New Roman"/>
                <a:ea typeface="黑体"/>
              </a:rPr>
              <a:t>狩猎文化、农业文化、工业文化、酒文化、茶文化、建筑文化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如今：文化成了“</a:t>
            </a:r>
            <a:r>
              <a:rPr b="0" i="1" lang="zh-CN" sz="3600" spc="-1" strike="noStrike">
                <a:solidFill>
                  <a:srgbClr val="00ffff"/>
                </a:solidFill>
                <a:latin typeface="Times New Roman"/>
                <a:ea typeface="黑体"/>
              </a:rPr>
              <a:t>知识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”的代名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51920" y="6240600"/>
            <a:ext cx="89208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文化发展的四个里程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9144000" cy="5832360"/>
          </a:xfrm>
          <a:prstGeom prst="rect">
            <a:avLst/>
          </a:prstGeom>
          <a:solidFill>
            <a:srgbClr val="0062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语言的产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Times New Roman"/>
              </a:rPr>
              <a:t>语言成为思维、人类交流和传播信息的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文字的使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Times New Roman"/>
              </a:rPr>
              <a:t>能够保存信息、使信息的传播冲破时间、空间的限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印刷术的发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Times New Roman"/>
              </a:rPr>
              <a:t>能够大量复制信息，在更大范围内以更快的速度传播人类文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计算机技术的广泛应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Times New Roman"/>
              </a:rPr>
              <a:t>以计算机为中心，计算机与通信技术相结合的高速、智能信息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400" y="-360"/>
            <a:ext cx="887724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第一文化与第二文化的特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64800"/>
            <a:ext cx="9144000" cy="5892840"/>
          </a:xfrm>
          <a:prstGeom prst="rect">
            <a:avLst/>
          </a:prstGeom>
          <a:solidFill>
            <a:srgbClr val="0062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 algn="just">
              <a:spcBef>
                <a:spcPts val="799"/>
              </a:spcBef>
              <a:buClr>
                <a:srgbClr val="ff99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传统文化（第一文化）的特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271440" algn="just">
              <a:buClr>
                <a:srgbClr val="ffff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Times New Roman"/>
              </a:rPr>
              <a:t>以识字为标志，具备听、说、读、写能力，能通过语言、文字表达思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spcBef>
                <a:spcPts val="799"/>
              </a:spcBef>
              <a:buClr>
                <a:srgbClr val="ff99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计算机文化（第二文化）的特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271440" algn="just">
              <a:buClr>
                <a:srgbClr val="ffff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Times New Roman"/>
              </a:rPr>
              <a:t>以信息处理为核心，信息可以有多种表现形式（文字、语音、音乐、图形、图象、动画等），信息处理都要受程序的控制，计算机信息处理网络化。计算机的应用已经渗透到各个领域，逐渐成为人们工作、学习、生活不可分割的部分，并影响人们的生活、思维习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spcBef>
                <a:spcPts val="700"/>
              </a:spcBef>
              <a:buClr>
                <a:srgbClr val="ff99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文盲的变迁：</a:t>
            </a:r>
            <a:r>
              <a:rPr b="0" lang="zh-CN" sz="2800" spc="-1" strike="noStrike">
                <a:solidFill>
                  <a:srgbClr val="e5ffff"/>
                </a:solidFill>
                <a:latin typeface="Times New Roman"/>
              </a:rPr>
              <a:t>不识字、未受过正规教育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zh-CN" sz="2800" spc="-1" strike="noStrike">
                <a:solidFill>
                  <a:srgbClr val="ffff99"/>
                </a:solidFill>
                <a:latin typeface="Times New Roman"/>
              </a:rPr>
              <a:t>对计算机无知，不会用计算机学习、生活、工作和创造性思维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89960" y="12600"/>
            <a:ext cx="1843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1866960"/>
          <a:ext cx="5086440" cy="47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66960"/>
                    <a:ext cx="508644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0" y="1158840"/>
            <a:ext cx="5334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ENIAC (1946)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计算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95880" y="1905120"/>
            <a:ext cx="2692440" cy="4705200"/>
          </a:xfrm>
          <a:prstGeom prst="rect">
            <a:avLst/>
          </a:prstGeom>
          <a:solidFill>
            <a:srgbClr val="006200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84200" indent="-48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66ff66"/>
                </a:solidFill>
                <a:latin typeface="宋体"/>
              </a:rPr>
              <a:t>18000</a:t>
            </a: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个电子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占地</a:t>
            </a:r>
            <a:r>
              <a:rPr b="0" lang="zh-CN" sz="2800" spc="-1" strike="noStrike">
                <a:solidFill>
                  <a:srgbClr val="66ff66"/>
                </a:solidFill>
                <a:latin typeface="宋体"/>
              </a:rPr>
              <a:t>170</a:t>
            </a: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平方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重达</a:t>
            </a:r>
            <a:r>
              <a:rPr b="0" lang="zh-CN" sz="2800" spc="-1" strike="noStrike">
                <a:solidFill>
                  <a:srgbClr val="66ff66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耗电</a:t>
            </a:r>
            <a:r>
              <a:rPr b="0" lang="zh-CN" sz="2800" spc="-1" strike="noStrike">
                <a:solidFill>
                  <a:srgbClr val="66ff66"/>
                </a:solidFill>
                <a:latin typeface="宋体"/>
              </a:rPr>
              <a:t>150</a:t>
            </a: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千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保存</a:t>
            </a:r>
            <a:r>
              <a:rPr b="0" lang="zh-CN" sz="2800" spc="-1" strike="noStrike">
                <a:solidFill>
                  <a:srgbClr val="66ff66"/>
                </a:solidFill>
                <a:latin typeface="宋体"/>
              </a:rPr>
              <a:t>80</a:t>
            </a: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个字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每秒</a:t>
            </a:r>
            <a:r>
              <a:rPr b="0" lang="zh-CN" sz="2800" spc="-1" strike="noStrike">
                <a:solidFill>
                  <a:srgbClr val="66ff66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千次加、减法运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价值</a:t>
            </a:r>
            <a:r>
              <a:rPr b="0" lang="zh-CN" sz="2800" spc="-1" strike="noStrike">
                <a:solidFill>
                  <a:srgbClr val="66ff66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万美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4280" y="298440"/>
            <a:ext cx="630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.1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计算机发展概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第一代：电子管计算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04440"/>
            <a:ext cx="7392960" cy="5124600"/>
          </a:xfrm>
          <a:prstGeom prst="rect">
            <a:avLst/>
          </a:prstGeom>
          <a:solidFill>
            <a:srgbClr val="006200"/>
          </a:solidFill>
          <a:ln w="38160">
            <a:solidFill>
              <a:srgbClr val="99cc00"/>
            </a:solidFill>
            <a:miter/>
          </a:ln>
          <a:effectLst>
            <a:outerShdw dist="216367" dir="2412502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宋体"/>
              </a:rPr>
              <a:t>逻辑元件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600" spc="-1" strike="noStrike">
                <a:solidFill>
                  <a:srgbClr val="ffff99"/>
                </a:solidFill>
                <a:latin typeface="宋体"/>
              </a:rPr>
              <a:t>电子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宋体"/>
              </a:rPr>
              <a:t>内    存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 延迟线或磁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宋体"/>
              </a:rPr>
              <a:t>外    存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 纸带、卡片或磁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宋体"/>
              </a:rPr>
              <a:t>工作速度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 几千～几万次／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宋体"/>
              </a:rPr>
              <a:t>软    件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 机器语言或汇编语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宋体"/>
              </a:rPr>
              <a:t>应    用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 科学计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宋体"/>
              </a:rPr>
              <a:t>代表机型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ENI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第二代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晶体管计算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6572160" cy="4743360"/>
          </a:xfrm>
          <a:prstGeom prst="rect">
            <a:avLst/>
          </a:prstGeom>
          <a:solidFill>
            <a:srgbClr val="006200"/>
          </a:solidFill>
          <a:ln w="9360">
            <a:solidFill>
              <a:srgbClr val="ff3300"/>
            </a:solidFill>
            <a:miter/>
          </a:ln>
          <a:effectLst>
            <a:outerShdw dist="144956" dir="3129747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66"/>
                </a:solidFill>
                <a:latin typeface="宋体"/>
              </a:rPr>
              <a:t>逻辑元件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600" spc="-1" strike="noStrike">
                <a:solidFill>
                  <a:srgbClr val="ffff99"/>
                </a:solidFill>
                <a:latin typeface="宋体"/>
              </a:rPr>
              <a:t>晶体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66"/>
                </a:solidFill>
                <a:latin typeface="宋体"/>
              </a:rPr>
              <a:t>内    存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磁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spcBef>
                <a:spcPts val="799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66"/>
                </a:solidFill>
                <a:latin typeface="宋体"/>
              </a:rPr>
              <a:t>外    存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磁带或磁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66"/>
                </a:solidFill>
                <a:latin typeface="宋体"/>
              </a:rPr>
              <a:t>工作速度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几十万次／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66"/>
                </a:solidFill>
                <a:latin typeface="宋体"/>
              </a:rPr>
              <a:t>软    件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高级算法语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66"/>
                </a:solidFill>
                <a:latin typeface="宋体"/>
              </a:rPr>
              <a:t>应    用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事务管理及工业控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66"/>
                </a:solidFill>
                <a:latin typeface="宋体"/>
              </a:rPr>
              <a:t>代表机型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IBM 70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系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31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第三代：集成电路计算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647040" cy="5029200"/>
          </a:xfrm>
          <a:prstGeom prst="rect">
            <a:avLst/>
          </a:prstGeom>
          <a:solidFill>
            <a:srgbClr val="006200"/>
          </a:solidFill>
          <a:ln w="9360">
            <a:solidFill>
              <a:srgbClr val="ff3300"/>
            </a:solidFill>
            <a:miter/>
          </a:ln>
          <a:effectLst>
            <a:outerShdw dist="16189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宋体"/>
              </a:rPr>
              <a:t>逻辑元件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99"/>
                </a:solidFill>
                <a:latin typeface="宋体"/>
              </a:rPr>
              <a:t>中小规模集成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宋体"/>
              </a:rPr>
              <a:t>内    存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半导体存储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30000"/>
              </a:lnSpc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宋体"/>
              </a:rPr>
              <a:t>外    存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磁带或磁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宋体"/>
              </a:rPr>
              <a:t>工作速度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几十万～几千万次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宋体"/>
              </a:rPr>
              <a:t>软    件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高级算法语言、</a:t>
            </a:r>
            <a:r>
              <a:rPr b="0" lang="zh-CN" sz="3200" spc="-1" strike="noStrike">
                <a:solidFill>
                  <a:srgbClr val="ffff99"/>
                </a:solidFill>
                <a:latin typeface="宋体"/>
              </a:rPr>
              <a:t>操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宋体"/>
              </a:rPr>
              <a:t>             </a:t>
            </a:r>
            <a:r>
              <a:rPr b="0" lang="zh-CN" sz="3200" spc="-1" strike="noStrike">
                <a:solidFill>
                  <a:srgbClr val="ffff99"/>
                </a:solidFill>
                <a:latin typeface="宋体"/>
              </a:rPr>
              <a:t>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宋体"/>
              </a:rPr>
              <a:t>应    用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计算、管理及控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宋体"/>
              </a:rPr>
              <a:t>代表机型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IBM System /3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41911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629400" y="1924920"/>
            <a:ext cx="2514600" cy="1417320"/>
            <a:chOff x="6629400" y="1924920"/>
            <a:chExt cx="2514600" cy="1417320"/>
          </a:xfrm>
        </p:grpSpPr>
        <p:sp>
          <p:nvSpPr>
            <p:cNvPr id="76" name=""/>
            <p:cNvSpPr/>
            <p:nvPr/>
          </p:nvSpPr>
          <p:spPr>
            <a:xfrm>
              <a:off x="6629400" y="1924920"/>
              <a:ext cx="2514600" cy="1417320"/>
            </a:xfrm>
            <a:prstGeom prst="wedgeRoundRectCallout">
              <a:avLst>
                <a:gd name="adj1" fmla="val -5055"/>
                <a:gd name="adj2" fmla="val 13161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ＳＳＩ</a:t>
              </a:r>
              <a:br>
                <a:rPr sz="4000"/>
              </a:b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ＭＳＩ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268632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计算机文化 基础</cp:keywords>
  <dc:language>en-US</dc:language>
  <cp:lastModifiedBy/>
  <cp:revision>0</cp:revision>
  <dc:subject/>
  <dc:title/>
</cp:coreProperties>
</file>