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3.jpeg" ContentType="image/jpeg"/>
  <Override PartName="/ppt/media/image3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6.gif" ContentType="image/gif"/>
  <Override PartName="/ppt/media/chimes.wav" ContentType="audio/x-wav"/>
  <Override PartName="/ppt/media/image18.png" ContentType="image/png"/>
  <Override PartName="/ppt/media/image7.jpeg" ContentType="image/jpeg"/>
  <Override PartName="/ppt/media/image10.gif" ContentType="image/gif"/>
  <Override PartName="/ppt/media/image12.png" ContentType="image/pn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27.gif" ContentType="image/gif"/>
  <Override PartName="/ppt/media/image13.jpeg" ContentType="image/jpeg"/>
  <Override PartName="/ppt/media/image20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7.jpeg" ContentType="image/jpeg"/>
  <Override PartName="/ppt/media/image16.png" ContentType="image/png"/>
  <Override PartName="/ppt/media/image23.gif" ContentType="image/gif"/>
  <Override PartName="/ppt/media/image21.gif" ContentType="image/gif"/>
  <Override PartName="/ppt/media/image11.jpeg" ContentType="image/jpeg"/>
  <Override PartName="/ppt/media/image24.png" ContentType="image/png"/>
  <Override PartName="/ppt/media/image22.png" ContentType="image/pn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672-3C03-4D5F-B841-CDAA08ED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B77-4DDE-4317-9C64-555585C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F67-080D-4384-9FC1-02F138BA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A5C-50CD-477C-A17B-346C11BC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D5C-503C-43D2-8C97-ED66FF11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339-0164-425D-BF2C-12B0276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9C4-EF25-4D3B-A95D-CA97C97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E9D-EF5D-43C8-A606-4E09BA72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284-0A29-419D-9672-0EA295F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89D-4D16-4DC1-9766-BB9850F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16B-2FB1-4E8D-83C0-75366488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37F-4404-4D36-9F32-E205A3E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94BA-BE89-4BA1-9070-8A1FAC83FC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908040" y="0"/>
            <a:ext cx="1849680" cy="1739880"/>
            <a:chOff x="6908040" y="0"/>
            <a:chExt cx="1849680" cy="1739880"/>
          </a:xfrm>
        </p:grpSpPr>
        <p:sp>
          <p:nvSpPr>
            <p:cNvPr id="43" name=""/>
            <p:cNvSpPr/>
            <p:nvPr/>
          </p:nvSpPr>
          <p:spPr>
            <a:xfrm>
              <a:off x="7135560" y="0"/>
              <a:ext cx="162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佛山剪纸的发展历程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71840" y="3808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过去，是辉煌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71840" y="6858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现在，是灿烂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908040" y="990720"/>
              <a:ext cx="1304280" cy="749160"/>
              <a:chOff x="6908040" y="990720"/>
              <a:chExt cx="1304280" cy="749160"/>
            </a:xfrm>
          </p:grpSpPr>
          <p:sp>
            <p:nvSpPr>
              <p:cNvPr id="47" name=""/>
              <p:cNvSpPr/>
              <p:nvPr/>
            </p:nvSpPr>
            <p:spPr>
              <a:xfrm>
                <a:off x="7071480" y="990720"/>
                <a:ext cx="114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未来，是繁荣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908040" y="137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…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" name="" descr=""/>
          <p:cNvPicPr/>
          <p:nvPr/>
        </p:nvPicPr>
        <p:blipFill>
          <a:blip r:embed="rId2"/>
          <a:srcRect l="0" t="65020" r="0" b="0"/>
          <a:stretch/>
        </p:blipFill>
        <p:spPr>
          <a:xfrm>
            <a:off x="0" y="4457880"/>
            <a:ext cx="914400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0" b="75449"/>
          <a:stretch/>
        </p:blipFill>
        <p:spPr>
          <a:xfrm>
            <a:off x="0" y="0"/>
            <a:ext cx="9144000" cy="16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395280" y="981000"/>
          <a:ext cx="2112840" cy="108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981000"/>
                    <a:ext cx="211284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 txBox="1"/>
          <p:nvPr/>
        </p:nvSpPr>
        <p:spPr>
          <a:xfrm rot="1332600">
            <a:off x="6553080" y="4038120"/>
            <a:ext cx="1371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Copperplate Gothic Light"/>
              </a:rPr>
              <a:t>de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Copperplate Gothic Light"/>
              <a:ea typeface="Copperplate Gothic Light"/>
            </a:endParaRPr>
          </a:p>
        </p:txBody>
      </p:sp>
      <p:sp>
        <p:nvSpPr>
          <p:cNvPr id="54" name=""/>
          <p:cNvSpPr txBox="1"/>
          <p:nvPr/>
        </p:nvSpPr>
        <p:spPr>
          <a:xfrm rot="4218000">
            <a:off x="571320" y="47620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仿宋_GB2312"/>
              </a:rPr>
              <a:t>过去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2095200" y="468648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现在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6" name=""/>
          <p:cNvSpPr txBox="1"/>
          <p:nvPr/>
        </p:nvSpPr>
        <p:spPr>
          <a:xfrm rot="6570000">
            <a:off x="3699720" y="4833720"/>
            <a:ext cx="1071720" cy="5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bdbdd2"/>
                    </a:gs>
                    <a:gs pos="100000">
                      <a:srgbClr val="66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未来</a:t>
            </a:r>
            <a:endParaRPr b="1" lang="en-US" sz="2400" spc="1" strike="noStrike">
              <a:ln w="936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bdbdd2"/>
                  </a:gs>
                  <a:gs pos="100000">
                    <a:srgbClr val="66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2090400">
            <a:off x="7543440" y="38052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584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alisto MT"/>
              </a:rPr>
              <a:t>过去</a:t>
            </a:r>
            <a:endParaRPr b="1" i="1" lang="en-US" sz="2400" spc="1" strike="noStrike">
              <a:ln w="1584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59" name=""/>
          <p:cNvSpPr txBox="1"/>
          <p:nvPr/>
        </p:nvSpPr>
        <p:spPr>
          <a:xfrm rot="860400">
            <a:off x="755280" y="6021000"/>
            <a:ext cx="1447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ankGothic Md BT"/>
              </a:rPr>
              <a:t>foretim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ankGothic Md BT"/>
              <a:ea typeface="BankGothic Md BT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Times New Roman"/>
                <a:ea typeface="幼圆"/>
              </a:rPr>
              <a:t>剪纸是中国最为流行的民间艺术之一，根据考古其历史可追朔到公元六世纪，但人们认为它的实际开始时间比这还要早几百年。剪纸常用于宗教仪式，装饰和造型艺术等方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44792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1371600"/>
            <a:ext cx="6172200" cy="1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Times New Roman"/>
                <a:ea typeface="幼圆"/>
              </a:rPr>
              <a:t>    </a:t>
            </a:r>
            <a:r>
              <a:rPr b="1" lang="zh-TW" sz="1800" spc="-1" strike="noStrike">
                <a:solidFill>
                  <a:srgbClr val="ffcccc"/>
                </a:solidFill>
                <a:latin typeface="Times New Roman"/>
                <a:ea typeface="幼圆"/>
              </a:rPr>
              <a:t>唐朝有位詩人曾經有著「欲剪宜春字，春寒入剪刀」的詩句，可見剪紙這項技藝在當時社會中，已經是十分普遍的一項民間技藝了；尤其是未婚的女孩子，在勤學女紅刺繡之餘，剪紙也是她們必修的一門技藝，平時在家裡，妯娌姐妹鄰居之間，相互切磋剪紙的經驗和技巧，也是一件十分普遍的社交方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676520"/>
            <a:ext cx="1752840" cy="2133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ffcc"/>
                </a:solidFill>
                <a:latin typeface="Times New Roman"/>
                <a:ea typeface="幼圆"/>
              </a:rPr>
              <a:t>中國剪紙的主要材料是棉紙和宣紙，中國的宣紙是用手工做的，具有薄、輕、柔、吸水、韌度大等特性，實在是剪紙最適當的材料。宣紙和棉紙還可以用染料染成各種需要的顏色，一次可以剪三到五張而不會使原稿變型</a:t>
            </a:r>
            <a:r>
              <a:rPr b="1" lang="zh-TW" sz="1800" spc="-1" strike="noStrike">
                <a:solidFill>
                  <a:srgbClr val="99ffcc"/>
                </a:solidFill>
                <a:latin typeface="Times New Roman"/>
                <a:ea typeface="幼圆"/>
              </a:rPr>
              <a:t>.</a:t>
            </a:r>
            <a:r>
              <a:rPr b="1" lang="zh-CN" sz="18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038480"/>
            <a:ext cx="3733920" cy="259092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648320" y="3581280"/>
            <a:ext cx="4228920" cy="2383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6553080" y="4038480"/>
            <a:ext cx="2590920" cy="2437200"/>
            <a:chOff x="6553080" y="4038480"/>
            <a:chExt cx="2590920" cy="2437200"/>
          </a:xfrm>
        </p:grpSpPr>
        <p:sp>
          <p:nvSpPr>
            <p:cNvPr id="69" name=""/>
            <p:cNvSpPr/>
            <p:nvPr/>
          </p:nvSpPr>
          <p:spPr>
            <a:xfrm>
              <a:off x="6705720" y="4038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ecff"/>
                  </a:solidFill>
                  <a:latin typeface="Times New Roman"/>
                  <a:ea typeface="黑体"/>
                </a:rPr>
                <a:t>剪纸的艺术风格：</a:t>
              </a:r>
              <a:r>
                <a:rPr b="1" lang="zh-CN" sz="1800" spc="-1" strike="noStrike">
                  <a:solidFill>
                    <a:srgbClr val="ccec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4461480"/>
              <a:ext cx="259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1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线线相连与线线相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2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构图造型图案化</a:t>
              </a:r>
              <a:br>
                <a:rPr sz="1800"/>
              </a:b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3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形象夸张、简洁、优美，富有节奏感 </a:t>
              </a:r>
              <a:r>
                <a:rPr b="1" lang="zh-CN" sz="1800" spc="-1" strike="noStrike">
                  <a:solidFill>
                    <a:srgbClr val="66ffff"/>
                  </a:solidFill>
                  <a:latin typeface="幼圆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4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色彩单纯、明快</a:t>
              </a:r>
              <a:br>
                <a:rPr sz="1800"/>
              </a:b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5.</a:t>
              </a:r>
              <a:r>
                <a:rPr b="1" lang="zh-CN" sz="1800" spc="-1" strike="noStrike">
                  <a:solidFill>
                    <a:srgbClr val="66ffff"/>
                  </a:solidFill>
                  <a:latin typeface="Times New Roman"/>
                  <a:ea typeface="幼圆"/>
                </a:rPr>
                <a:t>刀法要”稳、准、巧” </a:t>
              </a: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flipH="1" rot="10800000">
            <a:off x="7848720" y="6248520"/>
            <a:ext cx="10666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0" y="45684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7671"/>
                <a:gd name="adj2" fmla="val 4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现在</a:t>
            </a: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72400" y="6172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ISOCPEUR"/>
              </a:rPr>
              <a:t>NOW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ISOCPEUR"/>
              <a:ea typeface="ISOCPEUR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Times New Roman"/>
              </a:rPr>
              <a:t>剪纸更多地是用于装饰。剪纸可用于点缀墙壁、门窗、房柱、镜子、灯和灯笼等，也可为礼品作点缀之用，甚至剪纸本身也可作为礼物赠送他人。人们以前还常把剪纸作绣花和喷漆艺术的模型…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5084640"/>
            <a:ext cx="7543800" cy="325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752480"/>
            <a:ext cx="1295280" cy="2590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76176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8120" y="1447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到了近年，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剪纸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一旦被冠上藝術兩個字之後，反而使社會大眾感覺到它不是一項簡單的技藝，從而產生了望而卻步的想法；在現代的工業社會裡，人們的所得增加，食、衣、住、行各方面的需求，都可以很容易的獲得滿足，但是在精神生活上卻總像是缺少了什麼似的，當然，精神上的陶冶是多方面的，剪紙只是其中的一部分而已，但是它所費不多，而且有著取之不盡、用之不竭的素材和題材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2108160" cy="1517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048120" y="3505320"/>
            <a:ext cx="178416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551664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  <a:ea typeface="幼圆"/>
              </a:rPr>
              <a:t>进入新千年，所发行的第一套剪纸图彩票即为《中华武术》，彩票代码为２０００／０６Ｊ１００ＥＨ，全套５枚，图案为中国武术的５种基本技法，即：剑术、刀术、棍术、拳术、枪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124080" y="55440"/>
            <a:ext cx="1905120" cy="13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952880" y="3505320"/>
            <a:ext cx="1478160" cy="1523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334120" y="122400"/>
            <a:ext cx="1752480" cy="1325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250920" y="58770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739152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650400">
            <a:off x="7524720" y="6165360"/>
            <a:ext cx="1322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alisto MT"/>
              </a:rPr>
              <a:t>未来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90" name=""/>
          <p:cNvSpPr txBox="1"/>
          <p:nvPr/>
        </p:nvSpPr>
        <p:spPr>
          <a:xfrm rot="20869200">
            <a:off x="304920" y="304560"/>
            <a:ext cx="1904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GothicG"/>
              </a:rPr>
              <a:t>FUTURE</a:t>
            </a:r>
            <a:endParaRPr b="1" i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GothicG"/>
              <a:ea typeface="GothicG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6400800" cy="241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1773360"/>
            <a:ext cx="727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ff00"/>
                </a:solidFill>
                <a:latin typeface="Times New Roman"/>
              </a:rPr>
              <a:t>增添剪纸兴趣班，使更多的人学会剪纸技术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幼圆"/>
              </a:rPr>
              <a:t>22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幼圆"/>
              </a:rPr>
              <a:t>）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99ffcc"/>
                </a:solidFill>
                <a:latin typeface="Times New Roman"/>
              </a:rPr>
              <a:t>在各学校中开展剪纸讲座、展览，详细地介绍剪纸的历史，做法，式样与意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幼圆"/>
              </a:rPr>
              <a:t>33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幼圆"/>
              </a:rPr>
              <a:t>）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66ffff"/>
                </a:solidFill>
                <a:latin typeface="Times New Roman"/>
              </a:rPr>
              <a:t>开展剪纸大赛，鼓励少年儿童多多参加，培养下一代对剪纸的热情，对大赛的优胜者进行剪纸培训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44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99ff"/>
                </a:solidFill>
                <a:latin typeface="Times New Roman"/>
              </a:rPr>
              <a:t>把剪纸和民间文化融合在一起，共同发展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在日常生活中推广，所以可以把剪纸作为装饰品大力推广、宣传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66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  </a:t>
            </a:r>
            <a:r>
              <a:rPr b="0" lang="zh-CN" sz="1600" spc="-1" strike="noStrike">
                <a:solidFill>
                  <a:srgbClr val="ff9966"/>
                </a:solidFill>
                <a:latin typeface="Times New Roman"/>
              </a:rPr>
              <a:t>可以和其他地域的剪纸工艺互相参考，进行技术交流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-485640" y="2543040"/>
            <a:ext cx="1886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ffff"/>
                </a:solidFill>
                <a:latin typeface="仿宋_GB2312"/>
              </a:rPr>
              <a:t>我们的建议</a:t>
            </a:r>
            <a:endParaRPr b="1" lang="en-US" sz="2400" spc="1" strike="noStrike">
              <a:ln w="9360">
                <a:solidFill>
                  <a:srgbClr val="ccffff"/>
                </a:solidFill>
                <a:miter/>
              </a:ln>
              <a:solidFill>
                <a:srgbClr val="ffffff"/>
              </a:solidFill>
              <a:latin typeface="仿宋_GB2312"/>
              <a:ea typeface="仿宋_GB2312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67480" y="304920"/>
            <a:ext cx="1335240" cy="185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2286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5b5ff"/>
                </a:solidFill>
                <a:latin typeface="宋体"/>
                <a:ea typeface="幼圆"/>
              </a:rPr>
              <a:t>纵使</a:t>
            </a:r>
            <a:r>
              <a:rPr b="0" lang="zh-CN" sz="2000" spc="-1" strike="noStrike">
                <a:solidFill>
                  <a:srgbClr val="b5b5ff"/>
                </a:solidFill>
                <a:latin typeface="Times New Roman"/>
              </a:rPr>
              <a:t>我们不敢想象未来的剪纸艺术会如何繁荣，但我们敢说，剪纸艺术是会继续繁荣地发展下去。一定会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0" y="613728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064360" y="4005360"/>
            <a:ext cx="107964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9320" y="104760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44956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562720" y="914400"/>
            <a:ext cx="1417680" cy="84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371600" y="6324480"/>
            <a:ext cx="586440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剪纸 文化</cp:keywords>
  <dc:language>en-US</dc:language>
  <cp:lastModifiedBy/>
  <cp:revision>0</cp:revision>
  <dc:subject/>
  <dc:title/>
</cp:coreProperties>
</file>