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67F-592A-4801-9116-DD7CDA63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5C8-73D3-4E50-90E1-744447E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C83-760C-4EAC-BB34-E057C363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CA7-A808-4241-ACC1-0FE39F6C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B54-65D9-4E12-86B9-244280FD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BDC-1978-49DD-81E2-BF4FC7CB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310-0433-4513-B4E2-C3E7518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CD1-23CC-4305-9D26-8377D5D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BFE-D485-4274-BA66-38A7453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D629-2858-4951-BCD7-89192603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5663-9B3B-42C1-A8D2-3FFCEA48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F67-B206-419D-A102-DF15337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D1D-AD43-400A-96C8-4C52239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D646-9F8F-4F88-BBF0-2797775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317-048F-4710-826F-1D1F428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2BB7-305A-4210-8E8E-1F9D043F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A9F-3D51-4676-B2D6-3AEF740F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42C-70FF-4D43-8CB7-FBC2CD8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0B8-E9C0-414A-BBA9-0508046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749-77BA-4A9B-9518-7C10DD7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C5A-CF8E-41AF-BA3A-036EDD9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75C-93BE-4C53-83F3-0E53F7B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85F-F4A0-4F63-8A39-BC973F3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70F-3390-44B1-AA43-5BBAA66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2C2-83C9-4086-82D3-4B7EBF9AC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977-590C-44AF-B4A5-A2D7CC3A2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先生</a:t>
            </a:r>
            <a:br>
              <a:rPr sz="3700"/>
            </a:b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与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0040" y="4105080"/>
            <a:ext cx="6486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纪念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生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848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开设专题讲座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2624040"/>
            <a:ext cx="343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核反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1800" y="3129120"/>
            <a:ext cx="323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宇宙线与高能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06120" y="3581280"/>
            <a:ext cx="21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核谱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4038480"/>
            <a:ext cx="4197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分子束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0" y="4692600"/>
            <a:ext cx="23173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拓学生视野，追踪科研前沿。这种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演化为现在的研究生“近代物理专题”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243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加强实验室建设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35840" y="2635200"/>
            <a:ext cx="4478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教学实验与科研实验室结合，不断向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前沿课题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27160" y="37339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7600" y="37339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十进制万位定标器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20680" y="4267080"/>
            <a:ext cx="34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穆斯堡尔谱学实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2320" y="481500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扰动角关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5880" y="534816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百道脉冲分析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学生参与实验室建设及教师的科研工作，沿续至今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20176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强烈的冲击科技前沿（课题）意识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拼搏精神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3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依据科技发展调整专业方向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7280" y="2595600"/>
            <a:ext cx="217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粒子物理与核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1240" y="3139920"/>
            <a:ext cx="4611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从单纯核物理转向高能物理、原子分子物理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核技术应用、核固体物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7600" y="4172040"/>
            <a:ext cx="156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核电子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4724280"/>
            <a:ext cx="39844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国内最先开展核电子学与计算机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当前开展物理电子学方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52520" y="2874960"/>
            <a:ext cx="1317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论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720" y="3562200"/>
            <a:ext cx="17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离子体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1600" y="4248000"/>
            <a:ext cx="11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加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3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依据科技发展调整专业方向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78760" y="3562200"/>
            <a:ext cx="191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全国最早建立的专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1720" y="426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核技术及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2070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选择前沿课题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54240" y="2940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步辐射加速器的研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4120" y="3809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量子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3005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培养一批高素质人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01360" y="29718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部分毕业生成为各科研单位业务骨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7162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二名院士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65840" y="2863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院院士，现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校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0120" y="3716280"/>
            <a:ext cx="4172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院院士，同步辐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二期工程领导小组负责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62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步辐射加速器主要业务骨干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4160" y="2811600"/>
            <a:ext cx="41122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工程师，总工艺师，直线加速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控制系统，电子束流光学等等都是科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毕业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目  录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4280" y="1905120"/>
            <a:ext cx="47548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参与筹建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66688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特色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7920" y="3456000"/>
            <a:ext cx="4438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学建立的优良学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结硕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724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055600"/>
            <a:ext cx="76960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在老一辈科学家指导下，中国科大迅速成长，已成为一所重点大学，在国外亦受到重视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208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各系系主任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0720" y="263520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73880" y="274320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子核物理和原子核工程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5240" y="32767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7280" y="335268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技术物理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0040" y="388620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77160" y="3886200"/>
            <a:ext cx="20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学物理系主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32080" y="456264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9800" y="4572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物理热工程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25240" y="511956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8960" y="518148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线电电子学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8920" y="380880"/>
            <a:ext cx="5938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721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6666"/>
                </a:solidFill>
                <a:latin typeface="Arial Black"/>
                <a:ea typeface="隶书"/>
              </a:rPr>
              <a:t>谢 谢 </a:t>
            </a:r>
            <a:r>
              <a:rPr b="0" lang="zh-CN" sz="4500" spc="-1" strike="noStrike">
                <a:solidFill>
                  <a:srgbClr val="336666"/>
                </a:solidFill>
                <a:latin typeface="Arial Black"/>
                <a:ea typeface="隶书"/>
              </a:rPr>
              <a:t>!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中国科技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建校初期制定教学及科研方针是关键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参与全校的方针制定，并为本系的专业设置，教学安排具体作出决定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中国科技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书记处在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志主持下讨论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副总理向书记处提交的“成立中国科学技术大学”报告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志批示：“书记处会议批准这个报告，决定成立这个大学”。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等领导也审核同意了书记处的意见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决定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01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系，即原子核物理与原子核工程系：数学、物理、化学都按第一类课程安排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848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专业设置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387036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物理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工程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3184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7960" y="501336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工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核反应堆物理；反应堆工程；热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0052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理论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37160" y="31845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核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54520" y="379404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核）电物理——核电子学；加速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1240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5909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办学模式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240" y="286704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教员：教学和科学研究同时并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7640" y="358128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学生：课堂学习和科研实践同时并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640" y="4495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贯彻中国科大的办学活动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5960"/>
            <a:ext cx="769608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作为系主任的这些决策，对中国科大，特别是对系的迅速成长起了关键作用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480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聘请知名专家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640" y="2666880"/>
            <a:ext cx="44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0360" y="3429000"/>
            <a:ext cx="46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8000" y="4221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技 工作者</cp:keywords>
  <dc:language>en-US</dc:language>
  <cp:lastModifiedBy/>
  <cp:revision>0</cp:revision>
  <dc:subject/>
  <dc:title/>
</cp:coreProperties>
</file>