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AF4-715F-4708-A72B-6ED0FEDB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896-58EC-4C5B-AB33-4233E387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2A1-4715-41DF-8097-09882817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CCE-21D6-46EF-9D4E-C9D76ED8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4C50-BFFC-4DBC-8693-D50C1E97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2D73-30F7-488B-A808-17B346C4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2854-057A-47B4-9194-1695F98F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502C-4BC8-4303-B017-DC4E3E3B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D71C-C3F9-4F2E-A2E9-4CC4A1F3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5663-5D70-4CEE-BCFE-87253B1D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E393-07C5-431C-A143-6B78E719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ADF-F298-4329-A64C-EC475BB9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D975-FCB6-4831-976E-439FF0EE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75AB-F3AA-4250-B75A-151E678D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97D2-C74C-45A7-BA33-084979F5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268E-035F-48FF-8020-6076F02B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93DB-DDAA-4BCF-995D-0A7C321A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F84-0A6B-4EC9-A85F-4EA99A46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98E-221F-472E-9EEF-88F9EAF5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BDD-48EF-4754-97BB-9C306A5B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3E9-21F8-4E6E-9B6B-98C4D0FB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59E-E85A-4BC0-8B69-6E3BCABC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ABA-6DD1-4B62-BBC0-C28492D7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470-DD8F-48D3-B8C1-6A19F879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8A75-199E-4E48-A382-075A1B63A3E4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105E-DCAD-40ED-B2CB-86D77841FAE4}" type="slidenum">
              <a:rPr b="0" lang="zh-TW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8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新細明體"/>
                <a:ea typeface="新細明體"/>
              </a:rPr>
              <a:t>控制的工具與技術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828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管理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XXX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著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XXXXX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出版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生產與作業控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存貨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排程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品質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生產與作業控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存貨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ABC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存貨管理制度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經濟訂購量模型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ahoma"/>
              </a:rPr>
              <a:t>物料需求規劃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ahoma"/>
              </a:rPr>
              <a:t>企業資源規劃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排程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品質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ABC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存貨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2438280"/>
            <a:ext cx="0" cy="30481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5486400"/>
            <a:ext cx="65530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743200"/>
            <a:ext cx="304560" cy="274320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3048120"/>
            <a:ext cx="304560" cy="243828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3733920"/>
            <a:ext cx="304560" cy="175248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3962520"/>
            <a:ext cx="304560" cy="152388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4952880"/>
            <a:ext cx="304560" cy="5335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5257800"/>
            <a:ext cx="304560" cy="22860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5181480"/>
            <a:ext cx="304560" cy="3049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5105520"/>
            <a:ext cx="304560" cy="38088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5029200"/>
            <a:ext cx="304560" cy="45720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5334120"/>
            <a:ext cx="304560" cy="15228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334120"/>
            <a:ext cx="304560" cy="15228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5334120"/>
            <a:ext cx="304560" cy="15228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61200" y="2405160"/>
            <a:ext cx="3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貨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價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7280" y="5757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貨品項目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2362320"/>
            <a:ext cx="1218960" cy="3504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3276720"/>
            <a:ext cx="1219320" cy="25905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83400" y="19382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類存貨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39000" y="274320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類存貨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43880" y="4038480"/>
            <a:ext cx="9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類存貨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經濟訂購量模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32680" y="2209680"/>
            <a:ext cx="6826680" cy="3874680"/>
            <a:chOff x="832680" y="2209680"/>
            <a:chExt cx="6826680" cy="3874680"/>
          </a:xfrm>
        </p:grpSpPr>
        <p:grpSp>
          <p:nvGrpSpPr>
            <p:cNvPr id="255" name=""/>
            <p:cNvGrpSpPr/>
            <p:nvPr/>
          </p:nvGrpSpPr>
          <p:grpSpPr>
            <a:xfrm>
              <a:off x="832680" y="2209680"/>
              <a:ext cx="6813360" cy="1937160"/>
              <a:chOff x="832680" y="2209680"/>
              <a:chExt cx="6813360" cy="1937160"/>
            </a:xfrm>
          </p:grpSpPr>
          <p:sp>
            <p:nvSpPr>
              <p:cNvPr id="256" name=""/>
              <p:cNvSpPr/>
              <p:nvPr/>
            </p:nvSpPr>
            <p:spPr>
              <a:xfrm>
                <a:off x="832680" y="2431800"/>
                <a:ext cx="51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40458c"/>
                    </a:solidFill>
                    <a:latin typeface="Tahoma"/>
                  </a:rPr>
                  <a:t>Q</a:t>
                </a:r>
                <a:r>
                  <a:rPr b="0" lang="zh-TW" sz="2400" spc="-1" strike="noStrike" baseline="-25000">
                    <a:solidFill>
                      <a:srgbClr val="40458c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321920" y="2209680"/>
                <a:ext cx="5078880" cy="1937160"/>
                <a:chOff x="1321920" y="2209680"/>
                <a:chExt cx="5078880" cy="19371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321920" y="2209680"/>
                  <a:ext cx="0" cy="19371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321920" y="4146840"/>
                  <a:ext cx="5078880" cy="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321920" y="2581920"/>
                  <a:ext cx="725400" cy="156456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49640" y="2581920"/>
                  <a:ext cx="725400" cy="156456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223880" y="2581920"/>
                  <a:ext cx="725400" cy="156456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498480" y="2581920"/>
                  <a:ext cx="725400" cy="156456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772720" y="2581920"/>
                  <a:ext cx="725400" cy="156456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047320" y="2581920"/>
                  <a:ext cx="725400" cy="156456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321920" y="3252600"/>
                <a:ext cx="6324120" cy="398880"/>
                <a:chOff x="1321920" y="3252600"/>
                <a:chExt cx="6324120" cy="3988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321920" y="3475800"/>
                  <a:ext cx="48974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499080" y="3252600"/>
                  <a:ext cx="1146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40458c"/>
                      </a:solidFill>
                      <a:latin typeface="Tahoma"/>
                    </a:rPr>
                    <a:t>平均存貨量</a:t>
                  </a:r>
                  <a:r>
                    <a:rPr b="0" lang="zh-TW" sz="2000" spc="-1" strike="noStrike">
                      <a:solidFill>
                        <a:srgbClr val="40458c"/>
                      </a:solidFill>
                      <a:latin typeface="Tahoma"/>
                    </a:rPr>
                    <a:t>a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1321920" y="4519800"/>
              <a:ext cx="5078880" cy="1564560"/>
              <a:chOff x="1321920" y="4519800"/>
              <a:chExt cx="5078880" cy="1564560"/>
            </a:xfrm>
          </p:grpSpPr>
          <p:sp>
            <p:nvSpPr>
              <p:cNvPr id="270" name=""/>
              <p:cNvSpPr/>
              <p:nvPr/>
            </p:nvSpPr>
            <p:spPr>
              <a:xfrm>
                <a:off x="1321920" y="4519800"/>
                <a:ext cx="0" cy="1564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321920" y="6084360"/>
                <a:ext cx="50788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1321920" y="5339160"/>
                <a:ext cx="2176200" cy="744840"/>
                <a:chOff x="1321920" y="5339160"/>
                <a:chExt cx="2176200" cy="7448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32192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68444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13560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77272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41020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4732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498480" y="5339160"/>
                <a:ext cx="2176200" cy="744840"/>
                <a:chOff x="3498480" y="5339160"/>
                <a:chExt cx="2176200" cy="7448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349848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6100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31216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94928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58676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223880" y="5339160"/>
                  <a:ext cx="362520" cy="744840"/>
                </a:xfrm>
                <a:prstGeom prst="rtTriangle">
                  <a:avLst/>
                </a:prstGeom>
                <a:solidFill>
                  <a:srgbClr val="aef2f4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" name=""/>
            <p:cNvSpPr/>
            <p:nvPr/>
          </p:nvSpPr>
          <p:spPr>
            <a:xfrm>
              <a:off x="891720" y="5041080"/>
              <a:ext cx="52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40458c"/>
                  </a:solidFill>
                  <a:latin typeface="Tahoma"/>
                </a:rPr>
                <a:t>Q</a:t>
              </a:r>
              <a:r>
                <a:rPr b="0" lang="zh-TW" sz="2400" spc="-1" strike="noStrike" baseline="-25000">
                  <a:solidFill>
                    <a:srgbClr val="40458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321920" y="5547240"/>
              <a:ext cx="6337440" cy="398880"/>
              <a:chOff x="1321920" y="5547240"/>
              <a:chExt cx="6337440" cy="398880"/>
            </a:xfrm>
          </p:grpSpPr>
          <p:sp>
            <p:nvSpPr>
              <p:cNvPr id="288" name=""/>
              <p:cNvSpPr/>
              <p:nvPr/>
            </p:nvSpPr>
            <p:spPr>
              <a:xfrm>
                <a:off x="1321920" y="5770440"/>
                <a:ext cx="4897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98720" y="55472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40458c"/>
                    </a:solidFill>
                    <a:latin typeface="Tahoma"/>
                  </a:rPr>
                  <a:t>平均存貨量</a:t>
                </a:r>
                <a:r>
                  <a:rPr b="0" lang="zh-TW" sz="2000" spc="-1" strike="noStrike">
                    <a:solidFill>
                      <a:srgbClr val="40458c"/>
                    </a:solidFill>
                    <a:latin typeface="Tahoma"/>
                  </a:rPr>
                  <a:t>b</a:t>
                </a:r>
                <a:endParaRPr b="0" lang="en-US" sz="2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經濟訂購量模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959120" y="1905120"/>
            <a:ext cx="5530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380880" y="304920"/>
            <a:ext cx="7620120" cy="6324480"/>
            <a:chOff x="380880" y="304920"/>
            <a:chExt cx="7620120" cy="6324480"/>
          </a:xfrm>
        </p:grpSpPr>
        <p:sp>
          <p:nvSpPr>
            <p:cNvPr id="293" name=""/>
            <p:cNvSpPr/>
            <p:nvPr/>
          </p:nvSpPr>
          <p:spPr>
            <a:xfrm>
              <a:off x="380880" y="304920"/>
              <a:ext cx="7620120" cy="6324480"/>
            </a:xfrm>
            <a:prstGeom prst="rect">
              <a:avLst/>
            </a:prstGeom>
            <a:solidFill>
              <a:srgbClr val="fbfbc1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71800" y="6019920"/>
              <a:ext cx="487656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0458c"/>
                  </a:solidFill>
                  <a:latin typeface="Tahoma"/>
                </a:rPr>
                <a:t>會計作業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95680" y="457200"/>
              <a:ext cx="129528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0458c"/>
                  </a:solidFill>
                  <a:latin typeface="Tahoma"/>
                </a:rPr>
                <a:t>銷售與分配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9560" y="457200"/>
              <a:ext cx="129564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0458c"/>
                  </a:solidFill>
                  <a:latin typeface="Tahoma"/>
                </a:rPr>
                <a:t>研究與發展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81480" y="914400"/>
              <a:ext cx="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05360" y="914400"/>
              <a:ext cx="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81480" y="5867280"/>
              <a:ext cx="0" cy="152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3040" y="6094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f0000"/>
                  </a:solidFill>
                  <a:latin typeface="Tahoma"/>
                  <a:ea typeface="華康粗圓體"/>
                </a:rPr>
                <a:t>企業資源規劃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85800" y="1143000"/>
            <a:ext cx="7162560" cy="4724280"/>
            <a:chOff x="685800" y="1143000"/>
            <a:chExt cx="7162560" cy="4724280"/>
          </a:xfrm>
        </p:grpSpPr>
        <p:sp>
          <p:nvSpPr>
            <p:cNvPr id="302" name=""/>
            <p:cNvSpPr/>
            <p:nvPr/>
          </p:nvSpPr>
          <p:spPr>
            <a:xfrm>
              <a:off x="685800" y="1143000"/>
              <a:ext cx="7162560" cy="4724280"/>
            </a:xfrm>
            <a:prstGeom prst="rect">
              <a:avLst/>
            </a:prstGeom>
            <a:solidFill>
              <a:srgbClr val="a0f6a4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71800" y="5181480"/>
              <a:ext cx="129528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0458c"/>
                  </a:solidFill>
                  <a:latin typeface="Tahoma"/>
                </a:rPr>
                <a:t>人力需求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5880" y="5181480"/>
              <a:ext cx="129528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0458c"/>
                  </a:solidFill>
                  <a:latin typeface="Tahoma"/>
                </a:rPr>
                <a:t>物力需求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2000" y="5181480"/>
              <a:ext cx="129528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0458c"/>
                  </a:solidFill>
                  <a:latin typeface="Tahoma"/>
                </a:rPr>
                <a:t>財力需求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81480" y="4876920"/>
              <a:ext cx="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81280" y="4876920"/>
              <a:ext cx="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81680" y="4876920"/>
              <a:ext cx="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73040" y="1295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f0000"/>
                  </a:solidFill>
                  <a:latin typeface="Tahoma"/>
                  <a:ea typeface="華康粗圓體"/>
                </a:rPr>
                <a:t>製造資源規劃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914400" y="1752480"/>
            <a:ext cx="6705720" cy="3124440"/>
            <a:chOff x="914400" y="1752480"/>
            <a:chExt cx="6705720" cy="3124440"/>
          </a:xfrm>
        </p:grpSpPr>
        <p:sp>
          <p:nvSpPr>
            <p:cNvPr id="311" name=""/>
            <p:cNvSpPr/>
            <p:nvPr/>
          </p:nvSpPr>
          <p:spPr>
            <a:xfrm>
              <a:off x="914400" y="1752480"/>
              <a:ext cx="6705720" cy="3124440"/>
            </a:xfrm>
            <a:prstGeom prst="rect">
              <a:avLst/>
            </a:prstGeom>
            <a:solidFill>
              <a:srgbClr val="d1faf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49360" y="19810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f0000"/>
                  </a:solidFill>
                  <a:latin typeface="Tahoma"/>
                  <a:ea typeface="華康粗圓體"/>
                </a:rPr>
                <a:t>物料需求規劃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048120" y="1981080"/>
              <a:ext cx="4419360" cy="2667240"/>
              <a:chOff x="3048120" y="1981080"/>
              <a:chExt cx="4419360" cy="2667240"/>
            </a:xfrm>
          </p:grpSpPr>
          <p:sp>
            <p:nvSpPr>
              <p:cNvPr id="314" name=""/>
              <p:cNvSpPr/>
              <p:nvPr/>
            </p:nvSpPr>
            <p:spPr>
              <a:xfrm>
                <a:off x="4648320" y="3352680"/>
                <a:ext cx="1295280" cy="457200"/>
              </a:xfrm>
              <a:prstGeom prst="rect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40458c"/>
                    </a:solidFill>
                    <a:latin typeface="Tahoma"/>
                  </a:rPr>
                  <a:t>物料需求規劃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48320" y="1981080"/>
                <a:ext cx="1295280" cy="457200"/>
              </a:xfrm>
              <a:prstGeom prst="rect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40458c"/>
                    </a:solidFill>
                    <a:latin typeface="Tahoma"/>
                  </a:rPr>
                  <a:t>最終產品需求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48320" y="2743200"/>
                <a:ext cx="1295280" cy="457200"/>
              </a:xfrm>
              <a:prstGeom prst="rect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40458c"/>
                    </a:solidFill>
                    <a:latin typeface="Tahoma"/>
                  </a:rPr>
                  <a:t>主生產計畫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48120" y="1981080"/>
                <a:ext cx="1295280" cy="457200"/>
              </a:xfrm>
              <a:prstGeom prst="rect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40458c"/>
                    </a:solidFill>
                    <a:latin typeface="Tahoma"/>
                  </a:rPr>
                  <a:t>成品庫存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72200" y="4191120"/>
                <a:ext cx="1295280" cy="457200"/>
              </a:xfrm>
              <a:prstGeom prst="rect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40458c"/>
                    </a:solidFill>
                    <a:latin typeface="Tahoma"/>
                  </a:rPr>
                  <a:t>採購需求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48120" y="4191120"/>
                <a:ext cx="1295280" cy="457200"/>
              </a:xfrm>
              <a:prstGeom prst="rect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40458c"/>
                    </a:solidFill>
                    <a:latin typeface="Tahoma"/>
                  </a:rPr>
                  <a:t>生產排程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72200" y="2743200"/>
                <a:ext cx="1295280" cy="457200"/>
              </a:xfrm>
              <a:prstGeom prst="rect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40458c"/>
                    </a:solidFill>
                    <a:latin typeface="Tahoma"/>
                  </a:rPr>
                  <a:t>物料表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48120" y="2743200"/>
                <a:ext cx="1295280" cy="457200"/>
              </a:xfrm>
              <a:prstGeom prst="rect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40458c"/>
                    </a:solidFill>
                    <a:latin typeface="Tahoma"/>
                  </a:rPr>
                  <a:t>物料庫存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22" name=""/>
              <p:cNvCxnSpPr>
                <a:stCxn id="317" idx="2"/>
                <a:endCxn id="316" idx="0"/>
              </p:cNvCxnSpPr>
              <p:nvPr/>
            </p:nvCxnSpPr>
            <p:spPr>
              <a:xfrm flipH="1" rot="16200000">
                <a:off x="4342320" y="1790280"/>
                <a:ext cx="305640" cy="16009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  <p:cxnSp>
            <p:nvCxnSpPr>
              <p:cNvPr id="323" name=""/>
              <p:cNvCxnSpPr>
                <a:stCxn id="314" idx="2"/>
                <a:endCxn id="318" idx="0"/>
              </p:cNvCxnSpPr>
              <p:nvPr/>
            </p:nvCxnSpPr>
            <p:spPr>
              <a:xfrm flipH="1" rot="16200000">
                <a:off x="5866200" y="3238200"/>
                <a:ext cx="381960" cy="15246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  <p:cxnSp>
            <p:nvCxnSpPr>
              <p:cNvPr id="324" name=""/>
              <p:cNvCxnSpPr>
                <a:stCxn id="314" idx="2"/>
                <a:endCxn id="319" idx="0"/>
              </p:cNvCxnSpPr>
              <p:nvPr/>
            </p:nvCxnSpPr>
            <p:spPr>
              <a:xfrm rot="5400000">
                <a:off x="4304520" y="3200040"/>
                <a:ext cx="381960" cy="16009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  <p:cxnSp>
            <p:nvCxnSpPr>
              <p:cNvPr id="325" name=""/>
              <p:cNvCxnSpPr>
                <a:stCxn id="315" idx="2"/>
                <a:endCxn id="316" idx="0"/>
              </p:cNvCxnSpPr>
              <p:nvPr/>
            </p:nvCxnSpPr>
            <p:spPr>
              <a:xfrm>
                <a:off x="5295600" y="2437920"/>
                <a:ext cx="1080" cy="3056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  <p:cxnSp>
            <p:nvCxnSpPr>
              <p:cNvPr id="326" name=""/>
              <p:cNvCxnSpPr>
                <a:stCxn id="316" idx="2"/>
                <a:endCxn id="314" idx="0"/>
              </p:cNvCxnSpPr>
              <p:nvPr/>
            </p:nvCxnSpPr>
            <p:spPr>
              <a:xfrm>
                <a:off x="5295600" y="3200040"/>
                <a:ext cx="1080" cy="1530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  <p:cxnSp>
            <p:nvCxnSpPr>
              <p:cNvPr id="327" name=""/>
              <p:cNvCxnSpPr>
                <a:stCxn id="321" idx="2"/>
                <a:endCxn id="314" idx="1"/>
              </p:cNvCxnSpPr>
              <p:nvPr/>
            </p:nvCxnSpPr>
            <p:spPr>
              <a:xfrm flipH="1" rot="16200000">
                <a:off x="3981600" y="2914200"/>
                <a:ext cx="381600" cy="953280"/>
              </a:xfrm>
              <a:prstGeom prst="bentConnector2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  <p:cxnSp>
            <p:nvCxnSpPr>
              <p:cNvPr id="328" name=""/>
              <p:cNvCxnSpPr>
                <a:stCxn id="320" idx="2"/>
                <a:endCxn id="314" idx="3"/>
              </p:cNvCxnSpPr>
              <p:nvPr/>
            </p:nvCxnSpPr>
            <p:spPr>
              <a:xfrm rot="5400000">
                <a:off x="6190560" y="2952720"/>
                <a:ext cx="381600" cy="876960"/>
              </a:xfrm>
              <a:prstGeom prst="bentConnector2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29" name=""/>
          <p:cNvSpPr/>
          <p:nvPr/>
        </p:nvSpPr>
        <p:spPr>
          <a:xfrm>
            <a:off x="8303040" y="-779400"/>
            <a:ext cx="698040" cy="77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40458c"/>
                </a:solidFill>
                <a:latin typeface="Tahoma"/>
                <a:ea typeface="華康粗圓體"/>
              </a:rPr>
              <a:t>物料需求規劃與企業資源規劃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生產與作業控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存貨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排程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甘特圖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負荷圖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網路圖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品質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甘特圖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933480" y="1905120"/>
            <a:ext cx="758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負荷圖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306440" y="1905120"/>
            <a:ext cx="683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網路圖技術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1828800"/>
            <a:ext cx="4952880" cy="825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作業名稱    作業時間     前置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ahoma"/>
              </a:rPr>
              <a:t>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33720" y="30481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33720" y="35053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39625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44197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48769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53341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25909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57913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048120"/>
            <a:ext cx="175248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3505320"/>
            <a:ext cx="175248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3962520"/>
            <a:ext cx="175248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4419720"/>
            <a:ext cx="175248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4876920"/>
            <a:ext cx="175248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5334120"/>
            <a:ext cx="175248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2590920"/>
            <a:ext cx="175248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5791320"/>
            <a:ext cx="175248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30481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86400" y="35053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39625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44197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48769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,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86400" y="53341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,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86400" y="25909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6400" y="5791320"/>
            <a:ext cx="1600200" cy="457200"/>
          </a:xfrm>
          <a:prstGeom prst="rect">
            <a:avLst/>
          </a:prstGeom>
          <a:solidFill>
            <a:srgbClr val="cfdbfd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,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本章大綱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控制的對象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策略控制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行銷控制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生產與作業控制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財務控制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人力資源控制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研究發展控制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資訊系統與控制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  <a:ea typeface="新細明體"/>
              </a:rPr>
              <a:t>網路圖技術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162920" cy="3589560"/>
          </a:xfrm>
          <a:prstGeom prst="rect">
            <a:avLst/>
          </a:prstGeom>
          <a:ln w="0">
            <a:noFill/>
          </a:ln>
        </p:spPr>
      </p:pic>
      <p:grpSp>
        <p:nvGrpSpPr>
          <p:cNvPr id="364" name=""/>
          <p:cNvGrpSpPr/>
          <p:nvPr/>
        </p:nvGrpSpPr>
        <p:grpSpPr>
          <a:xfrm>
            <a:off x="1828800" y="2438280"/>
            <a:ext cx="5867280" cy="1218960"/>
            <a:chOff x="1828800" y="2438280"/>
            <a:chExt cx="5867280" cy="1218960"/>
          </a:xfrm>
        </p:grpSpPr>
        <p:sp>
          <p:nvSpPr>
            <p:cNvPr id="365" name=""/>
            <p:cNvSpPr/>
            <p:nvPr/>
          </p:nvSpPr>
          <p:spPr>
            <a:xfrm flipV="1">
              <a:off x="1828800" y="2895120"/>
              <a:ext cx="7621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52680" y="243828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9400" y="2743200"/>
              <a:ext cx="106668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生產與作業控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存貨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排程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品質管理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統計品質管理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全面品質管理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ISO-9000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品質認證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  <a:ea typeface="新細明體"/>
              </a:rPr>
              <a:t>統計品質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統計品制管制首創於</a:t>
            </a: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1924</a:t>
            </a: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年，由貝爾實驗室率先採用</a:t>
            </a:r>
            <a:r>
              <a:rPr b="0" lang="zh-TW" sz="2800" spc="-1" strike="noStrike">
                <a:solidFill>
                  <a:srgbClr val="800080"/>
                </a:solidFill>
                <a:latin typeface="華康粗圓體"/>
              </a:rPr>
              <a:t> </a:t>
            </a: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二次大戰結束後經戴明博士傳到日本，為日本企業廣為採用，建立了日本產品品質的基礎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統計品質管理是以品質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  </a:t>
            </a: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檢驗為控制品質的主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  </a:t>
            </a: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手段，最主要的工具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  </a:t>
            </a:r>
            <a:r>
              <a:rPr b="0" lang="zh-TW" sz="2800" spc="-1" strike="noStrike">
                <a:solidFill>
                  <a:srgbClr val="40458c"/>
                </a:solidFill>
                <a:latin typeface="華康粗圓體"/>
              </a:rPr>
              <a:t>統計抽樣理論</a:t>
            </a:r>
            <a:r>
              <a:rPr b="0" lang="zh-TW" sz="2800" spc="-1" strike="noStrike">
                <a:solidFill>
                  <a:srgbClr val="40458c"/>
                </a:solidFill>
                <a:latin typeface="Tahoma"/>
                <a:ea typeface="新細明體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5105520" y="3733920"/>
            <a:ext cx="35812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  <a:ea typeface="新細明體"/>
              </a:rPr>
              <a:t>全面品質管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  <a:ea typeface="新細明體"/>
              </a:rPr>
              <a:t>組織中的每一個人都負有品質的責任，而不限於品質管理或生產部門。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強調品質意識，更要求在第一時間就把事情作好。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  <a:ea typeface="新細明體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以持續改進來提昇品質，可以作為企業獨特競爭優勢的基礎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新細明體"/>
              </a:rPr>
              <a:t>ISO900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由國際標準化組織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(ISO, International Standard Organization)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制定的品質管理及品質保證標準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強調品質管理的政策與制度，而非著重於品質檢驗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  <a:ea typeface="新細明體"/>
              </a:rPr>
              <a:t>由歐盟採用定為歐盟標準，限制未獲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  <a:ea typeface="新細明體"/>
              </a:rPr>
              <a:t>ISO 9000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  <a:ea typeface="新細明體"/>
              </a:rPr>
              <a:t>認證之產品不得銷歐盟，受到各國企業重視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財務控制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預算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財務報表分析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</a:rPr>
              <a:t>預算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預算是一種以貨幣來表示的企業計畫，為規劃工具，也是控制的基礎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一般組織的預算包含了收入預算和支出預算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零基預算要求在編製預算時，一切從零開始，對所有的支出項目全面重新檢討其必要性與優先順序，而不受到過去預算的限制。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</a:rPr>
              <a:t>財務報表分析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變現能力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資產管理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負債管理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獲利能力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</a:rPr>
              <a:t>財務報表分析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變現能力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流動比率＝流動資產／流動負債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速動比率＝速動資產／流動負債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資產管理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負債管理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獲利能力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</a:rPr>
              <a:t>財務報表分析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變現能力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資產管理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固定資產週轉率＝銷貨額／固定資產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總資產週轉率＝銷貨額／總資產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負債管理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獲利能力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控制的對象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策略性控制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對應到策略規劃的層次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功能性控制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分為行銷、生產、人力資源、財務、資訊與研究發等企業功能域的控制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作業性控制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強調對各部門執行作業時的控制，其控制的標的以人員、時間、品質與成本為主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</a:rPr>
              <a:t>財務報表分析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變現能力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資產管理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負債管理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負債總額對資產總額＝總負債／總資產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賺得利息倍數＝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稅前純益＋利息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／利息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獲利能力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</a:rPr>
              <a:t>財務報表分析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變現能力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資產管理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負債管理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獲利能力比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稅後淨利率＝稅後淨利／銷貨總額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總資產報酬率＝稅後淨利／資產總額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人力資源控制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生產力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員工滿意程度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人事流動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人力資源控制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生產力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生產力的衡量公式是產出與投入的比率</a:t>
            </a:r>
            <a:r>
              <a:rPr b="0" lang="zh-TW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ahoma"/>
              </a:rPr>
              <a:t>個人生產力＝總產值／員工人數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員工滿意程度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人事流動率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人力資源控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生產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員工滿意程度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內在滿意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外在滿意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一般滿意</a:t>
            </a:r>
            <a:r>
              <a:rPr b="0" lang="zh-TW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人事流動率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人力資源控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生產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員工滿意程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人事流動率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流動率＝當年度離職人數</a:t>
            </a:r>
            <a:r>
              <a:rPr b="0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</a:t>
            </a:r>
            <a:r>
              <a:rPr b="0" lang="zh-TW" sz="2800" spc="-1" strike="noStrike">
                <a:solidFill>
                  <a:srgbClr val="0000ff"/>
                </a:solidFill>
                <a:latin typeface="Tahoma"/>
                <a:ea typeface="新細明體"/>
              </a:rPr>
              <a:t>((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年初總人數＋年底總人數</a:t>
            </a:r>
            <a:r>
              <a:rPr b="0" lang="zh-TW" sz="2800" spc="-1" strike="noStrike">
                <a:solidFill>
                  <a:srgbClr val="0000ff"/>
                </a:solidFill>
                <a:latin typeface="Tahoma"/>
                <a:ea typeface="新細明體"/>
              </a:rPr>
              <a:t>) </a:t>
            </a:r>
            <a:r>
              <a:rPr b="0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</a:t>
            </a:r>
            <a:r>
              <a:rPr b="0" lang="zh-TW" sz="2800" spc="-1" strike="noStrike">
                <a:solidFill>
                  <a:srgbClr val="0000ff"/>
                </a:solidFill>
                <a:latin typeface="Tahoma"/>
                <a:ea typeface="新細明體"/>
              </a:rPr>
              <a:t>2)</a:t>
            </a:r>
            <a:r>
              <a:rPr b="0" lang="zh-TW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人事流動率太高增加人事成本，降低生產力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人事流動率太低，人事呆滯，缺乏新陳代謝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研究發展控制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投入控制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產出控制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研究發展控制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投入控制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研究發展的投入包含了資金、人員和設備</a:t>
            </a:r>
            <a:r>
              <a:rPr b="0" lang="zh-TW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通常以研究經費佔營業收入的百分比來衡量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研發人員的數目也是一個衡量研究發展投入的重要指標</a:t>
            </a:r>
            <a:r>
              <a:rPr b="0" lang="zh-TW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產出控制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研究發展控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投入控制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產出控制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研發成功產品的數量與比率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為組織所創造的價值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銷售額與利潤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來衡量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所申請到的專利數目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研究論文發表的數目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資訊系統與控制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資訊系統作為控制的工具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資訊系統作為控制的標的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策略控制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策略前提控制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針對策略有效性的前提進行密切的監控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策略行動控制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專案編組、工作進度與時程、資源使用情形</a:t>
            </a: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策略環境控制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對組織內外的事件進行廣泛性的搜尋，以找到對企業具策略性意義的事件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資訊系統與控制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資訊系統作為控制的工具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良好的資訊系統可以提供管理者所需要的資訊，以供規劃、決策與控制之用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資訊技術的應用從支援管理者工作的工具性角色，提升到為組織創造競爭力的策略性角色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資訊系統作為控制的標的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資訊系統與控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資訊系統作為控制的工具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資訊系統作為控制的標的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資訊系統本身的品質，也是必須受到監督與控制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標楷體"/>
                <a:ea typeface="Times New Roman"/>
              </a:rPr>
              <a:t>即時性</a:t>
            </a:r>
            <a:endParaRPr b="0" lang="en-US" sz="2400" spc="-1" strike="noStrike">
              <a:solidFill>
                <a:srgbClr val="008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標楷體"/>
                <a:ea typeface="Times New Roman"/>
              </a:rPr>
              <a:t>正確性</a:t>
            </a:r>
            <a:endParaRPr b="0" lang="en-US" sz="2400" spc="-1" strike="noStrike">
              <a:solidFill>
                <a:srgbClr val="008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標楷體"/>
                <a:ea typeface="Times New Roman"/>
              </a:rPr>
              <a:t>可用性</a:t>
            </a:r>
            <a:endParaRPr b="0" lang="en-US" sz="2400" spc="-1" strike="noStrike">
              <a:solidFill>
                <a:srgbClr val="008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標楷體"/>
                <a:ea typeface="Times New Roman"/>
              </a:rPr>
              <a:t>親和性</a:t>
            </a:r>
            <a:endParaRPr b="0" lang="en-US" sz="24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資訊系統與控制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標楷體"/>
                <a:ea typeface="新細明體"/>
              </a:rPr>
              <a:t>資訊科技與通訊科技無疑是近年來發展最快速、且影響最深遠的科技之一，幾乎每一個企業都會受到他們的影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標楷體"/>
                <a:ea typeface="新細明體"/>
              </a:rPr>
              <a:t>一個稱職的現代管理者，應該對資訊技術的發展有充份的了解與掌握，以善用資訊科技為組織開創獨特的競爭優勢。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00"/>
                </a:solidFill>
                <a:latin typeface="新細明體"/>
                <a:ea typeface="新細明體"/>
              </a:rPr>
              <a:t>第十七章</a:t>
            </a:r>
            <a:r>
              <a:rPr b="0" lang="zh-TW" sz="4800" spc="-1" strike="noStrike">
                <a:solidFill>
                  <a:srgbClr val="ff0000"/>
                </a:solidFill>
                <a:latin typeface="Tahoma"/>
                <a:ea typeface="新細明體"/>
              </a:rPr>
              <a:t>  </a:t>
            </a:r>
            <a:r>
              <a:rPr b="0" lang="zh-TW" sz="4800" spc="-1" strike="noStrike">
                <a:solidFill>
                  <a:srgbClr val="ff0000"/>
                </a:solidFill>
                <a:latin typeface="新細明體"/>
                <a:ea typeface="新細明體"/>
              </a:rPr>
              <a:t>控制的工具與技術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828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管理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XXX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著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XXXX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出版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668680" y="35164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ff"/>
                </a:solidFill>
                <a:latin typeface="Tahoma"/>
                <a:ea typeface="華康粗圓體"/>
              </a:rPr>
              <a:t>完</a:t>
            </a:r>
            <a:endParaRPr b="0" lang="en-US" sz="1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00080"/>
                </a:solidFill>
                <a:latin typeface="Times New Roman"/>
              </a:rPr>
              <a:t>行銷控制</a:t>
            </a:r>
            <a:r>
              <a:rPr b="0" lang="zh-TW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銷售情形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獲利能力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市場地位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顧客滿意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3200400" y="3124080"/>
            <a:ext cx="5410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</a:rPr>
              <a:t>銷售情形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銷售情形是以營業額來反應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衡量時要收集不同產品、不同顧客</a:t>
            </a:r>
            <a:r>
              <a:rPr b="0" lang="zh-TW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、不同地區的營業額加以分析比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如果營業額與預定績效目標有所差異，要進一步進行銷售變異分析，以分析銷售不佳的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</a:rPr>
              <a:t>獲利能力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獲利能力控制主要在追蹤銷售成本與管銷費用的部份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利潤計算公式包含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銷貨收入－銷貨成本＝銷貨毛利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銷貨毛利－管銷費用＝營業利益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營業利益－營業外收支＝稅前盈餘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稅前盈餘－稅捐支出＝稅後淨利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</a:rPr>
              <a:t>市場地位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市場地位以市場佔有率作為指標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市場佔有率指企業的銷售額佔整個市場銷售額的比率。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市場佔有率＝企業銷售額</a:t>
            </a:r>
            <a:r>
              <a:rPr b="0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</a:t>
            </a: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市場整體銷額</a:t>
            </a:r>
            <a:r>
              <a:rPr b="0" lang="zh-TW" sz="2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100%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。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影響市場佔有率的因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顧客滲透率、顧客忠誠度、顧客擇性和價格選擇性</a:t>
            </a: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ff"/>
                </a:solidFill>
                <a:latin typeface="新細明體"/>
                <a:ea typeface="新細明體"/>
              </a:rPr>
              <a:t>。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66"/>
                </a:solidFill>
                <a:latin typeface="Times New Roman"/>
              </a:rPr>
              <a:t>顧客滿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長期競爭優勢建立在顧客的滿意的基礎之上。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爭取一位新顧客的成本，大約是留住老顧客的成本的五倍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458c"/>
                </a:solidFill>
                <a:latin typeface="新細明體"/>
                <a:ea typeface="新細明體"/>
              </a:rPr>
              <a:t>可藉由提供滿意的服務來留住老客戶，以增加他們的終身價值。</a:t>
            </a:r>
            <a:r>
              <a:rPr b="0" lang="zh-TW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控制 工具 技术</cp:keywords>
  <dc:language>en-US</dc:language>
  <cp:lastModifiedBy/>
  <cp:revision>0</cp:revision>
  <dc:subject/>
  <dc:title/>
</cp:coreProperties>
</file>