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7E82-8C8F-4C50-BEB5-3844B312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D4AD-1261-4CE3-8ABF-F203CFCA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BA75-D28F-4E04-9B40-371065DAA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ECCB-4734-4D26-9E28-06E1288E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D903-D628-4672-A17E-890D2359E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29030-E635-4EFF-8893-3D51E890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4A40-A1BB-4CB6-81D8-3813C4258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C530-E1BA-4D0A-A122-854ACEFA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AEF5-CFA8-45D6-95CA-AB2DDEA10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6FBC-2401-44BE-8513-73D18B844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AC27-7930-4B2E-BA08-387A8F1A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9C5-17F9-44B0-AC2D-F3D2EC2EE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9F56-7FEC-4C34-8C88-578A5D03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15BF-3B3B-4A3C-A1EA-76DDC1A9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B938-4ABA-4B38-9A29-AA56CC99D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2FC0-A8FB-4C20-B557-578307BAF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2C81-372D-49F5-9EF9-85155CC4A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E17E-4CBB-4694-9FE6-CB57F79E8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F09D-1BC7-48D0-AF57-BBE3C7AD2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C4D16-400D-47BA-B6F2-1CB4E2813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7C7E-CD70-47A5-8B4E-744941806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1837-230B-4BC3-B923-477AEA3ED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6291-F66B-4B4A-BD0B-30162C2DF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7887-F6FD-4C72-AED2-1DEE7F86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7478-C96D-40C0-A649-444BEEA3D9B2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ffffff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3CED4-B525-4C1A-88FE-27E69DE52BAC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1371240"/>
            <a:ext cx="5410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 u="sng">
                <a:solidFill>
                  <a:srgbClr val="ffffb7"/>
                </a:solidFill>
                <a:uFillTx/>
                <a:latin typeface="Arial Black"/>
                <a:ea typeface="標楷體"/>
              </a:rPr>
              <a:t>綠色化學的原則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279440" y="270972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143000" y="2286000"/>
            <a:ext cx="7407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Anastas &amp; Warner (1998)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的十二條原則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化工技術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9(12), 128, 200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避免廢棄物的生成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從</a:t>
            </a:r>
            <a:r>
              <a:rPr b="1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源頭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防治污染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使得製程中所採用的原料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進入最終產品之中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使得所使用與產生的物質對人體健康和環境無毒無害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使得產品具有高效的功能與最低的毒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避免使用溶劑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分離試劑等助劑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如不可避免時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也要選用無毒無害的助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39200"/>
            <a:ext cx="8385120" cy="9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b7"/>
                </a:solidFill>
                <a:latin typeface="Arial Black"/>
              </a:rPr>
              <a:t>Use of Structure-Activity Relationship</a:t>
            </a:r>
            <a:endParaRPr b="1" lang="en-US" sz="3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"/>
          <p:cNvSpPr/>
          <p:nvPr/>
        </p:nvSpPr>
        <p:spPr>
          <a:xfrm>
            <a:off x="950760" y="1938240"/>
            <a:ext cx="772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近年來分子模擬的主要工作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; sometimes called structure – property relationshi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From qualitative relationship to quantitative structure activity relationships (QSAR);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後者定量關係之建立可以靠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i) correlation; or (ii) molecular simulation;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用於發展藥物的技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ome Exampl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611280" y="1628640"/>
            <a:ext cx="8281800" cy="14479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11280" y="4000680"/>
            <a:ext cx="8459640" cy="144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663480" y="2874960"/>
            <a:ext cx="80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Polyeoxylated nonylphenols: as surfactants/emulsifier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8200" y="5396040"/>
            <a:ext cx="794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Glycidyl ethers: as reagents for synthesis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b7"/>
                </a:solidFill>
                <a:latin typeface="Arial Black"/>
              </a:rPr>
              <a:t>Isosteric Replacement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0" name=""/>
          <p:cNvSpPr/>
          <p:nvPr/>
        </p:nvSpPr>
        <p:spPr>
          <a:xfrm>
            <a:off x="1023840" y="1700280"/>
            <a:ext cx="7651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一個新的定義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: isosteres – chemical substances, atoms, or substituents that possess near equal or similar molecular shape and volume, approximately the same distribution of electrons, and which exhibit similar physicochemical proper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611280" y="4292640"/>
            <a:ext cx="5400720" cy="19461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64200" y="4437000"/>
            <a:ext cx="275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範例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三者皆為液體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12 &amp; 41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沸點皆為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81</a:t>
            </a:r>
            <a:r>
              <a:rPr b="0" lang="zh-TW" sz="2400" spc="-1" strike="noStrike" baseline="30000">
                <a:solidFill>
                  <a:srgbClr val="ffffff"/>
                </a:solidFill>
                <a:latin typeface="Tahoma"/>
                <a:ea typeface="標楷體"/>
              </a:rPr>
              <a:t>o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C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71640" y="981000"/>
            <a:ext cx="4527360" cy="4824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5508720" y="2011320"/>
            <a:ext cx="3311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Metallized azo dy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M= Cr (toxi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M = Fe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色澤類似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但不具毒性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Other Techniqu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6" name=""/>
          <p:cNvSpPr/>
          <p:nvPr/>
        </p:nvSpPr>
        <p:spPr>
          <a:xfrm>
            <a:off x="950760" y="1866960"/>
            <a:ext cx="78692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retrometabolic design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soft drug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觀念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i.e.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該物質很容易被新陳代謝作用轉換掉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e.g. hydrolysis step;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因而毒性降低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Equally useful, less toxic substitutes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例如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acetoacetate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取代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isocyanate in sealant and adhesive; isothiazolones for organotin as antifoulant for ships;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Elimination of the need for associated toxic substances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該物質本身無毒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但其輸送儲存時會用到毒性物質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e.g.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油漆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水性比油性好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no or less VOC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Designing Biodegradable Chemicals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8" name=""/>
          <p:cNvSpPr/>
          <p:nvPr/>
        </p:nvSpPr>
        <p:spPr>
          <a:xfrm>
            <a:off x="808200" y="1700280"/>
            <a:ext cx="794052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p.157-171, ACS 640, 1996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Microbial degradation is the major loss mechanism for most organic chemical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一般會增加生物分解阻力者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: (a)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含鹵素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, esp. Cl, F; (b)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太多支鏈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, branched, such as quaternary C or tertiary N; (c) nitro-, nitroso- azo- arylamino groups; (d) polycyclic residues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尤其是超過三個以上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; (e) aliphatic ether bonds, C-O-C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i="1" lang="zh-TW" sz="28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生物法合成的東西大概都可以被生物分解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1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Biodegradable Chemicals (2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"/>
          <p:cNvSpPr/>
          <p:nvPr/>
        </p:nvSpPr>
        <p:spPr>
          <a:xfrm>
            <a:off x="808200" y="1722600"/>
            <a:ext cx="7940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比較喜歡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引入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oxygen in the form of hydroxyl, aldehydic, carboxylic; unsubstituted linear alkyl chains (&gt;4) and phenyl rings;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755640" y="3213000"/>
            <a:ext cx="3456000" cy="21574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4895640" cy="14572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023840" y="5157720"/>
            <a:ext cx="7724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TPBS: tetrapropylene akylbenzene sulfonat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LAS: linear alkylbenzene sulfon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後者比前者容易被生物分解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一般用途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清潔劑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900000" y="836640"/>
            <a:ext cx="6193080" cy="16383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1116000" y="2637000"/>
            <a:ext cx="5977080" cy="18716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684360" y="4859280"/>
            <a:ext cx="82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前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Ethoxylated ethanaminium quaternary ammonium sal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後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ester analog of previous compound;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比較容易為生物分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360" y="722160"/>
            <a:ext cx="57528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ffb7"/>
                </a:solidFill>
                <a:uFillTx/>
                <a:latin typeface="Tahoma"/>
                <a:ea typeface="標楷體"/>
              </a:rPr>
              <a:t>綠色化學的原則 </a:t>
            </a:r>
            <a:r>
              <a:rPr b="1" lang="zh-TW" sz="3200" spc="-1" strike="noStrike" u="sng">
                <a:solidFill>
                  <a:srgbClr val="ffffb7"/>
                </a:solidFill>
                <a:uFillTx/>
                <a:latin typeface="Tahoma"/>
                <a:ea typeface="標楷體"/>
              </a:rPr>
              <a:t>(2)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1" name=""/>
          <p:cNvSpPr/>
          <p:nvPr/>
        </p:nvSpPr>
        <p:spPr>
          <a:xfrm>
            <a:off x="1127160" y="2176560"/>
            <a:ext cx="75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降低製程的能耗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最好在溫和的溫度與壓力下進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在技術可行和經濟合理的前提下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降量採用可再生資源代替消耗性資源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避免使用與產生不必要的衍生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盡量選用高選擇性的催化劑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這比使用化學劑量助劑更優越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改用溫和的生物製程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酵素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生物觸媒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進量使產品在其成功終結後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不會永存於環境中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要能分解成無害的物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79080" y="627120"/>
            <a:ext cx="55897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 u="sng">
                <a:solidFill>
                  <a:srgbClr val="ffffb7"/>
                </a:solidFill>
                <a:uFillTx/>
                <a:latin typeface="Arial Black"/>
                <a:ea typeface="標楷體"/>
              </a:rPr>
              <a:t>綠色化學的原則 </a:t>
            </a:r>
            <a:r>
              <a:rPr b="1" lang="zh-TW" sz="3200" spc="-1" strike="noStrike" u="sng">
                <a:solidFill>
                  <a:srgbClr val="ffffb7"/>
                </a:solidFill>
                <a:uFillTx/>
                <a:latin typeface="Arial Black"/>
                <a:ea typeface="標楷體"/>
              </a:rPr>
              <a:t>(3)</a:t>
            </a:r>
            <a:r>
              <a:rPr b="1" lang="zh-TW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"/>
          <p:cNvSpPr/>
          <p:nvPr/>
        </p:nvSpPr>
        <p:spPr>
          <a:xfrm>
            <a:off x="1203480" y="2328840"/>
            <a:ext cx="740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儘量在製程中即時線上監控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有可能產生的有害物質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並儘量避免產生這些有害物質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儘量使用與產生可降低意外事故如洩漏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爆炸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火災等的化學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90560" y="817560"/>
            <a:ext cx="567216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00cc00"/>
                </a:solidFill>
                <a:latin typeface="Arial Black"/>
              </a:rPr>
              <a:t>綠色化學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2987640" y="2997360"/>
            <a:ext cx="2664000" cy="143964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Chemist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16000" y="2060640"/>
            <a:ext cx="165564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替代性原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無毒性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低毒性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00000" y="3573360"/>
            <a:ext cx="165600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替代性溶劑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zh-TW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4870440"/>
            <a:ext cx="165600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新觸媒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更有效率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45080" y="4870440"/>
            <a:ext cx="165564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生物程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ffffff"/>
                </a:solidFill>
                <a:latin typeface="Times New Roman"/>
              </a:rPr>
              <a:t>生物觸媒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227640" y="3500280"/>
            <a:ext cx="165600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替代性產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24360" y="2133720"/>
            <a:ext cx="1872000" cy="71892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imes New Roman"/>
              </a:rPr>
              <a:t>提升製程效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Design Safer Chemical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"/>
          <p:cNvSpPr/>
          <p:nvPr/>
        </p:nvSpPr>
        <p:spPr>
          <a:xfrm>
            <a:off x="762120" y="160020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藉由分子設計概念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使用各種合成化學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(organic/ inorganic)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得到比較安全的化學品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早期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focus: </a:t>
            </a:r>
            <a:r>
              <a:rPr b="0" i="1" lang="zh-TW" sz="28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efficacy of chemicals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, i.e.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效用好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成本低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;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如今修正為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必須</a:t>
            </a:r>
            <a:r>
              <a:rPr b="0" i="1" lang="zh-TW" sz="28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注重對環境與與健康安全的影響與衝擊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(or </a:t>
            </a:r>
            <a:r>
              <a:rPr b="1" i="1" lang="zh-TW" sz="28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毒性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Green Chemistry is a source prevention approach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new chemical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structural design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safe and efficac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existing chemicals (toxic)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structural redesign </a:t>
            </a:r>
            <a:r>
              <a:rPr b="0" lang="zh-TW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 safe and efficaci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General Approache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447920" y="3854520"/>
            <a:ext cx="6629400" cy="2851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46280" y="1447920"/>
            <a:ext cx="504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Reducing absorption;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Use of toxic mechanis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Use of </a:t>
            </a:r>
            <a:r>
              <a:rPr b="1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structural-activity relationshi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Use of isosteric replace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Use of retrometabolic desig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1447920"/>
            <a:ext cx="3657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Identification of equally efficacious, less toxic chemical substitu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Elimination of the need for associated toxic substan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00920" y="5322960"/>
            <a:ext cx="174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ACS, 640,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09680" y="709560"/>
            <a:ext cx="62928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b7"/>
                </a:solidFill>
                <a:latin typeface="Arial Black"/>
              </a:rPr>
              <a:t>減少吸收 – 降低效應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09880"/>
            <a:ext cx="8169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毒性物質之生物化學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知其原因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才有對策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影響吸收的因素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: physicochemical factors – molecular size, MW, dissociation constant, solubility, lipophilicity, physical state (G, L or S), particle size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細胞膜內含有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lipid,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所以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lipid solubility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在腸胃內吸收角色重要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     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表面積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m</a:t>
            </a:r>
            <a:r>
              <a:rPr b="0" lang="zh-TW" sz="2400" spc="-1" strike="noStrike" baseline="30000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)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吸收層厚度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m)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血流速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(L/mi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皮膚  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1.8              100-1000           0.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小腸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200                   8-12               1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肺部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140                0.2-0.4              5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2400" spc="-1" strike="noStrike" u="sng">
                <a:solidFill>
                  <a:srgbClr val="ffffff"/>
                </a:solidFill>
                <a:uFillTx/>
                <a:latin typeface="Tahoma"/>
                <a:ea typeface="標楷體"/>
              </a:rPr>
              <a:t>Designing safer chemicals, ACS 640, 199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620720" y="528480"/>
            <a:ext cx="6367680" cy="100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Toxic Mechanism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"/>
          <p:cNvSpPr/>
          <p:nvPr/>
        </p:nvSpPr>
        <p:spPr>
          <a:xfrm>
            <a:off x="1547640" y="1916280"/>
            <a:ext cx="2664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Electrophilic chemical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substan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1866960"/>
            <a:ext cx="3024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Electrophilic metaboli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(from metabolis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771640" y="278136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3284640"/>
            <a:ext cx="3745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516720" y="2781360"/>
            <a:ext cx="0" cy="5032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0720" y="3284640"/>
            <a:ext cx="0" cy="288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40000" y="3573360"/>
            <a:ext cx="46083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357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71640" y="4365720"/>
            <a:ext cx="324000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Reactions with nucleoph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With defensive syst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076720" y="4365720"/>
            <a:ext cx="33116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Reactions with nucleoph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Of non-defensive cellu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fffff"/>
                </a:solidFill>
                <a:latin typeface="Tahoma"/>
                <a:ea typeface="標楷體"/>
              </a:rPr>
              <a:t>Molecules, DNA, RNA, et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3573360"/>
            <a:ext cx="0" cy="7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948360" y="3573360"/>
            <a:ext cx="0" cy="792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0000" y="5229360"/>
            <a:ext cx="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948360" y="5300640"/>
            <a:ext cx="0" cy="28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16000" y="5516640"/>
            <a:ext cx="736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      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excretion                                    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535120" y="3666960"/>
            <a:ext cx="63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Path I                                       Path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Structural Modification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/>
          <p:nvPr/>
        </p:nvSpPr>
        <p:spPr>
          <a:xfrm>
            <a:off x="900000" y="1773360"/>
            <a:ext cx="338472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1-(alkoxy)-2-propan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R-O-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-C(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)-H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00000" y="2997360"/>
            <a:ext cx="3384720" cy="107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1-(alkoxy)-1-propan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R-O-CH(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)-C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標楷體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O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84720" y="227664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350028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72200" y="2035080"/>
            <a:ext cx="21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No 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272200" y="3235320"/>
            <a:ext cx="131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1640" y="4508640"/>
            <a:ext cx="3313080" cy="649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Hex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71640" y="5372280"/>
            <a:ext cx="3313080" cy="6490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標楷體"/>
              </a:rPr>
              <a:t>2,5-dimethyl hexa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84720" y="486900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566100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00560" y="4627440"/>
            <a:ext cx="22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Neurotox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72200" y="5396040"/>
            <a:ext cx="196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No toxicity expected; BP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增加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40</a:t>
            </a:r>
            <a:r>
              <a:rPr b="0" lang="zh-TW" sz="2400" spc="-1" strike="noStrike" baseline="30000">
                <a:solidFill>
                  <a:srgbClr val="ffffff"/>
                </a:solidFill>
                <a:latin typeface="Tahoma"/>
                <a:ea typeface="標楷體"/>
              </a:rPr>
              <a:t>o</a:t>
            </a:r>
            <a:r>
              <a:rPr b="0" lang="zh-TW" sz="2400" spc="-1" strike="noStrike">
                <a:solidFill>
                  <a:srgbClr val="ffffff"/>
                </a:solidFill>
                <a:latin typeface="Tahoma"/>
                <a:ea typeface="標楷體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04000" y="2514600"/>
            <a:ext cx="20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Tahoma"/>
                <a:ea typeface="標楷體"/>
              </a:rPr>
              <a:t>藉由改變新陳代謝路徑達成降低毒性效果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绿色化学 原则</cp:keywords>
  <dc:language>en-US</dc:language>
  <cp:lastModifiedBy/>
  <cp:revision>0</cp:revision>
  <dc:subject/>
  <dc:title/>
</cp:coreProperties>
</file>