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BA94-F64B-4491-B0D7-AAF4865F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BEDA-48FF-4960-AB20-5D7E7E8E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FD13-24CF-4F3B-AE6A-3D10621C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8BA8-D398-44F7-962E-22111E6D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6F4C-4882-48BD-AA9D-9F6769CC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CBCC-48B9-4CD5-BCD5-B22129E5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4299-52D6-4783-9062-84004D26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52C-B5BC-458F-AE6D-1A931ECD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4FCB-D344-4A00-B4B7-6B8D2B0C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2B08-8E0F-4B6D-831C-4A7000F3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51B9-A260-4C5B-9D73-3C7B3EF3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EB2D-793F-47F7-88A5-25127631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E9E9-E9D0-42D4-B305-EEE361E48D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98280" y="2438280"/>
            <a:ext cx="537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华文隶书"/>
                <a:ea typeface="华文隶书"/>
              </a:rPr>
              <a:t>4.5    </a:t>
            </a:r>
            <a:r>
              <a:rPr b="0" lang="zh-CN" sz="3600" spc="-1" strike="noStrike">
                <a:solidFill>
                  <a:srgbClr val="333333"/>
                </a:solidFill>
                <a:latin typeface="华文隶书"/>
                <a:ea typeface="华文隶书"/>
              </a:rPr>
              <a:t>旅游活动与地理环境的协调发展</a:t>
            </a: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114800"/>
            <a:ext cx="9144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371600" cy="674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5334120"/>
            <a:ext cx="9824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38088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33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例</a:t>
            </a:r>
            <a:r>
              <a:rPr b="0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A</a:t>
            </a:r>
            <a:r>
              <a:rPr b="0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：</a:t>
            </a:r>
            <a:r>
              <a:rPr b="1" lang="zh-CN" sz="3200" spc="-1" strike="noStrike">
                <a:solidFill>
                  <a:srgbClr val="333333"/>
                </a:solidFill>
                <a:latin typeface="华文中宋"/>
                <a:ea typeface="华文中宋"/>
              </a:rPr>
              <a:t>青岛和大连都是海边城市，当上海人夏季出游时选择青岛的占绝大多数。为什么上海人出游时选择青岛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133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例</a:t>
            </a:r>
            <a:r>
              <a:rPr b="0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B</a:t>
            </a:r>
            <a:r>
              <a:rPr b="0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：</a:t>
            </a:r>
            <a:r>
              <a:rPr b="1" lang="zh-CN" sz="3200" spc="-1" strike="noStrike">
                <a:solidFill>
                  <a:srgbClr val="333333"/>
                </a:solidFill>
                <a:latin typeface="华文中宋"/>
                <a:ea typeface="华文中宋"/>
              </a:rPr>
              <a:t>桂林和杭州两大旅游城市在接待境外游客方面常常不相上下，有时桂林甚至超过杭州。但在接待国内游客方面，杭州每年约为</a:t>
            </a:r>
            <a:r>
              <a:rPr b="1" lang="zh-CN" sz="3200" spc="-1" strike="noStrike">
                <a:solidFill>
                  <a:srgbClr val="333333"/>
                </a:solidFill>
                <a:latin typeface="华文中宋"/>
                <a:ea typeface="华文中宋"/>
              </a:rPr>
              <a:t>2000</a:t>
            </a:r>
            <a:r>
              <a:rPr b="1" lang="zh-CN" sz="3200" spc="-1" strike="noStrike">
                <a:solidFill>
                  <a:srgbClr val="333333"/>
                </a:solidFill>
                <a:latin typeface="华文中宋"/>
                <a:ea typeface="华文中宋"/>
              </a:rPr>
              <a:t>万人次，而桂林只有</a:t>
            </a:r>
            <a:r>
              <a:rPr b="1" lang="zh-CN" sz="3200" spc="-1" strike="noStrike">
                <a:solidFill>
                  <a:srgbClr val="333333"/>
                </a:solidFill>
                <a:latin typeface="华文中宋"/>
                <a:ea typeface="华文中宋"/>
              </a:rPr>
              <a:t>600~700</a:t>
            </a:r>
            <a:r>
              <a:rPr b="1" lang="zh-CN" sz="3200" spc="-1" strike="noStrike">
                <a:solidFill>
                  <a:srgbClr val="333333"/>
                </a:solidFill>
                <a:latin typeface="华文中宋"/>
                <a:ea typeface="华文中宋"/>
              </a:rPr>
              <a:t>万人次。请分析其原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33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71600" y="48038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交通位置及通达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8686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Courier New"/>
              </a:rPr>
              <a:t>旅游容量是可以估算的，它对一个地区旅游的开发和保护是一个非常有借鉴意义的数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urier New"/>
              </a:rPr>
              <a:t>如：旅游资源容量经验公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333333"/>
                </a:solidFill>
                <a:latin typeface="Courier New"/>
              </a:rPr>
              <a:t>为极限容量、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T</a:t>
            </a:r>
            <a:r>
              <a:rPr b="1" lang="zh-CN" sz="2800" spc="-1" strike="noStrike">
                <a:solidFill>
                  <a:srgbClr val="333333"/>
                </a:solidFill>
                <a:latin typeface="Courier New"/>
              </a:rPr>
              <a:t>为每日开放时间，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T</a:t>
            </a:r>
            <a:r>
              <a:rPr b="1" lang="zh-CN" sz="2800" spc="-1" strike="noStrike" baseline="-30000">
                <a:solidFill>
                  <a:srgbClr val="333333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333333"/>
                </a:solidFill>
                <a:latin typeface="Courier New"/>
              </a:rPr>
              <a:t>为人均每次利用时间，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333333"/>
                </a:solidFill>
                <a:latin typeface="Courier New"/>
              </a:rPr>
              <a:t>为资源空间范围，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A</a:t>
            </a:r>
            <a:r>
              <a:rPr b="1" lang="zh-CN" sz="2800" spc="-1" strike="noStrike" baseline="-30000">
                <a:solidFill>
                  <a:srgbClr val="333333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333333"/>
                </a:solidFill>
                <a:latin typeface="Courier New"/>
              </a:rPr>
              <a:t>为每人最低空间标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04812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举例：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南岳衡山绝顶的祝融峰景点，总面积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477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平方米，一天开放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12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小时，每人浏览时间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15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分钟，人均最低空间标准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5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平方米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(1991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年统计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祝融极限日容量为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________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49528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记录到的高峰日容量达到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3.1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万人，浏览时人均占用空间只有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0.73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平方米。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55000" y="2209680"/>
            <a:ext cx="2359800" cy="1036800"/>
            <a:chOff x="1755000" y="2209680"/>
            <a:chExt cx="2359800" cy="1036800"/>
          </a:xfrm>
        </p:grpSpPr>
        <p:sp>
          <p:nvSpPr>
            <p:cNvPr id="133" name=""/>
            <p:cNvSpPr/>
            <p:nvPr/>
          </p:nvSpPr>
          <p:spPr>
            <a:xfrm>
              <a:off x="1755000" y="2514240"/>
              <a:ext cx="63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C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17840" y="2209680"/>
              <a:ext cx="102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A    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14600" y="266688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   T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51460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11160" y="4343400"/>
            <a:ext cx="11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29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59436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说明：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旅游活动的规模应与该地区的环境承载量相适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4582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391520" y="4267080"/>
            <a:ext cx="1422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易对风景区产生破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343400"/>
            <a:ext cx="1422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4343400"/>
            <a:ext cx="1422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4343400"/>
            <a:ext cx="1422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较少，生活用品需人力挑上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4343400"/>
            <a:ext cx="231120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无宽敞平台，活动空间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4267080"/>
            <a:ext cx="5331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黄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16720" y="2386080"/>
            <a:ext cx="142236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夏季游客量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94360" y="2386080"/>
            <a:ext cx="142236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386080"/>
            <a:ext cx="142236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49640" y="2386080"/>
            <a:ext cx="142236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齐全，生活游览方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2386080"/>
            <a:ext cx="231156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110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米的高度上有宽敞的平台，活动空间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2386080"/>
            <a:ext cx="53316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庐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16720" y="838080"/>
            <a:ext cx="142236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对旅游活动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94360" y="838080"/>
            <a:ext cx="142236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环境承载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838080"/>
            <a:ext cx="142236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容人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49640" y="838080"/>
            <a:ext cx="142236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生活设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838080"/>
            <a:ext cx="231156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活动空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838080"/>
            <a:ext cx="53316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地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838080"/>
            <a:ext cx="85341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238608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426708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6848640"/>
            <a:ext cx="85341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838080"/>
            <a:ext cx="0" cy="6019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838080"/>
            <a:ext cx="0" cy="601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838080"/>
            <a:ext cx="0" cy="601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838080"/>
            <a:ext cx="0" cy="601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43600" y="838080"/>
            <a:ext cx="0" cy="601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16720" y="838080"/>
            <a:ext cx="0" cy="601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839080" y="838080"/>
            <a:ext cx="0" cy="6019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36520" y="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庐山和黄山的旅游承载量及对旅游活动的影响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4857" t="4805" r="9053" b="50006"/>
          <a:stretch/>
        </p:blipFill>
        <p:spPr>
          <a:xfrm>
            <a:off x="1295280" y="0"/>
            <a:ext cx="6248520" cy="3048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93240" y="2971800"/>
            <a:ext cx="51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两图主要反映了什么问题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3581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图反映了旅游接待规模过大，旅游设施利用率低，造成浪费。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图接待规模小，导致无法接待，造成损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04720" y="5029200"/>
            <a:ext cx="668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两图表明一个地区的接待能力应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相适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609588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90240" y="5486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市场的需求相适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4857" t="51134" r="9053" b="7060"/>
          <a:stretch/>
        </p:blipFill>
        <p:spPr>
          <a:xfrm>
            <a:off x="1295280" y="0"/>
            <a:ext cx="6096240" cy="2751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2895480"/>
            <a:ext cx="922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为提高设施利用效率，常利用增加旅游项目和采取季节差价等手段，其结果如图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图增加旅游项目的好处是                                   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图采取季节差价的好处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14800" y="441972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61120" y="38577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吸引游人，提高使用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48769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404440" y="4419720"/>
            <a:ext cx="6739560" cy="1077480"/>
            <a:chOff x="2404440" y="4419720"/>
            <a:chExt cx="6739560" cy="1077480"/>
          </a:xfrm>
        </p:grpSpPr>
        <p:sp>
          <p:nvSpPr>
            <p:cNvPr id="185" name=""/>
            <p:cNvSpPr/>
            <p:nvPr/>
          </p:nvSpPr>
          <p:spPr>
            <a:xfrm>
              <a:off x="5257800" y="441972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华文中宋"/>
                </a:rPr>
                <a:t>冬季多吸引游客，提高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04440" y="4976640"/>
              <a:ext cx="487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华文中宋"/>
                </a:rPr>
                <a:t>使用率，夏季调节差价，降低无法接待造成的损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80880" y="54864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19720" y="1066680"/>
            <a:ext cx="609480" cy="5486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隶书"/>
                <a:ea typeface="华文隶书"/>
              </a:rPr>
              <a:t>旅游活动与地理环境的协调发展</a:t>
            </a: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066680"/>
            <a:ext cx="685800" cy="2531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华文隶书"/>
                <a:ea typeface="华文隶书"/>
              </a:rPr>
              <a:t>旅游活动中的环境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0"/>
            <a:ext cx="3429000" cy="581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华文中宋"/>
                <a:ea typeface="华文中宋"/>
              </a:rPr>
              <a:t>旅游资源的保护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143000"/>
            <a:ext cx="207972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环境污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09680"/>
            <a:ext cx="264168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植物的破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200400"/>
            <a:ext cx="236052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背景的破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343400"/>
            <a:ext cx="269388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物古迹的破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334120"/>
            <a:ext cx="269388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社会秩序的冲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35960" y="1066680"/>
            <a:ext cx="1155240" cy="4953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旅游资源开发条件的评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114440" y="3352680"/>
            <a:ext cx="3049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1371600"/>
            <a:ext cx="380880" cy="4191120"/>
          </a:xfrm>
          <a:custGeom>
            <a:avLst/>
            <a:gdLst>
              <a:gd name="textAreaLeft" fmla="*/ 0 w 380880"/>
              <a:gd name="textAreaRight" fmla="*/ 137520 w 38088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3352680"/>
            <a:ext cx="3808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1066680"/>
            <a:ext cx="198108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览价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05720" y="1905120"/>
            <a:ext cx="198108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市场距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2819520"/>
            <a:ext cx="1828800" cy="947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交通位置及通达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05720" y="4267080"/>
            <a:ext cx="220968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接待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05720" y="5334120"/>
            <a:ext cx="243828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环境承载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1295280"/>
            <a:ext cx="228600" cy="4419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724280" y="533160"/>
            <a:ext cx="0" cy="5331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38088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隶书"/>
                <a:ea typeface="华文隶书"/>
              </a:rPr>
              <a:t>以下事例，说明的是哪一方面的旅游环境的问题。</a:t>
            </a:r>
            <a:r>
              <a:rPr b="1" lang="zh-CN" sz="3600" spc="-1" strike="noStrike">
                <a:solidFill>
                  <a:srgbClr val="3333cc"/>
                </a:solidFill>
                <a:latin typeface="华文隶书"/>
                <a:ea typeface="华文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17524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华文隶书"/>
                <a:ea typeface="华文隶书"/>
              </a:rPr>
              <a:t>1</a:t>
            </a:r>
            <a:r>
              <a:rPr b="1" lang="zh-CN" sz="3600" spc="-1" strike="noStrike">
                <a:solidFill>
                  <a:srgbClr val="333333"/>
                </a:solidFill>
                <a:latin typeface="华文隶书"/>
                <a:ea typeface="华文隶书"/>
              </a:rPr>
              <a:t>、法国佩里耶小镇和同名“佩里耶”矿泉水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32004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华文隶书"/>
                <a:ea typeface="华文隶书"/>
              </a:rPr>
              <a:t>2</a:t>
            </a:r>
            <a:r>
              <a:rPr b="1" lang="zh-CN" sz="3600" spc="-1" strike="noStrike">
                <a:solidFill>
                  <a:srgbClr val="333333"/>
                </a:solidFill>
                <a:latin typeface="华文隶书"/>
                <a:ea typeface="华文隶书"/>
              </a:rPr>
              <a:t>、</a:t>
            </a:r>
            <a:r>
              <a:rPr b="1" lang="zh-CN" sz="3600" spc="-1" strike="noStrike">
                <a:solidFill>
                  <a:srgbClr val="333333"/>
                </a:solidFill>
                <a:latin typeface="华文隶书"/>
                <a:ea typeface="华文隶书"/>
              </a:rPr>
              <a:t>20</a:t>
            </a:r>
            <a:r>
              <a:rPr b="1" lang="zh-CN" sz="3600" spc="-1" strike="noStrike">
                <a:solidFill>
                  <a:srgbClr val="333333"/>
                </a:solidFill>
                <a:latin typeface="华文隶书"/>
                <a:ea typeface="华文隶书"/>
              </a:rPr>
              <a:t>世纪年代初非洲每月杀掉</a:t>
            </a:r>
            <a:r>
              <a:rPr b="1" lang="zh-CN" sz="3600" spc="-1" strike="noStrike">
                <a:solidFill>
                  <a:srgbClr val="333333"/>
                </a:solidFill>
                <a:latin typeface="华文隶书"/>
                <a:ea typeface="华文隶书"/>
              </a:rPr>
              <a:t>1000</a:t>
            </a:r>
            <a:r>
              <a:rPr b="1" lang="zh-CN" sz="3600" spc="-1" strike="noStrike">
                <a:solidFill>
                  <a:srgbClr val="333333"/>
                </a:solidFill>
                <a:latin typeface="华文隶书"/>
                <a:ea typeface="华文隶书"/>
              </a:rPr>
              <a:t>头大象，肯尼亚每年</a:t>
            </a:r>
            <a:r>
              <a:rPr b="1" lang="zh-CN" sz="3600" spc="-1" strike="noStrike">
                <a:solidFill>
                  <a:srgbClr val="333333"/>
                </a:solidFill>
                <a:latin typeface="华文隶书"/>
                <a:ea typeface="华文隶书"/>
              </a:rPr>
              <a:t>25000</a:t>
            </a:r>
            <a:r>
              <a:rPr b="1" lang="zh-CN" sz="3600" spc="-1" strike="noStrike">
                <a:solidFill>
                  <a:srgbClr val="333333"/>
                </a:solidFill>
                <a:latin typeface="华文隶书"/>
                <a:ea typeface="华文隶书"/>
              </a:rPr>
              <a:t>张斑马皮；峨嵋山的猴子经常袭击游客，影响峨嵋山的旅游形象，导致猴子的减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26668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华文隶书"/>
                <a:ea typeface="华文隶书"/>
              </a:rPr>
              <a:t>4</a:t>
            </a:r>
            <a:r>
              <a:rPr b="1" lang="zh-CN" sz="3600" spc="-1" strike="noStrike">
                <a:solidFill>
                  <a:srgbClr val="333333"/>
                </a:solidFill>
                <a:latin typeface="华文隶书"/>
                <a:ea typeface="华文隶书"/>
              </a:rPr>
              <a:t>、北京故宫的“金砖”；“长城砖”失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38098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华文隶书"/>
                <a:ea typeface="华文隶书"/>
              </a:rPr>
              <a:t>5</a:t>
            </a:r>
            <a:r>
              <a:rPr b="1" lang="zh-CN" sz="3600" spc="-1" strike="noStrike">
                <a:solidFill>
                  <a:srgbClr val="333333"/>
                </a:solidFill>
                <a:latin typeface="华文隶书"/>
                <a:ea typeface="华文隶书"/>
              </a:rPr>
              <a:t>、十一、五一、春节的旅游对旅游当地居民生活、生产及交通的冲击。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219320"/>
            <a:ext cx="78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华文隶书"/>
                <a:ea typeface="华文隶书"/>
              </a:rPr>
              <a:t>3</a:t>
            </a:r>
            <a:r>
              <a:rPr b="1" lang="zh-CN" sz="3600" spc="-1" strike="noStrike">
                <a:solidFill>
                  <a:srgbClr val="333333"/>
                </a:solidFill>
                <a:latin typeface="华文隶书"/>
                <a:ea typeface="华文隶书"/>
              </a:rPr>
              <a:t>、黄山北海景区”万松林”“百松林”， 遭受损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213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华文隶书"/>
                <a:ea typeface="华文隶书"/>
              </a:rPr>
              <a:t>         </a:t>
            </a:r>
            <a:r>
              <a:rPr b="1" lang="zh-CN" sz="3600" spc="-1" strike="noStrike">
                <a:solidFill>
                  <a:srgbClr val="ff3300"/>
                </a:solidFill>
                <a:latin typeface="华文隶书"/>
                <a:ea typeface="华文隶书"/>
              </a:rPr>
              <a:t>为了旅游业的可持续发展，在治理环境问题方面，你还有哪些好的建议？</a:t>
            </a:r>
            <a:r>
              <a:rPr b="1" lang="zh-CN" sz="1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10800"/>
                </a:moveTo>
                <a:lnTo>
                  <a:pt x="22431" y="3794"/>
                </a:lnTo>
                <a:lnTo>
                  <a:pt x="2243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0"/>
            <a:ext cx="8610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天下西湖团圆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据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XX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社杭州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20XX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年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X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月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X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日电 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X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月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X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日上午，３０位杭州西湖使者，带着“杭州西湖水”，启程拜访全国另外３０个有着同样美丽“西湖”的城市，邀请他们在今年杭州西湖博览会的时候，相聚杭州，共圆“天下西湖团圆梦”。在中国的古代，３６个西湖曾同时分布在神州大地上，时至今日，全国依然有３０个城市拥有与杭州同样美丽的西湖。著名文豪苏东坡有一名句“天下西湖三十六，其中最美是杭州。” 西湖，有着少女般的魅力，清丽脱俗。她拥有三面云山，一水抱城的山光水色，她以“浓妆淡抹总相宜”的自然风光情系天下众生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……“天下西湖，三十有六，惟扬州的西湖，以其清秀婉丽的风姿独异诸湖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71600" y="59436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旅游资源要有高质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21932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urier New"/>
                <a:ea typeface="华文中宋"/>
              </a:rPr>
              <a:t>乃古石林、十丈硐瀑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华文中宋"/>
                <a:ea typeface="华文中宋"/>
              </a:rPr>
              <a:t>乃古石林在全国范围内可以算是景色很好的石林、但是附近有一个名气很大的路南石林，它就难以吸引很多游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华文中宋"/>
                <a:ea typeface="华文中宋"/>
              </a:rPr>
              <a:t>黄果树瀑布、十丈硐瀑布的规模、区位条件十分相似。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1997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年到黄果树瀑布人数达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34.6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万，平均每月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2.8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万，而到十丈硐瀑布浏览全年为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2000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人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86720" y="55627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考虑地域的组合状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228600"/>
            <a:ext cx="85341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稻城亚丁――雪峰在空中沉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华文中宋"/>
                <a:ea typeface="华文中宋"/>
              </a:rPr>
              <a:t>       </a:t>
            </a:r>
            <a:r>
              <a:rPr b="0" lang="zh-CN" sz="2400" spc="-1" strike="noStrike">
                <a:solidFill>
                  <a:srgbClr val="333333"/>
                </a:solidFill>
                <a:latin typeface="华文中宋"/>
                <a:ea typeface="华文中宋"/>
              </a:rPr>
              <a:t>人类只有在雪峰面前，才感到了自己有渺小，收起狂妄。从来没有人敢在雪峰面前说“会当临绝顶，一览众同小”这种对于雪峰的敬畏之情在科技迅速改变一切时尤为珍贵。从稻城到香格里拉乡有</a:t>
            </a:r>
            <a:r>
              <a:rPr b="0" lang="zh-CN" sz="2400" spc="-1" strike="noStrike">
                <a:solidFill>
                  <a:srgbClr val="333333"/>
                </a:solidFill>
                <a:latin typeface="华文中宋"/>
                <a:ea typeface="华文中宋"/>
              </a:rPr>
              <a:t>76</a:t>
            </a:r>
            <a:r>
              <a:rPr b="0" lang="zh-CN" sz="2400" spc="-1" strike="noStrike">
                <a:solidFill>
                  <a:srgbClr val="333333"/>
                </a:solidFill>
                <a:latin typeface="华文中宋"/>
                <a:ea typeface="华文中宋"/>
              </a:rPr>
              <a:t>公里，从香格里拉乡到亚丁三神山又有</a:t>
            </a:r>
            <a:r>
              <a:rPr b="0" lang="zh-CN" sz="2400" spc="-1" strike="noStrike">
                <a:solidFill>
                  <a:srgbClr val="333333"/>
                </a:solidFill>
                <a:latin typeface="华文中宋"/>
                <a:ea typeface="华文中宋"/>
              </a:rPr>
              <a:t>10</a:t>
            </a:r>
            <a:r>
              <a:rPr b="0" lang="zh-CN" sz="2400" spc="-1" strike="noStrike">
                <a:solidFill>
                  <a:srgbClr val="333333"/>
                </a:solidFill>
                <a:latin typeface="华文中宋"/>
                <a:ea typeface="华文中宋"/>
              </a:rPr>
              <a:t>公里，沿途车子在高山峡谷中穿行，并无其它景色。许多人谈起亚丁三神山（四川），给自己的感受用的词是“震撼”。我已经好久没有听到这个词，更是很久没有体验这种情感，但在亚丁的雪峰面前这种感觉降临了。……</a:t>
            </a:r>
            <a:r>
              <a:rPr b="0" lang="zh-CN" sz="2400" spc="-1" strike="noStrike">
                <a:solidFill>
                  <a:srgbClr val="333333"/>
                </a:solidFill>
                <a:latin typeface="华文中宋"/>
                <a:ea typeface="华文中宋"/>
              </a:rPr>
              <a:t>1928</a:t>
            </a:r>
            <a:r>
              <a:rPr b="0" lang="zh-CN" sz="2400" spc="-1" strike="noStrike">
                <a:solidFill>
                  <a:srgbClr val="333333"/>
                </a:solidFill>
                <a:latin typeface="华文中宋"/>
                <a:ea typeface="华文中宋"/>
              </a:rPr>
              <a:t>年，美国人洛克到这里考查，他在国家地理杂志中述说“世界上还有什么地方景致如此完美，等待着探险家、摄影家们……这真是美丽的香格里拉。” ……</a:t>
            </a:r>
            <a:r>
              <a:rPr b="0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1996</a:t>
            </a:r>
            <a:r>
              <a:rPr b="0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年，吕玲珑的画册“在那遥远的地方――稻城”出版。</a:t>
            </a: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紧接着，背包客出现在稻城大街上，开始时人很少，到</a:t>
            </a: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1999</a:t>
            </a: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年全年才</a:t>
            </a: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500</a:t>
            </a: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63040" y="57913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考虑资源的集群状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1371600" y="0"/>
            <a:ext cx="6324120" cy="3276360"/>
            <a:chOff x="1371600" y="0"/>
            <a:chExt cx="6324120" cy="3276360"/>
          </a:xfrm>
        </p:grpSpPr>
        <p:grpSp>
          <p:nvGrpSpPr>
            <p:cNvPr id="81" name=""/>
            <p:cNvGrpSpPr/>
            <p:nvPr/>
          </p:nvGrpSpPr>
          <p:grpSpPr>
            <a:xfrm>
              <a:off x="1376640" y="5760"/>
              <a:ext cx="6313320" cy="3263400"/>
              <a:chOff x="1376640" y="5760"/>
              <a:chExt cx="6313320" cy="326340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1376640" y="5760"/>
                <a:ext cx="6313320" cy="815400"/>
                <a:chOff x="1376640" y="5760"/>
                <a:chExt cx="6313320" cy="81540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1450800" y="5760"/>
                  <a:ext cx="6164640" cy="81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333333"/>
                      </a:solidFill>
                      <a:latin typeface="华文中宋"/>
                      <a:ea typeface="华文中宋"/>
                    </a:rPr>
                    <a:t>抽样调查来</a:t>
                  </a:r>
                  <a:r>
                    <a:rPr b="1" lang="zh-CN" sz="2400" spc="-1" strike="noStrike">
                      <a:solidFill>
                        <a:srgbClr val="ff0000"/>
                      </a:solidFill>
                      <a:latin typeface="华文中宋"/>
                      <a:ea typeface="华文中宋"/>
                    </a:rPr>
                    <a:t>杭州</a:t>
                  </a:r>
                  <a:r>
                    <a:rPr b="1" lang="zh-CN" sz="2400" spc="-1" strike="noStrike">
                      <a:solidFill>
                        <a:srgbClr val="333333"/>
                      </a:solidFill>
                      <a:latin typeface="华文中宋"/>
                      <a:ea typeface="华文中宋"/>
                    </a:rPr>
                    <a:t>旅游的人数：</a:t>
                  </a:r>
                  <a:r>
                    <a:rPr b="1" lang="zh-CN" sz="2400" spc="-1" strike="noStrike">
                      <a:solidFill>
                        <a:srgbClr val="333333"/>
                      </a:solidFill>
                      <a:latin typeface="华文中宋"/>
                      <a:ea typeface="华文中宋"/>
                    </a:rPr>
                    <a:t>6125</a:t>
                  </a:r>
                  <a:r>
                    <a:rPr b="1" lang="zh-CN" sz="2400" spc="-1" strike="noStrike">
                      <a:solidFill>
                        <a:srgbClr val="333333"/>
                      </a:solidFill>
                      <a:latin typeface="华文中宋"/>
                      <a:ea typeface="华文中宋"/>
                    </a:rPr>
                    <a:t>人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376640" y="5760"/>
                  <a:ext cx="6313320" cy="81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1376640" y="821520"/>
                <a:ext cx="1523880" cy="815760"/>
                <a:chOff x="1376640" y="821520"/>
                <a:chExt cx="1523880" cy="8157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1450800" y="821520"/>
                  <a:ext cx="1375560" cy="81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333333"/>
                      </a:solidFill>
                      <a:latin typeface="华文中宋"/>
                      <a:ea typeface="华文中宋"/>
                    </a:rPr>
                    <a:t>上海市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376640" y="821520"/>
                  <a:ext cx="1523880" cy="81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900880" y="821520"/>
                <a:ext cx="1596600" cy="815760"/>
                <a:chOff x="2900880" y="821520"/>
                <a:chExt cx="1596600" cy="8157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975040" y="821520"/>
                  <a:ext cx="1447920" cy="81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333333"/>
                      </a:solidFill>
                      <a:latin typeface="华文中宋"/>
                      <a:ea typeface="华文中宋"/>
                    </a:rPr>
                    <a:t>江苏省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900880" y="821520"/>
                  <a:ext cx="1596600" cy="81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4497840" y="821520"/>
                <a:ext cx="1596600" cy="815760"/>
                <a:chOff x="4497840" y="821520"/>
                <a:chExt cx="1596600" cy="81576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4572000" y="821520"/>
                  <a:ext cx="1447920" cy="81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333333"/>
                      </a:solidFill>
                      <a:latin typeface="华文中宋"/>
                      <a:ea typeface="华文中宋"/>
                    </a:rPr>
                    <a:t>本省其他地区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497840" y="821520"/>
                  <a:ext cx="1596600" cy="81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6095160" y="821520"/>
                <a:ext cx="1594800" cy="815760"/>
                <a:chOff x="6095160" y="821520"/>
                <a:chExt cx="1594800" cy="81576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6168960" y="821520"/>
                  <a:ext cx="1446480" cy="81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333333"/>
                      </a:solidFill>
                      <a:latin typeface="华文中宋"/>
                      <a:ea typeface="华文中宋"/>
                    </a:rPr>
                    <a:t>全国其他省市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095160" y="821520"/>
                  <a:ext cx="1594800" cy="81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1376640" y="1637640"/>
                <a:ext cx="1523880" cy="815400"/>
                <a:chOff x="1376640" y="1637640"/>
                <a:chExt cx="1523880" cy="8154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1450800" y="1637640"/>
                  <a:ext cx="1375560" cy="81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333333"/>
                      </a:solidFill>
                      <a:latin typeface="华文中宋"/>
                      <a:ea typeface="华文中宋"/>
                    </a:rPr>
                    <a:t>2424</a:t>
                  </a:r>
                  <a:r>
                    <a:rPr b="1" lang="zh-CN" sz="2400" spc="-1" strike="noStrike">
                      <a:solidFill>
                        <a:srgbClr val="333333"/>
                      </a:solidFill>
                      <a:latin typeface="华文中宋"/>
                      <a:ea typeface="华文中宋"/>
                    </a:rPr>
                    <a:t>人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376640" y="1637640"/>
                  <a:ext cx="1523880" cy="81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2900880" y="1637640"/>
                <a:ext cx="1596600" cy="815400"/>
                <a:chOff x="2900880" y="1637640"/>
                <a:chExt cx="1596600" cy="8154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975040" y="1637640"/>
                  <a:ext cx="1447920" cy="81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333333"/>
                      </a:solidFill>
                      <a:latin typeface="华文中宋"/>
                      <a:ea typeface="华文中宋"/>
                    </a:rPr>
                    <a:t>2264</a:t>
                  </a:r>
                  <a:r>
                    <a:rPr b="1" lang="zh-CN" sz="2400" spc="-1" strike="noStrike">
                      <a:solidFill>
                        <a:srgbClr val="333333"/>
                      </a:solidFill>
                      <a:latin typeface="华文中宋"/>
                      <a:ea typeface="华文中宋"/>
                    </a:rPr>
                    <a:t>人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900880" y="1637640"/>
                  <a:ext cx="1596600" cy="81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4497840" y="1637640"/>
                <a:ext cx="1596600" cy="815400"/>
                <a:chOff x="4497840" y="1637640"/>
                <a:chExt cx="1596600" cy="8154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572000" y="1637640"/>
                  <a:ext cx="1447920" cy="81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333333"/>
                      </a:solidFill>
                      <a:latin typeface="华文中宋"/>
                      <a:ea typeface="华文中宋"/>
                    </a:rPr>
                    <a:t>634</a:t>
                  </a:r>
                  <a:r>
                    <a:rPr b="1" lang="zh-CN" sz="2400" spc="-1" strike="noStrike">
                      <a:solidFill>
                        <a:srgbClr val="333333"/>
                      </a:solidFill>
                      <a:latin typeface="华文中宋"/>
                      <a:ea typeface="华文中宋"/>
                    </a:rPr>
                    <a:t>人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497840" y="1637640"/>
                  <a:ext cx="1596600" cy="81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6095160" y="1637640"/>
                <a:ext cx="1594800" cy="815400"/>
                <a:chOff x="6095160" y="1637640"/>
                <a:chExt cx="1594800" cy="8154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168960" y="1637640"/>
                  <a:ext cx="1446480" cy="81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333333"/>
                      </a:solidFill>
                      <a:latin typeface="华文中宋"/>
                      <a:ea typeface="华文中宋"/>
                    </a:rPr>
                    <a:t>803</a:t>
                  </a:r>
                  <a:r>
                    <a:rPr b="1" lang="zh-CN" sz="2400" spc="-1" strike="noStrike">
                      <a:solidFill>
                        <a:srgbClr val="333333"/>
                      </a:solidFill>
                      <a:latin typeface="华文中宋"/>
                      <a:ea typeface="华文中宋"/>
                    </a:rPr>
                    <a:t>人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095160" y="1637640"/>
                  <a:ext cx="1594800" cy="81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1376640" y="2453400"/>
                <a:ext cx="1523880" cy="815760"/>
                <a:chOff x="1376640" y="2453400"/>
                <a:chExt cx="1523880" cy="8157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450800" y="2453400"/>
                  <a:ext cx="1375560" cy="81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333333"/>
                      </a:solidFill>
                      <a:latin typeface="华文中宋"/>
                      <a:ea typeface="华文中宋"/>
                    </a:rPr>
                    <a:t>占</a:t>
                  </a:r>
                  <a:r>
                    <a:rPr b="1" lang="zh-CN" sz="2400" spc="-1" strike="noStrike">
                      <a:solidFill>
                        <a:srgbClr val="ff3300"/>
                      </a:solidFill>
                      <a:latin typeface="华文中宋"/>
                      <a:ea typeface="华文中宋"/>
                    </a:rPr>
                    <a:t>40 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376640" y="2453400"/>
                  <a:ext cx="1523880" cy="81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2900880" y="2453400"/>
                <a:ext cx="1596600" cy="815760"/>
                <a:chOff x="2900880" y="2453400"/>
                <a:chExt cx="1596600" cy="8157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2975040" y="2453400"/>
                  <a:ext cx="1447920" cy="81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333333"/>
                      </a:solidFill>
                      <a:latin typeface="华文中宋"/>
                      <a:ea typeface="华文中宋"/>
                    </a:rPr>
                    <a:t>占</a:t>
                  </a:r>
                  <a:r>
                    <a:rPr b="1" lang="zh-CN" sz="2400" spc="-1" strike="noStrike">
                      <a:solidFill>
                        <a:srgbClr val="ff3300"/>
                      </a:solidFill>
                      <a:latin typeface="华文中宋"/>
                      <a:ea typeface="华文中宋"/>
                    </a:rPr>
                    <a:t>37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900880" y="2453400"/>
                  <a:ext cx="1596600" cy="81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4497840" y="2453400"/>
                <a:ext cx="1596600" cy="815760"/>
                <a:chOff x="4497840" y="2453400"/>
                <a:chExt cx="1596600" cy="8157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4572000" y="2453400"/>
                  <a:ext cx="1447920" cy="81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333333"/>
                      </a:solidFill>
                      <a:latin typeface="华文中宋"/>
                      <a:ea typeface="华文中宋"/>
                    </a:rPr>
                    <a:t>占</a:t>
                  </a:r>
                  <a:r>
                    <a:rPr b="1" lang="zh-CN" sz="2400" spc="-1" strike="noStrike">
                      <a:solidFill>
                        <a:srgbClr val="ff3300"/>
                      </a:solidFill>
                      <a:latin typeface="华文中宋"/>
                      <a:ea typeface="华文中宋"/>
                    </a:rPr>
                    <a:t>10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497840" y="2453400"/>
                  <a:ext cx="1596600" cy="81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6095160" y="2453400"/>
                <a:ext cx="1594800" cy="815760"/>
                <a:chOff x="6095160" y="2453400"/>
                <a:chExt cx="1594800" cy="8157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168960" y="2453400"/>
                  <a:ext cx="1446480" cy="81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333333"/>
                      </a:solidFill>
                      <a:latin typeface="华文中宋"/>
                      <a:ea typeface="华文中宋"/>
                    </a:rPr>
                    <a:t>占</a:t>
                  </a:r>
                  <a:r>
                    <a:rPr b="1" lang="zh-CN" sz="2400" spc="-1" strike="noStrike">
                      <a:solidFill>
                        <a:srgbClr val="ff3300"/>
                      </a:solidFill>
                      <a:latin typeface="华文中宋"/>
                      <a:ea typeface="华文中宋"/>
                    </a:rPr>
                    <a:t>13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095160" y="2453400"/>
                  <a:ext cx="1594800" cy="81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1" name=""/>
            <p:cNvSpPr/>
            <p:nvPr/>
          </p:nvSpPr>
          <p:spPr>
            <a:xfrm>
              <a:off x="1371600" y="0"/>
              <a:ext cx="6324120" cy="3276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80880" y="32767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）表中数字显示了到杭州旅游的人主要来自哪两个省、市？这说明了什么问题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）表中数字又显示了到杭州旅游的人来自全国其他地区的人比重少，这说明旅游资源的最优吸引半径有什么规律？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55627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、经济价值很大程度上取决于与经济发达地区的距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6095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、最优吸引半径是有限的，需考虑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经济距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旅游 地理环境 协调发展</cp:keywords>
  <dc:language>en-US</dc:language>
  <cp:lastModifiedBy/>
  <cp:revision>0</cp:revision>
  <dc:subject/>
  <dc:title/>
</cp:coreProperties>
</file>