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.jpeg" ContentType="image/jpeg"/>
  <Override PartName="/ppt/media/image10.png" ContentType="image/png"/>
  <Override PartName="/ppt/media/image4.wmf" ContentType="image/x-wmf"/>
  <Override PartName="/ppt/media/image2.jpeg" ContentType="image/jpeg"/>
  <Override PartName="/ppt/media/image3.jpeg" ContentType="image/jpeg"/>
  <Override PartName="/ppt/media/image30.png" ContentType="image/png"/>
  <Override PartName="/ppt/media/image6.wmf" ContentType="image/x-wmf"/>
  <Override PartName="/ppt/media/image14.jpeg" ContentType="image/jpeg"/>
  <Override PartName="/ppt/media/image8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19.jpeg" ContentType="image/jpeg"/>
  <Override PartName="/ppt/media/image25.png" ContentType="image/png"/>
  <Override PartName="/ppt/media/image27.png" ContentType="image/png"/>
  <Override PartName="/ppt/media/image28.png" ContentType="image/png"/>
  <Override PartName="/ppt/media/image31.wmf" ContentType="image/x-wmf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F53-92A0-4FFD-BCCF-B5FF2EC67B4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女性、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20-35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歲、學生族群最愛上旅遊網站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608-6E5C-4331-9F81-580A2DCF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4ED-E2AA-42AE-BD64-8BF9A29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A65-5378-4F92-A511-B99F993D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7ED-E362-4740-A213-4BC95097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A0B1-9BFE-4FA3-9CEE-FFDADF9D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18B8-648C-484B-A94B-251D96F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0AB1-2899-4874-B0E4-549E9F2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BBA0-A1F6-48CF-A9A1-4EA773A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4D1-18FF-4CD5-B57D-0D2CF0A6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C1D-4B1E-4180-9F00-C3DFB31F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8B9-EBF4-491B-8BCD-B10143E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A85-55C6-4748-ADD0-D69DFE18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109-C902-4700-ABF4-C96D534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DEE2-3A41-4604-9F2F-6043B7F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89A-3BD1-4057-BB97-BBC54C8A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6ED-4957-4ABB-A9C3-F0347945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D7E-68E7-422E-9B4F-45491BD3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E05-4819-47C1-ABBE-43515CC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829-A49D-463A-A5B3-49B8C2C6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792-32FD-46BB-819E-3C4E7AE9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E85-9404-4791-AA32-0A10761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910-A78A-473C-A5F9-892397C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90A-C100-441E-A4E9-88EDFC1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905-D8E6-4D0E-B6B8-DABE2E2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6B5-A2F7-45D5-9C17-1367A2CCEAA1}" type="slidenum"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82C-C833-4A49-A2B3-8986DEF2919A}" type="slidenum">
              <a:rPr b="0" lang="zh-TW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149.hichannel.hinet.net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XX</a:t>
            </a:r>
            <a:r>
              <a:rPr b="1" lang="zh-TW" sz="4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旅遊網站與機制介紹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8f8f8"/>
                </a:solidFill>
                <a:latin typeface="標楷體"/>
                <a:ea typeface="標楷體"/>
              </a:rPr>
              <a:t>第六組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XXXXC91018     XXXXC91032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XXXXC91033   XXXXC91036</a:t>
            </a: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41988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8F6-4436-42B2-9B9B-928BBF920C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國內前三大旅遊網介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58672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8916" y="10800"/>
                </a:moveTo>
                <a:lnTo>
                  <a:pt x="8411" y="17806"/>
                </a:lnTo>
                <a:lnTo>
                  <a:pt x="8411" y="3794"/>
                </a:lnTo>
                <a:close/>
              </a:path>
              <a:path fill="darken" w="30834" h="21600">
                <a:moveTo>
                  <a:pt x="20761" y="3794"/>
                </a:moveTo>
                <a:lnTo>
                  <a:pt x="20761" y="17806"/>
                </a:lnTo>
                <a:lnTo>
                  <a:pt x="22424" y="17806"/>
                </a:lnTo>
                <a:lnTo>
                  <a:pt x="22424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3160" y="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B19-F7FE-4CBD-A00E-7F7C11A9A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易遊網天天是夏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目標市場主要顧客群鎖定在年輕人及年輕家庭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，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在商品開發上，儘量以這兩個族群的旅遊喜好做為設計的主軸。 </a:t>
            </a:r>
            <a:br>
              <a:rPr sz="3200"/>
            </a:b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從顧客導向出發，提供優質商品與服務，成就顧客的滿足感，讓顧客擁有美好的消費經驗是企業成功最主要的關鍵！</a:t>
            </a:r>
            <a:br>
              <a:rPr sz="3200"/>
            </a:b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8672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7493"/>
                </a:moveTo>
                <a:lnTo>
                  <a:pt x="19630" y="7493"/>
                </a:lnTo>
                <a:lnTo>
                  <a:pt x="19630" y="12828"/>
                </a:lnTo>
                <a:cubicBezTo>
                  <a:pt x="19630" y="13751"/>
                  <a:pt x="20431" y="14482"/>
                  <a:pt x="21467" y="14482"/>
                </a:cubicBezTo>
                <a:lnTo>
                  <a:pt x="23129" y="14482"/>
                </a:lnTo>
                <a:cubicBezTo>
                  <a:pt x="24165" y="14482"/>
                  <a:pt x="24966" y="13751"/>
                  <a:pt x="24966" y="12828"/>
                </a:cubicBezTo>
                <a:lnTo>
                  <a:pt x="24966" y="7493"/>
                </a:lnTo>
                <a:lnTo>
                  <a:pt x="23129" y="7493"/>
                </a:lnTo>
                <a:lnTo>
                  <a:pt x="26637" y="3985"/>
                </a:lnTo>
                <a:lnTo>
                  <a:pt x="30310" y="7493"/>
                </a:lnTo>
                <a:lnTo>
                  <a:pt x="28473" y="7493"/>
                </a:lnTo>
                <a:lnTo>
                  <a:pt x="28473" y="12828"/>
                </a:lnTo>
                <a:cubicBezTo>
                  <a:pt x="28473" y="15596"/>
                  <a:pt x="25897" y="18155"/>
                  <a:pt x="23129" y="18155"/>
                </a:cubicBezTo>
                <a:lnTo>
                  <a:pt x="21467" y="18155"/>
                </a:lnTo>
                <a:cubicBezTo>
                  <a:pt x="18699" y="18155"/>
                  <a:pt x="16123" y="15596"/>
                  <a:pt x="16123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D87-322E-4AB2-8F76-3D3C0421E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不斷追求卓越成長的易飛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成立於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1999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年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7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月，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不斷創新而豐富的商品，提供更便利且專業的旅遊服務，滿足客戶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時代對旅遊服務的需求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目前已延伸開發國際旅遊產品、機加酒及租車相關產品、保險、證照辦理等多樣旅遊服務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57913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90" h="21600">
                <a:moveTo>
                  <a:pt x="16138" y="7493"/>
                </a:moveTo>
                <a:lnTo>
                  <a:pt x="19646" y="7493"/>
                </a:lnTo>
                <a:lnTo>
                  <a:pt x="19646" y="12828"/>
                </a:lnTo>
                <a:cubicBezTo>
                  <a:pt x="19646" y="13751"/>
                  <a:pt x="20447" y="14482"/>
                  <a:pt x="21483" y="14482"/>
                </a:cubicBezTo>
                <a:lnTo>
                  <a:pt x="23145" y="14482"/>
                </a:lnTo>
                <a:cubicBezTo>
                  <a:pt x="24181" y="14482"/>
                  <a:pt x="24981" y="13751"/>
                  <a:pt x="24981" y="12828"/>
                </a:cubicBezTo>
                <a:lnTo>
                  <a:pt x="24981" y="7493"/>
                </a:lnTo>
                <a:lnTo>
                  <a:pt x="23145" y="7493"/>
                </a:lnTo>
                <a:lnTo>
                  <a:pt x="26653" y="3985"/>
                </a:lnTo>
                <a:lnTo>
                  <a:pt x="30325" y="7493"/>
                </a:lnTo>
                <a:lnTo>
                  <a:pt x="28489" y="7493"/>
                </a:lnTo>
                <a:lnTo>
                  <a:pt x="28489" y="12828"/>
                </a:lnTo>
                <a:cubicBezTo>
                  <a:pt x="28489" y="15596"/>
                  <a:pt x="25913" y="18155"/>
                  <a:pt x="23145" y="18155"/>
                </a:cubicBezTo>
                <a:lnTo>
                  <a:pt x="21483" y="18155"/>
                </a:lnTo>
                <a:cubicBezTo>
                  <a:pt x="18715" y="18155"/>
                  <a:pt x="16138" y="15596"/>
                  <a:pt x="16138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D12-9D5E-4A87-ACC1-CDEC3AFBD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90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個人旅遊先驅</a:t>
            </a:r>
            <a:r>
              <a:rPr b="1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-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  <a:ea typeface="標楷體"/>
              </a:rPr>
              <a:t>XX</a:t>
            </a: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旅遊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成立日期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X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月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員工人數：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93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人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Oct. XX03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董事長：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XX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X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集團董事長）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應消費者需求，提供一全方位的整合旅遊服務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以個人旅遊與團體旅遊並重的策略進入市場，以求快 速建立品牌流量與營業額，未來則個人旅遊為主要的發展方向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8672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7493"/>
                </a:moveTo>
                <a:lnTo>
                  <a:pt x="19630" y="7493"/>
                </a:lnTo>
                <a:lnTo>
                  <a:pt x="19630" y="12828"/>
                </a:lnTo>
                <a:cubicBezTo>
                  <a:pt x="19630" y="13751"/>
                  <a:pt x="20431" y="14482"/>
                  <a:pt x="21467" y="14482"/>
                </a:cubicBezTo>
                <a:lnTo>
                  <a:pt x="23129" y="14482"/>
                </a:lnTo>
                <a:cubicBezTo>
                  <a:pt x="24165" y="14482"/>
                  <a:pt x="24966" y="13751"/>
                  <a:pt x="24966" y="12828"/>
                </a:cubicBezTo>
                <a:lnTo>
                  <a:pt x="24966" y="7493"/>
                </a:lnTo>
                <a:lnTo>
                  <a:pt x="23129" y="7493"/>
                </a:lnTo>
                <a:lnTo>
                  <a:pt x="26637" y="3985"/>
                </a:lnTo>
                <a:lnTo>
                  <a:pt x="30310" y="7493"/>
                </a:lnTo>
                <a:lnTo>
                  <a:pt x="28473" y="7493"/>
                </a:lnTo>
                <a:lnTo>
                  <a:pt x="28473" y="12828"/>
                </a:lnTo>
                <a:cubicBezTo>
                  <a:pt x="28473" y="15596"/>
                  <a:pt x="25897" y="18155"/>
                  <a:pt x="23129" y="18155"/>
                </a:cubicBezTo>
                <a:lnTo>
                  <a:pt x="21467" y="18155"/>
                </a:lnTo>
                <a:cubicBezTo>
                  <a:pt x="18699" y="18155"/>
                  <a:pt x="16123" y="15596"/>
                  <a:pt x="16123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704-5716-4AC0-893B-E965C0826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Times New Roman"/>
                <a:ea typeface="標楷體"/>
              </a:rPr>
              <a:t>安全識別標籤及付款方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8120" y="175248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00ffff"/>
                </a:solidFill>
                <a:uFillTx/>
                <a:latin typeface="新細明體"/>
              </a:rPr>
              <a:t>信用卡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新細明體"/>
              </a:rPr>
              <a:t>SSL</a:t>
            </a:r>
            <a:r>
              <a:rPr b="0" lang="zh-TW" sz="3600" spc="-1" strike="noStrike" u="sng">
                <a:solidFill>
                  <a:srgbClr val="00ffff"/>
                </a:solidFill>
                <a:uFillTx/>
                <a:latin typeface="新細明體"/>
              </a:rPr>
              <a:t>線上付款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00ffff"/>
                </a:solidFill>
                <a:uFillTx/>
                <a:latin typeface="新細明體"/>
              </a:rPr>
              <a:t>提款機(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新細明體"/>
              </a:rPr>
              <a:t>ATM)</a:t>
            </a:r>
            <a:r>
              <a:rPr b="0" lang="zh-TW" sz="3600" spc="-1" strike="noStrike" u="sng">
                <a:solidFill>
                  <a:srgbClr val="00ffff"/>
                </a:solidFill>
                <a:uFillTx/>
                <a:latin typeface="新細明體"/>
              </a:rPr>
              <a:t>轉帳</a:t>
            </a:r>
            <a:br>
              <a:rPr sz="3600"/>
            </a:br>
            <a:br>
              <a:rPr sz="2800"/>
            </a:br>
            <a:r>
              <a:rPr b="1" lang="zh-TW" sz="2800" spc="-1" strike="noStrike" u="sng">
                <a:solidFill>
                  <a:srgbClr val="00ffff"/>
                </a:solidFill>
                <a:uFillTx/>
                <a:latin typeface="新細明體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8934" y="10800"/>
                </a:moveTo>
                <a:lnTo>
                  <a:pt x="8428" y="17806"/>
                </a:lnTo>
                <a:lnTo>
                  <a:pt x="8428" y="3794"/>
                </a:lnTo>
                <a:close/>
              </a:path>
              <a:path fill="darken" w="30870" h="21600">
                <a:moveTo>
                  <a:pt x="20779" y="3794"/>
                </a:moveTo>
                <a:lnTo>
                  <a:pt x="20779" y="17806"/>
                </a:lnTo>
                <a:lnTo>
                  <a:pt x="22441" y="17806"/>
                </a:lnTo>
                <a:lnTo>
                  <a:pt x="22441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880-A0F8-4A9B-A72B-D7C63B43A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ahoma"/>
                <a:ea typeface="標楷體"/>
              </a:rPr>
              <a:t>「</a:t>
            </a: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全球安全認證網站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「全球安全認證網站」是使用</a:t>
            </a:r>
            <a:r>
              <a:rPr b="0" lang="zh-TW" sz="2800" spc="-1" strike="noStrike" u="sng">
                <a:solidFill>
                  <a:srgbClr val="00ffff"/>
                </a:solidFill>
                <a:uFillTx/>
                <a:latin typeface="Tahoma"/>
              </a:rPr>
              <a:t>網際威信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所簽發之伺服器數位憑證的網站。這對網站拜訪者有三重意義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第一是網站的身分證明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第二是保護雙方資料傳輸的安全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第三是防止事後否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43400" y="4648320"/>
            <a:ext cx="35053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1E4-4184-4B0B-A5A9-389AE2FF9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Arial"/>
                <a:ea typeface="標楷體"/>
              </a:rPr>
              <a:t>網際威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網際威信，乃大中華區首家提供全方位安全電子商務的</a:t>
            </a:r>
            <a:r>
              <a:rPr b="0" lang="zh-TW" sz="2800" spc="-1" strike="noStrike">
                <a:solidFill>
                  <a:srgbClr val="f8f8f8"/>
                </a:solidFill>
                <a:latin typeface="MingLiU"/>
                <a:ea typeface="MingLiU"/>
              </a:rPr>
              <a:t>保全數位憑證機制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安全電子商務服務包括六大類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商務網站規劃建置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2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企業</a:t>
            </a:r>
            <a:r>
              <a:rPr b="0" lang="en-US" sz="2800" spc="-1" strike="noStrike">
                <a:solidFill>
                  <a:srgbClr val="f8f8f8"/>
                </a:solidFill>
                <a:latin typeface="新細明體"/>
              </a:rPr>
              <a:t>e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化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3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電子付款與電子帳務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4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金融電子化系統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5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應用平台」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6.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「網路安全認證」服務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5851" y="10800"/>
                </a:moveTo>
                <a:lnTo>
                  <a:pt x="5346" y="17806"/>
                </a:lnTo>
                <a:lnTo>
                  <a:pt x="5346" y="3794"/>
                </a:lnTo>
                <a:close/>
              </a:path>
              <a:path fill="darken" w="24704" h="21600">
                <a:moveTo>
                  <a:pt x="17696" y="3794"/>
                </a:moveTo>
                <a:lnTo>
                  <a:pt x="17696" y="17806"/>
                </a:lnTo>
                <a:lnTo>
                  <a:pt x="19359" y="17806"/>
                </a:lnTo>
                <a:lnTo>
                  <a:pt x="19359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2800" y="1008000"/>
            <a:ext cx="8229600" cy="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276720" cy="312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9A2-34BE-47DC-AE44-C120B3F43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「</a:t>
            </a:r>
            <a:r>
              <a:rPr b="0" lang="zh-TW" sz="2800" spc="-1" strike="noStrike">
                <a:solidFill>
                  <a:srgbClr val="6699ff"/>
                </a:solidFill>
                <a:latin typeface="Tahoma"/>
              </a:rPr>
              <a:t>信賴電子商店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」是經濟部商業司為鼓勵電子商店提供消費者充份的資訊，使消費者更安心上網消費，而擬定之認證方法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表示通過審查的網站為誠實營運，不違反善良風俗及國內相關法令，且符合經濟部商業司輔導信賴電子商店所訂定的標準，並保證所公布內容屬實及完全遵守信賴電子商店辦法所有規定。</a:t>
            </a:r>
            <a:br>
              <a:rPr sz="2800"/>
            </a:b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14299" y="12593"/>
                </a:moveTo>
                <a:lnTo>
                  <a:pt x="3794" y="19599"/>
                </a:lnTo>
                <a:lnTo>
                  <a:pt x="3794" y="5586"/>
                </a:lnTo>
                <a:close/>
              </a:path>
              <a:path fill="darken" w="21600" h="25186">
                <a:moveTo>
                  <a:pt x="16144" y="5586"/>
                </a:moveTo>
                <a:lnTo>
                  <a:pt x="16144" y="19599"/>
                </a:lnTo>
                <a:lnTo>
                  <a:pt x="17806" y="19599"/>
                </a:lnTo>
                <a:lnTo>
                  <a:pt x="17806" y="5586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「信賴電子商店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C0C-F0A3-45DD-B1D9-1BD54E263E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「安全交易標章」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凡是掛有「安全交易標章」的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B to C</a:t>
            </a: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網站，就是值得相信的交易安全性與信任的網站，並且已經符合了四大標準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1.</a:t>
            </a: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法律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2.</a:t>
            </a: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財務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3.</a:t>
            </a: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技術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4.</a:t>
            </a:r>
            <a:r>
              <a:rPr b="1" lang="zh-TW" sz="2800" spc="-1" strike="noStrike">
                <a:solidFill>
                  <a:srgbClr val="f8f8f8"/>
                </a:solidFill>
                <a:latin typeface="Tahoma"/>
              </a:rPr>
              <a:t>消費安全資訊透明化：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6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46A-0901-4217-9E65-0961FB1B96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「安全交易標章」意義 </a:t>
            </a:r>
            <a:br>
              <a:rPr sz="3600"/>
            </a:b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（一）對網站經營者而言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【安全交易標章】代表著網站經營者對於消費者權益之所有資訊，皆秉持網路安全消費資訊透明化的原則，以期提供消費者最周詳的交易資訊與值得信賴的安全條件，並建立一個值得消費者信賴的網際網路交易環境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066-CC20-4CE0-9CA3-B69BA37D4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03160" y="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3160" y="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內容方向導引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前言動機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網站介紹及操作說明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安全機制介紹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傳統與現代比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影片欣賞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2E0-5DA3-4EE2-A31E-21A84F401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「安全交易標章」意義 </a:t>
            </a:r>
            <a:br>
              <a:rPr sz="3600"/>
            </a:b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（二）對網站使用者而言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【安全交易標章】代表著該網站已通過公司基本資料透明化、產品資訊透明化、訂單處理透明化、交易條件透明化、尊重個人基本資料及安全保密等安全檢測標準，以期提高使用者的信心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4190760" cy="18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416-F806-42C8-A647-F7C593710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「安全交易標章」意義 </a:t>
            </a:r>
            <a:br>
              <a:rPr sz="3600"/>
            </a:br>
            <a:r>
              <a:rPr b="1" lang="zh-TW" sz="3600" spc="-1" strike="noStrike">
                <a:solidFill>
                  <a:srgbClr val="f8f8f8"/>
                </a:solidFill>
                <a:latin typeface="標楷體"/>
                <a:ea typeface="標楷體"/>
              </a:rPr>
              <a:t>（三）對電子商務交易環境而言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467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【安全交易標章】代表著業者自律的精神與完整、詳盡的國際化網路交易安全評鑑標準，以期為消費者與業者塑造安心的 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B2C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電子商務交易環境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5867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4299" y="12601"/>
                </a:moveTo>
                <a:lnTo>
                  <a:pt x="3794" y="19608"/>
                </a:lnTo>
                <a:lnTo>
                  <a:pt x="3794" y="5595"/>
                </a:lnTo>
                <a:close/>
              </a:path>
              <a:path fill="darken" w="21600" h="25203">
                <a:moveTo>
                  <a:pt x="16144" y="5595"/>
                </a:moveTo>
                <a:lnTo>
                  <a:pt x="16144" y="19608"/>
                </a:lnTo>
                <a:lnTo>
                  <a:pt x="17806" y="19608"/>
                </a:lnTo>
                <a:lnTo>
                  <a:pt x="17806" y="5595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9880" y="4114800"/>
            <a:ext cx="3886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0F7-F10C-4AD8-B36C-A3AD5F964F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網路安全付款服務系統</a:t>
            </a:r>
            <a:r>
              <a:rPr b="1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-</a:t>
            </a:r>
            <a:r>
              <a:rPr b="1" lang="en-US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SS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SSL(Secure Socket Layer)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是由全球許多知名企業所採用的加密機制，藉由通路的加密，來保護您所傳輸的個人資料，如信用卡號、帳號、密碼等，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SSL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不僅可以對用戶端與伺服器之間的資料串流予以加密，並提供用戶端與伺服器之間相互鑑別的基礎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57600" y="5029200"/>
            <a:ext cx="4343400" cy="12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A7C-9BFC-45F8-B8CE-23D7030FA3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153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當您進入有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SL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保護的網頁時，您可以在瀏覽器上看到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SL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功能的啟用。如果您是使用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Microsoft Explorer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，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則您在瀏覽器右下角會看到一個合起來的鎖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如果您使用的是</a:t>
            </a:r>
            <a:r>
              <a:rPr b="0" lang="en-US" sz="2800" spc="-1" strike="noStrike">
                <a:solidFill>
                  <a:srgbClr val="f8f8f8"/>
                </a:solidFill>
                <a:latin typeface="新細明體"/>
              </a:rPr>
              <a:t>Netscape</a:t>
            </a:r>
            <a:r>
              <a:rPr b="0" lang="en-US" sz="2800" spc="-1" strike="noStrike">
                <a:solidFill>
                  <a:srgbClr val="f8f8f8"/>
                </a:solidFill>
                <a:latin typeface="新細明體"/>
              </a:rPr>
              <a:t>，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鎖則會出現在您瀏覽器的左下方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048120" cy="704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3200400" cy="711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8f8f8"/>
                </a:solidFill>
                <a:latin typeface="標楷體"/>
                <a:ea typeface="標楷體"/>
              </a:rPr>
              <a:t>如何知道是否有經</a:t>
            </a:r>
            <a:r>
              <a:rPr b="1" lang="en-US" sz="4000" spc="-1" strike="noStrike">
                <a:solidFill>
                  <a:srgbClr val="f8f8f8"/>
                </a:solidFill>
                <a:latin typeface="標楷體"/>
                <a:ea typeface="標楷體"/>
              </a:rPr>
              <a:t>SSL</a:t>
            </a:r>
            <a:r>
              <a:rPr b="1" lang="zh-TW" sz="4000" spc="-1" strike="noStrike">
                <a:solidFill>
                  <a:srgbClr val="f8f8f8"/>
                </a:solidFill>
                <a:latin typeface="標楷體"/>
                <a:ea typeface="標楷體"/>
              </a:rPr>
              <a:t>加密保護呢</a:t>
            </a:r>
            <a:r>
              <a:rPr b="1" lang="zh-TW" sz="4000" spc="-1" strike="noStrike">
                <a:solidFill>
                  <a:srgbClr val="f8f8f8"/>
                </a:solidFill>
                <a:latin typeface="標楷體"/>
                <a:ea typeface="標楷體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532-0FAB-4287-B6B2-9B8E0076E0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4130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同時在網站位址（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URL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）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前的協定名稱，於資料上傳時會由「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」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變為「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https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5880" y="3505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94A-1499-4950-BD07-50E0C91299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用點心、交易更放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一般人所擔心的網路線上刷卡安全問題，相較於實體世界中必須經過人工處理的程序，網路刷卡除了填寫資料立即加密之外，完全不會有經手他人的風險，讓消費者擁有的安全保障也更為強化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5791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7389" y="10800"/>
                </a:moveTo>
                <a:lnTo>
                  <a:pt x="6883" y="17806"/>
                </a:lnTo>
                <a:lnTo>
                  <a:pt x="6883" y="3794"/>
                </a:lnTo>
                <a:close/>
              </a:path>
              <a:path fill="darken" w="27780" h="21600">
                <a:moveTo>
                  <a:pt x="19234" y="3794"/>
                </a:moveTo>
                <a:lnTo>
                  <a:pt x="19234" y="17806"/>
                </a:lnTo>
                <a:lnTo>
                  <a:pt x="20896" y="17806"/>
                </a:lnTo>
                <a:lnTo>
                  <a:pt x="20896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3251160" cy="16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6CB-70A2-4502-8B24-3D75F7CE1D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ATM</a:t>
            </a:r>
            <a:r>
              <a:rPr b="1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轉帳繳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選擇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TM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自動櫃員機轉帳繳款，則交易系統會自動給您一組專屬的帳號，僅限當次訂購期限內使用，讓您在全省任何一部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TM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自動櫃員機，都能執行交易，十分安全方便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Tahoma"/>
              </a:rPr>
              <a:t>ATM</a:t>
            </a: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</a:rPr>
              <a:t>操作流程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4112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2800" y="425520"/>
            <a:ext cx="8229600" cy="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343400" y="4165560"/>
            <a:ext cx="3809880" cy="21114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422280" y="420840"/>
            <a:ext cx="8582040" cy="9360"/>
            <a:chOff x="422280" y="420840"/>
            <a:chExt cx="8582040" cy="9360"/>
          </a:xfrm>
        </p:grpSpPr>
        <p:grpSp>
          <p:nvGrpSpPr>
            <p:cNvPr id="209" name=""/>
            <p:cNvGrpSpPr/>
            <p:nvPr/>
          </p:nvGrpSpPr>
          <p:grpSpPr>
            <a:xfrm>
              <a:off x="426960" y="425520"/>
              <a:ext cx="8572680" cy="360"/>
              <a:chOff x="426960" y="425520"/>
              <a:chExt cx="8572680" cy="360"/>
            </a:xfrm>
          </p:grpSpPr>
          <p:sp>
            <p:nvSpPr>
              <p:cNvPr id="210" name=""/>
              <p:cNvSpPr/>
              <p:nvPr/>
            </p:nvSpPr>
            <p:spPr>
              <a:xfrm>
                <a:off x="426960" y="425520"/>
                <a:ext cx="8572680" cy="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26960" y="425520"/>
                <a:ext cx="8572680" cy="360"/>
                <a:chOff x="426960" y="425520"/>
                <a:chExt cx="8572680" cy="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26960" y="425520"/>
                  <a:ext cx="8572680" cy="36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6960" y="425520"/>
                  <a:ext cx="85726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422280" y="420840"/>
              <a:ext cx="8582040" cy="9360"/>
            </a:xfrm>
            <a:prstGeom prst="rect">
              <a:avLst/>
            </a:prstGeom>
            <a:noFill/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28D-DA49-422C-A954-8B78FE69B3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76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0" y="1295280"/>
            <a:ext cx="914400" cy="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057400" cy="1711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1981080" cy="158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638680" y="1295280"/>
            <a:ext cx="914400" cy="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057400"/>
            <a:ext cx="0" cy="91440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81680" y="297180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H="1">
            <a:off x="5866920" y="3809880"/>
            <a:ext cx="762120" cy="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581280" y="2971800"/>
            <a:ext cx="2210040" cy="1563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2666520" y="3809880"/>
            <a:ext cx="838440" cy="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5105520" y="4724280"/>
            <a:ext cx="2286000" cy="1617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38480" y="5562720"/>
            <a:ext cx="990720" cy="0"/>
          </a:xfrm>
          <a:prstGeom prst="line">
            <a:avLst/>
          </a:prstGeom>
          <a:ln cap="sq" w="76320">
            <a:solidFill>
              <a:srgbClr val="f8f8f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1828800" y="4800600"/>
            <a:ext cx="2133720" cy="1509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457200" y="2895480"/>
            <a:ext cx="2133720" cy="15559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762120" y="4572000"/>
            <a:ext cx="914400" cy="1219320"/>
            <a:chOff x="762120" y="4572000"/>
            <a:chExt cx="914400" cy="1219320"/>
          </a:xfrm>
        </p:grpSpPr>
        <p:sp>
          <p:nvSpPr>
            <p:cNvPr id="230" name=""/>
            <p:cNvSpPr/>
            <p:nvPr/>
          </p:nvSpPr>
          <p:spPr>
            <a:xfrm>
              <a:off x="762120" y="4572000"/>
              <a:ext cx="0" cy="1143000"/>
            </a:xfrm>
            <a:prstGeom prst="line">
              <a:avLst/>
            </a:prstGeom>
            <a:ln cap="sq" w="7632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5791320"/>
              <a:ext cx="914400" cy="0"/>
            </a:xfrm>
            <a:prstGeom prst="line">
              <a:avLst/>
            </a:prstGeom>
            <a:ln cap="sq" w="76320">
              <a:solidFill>
                <a:srgbClr val="f8f8f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001000" y="5791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7389" y="10800"/>
                </a:moveTo>
                <a:lnTo>
                  <a:pt x="6883" y="17806"/>
                </a:lnTo>
                <a:lnTo>
                  <a:pt x="6883" y="3794"/>
                </a:lnTo>
                <a:close/>
              </a:path>
              <a:path fill="darken" w="27780" h="21600">
                <a:moveTo>
                  <a:pt x="19234" y="3794"/>
                </a:moveTo>
                <a:lnTo>
                  <a:pt x="19234" y="17806"/>
                </a:lnTo>
                <a:lnTo>
                  <a:pt x="20896" y="17806"/>
                </a:lnTo>
                <a:lnTo>
                  <a:pt x="20896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E98-6D49-4B47-B59E-4FF9E6E081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sө_x0002_"/>
                <a:ea typeface="標楷體"/>
              </a:rPr>
              <a:t>旅遊業的發展情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09480" y="2057400"/>
            <a:ext cx="8000640" cy="4037760"/>
            <a:chOff x="609480" y="2057400"/>
            <a:chExt cx="8000640" cy="4037760"/>
          </a:xfrm>
        </p:grpSpPr>
        <p:grpSp>
          <p:nvGrpSpPr>
            <p:cNvPr id="235" name=""/>
            <p:cNvGrpSpPr/>
            <p:nvPr/>
          </p:nvGrpSpPr>
          <p:grpSpPr>
            <a:xfrm>
              <a:off x="614520" y="2069280"/>
              <a:ext cx="7989840" cy="4011480"/>
              <a:chOff x="614520" y="2069280"/>
              <a:chExt cx="7989840" cy="40114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614520" y="2069280"/>
                <a:ext cx="2616120" cy="667800"/>
                <a:chOff x="614520" y="2069280"/>
                <a:chExt cx="2616120" cy="6678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14520" y="2069280"/>
                  <a:ext cx="261612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演化過程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4520" y="2069280"/>
                  <a:ext cx="261612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231000" y="2069280"/>
                <a:ext cx="2626560" cy="667800"/>
                <a:chOff x="3231000" y="2069280"/>
                <a:chExt cx="2626560" cy="6678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231000" y="2069280"/>
                  <a:ext cx="262656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時間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231000" y="2069280"/>
                  <a:ext cx="26265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57920" y="2069280"/>
                <a:ext cx="2746440" cy="667800"/>
                <a:chOff x="5857920" y="2069280"/>
                <a:chExt cx="2746440" cy="6678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57920" y="2069280"/>
                  <a:ext cx="274644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內容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57920" y="2069280"/>
                  <a:ext cx="274644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14520" y="2737800"/>
                <a:ext cx="2616120" cy="668520"/>
                <a:chOff x="614520" y="2737800"/>
                <a:chExt cx="2616120" cy="6685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14520" y="2737800"/>
                  <a:ext cx="2616120" cy="668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第一代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4520" y="2737800"/>
                  <a:ext cx="26161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231000" y="2737800"/>
                <a:ext cx="2626560" cy="668520"/>
                <a:chOff x="3231000" y="2737800"/>
                <a:chExt cx="2626560" cy="668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231000" y="2737800"/>
                  <a:ext cx="2626560" cy="668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8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年代初期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231000" y="2737800"/>
                  <a:ext cx="262656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857920" y="2737800"/>
                <a:ext cx="2746440" cy="668520"/>
                <a:chOff x="5857920" y="2737800"/>
                <a:chExt cx="2746440" cy="6685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857920" y="2737800"/>
                  <a:ext cx="2746440" cy="668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旅遊天數長、國家多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57920" y="2737800"/>
                  <a:ext cx="274644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14520" y="3407040"/>
                <a:ext cx="2616120" cy="667800"/>
                <a:chOff x="614520" y="3407040"/>
                <a:chExt cx="2616120" cy="667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14520" y="3407040"/>
                  <a:ext cx="261612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第二代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14520" y="3407040"/>
                  <a:ext cx="261612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231000" y="3407040"/>
                <a:ext cx="2626560" cy="667800"/>
                <a:chOff x="3231000" y="3407040"/>
                <a:chExt cx="2626560" cy="6678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231000" y="3407040"/>
                  <a:ext cx="262656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8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年代末期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31000" y="3407040"/>
                  <a:ext cx="26265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857920" y="3407040"/>
                <a:ext cx="2746440" cy="667800"/>
                <a:chOff x="5857920" y="3407040"/>
                <a:chExt cx="2746440" cy="667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57920" y="3407040"/>
                  <a:ext cx="274644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分區、分次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57920" y="3407040"/>
                  <a:ext cx="274644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4520" y="4075920"/>
                <a:ext cx="2616120" cy="667800"/>
                <a:chOff x="614520" y="4075920"/>
                <a:chExt cx="2616120" cy="6678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14520" y="4075920"/>
                  <a:ext cx="261612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第三代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4520" y="4075920"/>
                  <a:ext cx="261612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231000" y="4075920"/>
                <a:ext cx="2626560" cy="667800"/>
                <a:chOff x="3231000" y="4075920"/>
                <a:chExt cx="2626560" cy="6678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31000" y="4075920"/>
                  <a:ext cx="262656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9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年代初期 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231000" y="4075920"/>
                  <a:ext cx="26265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857920" y="4075920"/>
                <a:ext cx="2746440" cy="667800"/>
                <a:chOff x="5857920" y="4075920"/>
                <a:chExt cx="2746440" cy="667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857920" y="4075920"/>
                  <a:ext cx="274644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島嶼渡假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57920" y="4075920"/>
                  <a:ext cx="274644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4520" y="4744440"/>
                <a:ext cx="2616120" cy="667800"/>
                <a:chOff x="614520" y="4744440"/>
                <a:chExt cx="2616120" cy="667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4520" y="4744440"/>
                  <a:ext cx="261612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第四代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4520" y="4744440"/>
                  <a:ext cx="261612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231000" y="4744440"/>
                <a:ext cx="2626560" cy="667800"/>
                <a:chOff x="3231000" y="4744440"/>
                <a:chExt cx="2626560" cy="667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231000" y="4744440"/>
                  <a:ext cx="262656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9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年代末期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231000" y="4744440"/>
                  <a:ext cx="26265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857920" y="4744440"/>
                <a:ext cx="2746440" cy="667800"/>
                <a:chOff x="5857920" y="4744440"/>
                <a:chExt cx="2746440" cy="667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857920" y="4744440"/>
                  <a:ext cx="274644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機票加酒店自由行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Times New Roman"/>
                    </a:rPr>
                    <a:t>包含來回機票、飯店住宿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857920" y="4744440"/>
                  <a:ext cx="274644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14520" y="5412960"/>
                <a:ext cx="2616120" cy="667800"/>
                <a:chOff x="614520" y="5412960"/>
                <a:chExt cx="2616120" cy="6678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14520" y="5412960"/>
                  <a:ext cx="261612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第五代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14520" y="5412960"/>
                  <a:ext cx="261612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231000" y="5412960"/>
                <a:ext cx="2626560" cy="667800"/>
                <a:chOff x="3231000" y="5412960"/>
                <a:chExt cx="2626560" cy="667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31000" y="5412960"/>
                  <a:ext cx="262656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現今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31000" y="5412960"/>
                  <a:ext cx="26265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57920" y="5412960"/>
                <a:ext cx="2746440" cy="667800"/>
                <a:chOff x="5857920" y="5412960"/>
                <a:chExt cx="2746440" cy="6678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857920" y="5412960"/>
                  <a:ext cx="2746440" cy="66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sө_x0002_"/>
                    </a:rPr>
                    <a:t>個人主題式隨選旅遊</a:t>
                  </a: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57920" y="5412960"/>
                  <a:ext cx="274644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609480" y="2057400"/>
              <a:ext cx="8000640" cy="4037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04E-5902-4D50-8687-246C3BF3E1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傳統旅行與旅遊網站差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4920" y="1447920"/>
            <a:ext cx="8457840" cy="4952880"/>
            <a:chOff x="304920" y="1447920"/>
            <a:chExt cx="8457840" cy="4952880"/>
          </a:xfrm>
        </p:grpSpPr>
        <p:grpSp>
          <p:nvGrpSpPr>
            <p:cNvPr id="293" name=""/>
            <p:cNvGrpSpPr/>
            <p:nvPr/>
          </p:nvGrpSpPr>
          <p:grpSpPr>
            <a:xfrm>
              <a:off x="311400" y="1450440"/>
              <a:ext cx="8444160" cy="4946760"/>
              <a:chOff x="311400" y="1450440"/>
              <a:chExt cx="8444160" cy="49467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311400" y="1450440"/>
                <a:ext cx="801720" cy="541800"/>
                <a:chOff x="311400" y="1450440"/>
                <a:chExt cx="801720" cy="5418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35880" y="1450440"/>
                  <a:ext cx="75240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項次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1400" y="1450440"/>
                  <a:ext cx="8017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113480" y="1450440"/>
                <a:ext cx="3046320" cy="541800"/>
                <a:chOff x="1113480" y="1450440"/>
                <a:chExt cx="3046320" cy="541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137600" y="1450440"/>
                  <a:ext cx="299736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項目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13480" y="1450440"/>
                  <a:ext cx="30463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160520" y="1450440"/>
                <a:ext cx="2484000" cy="541800"/>
                <a:chOff x="4160520" y="1450440"/>
                <a:chExt cx="2484000" cy="541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184640" y="1450440"/>
                  <a:ext cx="243504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傳統式旅遊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60520" y="1450440"/>
                  <a:ext cx="248400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644880" y="1450440"/>
                <a:ext cx="2110680" cy="541800"/>
                <a:chOff x="6644880" y="1450440"/>
                <a:chExt cx="2110680" cy="541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669000" y="1450440"/>
                  <a:ext cx="206172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旅遊網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44880" y="1450440"/>
                  <a:ext cx="211068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11400" y="1992240"/>
                <a:ext cx="801720" cy="506520"/>
                <a:chOff x="311400" y="1992240"/>
                <a:chExt cx="801720" cy="5065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35880" y="1992240"/>
                  <a:ext cx="7524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1400" y="1992240"/>
                  <a:ext cx="80172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113480" y="1992240"/>
                <a:ext cx="3046320" cy="506520"/>
                <a:chOff x="1113480" y="1992240"/>
                <a:chExt cx="3046320" cy="506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137600" y="1992240"/>
                  <a:ext cx="299736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時間的浪費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113480" y="1992240"/>
                  <a:ext cx="304632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60520" y="1992240"/>
                <a:ext cx="2484000" cy="506520"/>
                <a:chOff x="4160520" y="1992240"/>
                <a:chExt cx="2484000" cy="506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84640" y="1992240"/>
                  <a:ext cx="2435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高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60520" y="1992240"/>
                  <a:ext cx="248400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44880" y="1992240"/>
                <a:ext cx="2110680" cy="506520"/>
                <a:chOff x="6644880" y="1992240"/>
                <a:chExt cx="2110680" cy="506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9000" y="1992240"/>
                  <a:ext cx="206172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低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44880" y="1992240"/>
                  <a:ext cx="2110680" cy="50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11400" y="2499120"/>
                <a:ext cx="801720" cy="402120"/>
                <a:chOff x="311400" y="2499120"/>
                <a:chExt cx="801720" cy="402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35880" y="2499120"/>
                  <a:ext cx="75240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11400" y="2499120"/>
                  <a:ext cx="80172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113480" y="2499120"/>
                <a:ext cx="3046320" cy="402120"/>
                <a:chOff x="1113480" y="2499120"/>
                <a:chExt cx="3046320" cy="402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137600" y="2499120"/>
                  <a:ext cx="299736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資訊更新性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113480" y="2499120"/>
                  <a:ext cx="304632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160520" y="2499120"/>
                <a:ext cx="2484000" cy="402120"/>
                <a:chOff x="4160520" y="2499120"/>
                <a:chExt cx="2484000" cy="402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84640" y="2499120"/>
                  <a:ext cx="243504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慢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60520" y="2499120"/>
                  <a:ext cx="248400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644880" y="2499120"/>
                <a:ext cx="2110680" cy="402120"/>
                <a:chOff x="6644880" y="2499120"/>
                <a:chExt cx="2110680" cy="402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669000" y="2499120"/>
                  <a:ext cx="206172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快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44880" y="2499120"/>
                  <a:ext cx="211068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11400" y="2901240"/>
                <a:ext cx="801720" cy="401760"/>
                <a:chOff x="311400" y="2901240"/>
                <a:chExt cx="801720" cy="401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35880" y="290124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11400" y="290124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113480" y="2901240"/>
                <a:ext cx="3046320" cy="401760"/>
                <a:chOff x="1113480" y="2901240"/>
                <a:chExt cx="3046320" cy="401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137600" y="290124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行程確定迅速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13480" y="290124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160520" y="2901240"/>
                <a:ext cx="2484000" cy="401760"/>
                <a:chOff x="4160520" y="2901240"/>
                <a:chExt cx="2484000" cy="401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184640" y="290124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慢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160520" y="290124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644880" y="2901240"/>
                <a:ext cx="2110680" cy="401760"/>
                <a:chOff x="6644880" y="2901240"/>
                <a:chExt cx="2110680" cy="4017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669000" y="290124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快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644880" y="290124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1400" y="3303360"/>
                <a:ext cx="801720" cy="401760"/>
                <a:chOff x="311400" y="3303360"/>
                <a:chExt cx="801720" cy="4017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35880" y="330336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1400" y="330336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1113480" y="3303360"/>
                <a:ext cx="3046320" cy="401760"/>
                <a:chOff x="1113480" y="3303360"/>
                <a:chExt cx="3046320" cy="401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137600" y="330336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互動性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113480" y="330336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160520" y="3303360"/>
                <a:ext cx="2484000" cy="401760"/>
                <a:chOff x="4160520" y="3303360"/>
                <a:chExt cx="2484000" cy="401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184640" y="330336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高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160520" y="330336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44880" y="3303360"/>
                <a:ext cx="2110680" cy="401760"/>
                <a:chOff x="6644880" y="3303360"/>
                <a:chExt cx="2110680" cy="4017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9000" y="330336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差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44880" y="330336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11400" y="3705120"/>
                <a:ext cx="801720" cy="401760"/>
                <a:chOff x="311400" y="3705120"/>
                <a:chExt cx="801720" cy="4017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35880" y="370512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11400" y="370512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113480" y="3705120"/>
                <a:ext cx="3046320" cy="401760"/>
                <a:chOff x="1113480" y="3705120"/>
                <a:chExt cx="3046320" cy="4017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37600" y="370512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機動性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113480" y="370512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160520" y="3705120"/>
                <a:ext cx="2484000" cy="401760"/>
                <a:chOff x="4160520" y="3705120"/>
                <a:chExt cx="2484000" cy="4017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184640" y="370512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低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160520" y="370512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644880" y="3705120"/>
                <a:ext cx="2110680" cy="401760"/>
                <a:chOff x="6644880" y="3705120"/>
                <a:chExt cx="2110680" cy="4017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669000" y="370512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高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644880" y="370512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11400" y="4107240"/>
                <a:ext cx="801720" cy="541800"/>
                <a:chOff x="311400" y="4107240"/>
                <a:chExt cx="801720" cy="541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35880" y="4107240"/>
                  <a:ext cx="75240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6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11400" y="4107240"/>
                  <a:ext cx="8017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113480" y="4107240"/>
                <a:ext cx="3046320" cy="541800"/>
                <a:chOff x="1113480" y="4107240"/>
                <a:chExt cx="3046320" cy="5418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37600" y="4107240"/>
                  <a:ext cx="299736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行程規劃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13480" y="4107240"/>
                  <a:ext cx="30463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160520" y="4107240"/>
                <a:ext cx="2484000" cy="541800"/>
                <a:chOff x="4160520" y="4107240"/>
                <a:chExt cx="2484000" cy="5418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184640" y="4107240"/>
                  <a:ext cx="243504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行程公式固定不變。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60520" y="4107240"/>
                  <a:ext cx="248400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644880" y="4107240"/>
                <a:ext cx="2110680" cy="541800"/>
                <a:chOff x="6644880" y="4107240"/>
                <a:chExt cx="2110680" cy="5418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669000" y="4107240"/>
                  <a:ext cx="206172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自主性高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644880" y="4107240"/>
                  <a:ext cx="211068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1400" y="4649400"/>
                <a:ext cx="801720" cy="541800"/>
                <a:chOff x="311400" y="4649400"/>
                <a:chExt cx="801720" cy="5418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35880" y="4649400"/>
                  <a:ext cx="75240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7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1400" y="4649400"/>
                  <a:ext cx="8017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113480" y="4649400"/>
                <a:ext cx="3046320" cy="541800"/>
                <a:chOff x="1113480" y="4649400"/>
                <a:chExt cx="3046320" cy="541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137600" y="4649400"/>
                  <a:ext cx="299736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當地特色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113480" y="4649400"/>
                  <a:ext cx="304632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160520" y="4649400"/>
                <a:ext cx="2484000" cy="541800"/>
                <a:chOff x="4160520" y="4649400"/>
                <a:chExt cx="2484000" cy="541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84640" y="4649400"/>
                  <a:ext cx="243504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制式行程，少有特殊行程。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60520" y="4649400"/>
                  <a:ext cx="248400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44880" y="4649400"/>
                <a:ext cx="2110680" cy="541800"/>
                <a:chOff x="6644880" y="4649400"/>
                <a:chExt cx="2110680" cy="541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9000" y="4649400"/>
                  <a:ext cx="2061720" cy="54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有另外收獲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44880" y="4649400"/>
                  <a:ext cx="2110680" cy="54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11400" y="5191560"/>
                <a:ext cx="801720" cy="401760"/>
                <a:chOff x="311400" y="5191560"/>
                <a:chExt cx="801720" cy="4017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35880" y="519156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8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11400" y="519156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113480" y="5191560"/>
                <a:ext cx="3046320" cy="401760"/>
                <a:chOff x="1113480" y="5191560"/>
                <a:chExt cx="3046320" cy="4017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137600" y="519156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突發性狀況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113480" y="519156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160520" y="5191560"/>
                <a:ext cx="2484000" cy="401760"/>
                <a:chOff x="4160520" y="5191560"/>
                <a:chExt cx="2484000" cy="4017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184640" y="519156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高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60520" y="519156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644880" y="5191560"/>
                <a:ext cx="2110680" cy="401760"/>
                <a:chOff x="6644880" y="5191560"/>
                <a:chExt cx="2110680" cy="4017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669000" y="519156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少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644880" y="519156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311400" y="5593320"/>
                <a:ext cx="801720" cy="401760"/>
                <a:chOff x="311400" y="5593320"/>
                <a:chExt cx="801720" cy="4017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335880" y="559332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9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11400" y="559332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113480" y="5593320"/>
                <a:ext cx="3046320" cy="401760"/>
                <a:chOff x="1113480" y="5593320"/>
                <a:chExt cx="3046320" cy="4017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137600" y="559332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價格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113480" y="559332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160520" y="5593320"/>
                <a:ext cx="2484000" cy="401760"/>
                <a:chOff x="4160520" y="5593320"/>
                <a:chExt cx="2484000" cy="401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184640" y="559332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依人數定價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160520" y="559332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644880" y="5593320"/>
                <a:ext cx="2110680" cy="401760"/>
                <a:chOff x="6644880" y="5593320"/>
                <a:chExt cx="2110680" cy="4017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669000" y="559332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公開透明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44880" y="559332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11400" y="5995440"/>
                <a:ext cx="801720" cy="401760"/>
                <a:chOff x="311400" y="5995440"/>
                <a:chExt cx="801720" cy="401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35880" y="5995440"/>
                  <a:ext cx="75240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0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11400" y="5995440"/>
                  <a:ext cx="8017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1113480" y="5995440"/>
                <a:ext cx="3046320" cy="401760"/>
                <a:chOff x="1113480" y="5995440"/>
                <a:chExt cx="3046320" cy="401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137600" y="5995440"/>
                  <a:ext cx="29973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其他考量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113480" y="5995440"/>
                  <a:ext cx="304632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160520" y="5995440"/>
                <a:ext cx="2484000" cy="401760"/>
                <a:chOff x="4160520" y="5995440"/>
                <a:chExt cx="2484000" cy="401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4184640" y="5995440"/>
                  <a:ext cx="24350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需人力與通訊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160520" y="5995440"/>
                  <a:ext cx="248400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44880" y="5995440"/>
                <a:ext cx="2110680" cy="401760"/>
                <a:chOff x="6644880" y="5995440"/>
                <a:chExt cx="2110680" cy="401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9000" y="5995440"/>
                  <a:ext cx="206172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ffffff"/>
                      </a:solidFill>
                      <a:latin typeface="新細明體"/>
                    </a:rPr>
                    <a:t>網路交易安全性</a:t>
                  </a: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44880" y="5995440"/>
                  <a:ext cx="211068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304920" y="1447920"/>
              <a:ext cx="8457840" cy="495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7E4-C8BD-44A3-B599-E37066D84E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研究動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又到了旅遊旺季如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年底的耶誕佳節，新年假期，及明年初的春節連續假期，每年都吸引大批人潮從事國內的旅遊或是出國渡假活動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而網路興起，網路旅行社及旅遊網站也應運而生。線上旅遊資訊越來越方便，但交易背後的安全性需值得我們去深入探討 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?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F83-C5E5-4E0E-924A-E7AEDA613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8f8f8"/>
                </a:solidFill>
                <a:latin typeface="標楷體"/>
                <a:ea typeface="標楷體"/>
              </a:rPr>
              <a:t>傳統旅遊與旅遊網優缺點比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57200" y="2057400"/>
            <a:ext cx="8305560" cy="4114440"/>
            <a:chOff x="457200" y="2057400"/>
            <a:chExt cx="8305560" cy="4114440"/>
          </a:xfrm>
        </p:grpSpPr>
        <p:grpSp>
          <p:nvGrpSpPr>
            <p:cNvPr id="429" name=""/>
            <p:cNvGrpSpPr/>
            <p:nvPr/>
          </p:nvGrpSpPr>
          <p:grpSpPr>
            <a:xfrm>
              <a:off x="464040" y="2063520"/>
              <a:ext cx="8290440" cy="4101120"/>
              <a:chOff x="464040" y="2063520"/>
              <a:chExt cx="8290440" cy="410112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464040" y="2063520"/>
                <a:ext cx="780120" cy="1177560"/>
                <a:chOff x="464040" y="2063520"/>
                <a:chExt cx="780120" cy="11775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91040" y="2063520"/>
                  <a:ext cx="726120" cy="11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項目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4040" y="2063520"/>
                  <a:ext cx="780120" cy="117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244520" y="2063520"/>
                <a:ext cx="3727800" cy="1177560"/>
                <a:chOff x="1244520" y="2063520"/>
                <a:chExt cx="3727800" cy="11775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270800" y="2063520"/>
                  <a:ext cx="3674880" cy="11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傳統旅遊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244520" y="2063520"/>
                  <a:ext cx="3727800" cy="117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972680" y="2063520"/>
                <a:ext cx="3781800" cy="1177560"/>
                <a:chOff x="4972680" y="2063520"/>
                <a:chExt cx="3781800" cy="11775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999680" y="2063520"/>
                  <a:ext cx="3727800" cy="11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旅遊網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972680" y="2063520"/>
                  <a:ext cx="3781800" cy="117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64040" y="3241440"/>
                <a:ext cx="780120" cy="1460880"/>
                <a:chOff x="464040" y="3241440"/>
                <a:chExt cx="780120" cy="14608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91040" y="3241440"/>
                  <a:ext cx="726120" cy="14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優點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4040" y="3241440"/>
                  <a:ext cx="780120" cy="14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244520" y="3241440"/>
                <a:ext cx="3727800" cy="1460880"/>
                <a:chOff x="1244520" y="3241440"/>
                <a:chExt cx="3727800" cy="1460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270800" y="3241440"/>
                  <a:ext cx="3674880" cy="14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消費者可直接與服務人員當面確定行程與價格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244520" y="3241440"/>
                  <a:ext cx="3727800" cy="14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972680" y="3241440"/>
                <a:ext cx="3781800" cy="1460880"/>
                <a:chOff x="4972680" y="3241440"/>
                <a:chExt cx="3781800" cy="14608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999680" y="3241440"/>
                  <a:ext cx="3727800" cy="14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透過網路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2 4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小時皆可進行線上訂購旅遊行程、獲取最新的旅遊資訊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72680" y="3241440"/>
                  <a:ext cx="3781800" cy="14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64040" y="4703040"/>
                <a:ext cx="780120" cy="1461600"/>
                <a:chOff x="464040" y="4703040"/>
                <a:chExt cx="780120" cy="14616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1040" y="4703040"/>
                  <a:ext cx="726120" cy="146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缺點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64040" y="4703040"/>
                  <a:ext cx="780120" cy="146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244520" y="4703040"/>
                <a:ext cx="3727800" cy="1461600"/>
                <a:chOff x="1244520" y="4703040"/>
                <a:chExt cx="3727800" cy="14616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70800" y="4703040"/>
                  <a:ext cx="3674880" cy="146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1. 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無法在下班時間購票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2. 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無法預覽行程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3. 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資訊更新速度慢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244520" y="4703040"/>
                  <a:ext cx="3727800" cy="146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972680" y="4703040"/>
                <a:ext cx="3781800" cy="1461600"/>
                <a:chOff x="4972680" y="4703040"/>
                <a:chExt cx="3781800" cy="14616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999680" y="4703040"/>
                  <a:ext cx="3727800" cy="146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無法當面與服務人員洽詢。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沒有議價空間 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3.</a:t>
                  </a:r>
                  <a:r>
                    <a:rPr b="1" lang="zh-TW" sz="2400" spc="-1" strike="noStrike">
                      <a:solidFill>
                        <a:srgbClr val="f8f8f8"/>
                      </a:solidFill>
                      <a:latin typeface="標楷體"/>
                      <a:ea typeface="標楷體"/>
                    </a:rPr>
                    <a:t>有安全性的考量 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972680" y="4703040"/>
                  <a:ext cx="3781800" cy="146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7" name=""/>
            <p:cNvSpPr/>
            <p:nvPr/>
          </p:nvSpPr>
          <p:spPr>
            <a:xfrm>
              <a:off x="457200" y="2057400"/>
              <a:ext cx="830556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81532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15843" y="10800"/>
                </a:moveTo>
                <a:lnTo>
                  <a:pt x="5337" y="17806"/>
                </a:lnTo>
                <a:lnTo>
                  <a:pt x="5337" y="3794"/>
                </a:lnTo>
                <a:close/>
              </a:path>
              <a:path fill="darken" w="24688" h="21600">
                <a:moveTo>
                  <a:pt x="17688" y="3794"/>
                </a:moveTo>
                <a:lnTo>
                  <a:pt x="17688" y="17806"/>
                </a:lnTo>
                <a:lnTo>
                  <a:pt x="19350" y="17806"/>
                </a:lnTo>
                <a:lnTo>
                  <a:pt x="19350" y="3794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EFC-6F35-453A-8662-69A8ECD936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影片欣賞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台灣之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台灣宣傳影片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   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交通部觀光局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推廣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20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X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X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旅遊活動希望藉由一連串網路互動活動將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X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的風土民情推廣到世界各個角落使旅遊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X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</a:rPr>
              <a:t>成為一種喜悅的享受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。</a:t>
            </a:r>
            <a:r>
              <a:rPr b="0" lang="zh-TW" sz="2800" spc="-1" strike="noStrike">
                <a:solidFill>
                  <a:srgbClr val="f8f8f8"/>
                </a:solidFill>
                <a:latin typeface="Tahoma"/>
                <a:ea typeface="ө_x0002_"/>
              </a:rPr>
              <a:t> 　 　　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532240" y="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703600" y="1349280"/>
            <a:ext cx="8800920" cy="360"/>
            <a:chOff x="2703600" y="1349280"/>
            <a:chExt cx="8800920" cy="360"/>
          </a:xfrm>
        </p:grpSpPr>
        <p:sp>
          <p:nvSpPr>
            <p:cNvPr id="463" name=""/>
            <p:cNvSpPr/>
            <p:nvPr/>
          </p:nvSpPr>
          <p:spPr>
            <a:xfrm>
              <a:off x="2703600" y="1349280"/>
              <a:ext cx="8800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3600" y="1349280"/>
              <a:ext cx="8800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50B-5DFE-4AC2-A199-01CE644FFB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結論與建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旅遊業之主要市場為國內市場，故其商業習慣頗具</a:t>
            </a:r>
            <a:r>
              <a:rPr b="0" lang="zh-TW" sz="2800" spc="-1" strike="noStrike">
                <a:solidFill>
                  <a:srgbClr val="990033"/>
                </a:solidFill>
                <a:latin typeface="新細明體"/>
              </a:rPr>
              <a:t>本土性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，此為旅遊業發展電子商務時所需加以考量者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台灣的旅遊網站，一直侷限於以</a:t>
            </a:r>
            <a:r>
              <a:rPr b="0" lang="zh-TW" sz="2800" spc="-1" strike="noStrike">
                <a:solidFill>
                  <a:srgbClr val="990033"/>
                </a:solidFill>
                <a:latin typeface="新細明體"/>
              </a:rPr>
              <a:t>低價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號召， 也需考慮讓旅遊網站既是旅遊商品的主要供應者與販售者，亦是旅遊資源的重要需求者與整合者，居供應鏈之樞紐地位便利發揮到極致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積極開發差異化趨勢性商品以創造利潤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讓消費者</a:t>
            </a:r>
            <a:r>
              <a:rPr b="0" lang="zh-TW" sz="2800" spc="-1" strike="noStrike" u="sng">
                <a:solidFill>
                  <a:srgbClr val="990000"/>
                </a:solidFill>
                <a:uFillTx/>
                <a:latin typeface="新細明體"/>
              </a:rPr>
              <a:t>流連忘返、回味無窮</a:t>
            </a:r>
            <a:r>
              <a:rPr b="0" lang="zh-TW" sz="2800" spc="-1" strike="noStrike">
                <a:solidFill>
                  <a:srgbClr val="f8f8f8"/>
                </a:solidFill>
                <a:latin typeface="新細明體"/>
              </a:rPr>
              <a:t>才是最重要的。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713-90AF-4B16-9F32-22AE9FA4C3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Q       AND         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2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C2D-35EA-4B85-8DE8-C0CE633F68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8f8f8"/>
                </a:solidFill>
                <a:latin typeface="Tahoma"/>
                <a:ea typeface="標楷體"/>
              </a:rPr>
              <a:t>資料來源介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2400" spc="-1" strike="noStrike">
              <a:solidFill>
                <a:srgbClr val="f8f8f8"/>
              </a:solidFill>
              <a:latin typeface="新細明體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25900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0E4-D6F6-4EA1-B251-019BF49405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最火紅的產業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經濟部商業司委託資策會針對台灣電子商務市場進行調查，結果顯示，二○○三年我國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B2C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（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企業對消費者）市場規模約新台幣二百二十億九千萬元，較去年成長四○％，其中，線上旅遊幾乎佔整體市場的一半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343400" y="4419720"/>
            <a:ext cx="3581280" cy="18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493-C59F-4A5C-AC34-A598391053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XX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區網路購物比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　資策會研究數據表示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: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今年來線上旅遊佔有率為四八％。其次為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3</a:t>
            </a:r>
            <a:r>
              <a:rPr b="0" lang="en-US" sz="3200" spc="-1" strike="noStrike">
                <a:solidFill>
                  <a:srgbClr val="f8f8f8"/>
                </a:solidFill>
                <a:latin typeface="新細明體"/>
              </a:rPr>
              <a:t>C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商品一四％、票務六％、圖書雜誌為五％，其他如居家用品、鮮花禮物、精品、影音商品、食品及運動健身用品等，所佔比例不高。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819520" cy="22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C60-AFA8-456A-9078-680C6733C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XX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區網路購物比例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43400" y="1447920"/>
          <a:ext cx="43434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447920"/>
                    <a:ext cx="4343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1600200"/>
          <a:ext cx="373392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00200"/>
                    <a:ext cx="37339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35F-FE0A-462E-9550-4E7D57AA3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根據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XX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日 – 創市際今年所做『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RO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網路測量研究』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顯示，六月份台灣旅遊網站瀏覽率男女比例為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45%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比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55%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。以年齡層來看，在各個年齡層當中，以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20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至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35</a:t>
            </a: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歲的網友較多。若以職業別來看，學生為瀏覽旅遊網站的最大族群，其次為一般公司職員。</a:t>
            </a:r>
            <a:r>
              <a:rPr b="0" lang="zh-TW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何種族群喜愛旅遊訊息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62720" y="4724280"/>
            <a:ext cx="289548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8AD-AB15-410B-97F2-EEEF525C9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943600" cy="217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733560" cy="29462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比例分析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DC4-458D-4FC5-AF99-F94232A56F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最『燒』的旅遊類型網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8f8f8"/>
                </a:solidFill>
                <a:latin typeface="新細明體"/>
              </a:rPr>
              <a:t>熱門旅遊景點查詢與票證服務，需藉由網路資訊查詢以協助消費者進行交易判斷，因此深受網路消費者的喜愛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6386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9990" y="10800"/>
                </a:moveTo>
                <a:lnTo>
                  <a:pt x="20495" y="3794"/>
                </a:lnTo>
                <a:lnTo>
                  <a:pt x="20495" y="17806"/>
                </a:lnTo>
                <a:close/>
              </a:path>
              <a:path fill="darken" w="26978" h="21600">
                <a:moveTo>
                  <a:pt x="6482" y="3794"/>
                </a:moveTo>
                <a:lnTo>
                  <a:pt x="8145" y="3794"/>
                </a:lnTo>
                <a:lnTo>
                  <a:pt x="8145" y="17806"/>
                </a:lnTo>
                <a:lnTo>
                  <a:pt x="6482" y="17806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7D7-4DAB-47E6-9CF5-8AF32FF3A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网站机制介绍</cp:keywords>
  <dc:language>en-US</dc:language>
  <cp:lastModifiedBy/>
  <cp:revision>0</cp:revision>
  <dc:subject/>
  <dc:title/>
</cp:coreProperties>
</file>