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4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20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5.png" ContentType="image/png"/>
  <Override PartName="/ppt/media/image27.jpeg" ContentType="image/jpeg"/>
  <Override PartName="/ppt/media/image13.wmf" ContentType="image/x-wmf"/>
  <Override PartName="/ppt/media/image30.wmf" ContentType="image/x-wmf"/>
  <Override PartName="/ppt/media/image6.png" ContentType="image/png"/>
  <Override PartName="/ppt/media/image3.png" ContentType="image/png"/>
  <Override PartName="/ppt/media/image17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31.png" ContentType="image/png"/>
  <Override PartName="/ppt/media/image29.wmf" ContentType="image/x-wmf"/>
  <Override PartName="/ppt/media/image21.jpeg" ContentType="image/jpeg"/>
  <Override PartName="/ppt/media/image12.png" ContentType="image/png"/>
  <Override PartName="/ppt/media/image23.jpeg" ContentType="image/jpeg"/>
  <Override PartName="/ppt/media/image24.jpeg" ContentType="image/jpeg"/>
  <Override PartName="/ppt/media/image2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9A15-657A-494F-B649-9AF1308323C7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穿坪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AE97-CA53-4F25-858E-82E41E1EA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A29D-3E05-4665-8D53-D20FE3C3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7747-9C30-4F9C-A300-5AF445F68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F3DC-D0C6-4176-88FD-FBAF6AD66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A9BB-2F87-4BEC-B527-0B9D8151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4779-BC1B-42C0-95BD-939FF098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DFC8-F51E-4279-919A-AC57E94C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7E3C-C6F2-4834-9BCB-068F79CB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6DD3-3B81-406F-9798-89D47A84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1C35-BDFD-4CE2-A2FC-A0267A6A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2435-8BFF-4F00-B3C0-E21BB21A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65D0-1C2F-49A8-9E35-4A806E53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524E-21AA-41AE-BCA9-34897971CDD5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cashreg.wav" TargetMode="External"/><Relationship Id="rId3" Type="http://schemas.microsoft.com/office/2007/relationships/media" Target="file:///tmp/home/.config/libreoffice/4/user/gallery/cashreg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video" Target="file:///tmp/home/.config/libreoffice/4/user/gallery/&#37636;&#35069;&#30340;&#32882;&#38899;" TargetMode="External"/><Relationship Id="rId3" Type="http://schemas.microsoft.com/office/2007/relationships/media" Target="file:///tmp/home/.config/libreoffice/4/user/gallery/&#37636;&#35069;&#30340;&#32882;&#38899;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3.wmf"/><Relationship Id="rId13" Type="http://schemas.openxmlformats.org/officeDocument/2006/relationships/image" Target="../media/image14.jpe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video" Target="file:///tmp/home/.config/libreoffice/4/user/gallery/&#37636;&#35069;&#30340;&#32882;&#38899;" TargetMode="External"/><Relationship Id="rId3" Type="http://schemas.microsoft.com/office/2007/relationships/media" Target="file:///tmp/home/.config/libreoffice/4/user/gallery/&#37636;&#35069;&#30340;&#32882;&#38899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cc00"/>
                </a:solidFill>
                <a:latin typeface="Times New Roman"/>
              </a:rPr>
              <a:t>旅遊與旅遊業  旅遊與旅遊業  旅遊與旅遊業  旅遊與旅遊業  旅遊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459720"/>
          </a:xfrm>
          <a:prstGeom prst="rect">
            <a:avLst/>
          </a:prstGeom>
          <a:solidFill>
            <a:srgbClr val="ff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TW" sz="2400" spc="-1" strike="noStrike">
                <a:solidFill>
                  <a:srgbClr val="cc0099"/>
                </a:solidFill>
                <a:latin typeface="Times New Roman"/>
              </a:rPr>
              <a:t>旅遊與旅遊業   旅遊與旅遊業   旅遊與旅遊業   旅遊與旅遊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981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66ffcc"/>
                </a:solidFill>
                <a:latin typeface="Times New Roman"/>
              </a:rPr>
              <a:t>旅遊與旅遊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77240" y="19810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66ffcc"/>
                </a:solidFill>
                <a:latin typeface="Times New Roman"/>
              </a:rPr>
              <a:t>旅遊與旅遊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10960" y="19810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66ffcc"/>
                </a:solidFill>
                <a:latin typeface="Times New Roman"/>
              </a:rPr>
              <a:t>旅遊與旅遊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6960" y="19810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66ffcc"/>
                </a:solidFill>
                <a:latin typeface="Times New Roman"/>
              </a:rPr>
              <a:t>旅遊與旅遊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743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819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743200"/>
            <a:ext cx="9144000" cy="45972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TW" sz="2400" spc="-1" strike="noStrike">
                <a:solidFill>
                  <a:srgbClr val="3399ff"/>
                </a:solidFill>
                <a:latin typeface="Times New Roman"/>
              </a:rPr>
              <a:t>旅遊與旅遊業   旅遊與旅遊業   旅遊與旅遊業   旅遊與旅遊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4572000" y="2438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505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581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cccc"/>
                </a:solidFill>
                <a:latin typeface="Wingdings"/>
                <a:ea typeface="Wingdings"/>
              </a:rPr>
              <a:t>旅遊與旅遊業旅遊與旅遊業旅遊與旅遊業旅遊與旅遊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343400"/>
            <a:ext cx="9144000" cy="459720"/>
          </a:xfrm>
          <a:prstGeom prst="rect">
            <a:avLst/>
          </a:prstGeom>
          <a:solidFill>
            <a:srgbClr val="33cc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cc33"/>
                </a:solidFill>
                <a:latin typeface="Wingdings"/>
                <a:ea typeface="Wingdings"/>
              </a:rPr>
              <a:t></a:t>
            </a:r>
            <a:r>
              <a:rPr b="0" lang="zh-TW" sz="2400" spc="-1" strike="noStrike">
                <a:solidFill>
                  <a:srgbClr val="33cc33"/>
                </a:solidFill>
                <a:latin typeface="Wingdings"/>
                <a:ea typeface="Wingdings"/>
              </a:rPr>
              <a:t>旅遊與旅遊業旅遊與旅遊業旅遊與旅遊業旅遊與旅遊業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257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99ff"/>
                </a:solidFill>
                <a:latin typeface="Wingdings"/>
                <a:ea typeface="Wingdings"/>
              </a:rPr>
              <a:t>旅遊與旅遊業旅遊與旅遊業旅遊與旅遊業旅遊與旅遊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095880"/>
            <a:ext cx="9144000" cy="4597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</a:t>
            </a:r>
            <a:r>
              <a:rPr b="0" lang="zh-TW" sz="2400" spc="-1" strike="noStrike">
                <a:solidFill>
                  <a:srgbClr val="ff6600"/>
                </a:solidFill>
                <a:latin typeface="Wingdings"/>
                <a:ea typeface="Wingdings"/>
              </a:rPr>
              <a:t>旅遊與旅遊業旅遊與旅遊業旅遊與旅遊業旅遊與旅遊業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057400" y="1143000"/>
            <a:ext cx="4876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標楷體"/>
              </a:rPr>
              <a:t>專題習作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343400" y="2819520"/>
            <a:ext cx="914400" cy="84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之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438280" y="4114800"/>
            <a:ext cx="45720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標楷體"/>
              </a:rPr>
              <a:t>旅遊行程設計</a:t>
            </a:r>
            <a:endParaRPr b="0" lang="en-US" sz="24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標楷體"/>
              <a:ea typeface="標楷體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0880" y="3429000"/>
            <a:ext cx="1828800" cy="2514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543800" y="5257800"/>
            <a:ext cx="762120" cy="484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5334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7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724280" y="609480"/>
            <a:ext cx="40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9900"/>
                </a:solidFill>
                <a:latin typeface="Rockwell Condensed"/>
              </a:rPr>
              <a:t>雀鳥花園有很多各式各樣的雀鳥</a:t>
            </a:r>
            <a:r>
              <a:rPr b="0" lang="zh-TW" sz="2400" spc="-1" strike="noStrike">
                <a:solidFill>
                  <a:srgbClr val="ff9900"/>
                </a:solidFill>
                <a:latin typeface="Rockwell Condensed"/>
              </a:rPr>
              <a:t>,</a:t>
            </a:r>
            <a:r>
              <a:rPr b="0" lang="zh-TW" sz="2400" spc="-1" strike="noStrike">
                <a:solidFill>
                  <a:srgbClr val="ff9900"/>
                </a:solidFill>
                <a:latin typeface="Rockwell Condensed"/>
              </a:rPr>
              <a:t>可讓外國來的遊客能大開眼介。這裏又富有中國特色</a:t>
            </a:r>
            <a:r>
              <a:rPr b="0" lang="zh-TW" sz="2400" spc="-1" strike="noStrike">
                <a:solidFill>
                  <a:srgbClr val="ff9900"/>
                </a:solidFill>
                <a:latin typeface="Rockwell Condensed"/>
              </a:rPr>
              <a:t>,</a:t>
            </a:r>
            <a:r>
              <a:rPr b="0" lang="zh-TW" sz="2400" spc="-1" strike="noStrike">
                <a:solidFill>
                  <a:srgbClr val="ff9900"/>
                </a:solidFill>
                <a:latin typeface="Rockwell Condensed"/>
              </a:rPr>
              <a:t>令人聽到周圍都是雀仔聲</a:t>
            </a:r>
            <a:r>
              <a:rPr b="0" lang="zh-TW" sz="2400" spc="-1" strike="noStrike">
                <a:solidFill>
                  <a:srgbClr val="ff9900"/>
                </a:solidFill>
                <a:latin typeface="Rockwell Condensed"/>
              </a:rPr>
              <a:t>,</a:t>
            </a:r>
            <a:r>
              <a:rPr b="0" lang="zh-TW" sz="2400" spc="-1" strike="noStrike">
                <a:solidFill>
                  <a:srgbClr val="ff9900"/>
                </a:solidFill>
                <a:latin typeface="Rockwell Condensed"/>
              </a:rPr>
              <a:t>身心都能感到舒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3962520"/>
            <a:ext cx="350532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3333cc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標楷體"/>
              </a:rPr>
              <a:t>正呀</a:t>
            </a:r>
            <a:r>
              <a:rPr b="0" lang="en-US" sz="2400" spc="1" strike="noStrike">
                <a:ln w="9360">
                  <a:solidFill>
                    <a:srgbClr val="3333cc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標楷體"/>
              </a:rPr>
              <a:t>!</a:t>
            </a:r>
            <a:endParaRPr b="0" lang="en-US" sz="2400" spc="1" strike="noStrike">
              <a:ln w="9360">
                <a:solidFill>
                  <a:srgbClr val="3333cc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標楷體"/>
              <a:ea typeface="標楷體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365760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36576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500"/>
                            </p:stCondLst>
                            <p:childTnLst>
                              <p:par>
                                <p:cTn id="1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257480" y="1192320"/>
            <a:ext cx="66294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金魚街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位於通菜街近弼街一段，全段約三百公尺長，以售賣各式觀賞魚及有關用品為主。而且售賣方式獨特，多於店外掛上以透明袋包裝的各類觀賞魚，並標上價錢。客人購買時既清晰又方便。故此街甚受養魚同好歡迎。</a:t>
            </a:r>
            <a:br>
              <a:rPr sz="2400"/>
            </a:br>
            <a:br>
              <a:rPr sz="2400"/>
            </a:b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特色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由於港人好飼養各式魚類及動物，近年金魚街亦多其他寵物及動物出售。如龍貓、鼠類及兔類等。更有爬蟲類如蜥蝪、蛇、蛙及蝎子等，令人目不暇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57480" y="1192320"/>
            <a:ext cx="66294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金魚街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位於通菜街近弼街一段，全段約三百公尺長，以售賣各式觀賞魚及有關用品為主。而且售賣方式獨特，多於店外掛上以透明袋包裝的各類觀賞魚，並標上價錢。客人購買時既清晰又方便。故此街甚受養魚同好歡迎。</a:t>
            </a:r>
            <a:br>
              <a:rPr sz="2400"/>
            </a:br>
            <a:br>
              <a:rPr sz="2400"/>
            </a:b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特色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由於港人好飼養各式魚類及動物，近年金魚街亦多其他寵物及動物出售。如龍貓、鼠類及兔類等。更有爬蟲類如蜥蝪、蛇、蛙及蝎子等，令人目不暇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57480" y="1192320"/>
            <a:ext cx="66294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金魚街</a:t>
            </a:r>
            <a:br>
              <a:rPr sz="2400"/>
            </a:br>
            <a:r>
              <a:rPr b="0" lang="zh-TW" sz="2400" spc="-1" strike="noStrike">
                <a:solidFill>
                  <a:srgbClr val="ff6600"/>
                </a:solidFill>
                <a:latin typeface="Times New Roman"/>
              </a:rPr>
              <a:t>位於通菜街近弼街一段，全段約三百公尺長，以售賣各式觀賞魚及有關用品為主。而且售賣方式獨特，多於店外掛上以透明袋包裝的各類觀賞魚，並標上價錢。客人購買時既清晰又方便。故此街甚受養魚同好歡迎。</a:t>
            </a:r>
            <a:br>
              <a:rPr sz="2400"/>
            </a:br>
            <a:br>
              <a:rPr sz="2400"/>
            </a:b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特色</a:t>
            </a:r>
            <a:br>
              <a:rPr sz="2400"/>
            </a:br>
            <a:r>
              <a:rPr b="0" lang="zh-TW" sz="2400" spc="-1" strike="noStrike">
                <a:solidFill>
                  <a:srgbClr val="ff6600"/>
                </a:solidFill>
                <a:latin typeface="Times New Roman"/>
              </a:rPr>
              <a:t>由於港人好飼養各式魚類及動物，近年金魚街亦多其他寵物及動物出售。如龍貓、鼠類及兔類等。更有爬蟲類如蜥蝪、蛇、蛙及蝎子等，令人目不暇給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57480" y="1192320"/>
            <a:ext cx="66294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286000" y="0"/>
            <a:ext cx="2133720" cy="1447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Ranchu Tank-11.JPG (23868 bytes)"/>
          <p:cNvPicPr/>
          <p:nvPr/>
        </p:nvPicPr>
        <p:blipFill>
          <a:blip r:embed="rId3"/>
          <a:stretch/>
        </p:blipFill>
        <p:spPr>
          <a:xfrm>
            <a:off x="5029200" y="5334120"/>
            <a:ext cx="3048120" cy="1523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238880" y="0"/>
            <a:ext cx="19051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3124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3124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3124080"/>
            <a:ext cx="4724280" cy="3733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4724280" y="3124080"/>
            <a:ext cx="4419720" cy="3733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3381480" y="2209680"/>
            <a:ext cx="23810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600200" y="3581280"/>
            <a:ext cx="19810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cccc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新細明體"/>
              </a:rPr>
              <a:t>學號</a:t>
            </a: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cccc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新細明體"/>
              </a:rPr>
              <a:t>: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cccc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267080" y="3657600"/>
            <a:ext cx="1828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標楷體"/>
              </a:rPr>
              <a:t>(23)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19320" y="2057400"/>
            <a:ext cx="22096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新細明體"/>
              </a:rPr>
              <a:t>創作人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新細明體"/>
              </a:rPr>
              <a:t>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fffff"/>
                  </a:gs>
                </a:gsLst>
                <a:lin ang="5400000"/>
              </a:gradFill>
              <a:latin typeface="新細明體"/>
              <a:ea typeface="新細明體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400800" y="3124080"/>
            <a:ext cx="2362320" cy="2743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19320" cy="22096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1752480" y="5562720"/>
            <a:ext cx="1905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標楷體"/>
              </a:rPr>
              <a:t>錄音人</a:t>
            </a:r>
            <a:endParaRPr b="0" lang="en-US" sz="2400" spc="1" strike="noStrike">
              <a:ln w="9360">
                <a:solidFill>
                  <a:srgbClr val="ffcc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33920" y="5791320"/>
            <a:ext cx="276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新細明體"/>
              </a:rPr>
              <a:t>: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新細明體"/>
              <a:ea typeface="新細明體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2133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50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762120" y="0"/>
            <a:ext cx="8001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標楷體"/>
              </a:rPr>
              <a:t>我的旅遊對象是誰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標楷體"/>
              </a:rPr>
              <a:t>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2590920"/>
            <a:ext cx="929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22096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236232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2286000"/>
            <a:ext cx="8305560" cy="181800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2800" spc="-1" strike="noStrike">
                <a:solidFill>
                  <a:srgbClr val="ff0066"/>
                </a:solidFill>
                <a:latin typeface="Times New Roman"/>
              </a:rPr>
              <a:t>就是第一次來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XX</a:t>
            </a:r>
            <a:r>
              <a:rPr b="0" lang="zh-TW" sz="2800" spc="-1" strike="noStrike">
                <a:solidFill>
                  <a:srgbClr val="ff0066"/>
                </a:solidFill>
                <a:latin typeface="Times New Roman"/>
              </a:rPr>
              <a:t>的筆友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XX</a:t>
            </a:r>
            <a:r>
              <a:rPr b="0" lang="zh-TW" sz="28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0" lang="zh-TW" sz="2800" spc="-1" strike="noStrike">
                <a:solidFill>
                  <a:srgbClr val="ff0066"/>
                </a:solidFill>
                <a:latin typeface="Times New Roman"/>
              </a:rPr>
              <a:t>她最喜愛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中</a:t>
            </a:r>
            <a:r>
              <a:rPr b="0" lang="zh-TW" sz="2800" spc="-1" strike="noStrike">
                <a:solidFill>
                  <a:srgbClr val="ff0066"/>
                </a:solidFill>
                <a:latin typeface="Times New Roman"/>
              </a:rPr>
              <a:t>國古董、動物、購物和吃東西。所以我就在這兩天裏滿足了她………</a:t>
            </a:r>
            <a:r>
              <a:rPr b="0" lang="zh-TW" sz="28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66"/>
                </a:solidFill>
                <a:latin typeface="Times New Roman"/>
              </a:rPr>
              <a:t>她是探奇型的遊客</a:t>
            </a:r>
            <a:r>
              <a:rPr b="0" lang="zh-TW" sz="28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0" lang="zh-TW" sz="2800" spc="-1" strike="noStrike">
                <a:solidFill>
                  <a:srgbClr val="ff0066"/>
                </a:solidFill>
                <a:latin typeface="Times New Roman"/>
              </a:rPr>
              <a:t>這次來港主要是觀光式旅遊</a:t>
            </a:r>
            <a:r>
              <a:rPr b="0" lang="zh-TW" sz="28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0" lang="zh-TW" sz="2800" spc="-1" strike="noStrike">
                <a:solidFill>
                  <a:srgbClr val="ff0066"/>
                </a:solidFill>
                <a:latin typeface="Times New Roman"/>
              </a:rPr>
              <a:t>所以我就和她去了石板街、金魚街、海洋公園……</a:t>
            </a:r>
            <a:r>
              <a:rPr b="0" lang="zh-TW" sz="28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62120" y="5867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553080" y="4724280"/>
            <a:ext cx="22860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219320" y="1447920"/>
            <a:ext cx="68580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9966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標楷體"/>
              </a:rPr>
              <a:t>睇下</a:t>
            </a:r>
            <a:r>
              <a:rPr b="0" lang="en-US" sz="2400" spc="1" strike="noStrike">
                <a:ln w="9360">
                  <a:solidFill>
                    <a:srgbClr val="9966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標楷體"/>
              </a:rPr>
              <a:t>D</a:t>
            </a:r>
            <a:r>
              <a:rPr b="0" lang="zh-CN" sz="2400" spc="1" strike="noStrike">
                <a:ln w="9360">
                  <a:solidFill>
                    <a:srgbClr val="9966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標楷體"/>
              </a:rPr>
              <a:t>行程啦</a:t>
            </a:r>
            <a:r>
              <a:rPr b="0" lang="en-US" sz="2400" spc="1" strike="noStrike">
                <a:ln w="9360">
                  <a:solidFill>
                    <a:srgbClr val="9966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標楷體"/>
              </a:rPr>
              <a:t>!</a:t>
            </a:r>
            <a:endParaRPr b="0" lang="en-US" sz="2400" spc="1" strike="noStrike">
              <a:ln w="9360">
                <a:solidFill>
                  <a:srgbClr val="9966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標楷體"/>
              <a:ea typeface="標楷體"/>
            </a:endParaRPr>
          </a:p>
        </p:txBody>
      </p:sp>
      <p:pic>
        <p:nvPicPr>
          <p:cNvPr id="77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85800" y="56386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1600200" y="228600"/>
            <a:ext cx="53341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600200" y="990720"/>
            <a:ext cx="7543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標楷體"/>
              </a:rPr>
              <a:t>到達香港機場</a:t>
            </a:r>
            <a:r>
              <a:rPr b="0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標楷體"/>
              </a:rPr>
              <a:t>,</a:t>
            </a:r>
            <a:r>
              <a:rPr b="0" lang="zh-CN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標楷體"/>
              </a:rPr>
              <a:t>然後往尖沙咀美麗華酒店。</a:t>
            </a:r>
            <a:endParaRPr b="0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80" name=""/>
          <p:cNvSpPr txBox="1"/>
          <p:nvPr/>
        </p:nvSpPr>
        <p:spPr>
          <a:xfrm rot="16200">
            <a:off x="2133360" y="0"/>
            <a:ext cx="4951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標楷體"/>
              </a:rPr>
              <a:t>兩日一夜之第一日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標楷體"/>
              <a:ea typeface="標楷體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04920" y="9907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新細明體"/>
              </a:rPr>
              <a:t>9:30a.m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04920" y="2057400"/>
            <a:ext cx="1143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新細明體"/>
              </a:rPr>
              <a:t>10:30a.m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828800" y="2057400"/>
            <a:ext cx="7315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標楷體"/>
              </a:rPr>
              <a:t>在酒店大堂集合</a:t>
            </a:r>
            <a:r>
              <a:rPr b="0" lang="en-US" sz="2400" spc="1" strike="noStrike">
                <a:ln w="0">
                  <a:noFill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標楷體"/>
              </a:rPr>
              <a:t>,</a:t>
            </a:r>
            <a:r>
              <a:rPr b="0" lang="zh-CN" sz="2400" spc="1" strike="noStrike">
                <a:ln w="0">
                  <a:noFill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標楷體"/>
              </a:rPr>
              <a:t>往尖沙咀購物。</a:t>
            </a:r>
            <a:endParaRPr b="0" lang="en-US" sz="2400" spc="1" strike="noStrike">
              <a:ln w="0">
                <a:noFill/>
              </a:ln>
              <a:solidFill>
                <a:srgbClr val="ff99cc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04920" y="297180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新細明體"/>
              </a:rPr>
              <a:t>12:00a.m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057400" y="3124080"/>
            <a:ext cx="541008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標楷體"/>
              </a:rPr>
              <a:t>食油渣麵和香港小食。</a:t>
            </a:r>
            <a:endParaRPr b="0" lang="en-US" sz="24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80880" y="3962520"/>
            <a:ext cx="1067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新細明體"/>
              </a:rPr>
              <a:t>12:45a.m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828800" y="4114800"/>
            <a:ext cx="6781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標楷體"/>
              </a:rPr>
              <a:t>往中環的石板街觀賞和購買古董。</a:t>
            </a:r>
            <a:endParaRPr b="0" lang="en-US" sz="2400" spc="1" strike="noStrike">
              <a:ln w="0">
                <a:noFill/>
              </a:ln>
              <a:solidFill>
                <a:srgbClr val="00cc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0880" y="5029200"/>
            <a:ext cx="1067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新細明體"/>
              </a:rPr>
              <a:t>1:30a.m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752480" y="5181480"/>
            <a:ext cx="6934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cc99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標楷體"/>
              </a:rPr>
              <a:t>往旺角「女人街」、「花園街」</a:t>
            </a:r>
            <a:endParaRPr b="0" lang="en-US" sz="2400" spc="1" strike="noStrike">
              <a:ln w="0">
                <a:noFill/>
              </a:ln>
              <a:solidFill>
                <a:srgbClr val="cc99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828800" y="5867280"/>
            <a:ext cx="1295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cc99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標楷體"/>
              </a:rPr>
              <a:t>購物。</a:t>
            </a:r>
            <a:endParaRPr b="0" lang="en-US" sz="2400" spc="1" strike="noStrike">
              <a:ln w="0">
                <a:noFill/>
              </a:ln>
              <a:solidFill>
                <a:srgbClr val="cc99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191120" y="6019920"/>
            <a:ext cx="3686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仲有</a:t>
            </a:r>
            <a:r>
              <a: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o</a:t>
            </a:r>
            <a:r>
              <a:rPr b="0" lang="zh-CN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架</a:t>
            </a:r>
            <a:r>
              <a: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,</a:t>
            </a:r>
            <a:r>
              <a:rPr b="0" lang="zh-CN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下頁啦</a:t>
            </a:r>
            <a:r>
              <a: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^_^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077320" y="601992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→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9880" y="6019920"/>
            <a:ext cx="219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新細明體"/>
              </a:rPr>
              <a:t>*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新細明體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9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4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7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057400" y="380880"/>
            <a:ext cx="54100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仲有精彩節目接住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o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黎喎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!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4920" y="1295280"/>
            <a:ext cx="1371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3:00p.m.</a:t>
            </a:r>
            <a:endParaRPr b="0" lang="en-US" sz="2400" spc="1" strike="noStrike">
              <a:ln w="12600">
                <a:solidFill>
                  <a:srgbClr val="ff33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057400" y="1371600"/>
            <a:ext cx="4114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標楷體"/>
              </a:rPr>
              <a:t>往金魚街和雀鳥花園。</a:t>
            </a:r>
            <a:endParaRPr b="0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2057400"/>
            <a:ext cx="1295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4:00p.m.</a:t>
            </a:r>
            <a:endParaRPr b="0" lang="en-US" sz="2400" spc="1" strike="noStrike">
              <a:ln w="12600">
                <a:solidFill>
                  <a:srgbClr val="ff33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133720" y="220968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標楷體"/>
              </a:rPr>
              <a:t>回酒店休息。</a:t>
            </a:r>
            <a:endParaRPr b="0" lang="en-US" sz="2400" spc="1" strike="noStrike">
              <a:ln w="0">
                <a:noFill/>
              </a:ln>
              <a:solidFill>
                <a:srgbClr val="ff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04920" y="297180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5:30p.m.</a:t>
            </a:r>
            <a:endParaRPr b="0" lang="en-US" sz="2400" spc="1" strike="noStrike">
              <a:ln w="12600">
                <a:solidFill>
                  <a:srgbClr val="ff33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304812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標楷體"/>
              </a:rPr>
              <a:t>在酒店食自助餐。</a:t>
            </a:r>
            <a:endParaRPr b="0" lang="en-US" sz="2400" spc="1" strike="noStrike">
              <a:ln w="0">
                <a:noFill/>
              </a:ln>
              <a:solidFill>
                <a:srgbClr val="00cc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0880" y="3809880"/>
            <a:ext cx="1371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6:15p.m.</a:t>
            </a:r>
            <a:endParaRPr b="0" lang="en-US" sz="2400" spc="1" strike="noStrike">
              <a:ln w="12600">
                <a:solidFill>
                  <a:srgbClr val="ff33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362320" y="3886200"/>
            <a:ext cx="2133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標楷體"/>
              </a:rPr>
              <a:t>往廟街。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880" y="4648320"/>
            <a:ext cx="1371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7:45p.m.</a:t>
            </a:r>
            <a:endParaRPr b="0" lang="en-US" sz="2400" spc="1" strike="noStrike">
              <a:ln w="12600">
                <a:solidFill>
                  <a:srgbClr val="ff33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133720" y="4800600"/>
            <a:ext cx="6400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cc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標楷體"/>
              </a:rPr>
              <a:t>在油麻地感受香港人的夜生活。</a:t>
            </a:r>
            <a:endParaRPr b="0" lang="en-US" sz="2400" spc="1" strike="noStrike">
              <a:ln w="0">
                <a:noFill/>
              </a:ln>
              <a:solidFill>
                <a:srgbClr val="cc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133720" y="5486400"/>
            <a:ext cx="5715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無力行喇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,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返酒店休息啦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!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5410080"/>
            <a:ext cx="1523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8:30p.m.</a:t>
            </a:r>
            <a:endParaRPr b="0" lang="en-US" sz="2400" spc="1" strike="noStrike">
              <a:ln w="12600">
                <a:solidFill>
                  <a:srgbClr val="ff33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895480" y="6172200"/>
            <a:ext cx="3505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聽日再玩過</a:t>
            </a:r>
            <a:r>
              <a:rPr b="0" lang="en-US" sz="24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^_^</a:t>
            </a:r>
            <a:endParaRPr b="0" lang="en-US" sz="2400" spc="1" strike="noStrike">
              <a:ln w="12600">
                <a:solidFill>
                  <a:srgbClr val="ffcc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981080" y="617220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~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781680" y="6172200"/>
            <a:ext cx="533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~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新細明體"/>
              <a:ea typeface="新細明體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324480" y="2471760"/>
            <a:ext cx="1371600" cy="1316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315200" y="1828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650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90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2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6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68580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新細明體"/>
              </a:rPr>
              <a:t>8:00a.m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438280" y="990720"/>
            <a:ext cx="3962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標楷體"/>
              </a:rPr>
              <a:t>食中式早餐。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810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新細明體"/>
              </a:rPr>
              <a:t>9:15a.m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14600" y="2133720"/>
            <a:ext cx="4038480" cy="92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66ff"/>
                  </a:solidFill>
                  <a:miter/>
                </a:ln>
                <a:solidFill>
                  <a:srgbClr val="ff99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標楷體"/>
              </a:rPr>
              <a:t>到達海洋公園。</a:t>
            </a:r>
            <a:endParaRPr b="0" lang="en-US" sz="2400" spc="1" strike="noStrike">
              <a:ln w="9360">
                <a:solidFill>
                  <a:srgbClr val="ff66ff"/>
                </a:solidFill>
                <a:miter/>
              </a:ln>
              <a:solidFill>
                <a:srgbClr val="ff99ff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3124080"/>
            <a:ext cx="1542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新細明體"/>
              </a:rPr>
              <a:t>3:00p.m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514600" y="3048120"/>
            <a:ext cx="3962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標楷體"/>
              </a:rPr>
              <a:t>到灣仔金紫荊廣場。</a:t>
            </a:r>
            <a:endParaRPr b="0" lang="en-US" sz="2400" spc="1" strike="noStrike">
              <a:ln w="9360">
                <a:solidFill>
                  <a:srgbClr val="339966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0880" y="4267080"/>
            <a:ext cx="1543320" cy="91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新細明體"/>
              </a:rPr>
              <a:t>5:30p.m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14600" y="4267080"/>
            <a:ext cx="4114800" cy="84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標楷體"/>
              </a:rPr>
              <a:t>回酒店執拾行李。</a:t>
            </a:r>
            <a:endParaRPr b="0" lang="en-US" sz="2400" spc="1" strike="noStrike">
              <a:ln w="9360">
                <a:solidFill>
                  <a:srgbClr val="00ccff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80880" y="5105520"/>
            <a:ext cx="1600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新細明體"/>
              </a:rPr>
              <a:t>7:15p.m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514600" y="5257800"/>
            <a:ext cx="3809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標楷體"/>
              </a:rPr>
              <a:t>要去機場喇</a:t>
            </a:r>
            <a:r>
              <a: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標楷體"/>
              </a:rPr>
              <a:t>,886!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122" name=""/>
          <p:cNvSpPr txBox="1"/>
          <p:nvPr/>
        </p:nvSpPr>
        <p:spPr>
          <a:xfrm rot="342600">
            <a:off x="2057040" y="0"/>
            <a:ext cx="4876920" cy="10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新細明體"/>
              </a:rPr>
              <a:t>兩曰一夜之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新細明體"/>
              </a:rPr>
              <a:t>last day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新細明體"/>
              <a:ea typeface="新細明體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2"/>
          <a:stretch/>
        </p:blipFill>
        <p:spPr>
          <a:xfrm>
            <a:off x="6477120" y="4811760"/>
            <a:ext cx="2666880" cy="1520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3"/>
          <a:stretch/>
        </p:blipFill>
        <p:spPr>
          <a:xfrm>
            <a:off x="6629400" y="1066680"/>
            <a:ext cx="2122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0666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1828800" y="1447920"/>
            <a:ext cx="59436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33cc"/>
                  </a:solidFill>
                  <a:miter/>
                </a:ln>
                <a:solidFill>
                  <a:srgbClr val="33cc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新細明體"/>
              </a:rPr>
              <a:t>特別介紹</a:t>
            </a:r>
            <a:endParaRPr b="0" lang="en-US" sz="2400" spc="1" strike="noStrike">
              <a:ln w="9360">
                <a:solidFill>
                  <a:srgbClr val="ff33cc"/>
                </a:solidFill>
                <a:miter/>
              </a:ln>
              <a:solidFill>
                <a:srgbClr val="33cc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新細明體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46483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c0099"/>
                </a:solidFill>
                <a:latin typeface="Wingdings"/>
                <a:ea typeface="Wingdings"/>
              </a:rPr>
              <a:t>石板街有很多古董供人購買</a:t>
            </a:r>
            <a:r>
              <a:rPr b="0" lang="zh-TW" sz="3200" spc="-1" strike="noStrike">
                <a:solidFill>
                  <a:srgbClr val="cc0099"/>
                </a:solidFill>
                <a:latin typeface="Times New Roman"/>
              </a:rPr>
              <a:t>,</a:t>
            </a:r>
            <a:r>
              <a:rPr b="0" lang="zh-TW" sz="3200" spc="-1" strike="noStrike">
                <a:solidFill>
                  <a:srgbClr val="cc0099"/>
                </a:solidFill>
                <a:latin typeface="Wingdings"/>
                <a:ea typeface="Wingdings"/>
              </a:rPr>
              <a:t>而且價錢十分合理。為什麼</a:t>
            </a:r>
            <a:r>
              <a:rPr b="0" lang="zh-TW" sz="3200" spc="-1" strike="noStrike">
                <a:solidFill>
                  <a:srgbClr val="cc0099"/>
                </a:solidFill>
                <a:latin typeface="Times New Roman"/>
              </a:rPr>
              <a:t>這裏為名為石板街呢</a:t>
            </a:r>
            <a:r>
              <a:rPr b="0" lang="zh-TW" sz="3200" spc="-1" strike="noStrike">
                <a:solidFill>
                  <a:srgbClr val="cc0099"/>
                </a:solidFill>
                <a:latin typeface="Times New Roman"/>
              </a:rPr>
              <a:t>?</a:t>
            </a:r>
            <a:r>
              <a:rPr b="0" lang="zh-TW" sz="3200" spc="-1" strike="noStrike">
                <a:solidFill>
                  <a:srgbClr val="cc0099"/>
                </a:solidFill>
                <a:latin typeface="Times New Roman"/>
              </a:rPr>
              <a:t>因為這裏有條闊而長的石級</a:t>
            </a:r>
            <a:r>
              <a:rPr b="0" lang="zh-TW" sz="3200" spc="-1" strike="noStrike">
                <a:solidFill>
                  <a:srgbClr val="cc0099"/>
                </a:solidFill>
                <a:latin typeface="Times New Roman"/>
              </a:rPr>
              <a:t>,</a:t>
            </a:r>
            <a:r>
              <a:rPr b="0" lang="zh-TW" sz="3200" spc="-1" strike="noStrike">
                <a:solidFill>
                  <a:srgbClr val="cc0099"/>
                </a:solidFill>
                <a:latin typeface="Times New Roman"/>
              </a:rPr>
              <a:t>是這裏的特色來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00600" cy="2133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800600" y="0"/>
            <a:ext cx="4343400" cy="2133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4800600" y="2133720"/>
            <a:ext cx="4343400" cy="22096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4724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Ravie"/>
              </a:rPr>
              <a:t>這裏就是位於園圃街的雀鳥花園</a:t>
            </a:r>
            <a:r>
              <a:rPr b="1" lang="zh-TW" sz="3200" spc="-1" strike="noStrike">
                <a:solidFill>
                  <a:srgbClr val="3333cc"/>
                </a:solidFill>
                <a:latin typeface="Ravie"/>
              </a:rPr>
              <a:t>,</a:t>
            </a:r>
            <a:r>
              <a:rPr b="1" lang="zh-TW" sz="3200" spc="-1" strike="noStrike">
                <a:solidFill>
                  <a:srgbClr val="3333cc"/>
                </a:solidFill>
                <a:latin typeface="Ravie"/>
              </a:rPr>
              <a:t>是從以前的「雀仔街」搬遷過來的。這裏有中國式的建築雅緻</a:t>
            </a:r>
            <a:r>
              <a:rPr b="1" lang="zh-TW" sz="3200" spc="-1" strike="noStrike">
                <a:solidFill>
                  <a:srgbClr val="3333cc"/>
                </a:solidFill>
                <a:latin typeface="Ravie"/>
              </a:rPr>
              <a:t>,</a:t>
            </a:r>
            <a:r>
              <a:rPr b="1" lang="zh-TW" sz="3200" spc="-1" strike="noStrike">
                <a:solidFill>
                  <a:srgbClr val="3333cc"/>
                </a:solidFill>
                <a:latin typeface="Ravie"/>
              </a:rPr>
              <a:t>令遊客都感到輕鬆愉快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旅游 行程</cp:keywords>
  <dc:language>en-US</dc:language>
  <cp:lastModifiedBy/>
  <cp:revision>0</cp:revision>
  <dc:subject/>
  <dc:title/>
</cp:coreProperties>
</file>