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EAE-F264-42C9-A5FA-145037C1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DF8-4D54-4F44-854A-72C0B996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180E0-987C-4C22-8D62-7F1ADB59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60456-1684-4396-A76B-7BD7DA4C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D72B0-D8A2-46C6-BF91-00A96F9F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C85F4-81E7-48ED-B6C0-C629CD2A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D87CD-2C3F-4D78-8B51-BB4641C8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27B17-E40B-44CB-A9FB-3C397681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C3186-6C85-4B26-AFFA-2E2023D0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E5907-570E-43F2-A76E-F849CF84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B9C3B-CEE4-4C8E-A6CF-5060161A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2777B-BBBA-47EE-A2D9-71D8C70C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40D-3A69-4382-B345-460570D3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98C8F-2972-4020-92AA-3FD8A851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35781-6EE9-4785-8E02-35545B24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01691-1959-452A-843F-B4E399A7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3E2EA-E146-425D-BD4B-64090BFD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2E87F-5C65-4AAD-B9CA-8F7E9CAC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CAA85-55F5-4E0A-9170-C6549A1A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B7A3A-A462-4B5E-91FA-D595766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F459B-2DC5-409E-88F5-079F73A1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49D69-8B8B-43FD-B1D3-B460FECA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CF79A-3C41-4598-821A-09160953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67D-4463-43C0-A633-01A48791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C69BF-4B20-4274-8491-D27C4E4E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BCD25-CAEB-45D4-958E-E0D1F05D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E4305-0B06-4EFE-A6DC-30F8D015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60D7A-4BDD-4D4D-AD3A-68D2E930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02B7F-AEBD-44D3-B35F-03FCAE31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9EE39-646C-4326-A844-C76D6F54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88186-B7D2-4E42-B8DA-F580943F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9B60E-AA66-4C2B-84CB-83F967CB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C07A5-C468-4368-A57C-4FC82A17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D00DC-6587-4145-A592-5E3C959B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960E-223A-48E9-BAB4-92242BA7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69E2A-4D95-4E74-8F26-AAC55F6E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9D104-E598-4CE3-9276-7E72E6F6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7ECD6-36FB-4587-B6CA-A82FFE02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7F44D-3E1A-4C78-9417-AE6B5571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24A69-A0E1-4E2D-972D-1E716903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06585-5192-4BA1-99D9-7D9C2DA8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E6586-6C9C-4037-BA8C-5B035E41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FC0B0-A7C4-46E3-9031-B54A763C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9B402-3EC3-4797-AF76-EFA8C93C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98CD6-4AB5-4E00-8AEA-337F4E31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CFD6-E4AA-42E7-9F24-ECCD8BC7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13339-FE14-44B2-AAFD-F87638FC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9452D-BFC3-4B2C-9D8F-8930DA92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1C15E-6BB2-4944-B92E-8F838892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8D2A4-FA39-4EB2-A649-071C5AE5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7183D-5D97-4EDE-AA7F-2F07A87A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2C38F-91A9-41F8-A6A0-3B2D52CC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9EE2B-37A4-426F-A123-D58E5563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B7E16-1E99-4A55-B9C1-60A64315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660C0-38B9-4577-9798-29503912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4F724-02CB-4B6F-A1E1-7040EB8E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E1DD-B78A-4C5F-B345-2F5F367A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08769-4341-4E1F-A669-B2DE8CA1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11886-7243-484C-BB7D-FFDC3BB1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384A8E-8C46-4046-B3E5-102922C0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886A5-33E1-4180-A37B-ED7FE3D8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C5CD1-AE78-42DE-BE8C-1197FA01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FA945-D9D6-4B6B-B8DD-AF950AB1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9C71E-A270-4DCE-9A32-7AEDA0E4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13D7-13F5-4715-B075-2F188C56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011A-EBEE-4A3F-AE4C-5CF4A2FE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FEFF-506A-43D7-A984-2E373C71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2563-C789-4B1E-93D1-F3A434D9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737-7E27-40EE-8654-0451A610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EC42-0D35-4C1A-94E1-26775B8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7066-3366-4615-AB25-79D41F5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5CE9-1570-477E-82D4-8BD4C594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B1BA-7035-40E5-ACB4-7D747FD1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6B2E-81F3-417C-98EA-80972B2C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DF92-0579-4E94-991B-DC401197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A634-350F-4304-915C-68D8D3D3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15142-0082-41CE-931A-DE67E0BA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DDB2-BA19-464F-8220-8A335321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5CA6B-CC7D-4404-A757-1DB1005D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E77-BD65-40A9-A21C-1AA86EEC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9825-7EC5-4239-8BB8-C3730169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B1EBC-3669-4F90-8469-E471EFC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D8D7C-117D-4F66-800F-C275461C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081D8-BF36-4884-B8A0-8AA431A4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2A72-7E5F-42E4-B00E-FFEE2718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FFB3-7814-4F17-BB4F-5B74DD15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12D8F-D26F-4CF3-9AD1-5F47E9BA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F3C4D-7505-4266-A835-FFDC04A2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8683A-66C9-4FA5-AF20-765D05CF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94094-D857-4C94-8BEE-E236E94E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B22-CC17-4564-B60D-0EB96E9C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BAC78-51F6-4C4A-AB78-896479E6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37B3D-F8FD-41BA-B235-A341D91F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ED68F-56FE-4FA3-A361-23C2CE97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2D72-43FE-43BC-B79A-6F7E7DB1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EB5E-0864-4567-A0EA-AC74439F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85A96-208C-4415-A2FE-3BF2DAF3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21D3E-3538-4F59-A2E2-D30517BE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D389-4C69-420C-B396-A71EA210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1F920-CEA4-4CEE-B774-BBEBAF2A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20BCC-1225-40FD-B234-E1BE78A6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3FB-211D-426D-84D7-71B5F43F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C242B-1926-4F65-9199-DCB28A28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0B51A-8052-402A-AF11-695E7B4A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57087-FBC8-423C-8559-3CE9C7ED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9D732-9F84-40A9-AEF5-1BDBB6E1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F2C66-5DB6-4219-96BE-36A7F102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0C837-D7A6-4B95-A310-ED6068B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437A1-5982-4EF3-A50C-3DFBF1A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3A956-358A-48EA-B755-F15D0315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8CD0D-3012-410B-BFC7-EA0153E1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CA205-34F1-410B-B003-AF41392C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6EF-4DA3-4482-B2DF-BD4CA831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06BDB-8C13-41FA-B09E-F4CB67B1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47F69-F723-4A59-8670-E59D9EF1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39483-D006-470E-93FE-1486889D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3A465-8FE3-48EB-BD91-5D85A634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1267E-E2D2-46DE-8FB3-DCB4D3C5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B83AD-2614-4B4E-AFC6-9EFD6705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47A03-96ED-4937-A555-0F3AF23D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019FB-AEBF-43C9-8D51-0F906C71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12C64-4D40-4078-8912-7A18EFD2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81689-0589-47EC-A21F-94E84A32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158-7D48-44DB-87E8-94040C37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CD4BF-C690-4561-BDE7-C0F61BAE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445A5-7943-4A52-B6B6-75160C65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92DF0-0E1B-4FEF-95C0-49F1827A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7A3F8-49A5-4028-8A94-D1F10ABF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10A6E-6907-430D-8F81-7B8CC3B8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B8508-B4E9-44D6-96C0-B8431BBB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4D645-CEAA-44E7-87CA-8990B939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5D64D-3209-4C0B-92FE-D5672A80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8B377-E8F4-4278-9143-AD299E50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C5861-1D27-4C83-84A8-E8790CA5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49B-FC74-4D38-8054-8456B6C2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D2C37-1BF3-4D6B-B63B-283948F9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1638D-F350-43BE-BFEC-A56C5AAE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1BC07-A210-498E-9D45-4E13950C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D9659-BB7B-44F5-B93C-655A4ACA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0B2CE-E2A7-4FBC-AFFA-D4CC6674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4131F-CA9C-49A8-ABCB-AEB0ED70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99BE9-668B-4DDF-AEAB-FB18FF25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A89AB-AF55-40F3-8D0A-9E8E62DD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A2D3A-7B13-4F15-81DC-A478369F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AC91B-1303-485C-9524-9FA8AC0E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76F-E114-4995-8CB8-F36DD52B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8F697-F6D3-4EF8-82BA-EF789C29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8E23D-1AC6-48EB-9123-B508C5E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07D30-A74C-442D-99F6-4F74D74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D0432-3136-44AA-A2CC-FF6AE62A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BAE6D-ECED-4BCA-9408-749C9CF8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7CAB3-3159-49B6-9C39-14D16531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2F705-9E82-4643-8AC1-B4A2A51D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39495-57DD-4808-A372-CE732529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8AF70-AF0E-476F-9633-96C3FA98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7502E-88ED-497A-B7B1-A5EBF098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68A1-3851-4EFC-AAD3-C82B5B1D9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47C5-3F4C-47C6-992B-BD563E7BFB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4108-48DE-448F-A8D8-A750A17D18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0FAC-368F-466C-9466-93CDA327C1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798B-ACA5-49D4-862A-16379BF637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AF58-32BE-4BC9-BF4E-1130C5C27E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2EED-F4DD-4F64-BC48-8ECA0E5F96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9F41-3D61-4486-941F-113C4E3AFF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E9E4-D237-4968-91C3-8AEABF5F74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4D6C-FA43-4C0D-9673-B39E1B7F9B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544C-1AFC-4A8E-9A39-8D273163EB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2322-DAB8-403D-9221-292F05254B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63BF-9384-4751-80F6-B3351CDA37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beijin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4"/>
          <p:cNvSpPr/>
          <p:nvPr/>
        </p:nvSpPr>
        <p:spPr>
          <a:xfrm>
            <a:off x="2958480" y="3259080"/>
            <a:ext cx="32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beijing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56" descr="@NLLJK5W@NMT`ACPLD4U(RX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30360" y="1353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汉仪行楷简"/>
                <a:ea typeface="汉仪行楷简"/>
              </a:rPr>
              <a:t>美丽蝴蝶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5"/>
          <p:cNvGrpSpPr/>
          <p:nvPr/>
        </p:nvGrpSpPr>
        <p:grpSpPr>
          <a:xfrm>
            <a:off x="7085160" y="5473440"/>
            <a:ext cx="1166040" cy="972000"/>
            <a:chOff x="7085160" y="5473440"/>
            <a:chExt cx="1166040" cy="972000"/>
          </a:xfrm>
        </p:grpSpPr>
        <p:grpSp>
          <p:nvGrpSpPr>
            <p:cNvPr id="537" name="Group 6"/>
            <p:cNvGrpSpPr/>
            <p:nvPr/>
          </p:nvGrpSpPr>
          <p:grpSpPr>
            <a:xfrm>
              <a:off x="7085160" y="5473440"/>
              <a:ext cx="1166040" cy="972000"/>
              <a:chOff x="7085160" y="5473440"/>
              <a:chExt cx="1166040" cy="972000"/>
            </a:xfrm>
          </p:grpSpPr>
          <p:sp>
            <p:nvSpPr>
              <p:cNvPr id="538" name="Freeform 7"/>
              <p:cNvSpPr/>
              <p:nvPr/>
            </p:nvSpPr>
            <p:spPr>
              <a:xfrm rot="20073000">
                <a:off x="7186680" y="5760360"/>
                <a:ext cx="54468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8"/>
              <p:cNvSpPr/>
              <p:nvPr/>
            </p:nvSpPr>
            <p:spPr>
              <a:xfrm flipH="1" rot="20073000">
                <a:off x="7669800" y="5546520"/>
                <a:ext cx="47556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9"/>
            <p:cNvGrpSpPr/>
            <p:nvPr/>
          </p:nvGrpSpPr>
          <p:grpSpPr>
            <a:xfrm>
              <a:off x="7184160" y="5571720"/>
              <a:ext cx="970920" cy="774360"/>
              <a:chOff x="7184160" y="5571720"/>
              <a:chExt cx="970920" cy="774360"/>
            </a:xfrm>
          </p:grpSpPr>
          <p:sp>
            <p:nvSpPr>
              <p:cNvPr id="541" name="Freeform 10"/>
              <p:cNvSpPr/>
              <p:nvPr/>
            </p:nvSpPr>
            <p:spPr>
              <a:xfrm rot="20073000">
                <a:off x="7257600" y="5820120"/>
                <a:ext cx="4665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1"/>
              <p:cNvSpPr/>
              <p:nvPr/>
            </p:nvSpPr>
            <p:spPr>
              <a:xfrm flipH="1" rot="20073000">
                <a:off x="7671240" y="5637240"/>
                <a:ext cx="4071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Group 90"/>
          <p:cNvGrpSpPr/>
          <p:nvPr/>
        </p:nvGrpSpPr>
        <p:grpSpPr>
          <a:xfrm>
            <a:off x="-43200" y="5714280"/>
            <a:ext cx="1044720" cy="927000"/>
            <a:chOff x="-43200" y="5714280"/>
            <a:chExt cx="1044720" cy="927000"/>
          </a:xfrm>
        </p:grpSpPr>
        <p:grpSp>
          <p:nvGrpSpPr>
            <p:cNvPr id="544" name="Group 91"/>
            <p:cNvGrpSpPr/>
            <p:nvPr/>
          </p:nvGrpSpPr>
          <p:grpSpPr>
            <a:xfrm>
              <a:off x="-43200" y="5714280"/>
              <a:ext cx="1044720" cy="927000"/>
              <a:chOff x="-43200" y="5714280"/>
              <a:chExt cx="1044720" cy="927000"/>
            </a:xfrm>
          </p:grpSpPr>
          <p:sp>
            <p:nvSpPr>
              <p:cNvPr id="545" name="Freeform 92"/>
              <p:cNvSpPr/>
              <p:nvPr/>
            </p:nvSpPr>
            <p:spPr>
              <a:xfrm rot="2127600">
                <a:off x="40680" y="5822280"/>
                <a:ext cx="518040" cy="455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93"/>
              <p:cNvSpPr/>
              <p:nvPr/>
            </p:nvSpPr>
            <p:spPr>
              <a:xfrm flipH="1" rot="2127000">
                <a:off x="458640" y="6096600"/>
                <a:ext cx="452520" cy="455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94"/>
            <p:cNvGrpSpPr/>
            <p:nvPr/>
          </p:nvGrpSpPr>
          <p:grpSpPr>
            <a:xfrm>
              <a:off x="47160" y="5801400"/>
              <a:ext cx="866520" cy="754560"/>
              <a:chOff x="47160" y="5801400"/>
              <a:chExt cx="866520" cy="754560"/>
            </a:xfrm>
          </p:grpSpPr>
          <p:sp>
            <p:nvSpPr>
              <p:cNvPr id="548" name="Freeform 95"/>
              <p:cNvSpPr/>
              <p:nvPr/>
            </p:nvSpPr>
            <p:spPr>
              <a:xfrm rot="2127600">
                <a:off x="105120" y="5898240"/>
                <a:ext cx="443880" cy="341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96"/>
              <p:cNvSpPr/>
              <p:nvPr/>
            </p:nvSpPr>
            <p:spPr>
              <a:xfrm flipH="1" rot="2127000">
                <a:off x="462600" y="6133320"/>
                <a:ext cx="387360" cy="341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0" name="Group 97"/>
          <p:cNvGrpSpPr/>
          <p:nvPr/>
        </p:nvGrpSpPr>
        <p:grpSpPr>
          <a:xfrm>
            <a:off x="6484320" y="2532240"/>
            <a:ext cx="970560" cy="952200"/>
            <a:chOff x="6484320" y="2532240"/>
            <a:chExt cx="970560" cy="952200"/>
          </a:xfrm>
        </p:grpSpPr>
        <p:grpSp>
          <p:nvGrpSpPr>
            <p:cNvPr id="551" name="Group 98"/>
            <p:cNvGrpSpPr/>
            <p:nvPr/>
          </p:nvGrpSpPr>
          <p:grpSpPr>
            <a:xfrm>
              <a:off x="6484320" y="2532240"/>
              <a:ext cx="970560" cy="952200"/>
              <a:chOff x="6484320" y="2532240"/>
              <a:chExt cx="970560" cy="952200"/>
            </a:xfrm>
          </p:grpSpPr>
          <p:sp>
            <p:nvSpPr>
              <p:cNvPr id="552" name="Freeform 99"/>
              <p:cNvSpPr/>
              <p:nvPr/>
            </p:nvSpPr>
            <p:spPr>
              <a:xfrm rot="2428800">
                <a:off x="6629400" y="2594160"/>
                <a:ext cx="4125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00"/>
              <p:cNvSpPr/>
              <p:nvPr/>
            </p:nvSpPr>
            <p:spPr>
              <a:xfrm flipH="1" rot="2428200">
                <a:off x="6942600" y="2838960"/>
                <a:ext cx="3603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01"/>
            <p:cNvGrpSpPr/>
            <p:nvPr/>
          </p:nvGrpSpPr>
          <p:grpSpPr>
            <a:xfrm>
              <a:off x="6575760" y="2626200"/>
              <a:ext cx="789120" cy="766080"/>
              <a:chOff x="6575760" y="2626200"/>
              <a:chExt cx="789120" cy="766080"/>
            </a:xfrm>
          </p:grpSpPr>
          <p:sp>
            <p:nvSpPr>
              <p:cNvPr id="555" name="Freeform 102"/>
              <p:cNvSpPr/>
              <p:nvPr/>
            </p:nvSpPr>
            <p:spPr>
              <a:xfrm rot="2428800">
                <a:off x="6679080" y="2687040"/>
                <a:ext cx="353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03"/>
              <p:cNvSpPr/>
              <p:nvPr/>
            </p:nvSpPr>
            <p:spPr>
              <a:xfrm flipH="1" rot="2428200">
                <a:off x="6946920" y="2895840"/>
                <a:ext cx="308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oup 111"/>
          <p:cNvGrpSpPr/>
          <p:nvPr/>
        </p:nvGrpSpPr>
        <p:grpSpPr>
          <a:xfrm>
            <a:off x="4944960" y="1241640"/>
            <a:ext cx="325080" cy="403560"/>
            <a:chOff x="4944960" y="1241640"/>
            <a:chExt cx="325080" cy="403560"/>
          </a:xfrm>
        </p:grpSpPr>
        <p:grpSp>
          <p:nvGrpSpPr>
            <p:cNvPr id="558" name="Group 112"/>
            <p:cNvGrpSpPr/>
            <p:nvPr/>
          </p:nvGrpSpPr>
          <p:grpSpPr>
            <a:xfrm>
              <a:off x="4944960" y="1241640"/>
              <a:ext cx="325080" cy="403560"/>
              <a:chOff x="4944960" y="1241640"/>
              <a:chExt cx="325080" cy="403560"/>
            </a:xfrm>
          </p:grpSpPr>
          <p:sp>
            <p:nvSpPr>
              <p:cNvPr id="559" name="Freeform 113"/>
              <p:cNvSpPr/>
              <p:nvPr/>
            </p:nvSpPr>
            <p:spPr>
              <a:xfrm rot="14869800">
                <a:off x="5042880" y="1413720"/>
                <a:ext cx="189720" cy="2080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14"/>
              <p:cNvSpPr/>
              <p:nvPr/>
            </p:nvSpPr>
            <p:spPr>
              <a:xfrm flipH="1" rot="14869800">
                <a:off x="4989240" y="1253160"/>
                <a:ext cx="165600" cy="2080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115"/>
            <p:cNvGrpSpPr/>
            <p:nvPr/>
          </p:nvGrpSpPr>
          <p:grpSpPr>
            <a:xfrm>
              <a:off x="4978080" y="1274040"/>
              <a:ext cx="258480" cy="337320"/>
              <a:chOff x="4978080" y="1274040"/>
              <a:chExt cx="258480" cy="337320"/>
            </a:xfrm>
          </p:grpSpPr>
          <p:sp>
            <p:nvSpPr>
              <p:cNvPr id="562" name="Freeform 116"/>
              <p:cNvSpPr/>
              <p:nvPr/>
            </p:nvSpPr>
            <p:spPr>
              <a:xfrm rot="14869800">
                <a:off x="5052240" y="1428480"/>
                <a:ext cx="162360" cy="1562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17"/>
              <p:cNvSpPr/>
              <p:nvPr/>
            </p:nvSpPr>
            <p:spPr>
              <a:xfrm flipH="1" rot="14869800">
                <a:off x="5005800" y="1290960"/>
                <a:ext cx="141840" cy="1562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Group 135"/>
          <p:cNvGrpSpPr/>
          <p:nvPr/>
        </p:nvGrpSpPr>
        <p:grpSpPr>
          <a:xfrm>
            <a:off x="3099960" y="5558040"/>
            <a:ext cx="970560" cy="952200"/>
            <a:chOff x="3099960" y="5558040"/>
            <a:chExt cx="970560" cy="952200"/>
          </a:xfrm>
        </p:grpSpPr>
        <p:grpSp>
          <p:nvGrpSpPr>
            <p:cNvPr id="565" name="Group 136"/>
            <p:cNvGrpSpPr/>
            <p:nvPr/>
          </p:nvGrpSpPr>
          <p:grpSpPr>
            <a:xfrm>
              <a:off x="3099960" y="5558040"/>
              <a:ext cx="970560" cy="952200"/>
              <a:chOff x="3099960" y="5558040"/>
              <a:chExt cx="970560" cy="952200"/>
            </a:xfrm>
          </p:grpSpPr>
          <p:sp>
            <p:nvSpPr>
              <p:cNvPr id="566" name="Freeform 137"/>
              <p:cNvSpPr/>
              <p:nvPr/>
            </p:nvSpPr>
            <p:spPr>
              <a:xfrm rot="2428800">
                <a:off x="3245040" y="5619960"/>
                <a:ext cx="4125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38"/>
              <p:cNvSpPr/>
              <p:nvPr/>
            </p:nvSpPr>
            <p:spPr>
              <a:xfrm flipH="1" rot="2428200">
                <a:off x="3558240" y="5864760"/>
                <a:ext cx="3603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39"/>
            <p:cNvGrpSpPr/>
            <p:nvPr/>
          </p:nvGrpSpPr>
          <p:grpSpPr>
            <a:xfrm>
              <a:off x="3191400" y="5652000"/>
              <a:ext cx="789120" cy="766080"/>
              <a:chOff x="3191400" y="5652000"/>
              <a:chExt cx="789120" cy="766080"/>
            </a:xfrm>
          </p:grpSpPr>
          <p:sp>
            <p:nvSpPr>
              <p:cNvPr id="569" name="Freeform 140"/>
              <p:cNvSpPr/>
              <p:nvPr/>
            </p:nvSpPr>
            <p:spPr>
              <a:xfrm rot="2428800">
                <a:off x="3294720" y="5712840"/>
                <a:ext cx="353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41"/>
              <p:cNvSpPr/>
              <p:nvPr/>
            </p:nvSpPr>
            <p:spPr>
              <a:xfrm flipH="1" rot="2428200">
                <a:off x="3562560" y="5921640"/>
                <a:ext cx="308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142"/>
          <p:cNvGrpSpPr/>
          <p:nvPr/>
        </p:nvGrpSpPr>
        <p:grpSpPr>
          <a:xfrm>
            <a:off x="2580120" y="570600"/>
            <a:ext cx="785160" cy="625680"/>
            <a:chOff x="2580120" y="570600"/>
            <a:chExt cx="785160" cy="625680"/>
          </a:xfrm>
        </p:grpSpPr>
        <p:grpSp>
          <p:nvGrpSpPr>
            <p:cNvPr id="572" name="Group 143"/>
            <p:cNvGrpSpPr/>
            <p:nvPr/>
          </p:nvGrpSpPr>
          <p:grpSpPr>
            <a:xfrm>
              <a:off x="2580120" y="570600"/>
              <a:ext cx="785160" cy="625680"/>
              <a:chOff x="2580120" y="570600"/>
              <a:chExt cx="785160" cy="625680"/>
            </a:xfrm>
          </p:grpSpPr>
          <p:sp>
            <p:nvSpPr>
              <p:cNvPr id="573" name="Freeform 144"/>
              <p:cNvSpPr/>
              <p:nvPr/>
            </p:nvSpPr>
            <p:spPr>
              <a:xfrm rot="9390000">
                <a:off x="2931120" y="628920"/>
                <a:ext cx="373320" cy="3823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45"/>
              <p:cNvSpPr/>
              <p:nvPr/>
            </p:nvSpPr>
            <p:spPr>
              <a:xfrm flipH="1" rot="9390000">
                <a:off x="2642400" y="764640"/>
                <a:ext cx="325800" cy="3823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146"/>
            <p:cNvGrpSpPr/>
            <p:nvPr/>
          </p:nvGrpSpPr>
          <p:grpSpPr>
            <a:xfrm>
              <a:off x="2643120" y="634320"/>
              <a:ext cx="656640" cy="498960"/>
              <a:chOff x="2643120" y="634320"/>
              <a:chExt cx="656640" cy="498960"/>
            </a:xfrm>
          </p:grpSpPr>
          <p:sp>
            <p:nvSpPr>
              <p:cNvPr id="576" name="Freeform 147"/>
              <p:cNvSpPr/>
              <p:nvPr/>
            </p:nvSpPr>
            <p:spPr>
              <a:xfrm rot="9390000">
                <a:off x="2935800" y="686160"/>
                <a:ext cx="31968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48"/>
              <p:cNvSpPr/>
              <p:nvPr/>
            </p:nvSpPr>
            <p:spPr>
              <a:xfrm flipH="1" rot="9390000">
                <a:off x="2688480" y="802440"/>
                <a:ext cx="27900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2f2f2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2f2f2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1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7037E-007 L 0.23629 -0.45162 E">
                                      <p:cBhvr>
                                        <p:cTn id="20" dur="19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24607E-006 L -0.7283 -0.68223 E">
                                      <p:cBhvr>
                                        <p:cTn id="31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66667E-006 -4.44444E-006 L 0.27952 -0.25185 E">
                                      <p:cBhvr>
                                        <p:cTn id="38" dur="26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9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45" dur="1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" dur="1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26 -0.00185 L 0.27934 -0.24861 E">
                                      <p:cBhvr>
                                        <p:cTn id="68" dur="26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4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" dur="1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7:02:08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39:39Z</dcterms:modified>
  <cp:revision>10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