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556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5562720"/>
              <a:ext cx="9144000" cy="1295280"/>
              <a:chOff x="0" y="5562720"/>
              <a:chExt cx="9144000" cy="129528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5562720"/>
                <a:ext cx="9144000" cy="533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b5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095880"/>
                <a:ext cx="9144000" cy="762120"/>
              </a:xfrm>
              <a:prstGeom prst="rect">
                <a:avLst/>
              </a:prstGeom>
              <a:gradFill rotWithShape="0">
                <a:gsLst>
                  <a:gs pos="0">
                    <a:srgbClr val="82b5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" name=""/>
              <p:cNvGrpSpPr/>
              <p:nvPr/>
            </p:nvGrpSpPr>
            <p:grpSpPr>
              <a:xfrm>
                <a:off x="6477120" y="5749920"/>
                <a:ext cx="2666880" cy="1108080"/>
                <a:chOff x="6477120" y="5749920"/>
                <a:chExt cx="2666880" cy="1108080"/>
              </a:xfrm>
            </p:grpSpPr>
            <p:sp>
              <p:nvSpPr>
                <p:cNvPr id="6" name=""/>
                <p:cNvSpPr/>
                <p:nvPr/>
              </p:nvSpPr>
              <p:spPr>
                <a:xfrm>
                  <a:off x="6499080" y="5749920"/>
                  <a:ext cx="2644920" cy="1108080"/>
                </a:xfrm>
                <a:custGeom>
                  <a:avLst/>
                  <a:gdLst/>
                  <a:ahLst/>
                  <a:rect l="l" t="t" r="r" b="b"/>
                  <a:pathLst>
                    <a:path w="1666" h="698">
                      <a:moveTo>
                        <a:pt x="0" y="698"/>
                      </a:moveTo>
                      <a:lnTo>
                        <a:pt x="458" y="436"/>
                      </a:lnTo>
                      <a:lnTo>
                        <a:pt x="744" y="214"/>
                      </a:lnTo>
                      <a:lnTo>
                        <a:pt x="910" y="46"/>
                      </a:lnTo>
                      <a:lnTo>
                        <a:pt x="944" y="10"/>
                      </a:lnTo>
                      <a:lnTo>
                        <a:pt x="974" y="0"/>
                      </a:lnTo>
                      <a:lnTo>
                        <a:pt x="1008" y="2"/>
                      </a:lnTo>
                      <a:lnTo>
                        <a:pt x="1038" y="15"/>
                      </a:lnTo>
                      <a:lnTo>
                        <a:pt x="1110" y="164"/>
                      </a:lnTo>
                      <a:lnTo>
                        <a:pt x="1214" y="292"/>
                      </a:lnTo>
                      <a:lnTo>
                        <a:pt x="1480" y="482"/>
                      </a:lnTo>
                      <a:lnTo>
                        <a:pt x="1666" y="600"/>
                      </a:lnTo>
                      <a:lnTo>
                        <a:pt x="1666" y="698"/>
                      </a:lnTo>
                      <a:lnTo>
                        <a:pt x="0" y="6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50000">
                      <a:srgbClr val="bca392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" name=""/>
                <p:cNvGrpSpPr/>
                <p:nvPr/>
              </p:nvGrpSpPr>
              <p:grpSpPr>
                <a:xfrm>
                  <a:off x="6477120" y="5783400"/>
                  <a:ext cx="2666880" cy="988920"/>
                  <a:chOff x="6477120" y="5783400"/>
                  <a:chExt cx="2666880" cy="988920"/>
                </a:xfrm>
              </p:grpSpPr>
              <p:sp>
                <p:nvSpPr>
                  <p:cNvPr id="8" name=""/>
                  <p:cNvSpPr/>
                  <p:nvPr/>
                </p:nvSpPr>
                <p:spPr>
                  <a:xfrm>
                    <a:off x="8156520" y="5783400"/>
                    <a:ext cx="9874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622" h="611">
                        <a:moveTo>
                          <a:pt x="134" y="255"/>
                        </a:moveTo>
                        <a:lnTo>
                          <a:pt x="224" y="341"/>
                        </a:lnTo>
                        <a:lnTo>
                          <a:pt x="322" y="418"/>
                        </a:lnTo>
                        <a:lnTo>
                          <a:pt x="328" y="425"/>
                        </a:lnTo>
                        <a:lnTo>
                          <a:pt x="335" y="431"/>
                        </a:lnTo>
                        <a:lnTo>
                          <a:pt x="349" y="443"/>
                        </a:lnTo>
                        <a:lnTo>
                          <a:pt x="399" y="478"/>
                        </a:lnTo>
                        <a:lnTo>
                          <a:pt x="562" y="577"/>
                        </a:lnTo>
                        <a:lnTo>
                          <a:pt x="598" y="595"/>
                        </a:lnTo>
                        <a:lnTo>
                          <a:pt x="622" y="611"/>
                        </a:lnTo>
                        <a:lnTo>
                          <a:pt x="622" y="547"/>
                        </a:lnTo>
                        <a:lnTo>
                          <a:pt x="590" y="531"/>
                        </a:lnTo>
                        <a:lnTo>
                          <a:pt x="501" y="467"/>
                        </a:lnTo>
                        <a:lnTo>
                          <a:pt x="477" y="452"/>
                        </a:lnTo>
                        <a:lnTo>
                          <a:pt x="464" y="445"/>
                        </a:lnTo>
                        <a:lnTo>
                          <a:pt x="458" y="443"/>
                        </a:lnTo>
                        <a:lnTo>
                          <a:pt x="452" y="441"/>
                        </a:lnTo>
                        <a:lnTo>
                          <a:pt x="214" y="276"/>
                        </a:lnTo>
                        <a:lnTo>
                          <a:pt x="115" y="181"/>
                        </a:lnTo>
                        <a:lnTo>
                          <a:pt x="69" y="125"/>
                        </a:lnTo>
                        <a:lnTo>
                          <a:pt x="30" y="64"/>
                        </a:lnTo>
                        <a:lnTo>
                          <a:pt x="9" y="21"/>
                        </a:lnTo>
                        <a:lnTo>
                          <a:pt x="3" y="7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5" y="15"/>
                        </a:lnTo>
                        <a:lnTo>
                          <a:pt x="23" y="65"/>
                        </a:lnTo>
                        <a:lnTo>
                          <a:pt x="52" y="129"/>
                        </a:lnTo>
                        <a:lnTo>
                          <a:pt x="87" y="190"/>
                        </a:lnTo>
                        <a:lnTo>
                          <a:pt x="109" y="224"/>
                        </a:lnTo>
                        <a:lnTo>
                          <a:pt x="134" y="25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6b5653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6477120" y="5834160"/>
                    <a:ext cx="1455480" cy="9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10" h="2056">
                        <a:moveTo>
                          <a:pt x="2643" y="605"/>
                        </a:moveTo>
                        <a:lnTo>
                          <a:pt x="1932" y="1087"/>
                        </a:lnTo>
                        <a:lnTo>
                          <a:pt x="1896" y="1099"/>
                        </a:lnTo>
                        <a:lnTo>
                          <a:pt x="1860" y="1115"/>
                        </a:lnTo>
                        <a:lnTo>
                          <a:pt x="1793" y="1151"/>
                        </a:lnTo>
                        <a:lnTo>
                          <a:pt x="1572" y="1272"/>
                        </a:lnTo>
                        <a:lnTo>
                          <a:pt x="912" y="1615"/>
                        </a:lnTo>
                        <a:lnTo>
                          <a:pt x="572" y="1700"/>
                        </a:lnTo>
                        <a:lnTo>
                          <a:pt x="240" y="1814"/>
                        </a:lnTo>
                        <a:lnTo>
                          <a:pt x="152" y="1853"/>
                        </a:lnTo>
                        <a:lnTo>
                          <a:pt x="113" y="1868"/>
                        </a:lnTo>
                        <a:lnTo>
                          <a:pt x="75" y="1884"/>
                        </a:lnTo>
                        <a:lnTo>
                          <a:pt x="58" y="1895"/>
                        </a:lnTo>
                        <a:lnTo>
                          <a:pt x="43" y="1907"/>
                        </a:lnTo>
                        <a:lnTo>
                          <a:pt x="36" y="1914"/>
                        </a:lnTo>
                        <a:lnTo>
                          <a:pt x="29" y="1922"/>
                        </a:lnTo>
                        <a:lnTo>
                          <a:pt x="23" y="1931"/>
                        </a:lnTo>
                        <a:lnTo>
                          <a:pt x="17" y="1942"/>
                        </a:lnTo>
                        <a:lnTo>
                          <a:pt x="8" y="1964"/>
                        </a:lnTo>
                        <a:lnTo>
                          <a:pt x="0" y="1988"/>
                        </a:lnTo>
                        <a:lnTo>
                          <a:pt x="18" y="2003"/>
                        </a:lnTo>
                        <a:lnTo>
                          <a:pt x="38" y="2016"/>
                        </a:lnTo>
                        <a:lnTo>
                          <a:pt x="59" y="2026"/>
                        </a:lnTo>
                        <a:lnTo>
                          <a:pt x="80" y="2034"/>
                        </a:lnTo>
                        <a:lnTo>
                          <a:pt x="125" y="2046"/>
                        </a:lnTo>
                        <a:lnTo>
                          <a:pt x="171" y="2051"/>
                        </a:lnTo>
                        <a:lnTo>
                          <a:pt x="213" y="2051"/>
                        </a:lnTo>
                        <a:lnTo>
                          <a:pt x="234" y="2053"/>
                        </a:lnTo>
                        <a:lnTo>
                          <a:pt x="255" y="2056"/>
                        </a:lnTo>
                        <a:lnTo>
                          <a:pt x="462" y="2031"/>
                        </a:lnTo>
                        <a:lnTo>
                          <a:pt x="665" y="1983"/>
                        </a:lnTo>
                        <a:lnTo>
                          <a:pt x="894" y="1901"/>
                        </a:lnTo>
                        <a:lnTo>
                          <a:pt x="1289" y="1725"/>
                        </a:lnTo>
                        <a:lnTo>
                          <a:pt x="1544" y="1584"/>
                        </a:lnTo>
                        <a:lnTo>
                          <a:pt x="1607" y="1545"/>
                        </a:lnTo>
                        <a:lnTo>
                          <a:pt x="1636" y="1522"/>
                        </a:lnTo>
                        <a:lnTo>
                          <a:pt x="1650" y="1509"/>
                        </a:lnTo>
                        <a:lnTo>
                          <a:pt x="1663" y="1497"/>
                        </a:lnTo>
                        <a:lnTo>
                          <a:pt x="2545" y="866"/>
                        </a:lnTo>
                        <a:lnTo>
                          <a:pt x="3052" y="423"/>
                        </a:lnTo>
                        <a:lnTo>
                          <a:pt x="3339" y="108"/>
                        </a:lnTo>
                        <a:lnTo>
                          <a:pt x="3398" y="27"/>
                        </a:lnTo>
                        <a:lnTo>
                          <a:pt x="3406" y="14"/>
                        </a:lnTo>
                        <a:lnTo>
                          <a:pt x="3408" y="9"/>
                        </a:lnTo>
                        <a:lnTo>
                          <a:pt x="3410" y="6"/>
                        </a:lnTo>
                        <a:lnTo>
                          <a:pt x="3410" y="5"/>
                        </a:lnTo>
                        <a:lnTo>
                          <a:pt x="3410" y="3"/>
                        </a:lnTo>
                        <a:lnTo>
                          <a:pt x="3410" y="2"/>
                        </a:lnTo>
                        <a:lnTo>
                          <a:pt x="3410" y="2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8" y="0"/>
                        </a:lnTo>
                        <a:lnTo>
                          <a:pt x="3408" y="0"/>
                        </a:lnTo>
                        <a:lnTo>
                          <a:pt x="3407" y="0"/>
                        </a:lnTo>
                        <a:lnTo>
                          <a:pt x="3406" y="1"/>
                        </a:lnTo>
                        <a:lnTo>
                          <a:pt x="3404" y="1"/>
                        </a:lnTo>
                        <a:lnTo>
                          <a:pt x="3401" y="3"/>
                        </a:lnTo>
                        <a:lnTo>
                          <a:pt x="3394" y="10"/>
                        </a:lnTo>
                        <a:lnTo>
                          <a:pt x="3349" y="48"/>
                        </a:lnTo>
                        <a:lnTo>
                          <a:pt x="3154" y="217"/>
                        </a:lnTo>
                        <a:lnTo>
                          <a:pt x="2643" y="60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5653"/>
                      </a:gs>
                      <a:gs pos="100000">
                        <a:srgbClr val="fefefe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1295280"/>
            <a:ext cx="70866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Palatino Linotype"/>
                <a:ea typeface="楷体_GB2312"/>
              </a:rPr>
              <a:t>普适机器学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alatino Linotype"/>
                <a:ea typeface="黑体"/>
              </a:rPr>
              <a:t>(Pervasive Machin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2286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美国的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PAL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计划：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CALO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子计划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65240" y="1143000"/>
          <a:ext cx="8915400" cy="52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143000"/>
                    <a:ext cx="891540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22860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历史回顾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066680"/>
            <a:ext cx="80010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下述事件（大致）标志着机器学习正式成为一个学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98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R.S. Michalsk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等人撰写《机器学习：通往人工智能的途径》一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Machine Learnin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志创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人工智能乃至计算机科学中很多其他分支学科相比，机器学习还非常年轻、很不成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38862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以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Tom Mitchell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的经典教科书（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McGraw Hill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出版社，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1997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）为例，很难看到基础学科（例如数学、物理学）教科书中那种贯穿始终的体系，也许会让人感到这不过是不同方法和技术的堆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99072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从主要范式的发展可以看出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实际上是一个应用驱动的学科，其根本的驱动力是“更多、更好地解决实际问题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由于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年的飞速发展，机器学习已经具备了一定的解决实际问题的能力，似乎逐渐开始成为一种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基础性、透明化的“支持技术、服务技术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黑体"/>
              </a:rPr>
              <a:t>基础性：在众多的学科领域都得以应用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  <a:ea typeface="黑体"/>
              </a:rPr>
              <a:t>（“无所不在”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  <a:ea typeface="黑体"/>
              </a:rPr>
              <a:t>透明化：用户看不见机器学习，看见的是防火墙、生物信息、搜索引擎；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  <a:ea typeface="黑体"/>
              </a:rPr>
              <a:t>（“无所不在”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机器更好用了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正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CAL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的一些描述：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you won’t leave home without it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；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embodied as a software environment that transcends workstations, PDA’s, cell phones, …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似乎的趋势—“普适机器学习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11430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支持和服务技术的“普适机器学习”带来了挑战和机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现了很多被传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忽视、但非常重要且尚无好的解决方案的问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下面将以医疗和金融为代表来举几个例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0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支持和服务的学科领域越多，新问题越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0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众多学科领域产生了交叉，而交叉领域正是大有可为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286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挑战与机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14300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医疗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乳腺癌诊断为例，“将病人误诊为健康人的代价”与“将健康人误诊为病人的代价”是不同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金融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信用卡盗用检测为例，“将盗用误认为正常使用的代价”与“将正常使用误认为盗用的代价”是不同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传统的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ML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技术基本上只考虑同一代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48c8e"/>
                </a:solidFill>
                <a:latin typeface="Arial"/>
                <a:ea typeface="黑体"/>
              </a:rPr>
              <a:t>如何处理代价敏感性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48c8e"/>
                </a:solidFill>
                <a:latin typeface="Arial"/>
                <a:ea typeface="黑体"/>
              </a:rPr>
              <a:t>在教科书中找不到现成的答案，</a:t>
            </a:r>
            <a:r>
              <a:rPr b="0" lang="zh-CN" sz="2000" spc="-1" strike="noStrike">
                <a:solidFill>
                  <a:srgbClr val="448c8e"/>
                </a:solidFill>
                <a:latin typeface="Arial"/>
                <a:ea typeface="黑体"/>
              </a:rPr>
              <a:t>例如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48c8e"/>
                </a:solidFill>
                <a:latin typeface="Arial"/>
                <a:ea typeface="黑体"/>
              </a:rPr>
              <a:t>Tom Mitchell, Machine Learning, McGraw-Hill,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48c8e"/>
                </a:solidFill>
                <a:latin typeface="Arial"/>
                <a:ea typeface="黑体"/>
              </a:rPr>
              <a:t>Nils J. Nilsson, Introduction to Machine Learning, draft 1996 -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例子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1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：代价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2286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走向普适机器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把机器学习真正当成一种支持技术、服务技术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考虑不同学科领域对机器学习的需求，找出其中具有共性的、必须解决的问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并进而着手研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一方面可以促进和丰富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ML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本身的发展，另一方面可以促进使用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ML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  <a:ea typeface="黑体"/>
              </a:rPr>
              <a:t>技术的学科领域本身的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作为“应用基础”，与“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ML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应用”有根本的区别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1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基础性：不是直接做应用，而是做“更广泛的应用”或“更成功的应用”所需要的方法和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1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广泛性：重点不是去解决单一应用所面临的问题，而是要解决众多应用领域所面临的共性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1143000"/>
            <a:ext cx="76197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机器学习是人工智能的核心研究领域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任何一个没有学习能力的系统都很难被认为是一个真正的智能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经典定义：利用经验改善系统自身的性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随着该领域的发展，主要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智能数据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并已成为智能数据分析技术的源泉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典型任务：预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例如：天气预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2860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机器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07200" y="15764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0093"/>
                </a:solidFill>
                <a:latin typeface="Tahoma"/>
                <a:ea typeface="黑体"/>
              </a:rPr>
              <a:t>数据挖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523880"/>
            <a:ext cx="2895480" cy="1028880"/>
          </a:xfrm>
          <a:prstGeom prst="rect">
            <a:avLst/>
          </a:prstGeom>
          <a:noFill/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49040" y="40291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99ff"/>
                </a:solidFill>
                <a:latin typeface="Tahoma"/>
                <a:ea typeface="黑体"/>
              </a:rPr>
              <a:t>数据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3976560"/>
            <a:ext cx="2895840" cy="1028880"/>
          </a:xfrm>
          <a:prstGeom prst="rect">
            <a:avLst/>
          </a:prstGeom>
          <a:noFill/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54360" y="4029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Tahoma"/>
                <a:ea typeface="黑体"/>
              </a:rPr>
              <a:t>机器学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976560"/>
            <a:ext cx="2895480" cy="10288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30542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数据分析技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640" y="30542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数据管理技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719440"/>
            <a:ext cx="609480" cy="1066680"/>
          </a:xfrm>
          <a:prstGeom prst="upArrow">
            <a:avLst>
              <a:gd name="adj1" fmla="val 50000"/>
              <a:gd name="adj2" fmla="val 43754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2719440"/>
            <a:ext cx="609480" cy="1066680"/>
          </a:xfrm>
          <a:prstGeom prst="upArrow">
            <a:avLst>
              <a:gd name="adj1" fmla="val 50000"/>
              <a:gd name="adj2" fmla="val 43754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22860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机器学习与数据挖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1447920"/>
            <a:ext cx="7391520" cy="1447560"/>
          </a:xfrm>
          <a:prstGeom prst="parallelogram">
            <a:avLst>
              <a:gd name="adj" fmla="val 127655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34340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美国航空航天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JP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实验室的科学家在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Scien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》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200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月）上撰文指出：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  <a:ea typeface="黑体"/>
              </a:rPr>
              <a:t>机器学习对科学研究的整个过程正起到越来越大的支持作用，……，该领域在今后的若干年内将取得稳定而快速的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76440" y="2003400"/>
            <a:ext cx="990720" cy="719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61960" y="216216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楷体_GB2312"/>
              </a:rPr>
              <a:t>生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楷体_GB2312"/>
              </a:rPr>
              <a:t>信息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81280" y="2003400"/>
            <a:ext cx="988920" cy="71928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67160" y="21556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楷体_GB2312"/>
              </a:rPr>
              <a:t>计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楷体_GB2312"/>
              </a:rPr>
              <a:t>金融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7160" y="2003400"/>
            <a:ext cx="988920" cy="7192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35640" y="21556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楷体_GB2312"/>
              </a:rPr>
              <a:t>分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楷体_GB2312"/>
              </a:rPr>
              <a:t>生物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2760" y="2003400"/>
            <a:ext cx="988920" cy="719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91240" y="21556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楷体_GB2312"/>
              </a:rPr>
              <a:t>行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楷体_GB2312"/>
              </a:rPr>
              <a:t>地质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32040" y="198756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29080" y="1235160"/>
            <a:ext cx="988920" cy="71892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140004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楷体_GB2312"/>
              </a:rPr>
              <a:t>工业过程控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72080" y="1235160"/>
            <a:ext cx="988920" cy="71892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7240" y="1235160"/>
            <a:ext cx="988920" cy="71892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22760" y="148896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楷体_GB2312"/>
              </a:rPr>
              <a:t>机器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0240" y="1235160"/>
            <a:ext cx="988920" cy="7189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84680" y="1219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65760" y="140004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楷体_GB2312"/>
              </a:rPr>
              <a:t>遥感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楷体_GB2312"/>
              </a:rPr>
              <a:t>息处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22840" y="1400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楷体_GB2312"/>
              </a:rPr>
              <a:t>信息安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3124080"/>
            <a:ext cx="4038480" cy="838440"/>
          </a:xfrm>
          <a:prstGeom prst="cube">
            <a:avLst>
              <a:gd name="adj" fmla="val 5247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2921040"/>
            <a:ext cx="914400" cy="304920"/>
          </a:xfrm>
          <a:prstGeom prst="upArrow">
            <a:avLst>
              <a:gd name="adj1" fmla="val 53120"/>
              <a:gd name="adj2" fmla="val 45833"/>
            </a:avLst>
          </a:prstGeom>
          <a:solidFill>
            <a:srgbClr val="82b5c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37040" y="35560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 器 学 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22860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机器学习的重要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31800" y="2460600"/>
            <a:ext cx="3940200" cy="3406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8080" y="1143000"/>
            <a:ext cx="40388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Times New Roman"/>
                <a:ea typeface="黑体"/>
              </a:rPr>
              <a:t>入侵检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是否是入侵？是何种入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57200"/>
            <a:ext cx="373392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如何检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历史数据：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  <a:ea typeface="黑体"/>
              </a:rPr>
              <a:t>以往的正常访问模式及其表现、以往的入侵模式及其表现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对当前访问模式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3124080"/>
            <a:ext cx="3581280" cy="26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这是一个典型的机器学习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00"/>
                </a:solidFill>
                <a:latin typeface="Times New Roman"/>
                <a:ea typeface="黑体"/>
              </a:rPr>
              <a:t>常用技术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00"/>
                </a:solidFill>
                <a:latin typeface="Times New Roman"/>
                <a:ea typeface="黑体"/>
              </a:rPr>
              <a:t>神经网络         决策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00"/>
                </a:solidFill>
                <a:latin typeface="Times New Roman"/>
                <a:ea typeface="黑体"/>
              </a:rPr>
              <a:t>支持向量机     贝叶斯分类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00"/>
                </a:solidFill>
                <a:latin typeface="Times New Roman"/>
                <a:ea typeface="黑体"/>
              </a:rPr>
              <a:t>k</a:t>
            </a:r>
            <a:r>
              <a:rPr b="0" lang="zh-CN" sz="2000" spc="-1" strike="noStrike">
                <a:solidFill>
                  <a:srgbClr val="333300"/>
                </a:solidFill>
                <a:latin typeface="Times New Roman"/>
                <a:ea typeface="黑体"/>
              </a:rPr>
              <a:t>近邻      序列分析       聚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Times New Roman"/>
                <a:ea typeface="黑体"/>
              </a:rPr>
              <a:t>……   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2438280"/>
            <a:ext cx="403848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22860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例子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1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：网络安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2286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美国的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PAL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DARPA 2003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年开始启动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PAL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Perceptive Assistant that Learns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计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期，首期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-1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）投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百万美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机器学习为核心的计划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涉及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其他分支，如知识表示和推理、自然语言处理等）；包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子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00"/>
                </a:solidFill>
                <a:latin typeface="Arial"/>
                <a:ea typeface="黑体"/>
              </a:rPr>
              <a:t>“</a:t>
            </a:r>
            <a:r>
              <a:rPr b="0" lang="zh-CN" sz="2000" spc="-1" strike="noStrike">
                <a:solidFill>
                  <a:srgbClr val="009900"/>
                </a:solidFill>
                <a:latin typeface="Arial"/>
                <a:ea typeface="黑体"/>
              </a:rPr>
              <a:t>is expected to yield new technology of significant value to the military, business, and academic sectors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00"/>
                </a:solidFill>
                <a:latin typeface="Arial"/>
                <a:ea typeface="黑体"/>
              </a:rPr>
              <a:t>“</a:t>
            </a:r>
            <a:r>
              <a:rPr b="0" lang="zh-CN" sz="2000" spc="-1" strike="noStrike">
                <a:solidFill>
                  <a:srgbClr val="009900"/>
                </a:solidFill>
                <a:latin typeface="Arial"/>
                <a:ea typeface="黑体"/>
              </a:rPr>
              <a:t>develop software that will help decision-makers manage their complex worlds of multiple simultaneous tasks and unexpected event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RADAR (Reflective Agents with Distributed Adaptive Reasoning)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，承担单位为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CMU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，首期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百万美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标：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the system will help busy managers to cope with time-consuming task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ADAR must learn by interacting with its human master and by accepting explicit advice and instru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286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美国的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PAL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计划：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RADAR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子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10666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CALO (Cognitive Agent that Learns and Observes)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，承担单位为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SRI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，首期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千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百万美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除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SRI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外，这个子计划的参加单位有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Boeing, CMU, Dejima Inc., Fetch Tech Inc., GATech, MIT, Oregon HSU, Stanford, SUNY-Stony Brook, UC Berkeley, UMass, UMich, UPenn, Rochester, USC, UT Austin, UW, Yale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CALO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无疑是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PAL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中更核心的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2286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美国的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PAL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计划：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CALO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子计划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2286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美国的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PAL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计划：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CALO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子计划 </a:t>
            </a:r>
            <a:r>
              <a:rPr b="0" lang="zh-CN" sz="3200" spc="-1" strike="noStrike">
                <a:solidFill>
                  <a:srgbClr val="448c8e"/>
                </a:solidFill>
                <a:latin typeface="Palatino Linotype"/>
                <a:ea typeface="仿宋_GB2312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066680"/>
            <a:ext cx="8153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标：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the name CALO was inspired by the Latin word ‘calonis’, which means </a:t>
            </a: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黑体"/>
              </a:rPr>
              <a:t>‘soldier’s assistant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117880"/>
            <a:ext cx="5029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the CALO software, which will learn by working with and being advised by its users,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  <a:ea typeface="黑体"/>
              </a:rPr>
              <a:t>will handle a broad range of interrelated decision-making tas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… It will have the capability to engage in and carry out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  <a:ea typeface="黑体"/>
              </a:rPr>
              <a:t>routine tasks, and to assist when the unexpected happe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7242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从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CALO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的目标来看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DARPA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已经开始把机器学习技术的重要性放到了国家安全的角度来考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普适机器 学习</cp:keywords>
  <dc:language>en-US</dc:language>
  <cp:lastModifiedBy/>
  <cp:revision>0</cp:revision>
  <dc:subject/>
  <dc:title/>
</cp:coreProperties>
</file>